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gif" ContentType="image/gif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29.gif" ContentType="image/gif"/>
  <Override PartName="/ppt/media/image14.gif" ContentType="image/gif"/>
  <Override PartName="/ppt/media/image22.jpeg" ContentType="image/jpeg"/>
  <Override PartName="/ppt/media/image1.jpeg" ContentType="image/jpeg"/>
  <Override PartName="/ppt/media/image9.gif" ContentType="image/gif"/>
  <Override PartName="/ppt/media/image30.jpeg" ContentType="image/jpeg"/>
  <Override PartName="/ppt/media/image33.gif" ContentType="image/gif"/>
  <Override PartName="/ppt/media/image18.jpeg" ContentType="image/jpeg"/>
  <Override PartName="/ppt/media/image8.gif" ContentType="image/gif"/>
  <Override PartName="/ppt/media/image34.jpeg" ContentType="image/jpeg"/>
  <Override PartName="/ppt/media/image37.jpeg" ContentType="image/jpeg"/>
  <Override PartName="/ppt/media/image39.jpeg" ContentType="image/jpeg"/>
  <Override PartName="/ppt/media/image40.jpeg" ContentType="image/jpeg"/>
  <Override PartName="/ppt/media/image31.gif" ContentType="image/gif"/>
  <Override PartName="/ppt/media/image13.gif" ContentType="image/gif"/>
  <Override PartName="/ppt/media/image42.jpeg" ContentType="image/jpeg"/>
  <Override PartName="/ppt/media/image11.gif" ContentType="image/gif"/>
  <Override PartName="/ppt/media/image43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5.gif" ContentType="image/gif"/>
  <Override PartName="/ppt/media/image12.jpeg" ContentType="image/jpeg"/>
  <Override PartName="/ppt/media/image41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9A0-3225-4DB3-B4C4-99D9B05A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744-BA8B-4446-B206-5D2FF625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066-C1EB-49F1-B85D-E37BB3E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9CF-AF44-4E67-A998-D4DB7DA1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8A6-0667-4ABB-A8E0-925062C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FE3B-0387-4E2A-B9CF-9E4929D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0DF-125E-45AA-8DC3-8D708A38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982-E8CE-44BD-A7C8-FEA81C2F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5588-FB24-40D5-8B0C-16D6E53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5F3A-6639-433D-B853-1A2ED4B6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5B69-25CC-4FE2-9B7C-57CFB25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0E0-8316-45F6-A3B5-1ED595E9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B841-2E05-40B5-8529-85B4C7D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975-DC84-46C2-BE48-45CECF3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DB5D-2359-45C6-B5F5-BCEF5F4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269B-503D-4F3B-8260-C1BABFEE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01DC-FF8C-4EB4-9182-57F6CDEA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ADA-1FAE-42BF-BAB0-08CE777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729-2A23-4238-A3F3-84974E4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E14-3832-47F4-8E8F-56E991ED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9F7-E11F-49C3-BDD3-0C588BD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208-FCFF-4FD1-A66E-06D60B0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2E1-5ED8-4E96-8B35-6E4133A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217-3D07-4729-8275-8ED796F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C79-3329-4DDC-B9C8-193BF0FC49B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076-D8B7-47A8-AB6B-600EC1FFB95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e5834"/>
                </a:solidFill>
                <a:latin typeface="Times New Roman"/>
              </a:rPr>
              <a:t>Правила поведения в природе</a:t>
            </a:r>
            <a:endParaRPr b="0" i="1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Picture 5" descr="flowers11"/>
          <p:cNvPicPr/>
          <p:nvPr/>
        </p:nvPicPr>
        <p:blipFill>
          <a:blip r:embed="rId1"/>
          <a:stretch/>
        </p:blipFill>
        <p:spPr>
          <a:xfrm>
            <a:off x="3924360" y="3789360"/>
            <a:ext cx="1968480" cy="247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322029462"/>
          <p:cNvPicPr/>
          <p:nvPr/>
        </p:nvPicPr>
        <p:blipFill>
          <a:blip r:embed="rId2"/>
          <a:stretch/>
        </p:blipFill>
        <p:spPr>
          <a:xfrm>
            <a:off x="826920" y="260280"/>
            <a:ext cx="2016360" cy="148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67977228"/>
          <p:cNvPicPr/>
          <p:nvPr/>
        </p:nvPicPr>
        <p:blipFill>
          <a:blip r:embed="rId3"/>
          <a:stretch/>
        </p:blipFill>
        <p:spPr>
          <a:xfrm>
            <a:off x="7688160" y="4437000"/>
            <a:ext cx="1201680" cy="18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0002-009-Pravila-povedenija-v-lesu"/>
          <p:cNvPicPr/>
          <p:nvPr/>
        </p:nvPicPr>
        <p:blipFill>
          <a:blip r:embed="rId4"/>
          <a:stretch/>
        </p:blipFill>
        <p:spPr>
          <a:xfrm>
            <a:off x="971640" y="4797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2292da5a15f"/>
          <p:cNvPicPr/>
          <p:nvPr/>
        </p:nvPicPr>
        <p:blipFill>
          <a:blip r:embed="rId5"/>
          <a:stretch/>
        </p:blipFill>
        <p:spPr>
          <a:xfrm>
            <a:off x="7093080" y="1159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жигайте костё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Picture 7" descr="0011-029-Ne-razzhigaj-kostjor-v-lesu-bez-vzroslykh"/>
          <p:cNvPicPr/>
          <p:nvPr/>
        </p:nvPicPr>
        <p:blipFill>
          <a:blip r:embed="rId1"/>
          <a:stretch/>
        </p:blipFill>
        <p:spPr>
          <a:xfrm>
            <a:off x="1908000" y="1052640"/>
            <a:ext cx="5977080" cy="3990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640" y="5084640"/>
            <a:ext cx="7843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С огнём в лесу развлекаться опасно –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редставьте, что пламя легко разгоритс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Закончиться может забава ужасно.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Начнёт полыхать, разбегаться, искритьс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 лесу очень сухо бывает порой,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Его потушить невозможно тогда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Костёр обернётся серьёзной бедой!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ожары лесные – большая бед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паровоз"/>
          <p:cNvPicPr/>
          <p:nvPr/>
        </p:nvPicPr>
        <p:blipFill>
          <a:blip r:embed="rId2"/>
          <a:stretch/>
        </p:blipFill>
        <p:spPr>
          <a:xfrm>
            <a:off x="1116000" y="4149720"/>
            <a:ext cx="7508880" cy="92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ставляйте мусор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Picture 7" descr="0012-030-Ne-ostavljaj-musor-v-lesu"/>
          <p:cNvPicPr/>
          <p:nvPr/>
        </p:nvPicPr>
        <p:blipFill>
          <a:blip r:embed="rId1"/>
          <a:stretch/>
        </p:blipFill>
        <p:spPr>
          <a:xfrm>
            <a:off x="2484360" y="1052640"/>
            <a:ext cx="5040360" cy="3360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ы в поход пришли, ребята…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тдохнуть, конечно, надо: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Оставлять их здесь нельз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играть и порезвиться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е поленимся, друзь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наесться, и напиться…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вокруг остались банки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Заберём его с собо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ag00007_"/>
          <p:cNvPicPr/>
          <p:nvPr/>
        </p:nvPicPr>
        <p:blipFill>
          <a:blip r:embed="rId2"/>
          <a:stretch/>
        </p:blipFill>
        <p:spPr>
          <a:xfrm>
            <a:off x="1042920" y="2852640"/>
            <a:ext cx="138420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939730263"/>
          <p:cNvPicPr/>
          <p:nvPr/>
        </p:nvPicPr>
        <p:blipFill>
          <a:blip r:embed="rId3"/>
          <a:stretch/>
        </p:blipFill>
        <p:spPr>
          <a:xfrm>
            <a:off x="7236000" y="3068640"/>
            <a:ext cx="220644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бейте стекло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Picture 7" descr="0013-031-Ne-bejte-steklo-v-lesu"/>
          <p:cNvPicPr/>
          <p:nvPr/>
        </p:nvPicPr>
        <p:blipFill>
          <a:blip r:embed="rId1"/>
          <a:stretch/>
        </p:blipFill>
        <p:spPr>
          <a:xfrm>
            <a:off x="2268360" y="1125360"/>
            <a:ext cx="5400720" cy="3596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472392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стекло в лесу кидать,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друг на них свалиться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льзя бутылки разбивать;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больнице можно очутиться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сколки острые опасны –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обитателям лес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 них порежешься ужасно!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екляшки тоже не нужн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вырезайте надписи на</a:t>
            </a:r>
            <a:br>
              <a:rPr sz="4000"/>
            </a:b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            деревья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деревья – велик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х не жалеют хулиг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режут острыми нож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лова на дереве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на память!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 так жестоко поступа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деревья обиж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ускай они в лесу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бро и красоту несут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0014-033-Ne-vyrezajte-nadpisi-na-derevjakh"/>
          <p:cNvPicPr/>
          <p:nvPr/>
        </p:nvPicPr>
        <p:blipFill>
          <a:blip r:embed="rId1"/>
          <a:stretch/>
        </p:blipFill>
        <p:spPr>
          <a:xfrm>
            <a:off x="5219640" y="692280"/>
            <a:ext cx="3427560" cy="5608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002-009-Pravila-povedenija-v-lesu"/>
          <p:cNvPicPr/>
          <p:nvPr/>
        </p:nvPicPr>
        <p:blipFill>
          <a:blip r:embed="rId2"/>
          <a:stretch/>
        </p:blipFill>
        <p:spPr>
          <a:xfrm>
            <a:off x="9000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0016-036-Ne-portite-nesedobnye-griby"/>
          <p:cNvPicPr/>
          <p:nvPr/>
        </p:nvPicPr>
        <p:blipFill>
          <a:blip r:embed="rId1"/>
          <a:stretch/>
        </p:blipFill>
        <p:spPr>
          <a:xfrm>
            <a:off x="2411280" y="981000"/>
            <a:ext cx="5256360" cy="36464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971640" y="458136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лесу грибов различных много… ты несъедобные не трогай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корзинку их не собирай, но и ногами не сбивай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ужны они лесным зверятам: лисичкам, ёжикам, зайчатам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х только люди не едят: в поганках, мухоморах – яд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о для зверья лесного всё ж тот гриб полезен и хорош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Мики с флажком"/>
          <p:cNvPicPr/>
          <p:nvPr/>
        </p:nvPicPr>
        <p:blipFill>
          <a:blip r:embed="rId2"/>
          <a:stretch/>
        </p:blipFill>
        <p:spPr>
          <a:xfrm>
            <a:off x="826920" y="3068640"/>
            <a:ext cx="164628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портите несъедобные гриб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0015-035-Ne-vyryvajte-kustarniki-s-kornem"/>
          <p:cNvPicPr/>
          <p:nvPr/>
        </p:nvPicPr>
        <p:blipFill>
          <a:blip r:embed="rId1"/>
          <a:stretch/>
        </p:blipFill>
        <p:spPr>
          <a:xfrm>
            <a:off x="2124000" y="1052640"/>
            <a:ext cx="5688000" cy="3787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47640" y="4869000"/>
            <a:ext cx="673272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аз ты собрался по грибы – с собою острый нож бер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аккуратно гриб срезай – в земле грибницу оставля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 если встретил землянику, куст брусники иль чер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жно ягодки сорви, 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01949564"/>
          <p:cNvPicPr/>
          <p:nvPr/>
        </p:nvPicPr>
        <p:blipFill>
          <a:blip r:embed="rId2"/>
          <a:stretch/>
        </p:blipFill>
        <p:spPr>
          <a:xfrm>
            <a:off x="900000" y="907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02402"/>
                </a:solidFill>
                <a:latin typeface="Times New Roman"/>
              </a:rPr>
              <a:t>Не вырывайте кустарники с корн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360" y="404280"/>
            <a:ext cx="475272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змей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7" descr="0017-038-Ne-obizhaj-zmej"/>
          <p:cNvPicPr/>
          <p:nvPr/>
        </p:nvPicPr>
        <p:blipFill>
          <a:blip r:embed="rId1"/>
          <a:stretch/>
        </p:blipFill>
        <p:spPr>
          <a:xfrm>
            <a:off x="1042920" y="476280"/>
            <a:ext cx="3384720" cy="5843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338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, змею не обижа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, увидев, палку не хвата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маши руками, не кричи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осто отойди и помолч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Хоть опасны змеи, но нуж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истоту беречь они долж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анитарам леса и в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не делай зла или бед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56e9a916cb80"/>
          <p:cNvPicPr/>
          <p:nvPr/>
        </p:nvPicPr>
        <p:blipFill>
          <a:blip r:embed="rId2"/>
          <a:stretch/>
        </p:blipFill>
        <p:spPr>
          <a:xfrm>
            <a:off x="3492360" y="4869000"/>
            <a:ext cx="1438560" cy="153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322029462"/>
          <p:cNvPicPr/>
          <p:nvPr/>
        </p:nvPicPr>
        <p:blipFill>
          <a:blip r:embed="rId3"/>
          <a:stretch/>
        </p:blipFill>
        <p:spPr>
          <a:xfrm>
            <a:off x="7596360" y="98100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0002-009-Pravila-povedenija-v-lesu"/>
          <p:cNvPicPr/>
          <p:nvPr/>
        </p:nvPicPr>
        <p:blipFill>
          <a:blip r:embed="rId4"/>
          <a:stretch/>
        </p:blipFill>
        <p:spPr>
          <a:xfrm>
            <a:off x="694836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89004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птичьих гнезд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720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ети запомнить долж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поня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нёзда у птич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льзя разорять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сли в тра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видали яйц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ли услыша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рики птенц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приближайтес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лезьте ту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не тревожь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и птиц, ни гн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0003-011-Ne-razorjajte-ptichi-gnjozda"/>
          <p:cNvPicPr/>
          <p:nvPr/>
        </p:nvPicPr>
        <p:blipFill>
          <a:blip r:embed="rId1"/>
          <a:stretch/>
        </p:blipFill>
        <p:spPr>
          <a:xfrm>
            <a:off x="5219640" y="981000"/>
            <a:ext cx="3210120" cy="525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54018446"/>
          <p:cNvPicPr/>
          <p:nvPr/>
        </p:nvPicPr>
        <p:blipFill>
          <a:blip r:embed="rId2"/>
          <a:stretch/>
        </p:blipFill>
        <p:spPr>
          <a:xfrm>
            <a:off x="3419640" y="1628640"/>
            <a:ext cx="1604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64580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азоряйте муравейник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4" descr="5694"/>
          <p:cNvPicPr/>
          <p:nvPr/>
        </p:nvPicPr>
        <p:blipFill>
          <a:blip r:embed="rId1"/>
          <a:stretch/>
        </p:blipFill>
        <p:spPr>
          <a:xfrm>
            <a:off x="2268360" y="1125360"/>
            <a:ext cx="5185080" cy="345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920" y="458100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– лесные санитары;                  Гонят разных короедов прочь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ак прозвали люди их недаром!             Только ты им, друг мой, не меша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Чтобы лес красив был и здоров,             Муравейники не разоря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Без личинок вредных и жуков,                Эти санитары так нужн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уравьи на страже день и ночь:             Для лесов твоей родной ст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Мики с флажком"/>
          <p:cNvPicPr/>
          <p:nvPr/>
        </p:nvPicPr>
        <p:blipFill>
          <a:blip r:embed="rId2"/>
          <a:stretch/>
        </p:blipFill>
        <p:spPr>
          <a:xfrm>
            <a:off x="971640" y="3068640"/>
            <a:ext cx="164628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53124323"/>
          <p:cNvPicPr/>
          <p:nvPr/>
        </p:nvPicPr>
        <p:blipFill>
          <a:blip r:embed="rId3"/>
          <a:stretch/>
        </p:blipFill>
        <p:spPr>
          <a:xfrm>
            <a:off x="7451640" y="3141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забирай из леса домой животн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Для ёжиков и белок лес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Это дом родн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ни живут там сме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етом и зимо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стоит их в 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абира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оверь: они в невол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ходят пропитан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воих детей растя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уходить из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0005-014-Ne-zabiraj-iz-lesa-domoj-zhivotnykh"/>
          <p:cNvPicPr/>
          <p:nvPr/>
        </p:nvPicPr>
        <p:blipFill>
          <a:blip r:embed="rId1"/>
          <a:stretch/>
        </p:blipFill>
        <p:spPr>
          <a:xfrm>
            <a:off x="3851280" y="1916280"/>
            <a:ext cx="4914720" cy="36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946435823"/>
          <p:cNvPicPr/>
          <p:nvPr/>
        </p:nvPicPr>
        <p:blipFill>
          <a:blip r:embed="rId2"/>
          <a:stretch/>
        </p:blipFill>
        <p:spPr>
          <a:xfrm>
            <a:off x="1619280" y="5445000"/>
            <a:ext cx="1425600" cy="81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986"/>
          <p:cNvPicPr/>
          <p:nvPr/>
        </p:nvPicPr>
        <p:blipFill>
          <a:blip r:embed="rId3"/>
          <a:stretch/>
        </p:blipFill>
        <p:spPr>
          <a:xfrm>
            <a:off x="8028000" y="4869000"/>
            <a:ext cx="863640" cy="842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обижай лесных насеком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9" name="Picture 7" descr="0006-017-Ne-obizhaj-lesnykh-nasekomykh"/>
          <p:cNvPicPr/>
          <p:nvPr/>
        </p:nvPicPr>
        <p:blipFill>
          <a:blip r:embed="rId1"/>
          <a:stretch/>
        </p:blipFill>
        <p:spPr>
          <a:xfrm>
            <a:off x="1979640" y="1125360"/>
            <a:ext cx="5329080" cy="3505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450864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лесу летают мотыльки, ползут козявки и жук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рода мать им жизнь дала. У них у всех свои д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ы их увидишь на пути – не обижай, а отойди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ез насекомых лес, друг мой, и одинокий, и пусто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стрекоза"/>
          <p:cNvPicPr/>
          <p:nvPr/>
        </p:nvPicPr>
        <p:blipFill>
          <a:blip r:embed="rId2"/>
          <a:stretch/>
        </p:blipFill>
        <p:spPr>
          <a:xfrm>
            <a:off x="7236000" y="1052640"/>
            <a:ext cx="1442880" cy="12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83"/>
          <p:cNvPicPr/>
          <p:nvPr/>
        </p:nvPicPr>
        <p:blipFill>
          <a:blip r:embed="rId3"/>
          <a:stretch/>
        </p:blipFill>
        <p:spPr>
          <a:xfrm>
            <a:off x="7451640" y="3860640"/>
            <a:ext cx="1354320" cy="730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hoto 005"/>
          <p:cNvPicPr/>
          <p:nvPr/>
        </p:nvPicPr>
        <p:blipFill>
          <a:blip r:embed="rId4"/>
          <a:stretch/>
        </p:blipFill>
        <p:spPr>
          <a:xfrm>
            <a:off x="1042920" y="3789360"/>
            <a:ext cx="114300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полевы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40100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Цветы украшают луга и ле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о это не только природы кра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них пчёлы находят целительный дар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абочки пьют из них сладкий некта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, друзья, их бессмысленно рва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Не надо букеты из них  составлять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авянут букеты…погибнут цветы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больше не будет такой красоты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0007-021-Ne-rvite-polevye-tsvety"/>
          <p:cNvPicPr/>
          <p:nvPr/>
        </p:nvPicPr>
        <p:blipFill>
          <a:blip r:embed="rId1"/>
          <a:stretch/>
        </p:blipFill>
        <p:spPr>
          <a:xfrm>
            <a:off x="5245200" y="981000"/>
            <a:ext cx="3537000" cy="531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chel09"/>
          <p:cNvPicPr/>
          <p:nvPr/>
        </p:nvPicPr>
        <p:blipFill>
          <a:blip r:embed="rId2"/>
          <a:stretch/>
        </p:blipFill>
        <p:spPr>
          <a:xfrm>
            <a:off x="4211640" y="4365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бабочка анимация"/>
          <p:cNvPicPr/>
          <p:nvPr/>
        </p:nvPicPr>
        <p:blipFill>
          <a:blip r:embed="rId3"/>
          <a:stretch/>
        </p:blipFill>
        <p:spPr>
          <a:xfrm rot="5400000">
            <a:off x="1237320" y="857880"/>
            <a:ext cx="12747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рвите редкие цвет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Picture 7" descr="0008-022-Ne-rvite-redkie-tsvety"/>
          <p:cNvPicPr/>
          <p:nvPr/>
        </p:nvPicPr>
        <p:blipFill>
          <a:blip r:embed="rId1"/>
          <a:stretch/>
        </p:blipFill>
        <p:spPr>
          <a:xfrm>
            <a:off x="2268360" y="1125360"/>
            <a:ext cx="5329440" cy="3548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4797360"/>
            <a:ext cx="720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сть цветочки редкие,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лые и нежные: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ам кивнут приветливо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андыши, подснежники…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2" descr="flowers_298"/>
          <p:cNvPicPr/>
          <p:nvPr/>
        </p:nvPicPr>
        <p:blipFill>
          <a:blip r:embed="rId2"/>
          <a:stretch/>
        </p:blipFill>
        <p:spPr>
          <a:xfrm>
            <a:off x="7667640" y="2781360"/>
            <a:ext cx="1095480" cy="187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0007-019-Ne-rvite-polevye-tsvety"/>
          <p:cNvPicPr/>
          <p:nvPr/>
        </p:nvPicPr>
        <p:blipFill>
          <a:blip r:embed="rId3"/>
          <a:stretch/>
        </p:blipFill>
        <p:spPr>
          <a:xfrm>
            <a:off x="971640" y="3357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ловите бабочек и стрекоз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абочка цвет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д тобой порха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трекоза резви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ляшет, весел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ету все так рады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х ловить не над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усть себе летаю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Землю украшаю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0009-024-Ne-lovite-babochek-i-strekoz"/>
          <p:cNvPicPr/>
          <p:nvPr/>
        </p:nvPicPr>
        <p:blipFill>
          <a:blip r:embed="rId1"/>
          <a:stretch/>
        </p:blipFill>
        <p:spPr>
          <a:xfrm>
            <a:off x="5219640" y="1197000"/>
            <a:ext cx="3402000" cy="510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utterfly_2004"/>
          <p:cNvPicPr/>
          <p:nvPr/>
        </p:nvPicPr>
        <p:blipFill>
          <a:blip r:embed="rId2"/>
          <a:stretch/>
        </p:blipFill>
        <p:spPr>
          <a:xfrm>
            <a:off x="4140360" y="1052640"/>
            <a:ext cx="1352520" cy="1074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02402"/>
                </a:solidFill>
                <a:latin typeface="Times New Roman"/>
              </a:rPr>
              <a:t>Не шумите в лесу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Picture 8" descr="0010-028-Ne-shumite-v-lesu"/>
          <p:cNvPicPr/>
          <p:nvPr/>
        </p:nvPicPr>
        <p:blipFill>
          <a:blip r:embed="rId1"/>
          <a:stretch/>
        </p:blipFill>
        <p:spPr>
          <a:xfrm>
            <a:off x="2268360" y="1197000"/>
            <a:ext cx="4751640" cy="3166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4365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 леса музыка своя…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По ветке дятел застучал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Её послушайте друзья!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Как много звуков тут и там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птичьи трели раздались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В лесу не нужен шум и га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т белка скачет вверх и вниз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Нельзя шуметь, галдеть, крич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 вот кузнечик затрещал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птицы-друзья"/>
          <p:cNvPicPr/>
          <p:nvPr/>
        </p:nvPicPr>
        <p:blipFill>
          <a:blip r:embed="rId2"/>
          <a:stretch/>
        </p:blipFill>
        <p:spPr>
          <a:xfrm>
            <a:off x="6732720" y="692280"/>
            <a:ext cx="19605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21:49:56Z</dcterms:created>
  <dc:creator>USER</dc:creator>
  <dc:description/>
  <dc:language>en-US</dc:language>
  <cp:lastModifiedBy>Лариса</cp:lastModifiedBy>
  <dcterms:modified xsi:type="dcterms:W3CDTF">2020-09-12T20:22:45Z</dcterms:modified>
  <cp:revision>12</cp:revision>
  <dc:subject/>
  <dc:title>Журн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