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gif" ContentType="image/gif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14.gif" ContentType="image/gif"/>
  <Override PartName="/ppt/media/image22.jpeg" ContentType="image/jpeg"/>
  <Override PartName="/ppt/media/image1.jpeg" ContentType="image/jpeg"/>
  <Override PartName="/ppt/media/image9.gif" ContentType="image/gif"/>
  <Override PartName="/ppt/media/image30.jpeg" ContentType="image/jpeg"/>
  <Override PartName="/ppt/media/image33.gif" ContentType="image/gif"/>
  <Override PartName="/ppt/media/image18.jpeg" ContentType="image/jpeg"/>
  <Override PartName="/ppt/media/image8.gif" ContentType="image/gif"/>
  <Override PartName="/ppt/media/image34.jpeg" ContentType="image/jpeg"/>
  <Override PartName="/ppt/media/image37.jpeg" ContentType="image/jpeg"/>
  <Override PartName="/ppt/media/image39.jpeg" ContentType="image/jpeg"/>
  <Override PartName="/ppt/media/image40.jpeg" ContentType="image/jpeg"/>
  <Override PartName="/ppt/media/image31.gif" ContentType="image/gif"/>
  <Override PartName="/ppt/media/image13.gif" ContentType="image/gif"/>
  <Override PartName="/ppt/media/image42.jpeg" ContentType="image/jpeg"/>
  <Override PartName="/ppt/media/image11.gif" ContentType="image/gif"/>
  <Override PartName="/ppt/media/image43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5.gif" ContentType="image/gif"/>
  <Override PartName="/ppt/media/image12.jpeg" ContentType="image/jpeg"/>
  <Override PartName="/ppt/media/image41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29A-A6A3-4A48-8A57-231F8809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114-3878-43E3-ACD5-9A67423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7C5-7FD1-4128-8D7A-39216C80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2ED-1653-4AB5-B85B-259F0949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7103-294F-4FAD-88C8-96938E54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958-4FFD-4BFE-B385-6E028E65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A5DE-76EB-440E-80D9-D2F7EEC9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0B45-1FE7-4036-AC87-996903B2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648B-95D3-4089-9F48-7D84C8DA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2570-6E7E-4377-B8CD-10E8408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9A5E-496D-4364-B690-122432F1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E1D-0387-493B-91F8-460F09BA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024C-35F6-423A-A6B6-00452DB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780-C9E2-48D3-B826-91F29FE6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0BED-B57B-4D48-9BEA-571888EC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5E2F-8010-4EA4-96DC-86ECB3E1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FF7F-6E51-4FB7-9780-52B8D03D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1CC-3195-4651-B8F1-59AAA6F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C21-656D-4553-9867-0ACBDC55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FA0-43E5-4ECA-96B0-6D59BCAD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6C2-0154-41F6-902A-90F7D17F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17E-5AEE-4CD8-9E0D-6440CEF9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2E2-E47F-4566-8E0C-ABBB9B1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E3C-FEA0-4DF4-BA4C-13512FB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C231-8E67-4473-82CD-47B8205B926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226A-2041-449B-BCC6-E58DAB9EA79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e5834"/>
                </a:solidFill>
                <a:latin typeface="Times New Roman"/>
              </a:rPr>
              <a:t>Правила поведения в природе</a:t>
            </a:r>
            <a:endParaRPr b="0" i="1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9" name="Picture 5" descr="flowers11"/>
          <p:cNvPicPr/>
          <p:nvPr/>
        </p:nvPicPr>
        <p:blipFill>
          <a:blip r:embed="rId1"/>
          <a:stretch/>
        </p:blipFill>
        <p:spPr>
          <a:xfrm>
            <a:off x="3924360" y="3789360"/>
            <a:ext cx="1968480" cy="247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322029462"/>
          <p:cNvPicPr/>
          <p:nvPr/>
        </p:nvPicPr>
        <p:blipFill>
          <a:blip r:embed="rId2"/>
          <a:stretch/>
        </p:blipFill>
        <p:spPr>
          <a:xfrm>
            <a:off x="826920" y="260280"/>
            <a:ext cx="2016360" cy="148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67977228"/>
          <p:cNvPicPr/>
          <p:nvPr/>
        </p:nvPicPr>
        <p:blipFill>
          <a:blip r:embed="rId3"/>
          <a:stretch/>
        </p:blipFill>
        <p:spPr>
          <a:xfrm>
            <a:off x="7688160" y="4437000"/>
            <a:ext cx="1201680" cy="18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0002-009-Pravila-povedenija-v-lesu"/>
          <p:cNvPicPr/>
          <p:nvPr/>
        </p:nvPicPr>
        <p:blipFill>
          <a:blip r:embed="rId4"/>
          <a:stretch/>
        </p:blipFill>
        <p:spPr>
          <a:xfrm>
            <a:off x="971640" y="4797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2292da5a15f"/>
          <p:cNvPicPr/>
          <p:nvPr/>
        </p:nvPicPr>
        <p:blipFill>
          <a:blip r:embed="rId5"/>
          <a:stretch/>
        </p:blipFill>
        <p:spPr>
          <a:xfrm>
            <a:off x="7093080" y="1159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жигайте костёр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3" name="Picture 7" descr="0011-029-Ne-razzhigaj-kostjor-v-lesu-bez-vzroslykh"/>
          <p:cNvPicPr/>
          <p:nvPr/>
        </p:nvPicPr>
        <p:blipFill>
          <a:blip r:embed="rId1"/>
          <a:stretch/>
        </p:blipFill>
        <p:spPr>
          <a:xfrm>
            <a:off x="1908000" y="1052640"/>
            <a:ext cx="5977080" cy="3990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5084640"/>
            <a:ext cx="7843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С огнём в лесу развлекаться опасно –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редставьте, что пламя легко разгоритс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Закончиться может забава ужасно.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Начнёт полыхать, разбегаться, искриться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 лесу очень сухо бывает порой,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Его потушить невозможно тогда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Костёр обернётся серьёзной бедой!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ожары лесные – большая бед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паровоз"/>
          <p:cNvPicPr/>
          <p:nvPr/>
        </p:nvPicPr>
        <p:blipFill>
          <a:blip r:embed="rId2"/>
          <a:stretch/>
        </p:blipFill>
        <p:spPr>
          <a:xfrm>
            <a:off x="1116000" y="4149720"/>
            <a:ext cx="7508880" cy="925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ставляйте мусор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Picture 7" descr="0012-030-Ne-ostavljaj-musor-v-lesu"/>
          <p:cNvPicPr/>
          <p:nvPr/>
        </p:nvPicPr>
        <p:blipFill>
          <a:blip r:embed="rId1"/>
          <a:stretch/>
        </p:blipFill>
        <p:spPr>
          <a:xfrm>
            <a:off x="2484360" y="1052640"/>
            <a:ext cx="5040360" cy="3360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ы в поход пришли, ребята…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тдохнуть, конечно, надо: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Оставлять их здесь нельзя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играть и порезвиться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е поленимся, друзь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наесться, и напиться…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о вокруг остались банки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Заберём его с собо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ag00007_"/>
          <p:cNvPicPr/>
          <p:nvPr/>
        </p:nvPicPr>
        <p:blipFill>
          <a:blip r:embed="rId2"/>
          <a:stretch/>
        </p:blipFill>
        <p:spPr>
          <a:xfrm>
            <a:off x="1042920" y="2852640"/>
            <a:ext cx="138420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939730263"/>
          <p:cNvPicPr/>
          <p:nvPr/>
        </p:nvPicPr>
        <p:blipFill>
          <a:blip r:embed="rId3"/>
          <a:stretch/>
        </p:blipFill>
        <p:spPr>
          <a:xfrm>
            <a:off x="7236000" y="3068640"/>
            <a:ext cx="220644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бейте стекло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Picture 7" descr="0013-031-Ne-bejte-steklo-v-lesu"/>
          <p:cNvPicPr/>
          <p:nvPr/>
        </p:nvPicPr>
        <p:blipFill>
          <a:blip r:embed="rId1"/>
          <a:stretch/>
        </p:blipFill>
        <p:spPr>
          <a:xfrm>
            <a:off x="2268360" y="1125360"/>
            <a:ext cx="5400720" cy="35960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472392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льзя стекло в лесу кидать,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 если вдруг на них свалиться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льзя бутылки разбивать;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больнице можно очутиться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сколки острые опасны –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обитателям лес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 них порежешься ужасно!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екляшки тоже не нужны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Мики с флажком"/>
          <p:cNvPicPr/>
          <p:nvPr/>
        </p:nvPicPr>
        <p:blipFill>
          <a:blip r:embed="rId2"/>
          <a:stretch/>
        </p:blipFill>
        <p:spPr>
          <a:xfrm>
            <a:off x="971640" y="3068640"/>
            <a:ext cx="16462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вырезайте надписи на</a:t>
            </a:r>
            <a:br>
              <a:rPr sz="4000"/>
            </a:b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            деревья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деревья – велик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х не жалеют хулиг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режут острыми нож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лова на дереве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на память!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 так жестоко поступа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льзя деревья обиж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ускай они в лесу раст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обро и красоту несут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0014-033-Ne-vyrezajte-nadpisi-na-derevjakh"/>
          <p:cNvPicPr/>
          <p:nvPr/>
        </p:nvPicPr>
        <p:blipFill>
          <a:blip r:embed="rId1"/>
          <a:stretch/>
        </p:blipFill>
        <p:spPr>
          <a:xfrm>
            <a:off x="5219640" y="692280"/>
            <a:ext cx="3427560" cy="5608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0002-009-Pravila-povedenija-v-lesu"/>
          <p:cNvPicPr/>
          <p:nvPr/>
        </p:nvPicPr>
        <p:blipFill>
          <a:blip r:embed="rId2"/>
          <a:stretch/>
        </p:blipFill>
        <p:spPr>
          <a:xfrm>
            <a:off x="9000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0016-036-Ne-portite-nesedobnye-griby"/>
          <p:cNvPicPr/>
          <p:nvPr/>
        </p:nvPicPr>
        <p:blipFill>
          <a:blip r:embed="rId1"/>
          <a:stretch/>
        </p:blipFill>
        <p:spPr>
          <a:xfrm>
            <a:off x="2411280" y="981000"/>
            <a:ext cx="5256360" cy="3646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971640" y="458136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лесу грибов различных много… ты несъедобные не трогай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корзинку их не собирай, но и ногами не сбивай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ужны они лесным зверятам: лисичкам, ёжикам, зайчатам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х только люди не едят: в поганках, мухоморах – яд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о для зверья лесного всё ж тот гриб полезен и хорош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" descr="Мики с флажком"/>
          <p:cNvPicPr/>
          <p:nvPr/>
        </p:nvPicPr>
        <p:blipFill>
          <a:blip r:embed="rId2"/>
          <a:stretch/>
        </p:blipFill>
        <p:spPr>
          <a:xfrm>
            <a:off x="826920" y="3068640"/>
            <a:ext cx="164628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портите несъедобные гриб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0015-035-Ne-vyryvajte-kustarniki-s-kornem"/>
          <p:cNvPicPr/>
          <p:nvPr/>
        </p:nvPicPr>
        <p:blipFill>
          <a:blip r:embed="rId1"/>
          <a:stretch/>
        </p:blipFill>
        <p:spPr>
          <a:xfrm>
            <a:off x="2124000" y="1052640"/>
            <a:ext cx="5688000" cy="3787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47640" y="4869000"/>
            <a:ext cx="673272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аз ты собрался по грибы – с собою острый нож бер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аккуратно гриб срезай – в земле грибницу оставля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 если встретил землянику, куст брусники иль чер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жно ягодки сорви, а куст – оставь, побере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01949564"/>
          <p:cNvPicPr/>
          <p:nvPr/>
        </p:nvPicPr>
        <p:blipFill>
          <a:blip r:embed="rId2"/>
          <a:stretch/>
        </p:blipFill>
        <p:spPr>
          <a:xfrm>
            <a:off x="900000" y="907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02402"/>
                </a:solidFill>
                <a:latin typeface="Times New Roman"/>
              </a:rPr>
              <a:t>Не вырывайте кустарники с корн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0360" y="404280"/>
            <a:ext cx="475272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бижай змей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Picture 7" descr="0017-038-Ne-obizhaj-zmej"/>
          <p:cNvPicPr/>
          <p:nvPr/>
        </p:nvPicPr>
        <p:blipFill>
          <a:blip r:embed="rId1"/>
          <a:stretch/>
        </p:blipFill>
        <p:spPr>
          <a:xfrm>
            <a:off x="1042920" y="476280"/>
            <a:ext cx="3384720" cy="5843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338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, змею не обижа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, увидев, палку не хвата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маши руками, не кричи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то отойди и помолч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Хоть опасны змеи, но нужн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тоту беречь они долж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анитарам леса и в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 не делай зла или бед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56e9a916cb80"/>
          <p:cNvPicPr/>
          <p:nvPr/>
        </p:nvPicPr>
        <p:blipFill>
          <a:blip r:embed="rId2"/>
          <a:stretch/>
        </p:blipFill>
        <p:spPr>
          <a:xfrm>
            <a:off x="3492360" y="4869000"/>
            <a:ext cx="1438560" cy="153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322029462"/>
          <p:cNvPicPr/>
          <p:nvPr/>
        </p:nvPicPr>
        <p:blipFill>
          <a:blip r:embed="rId3"/>
          <a:stretch/>
        </p:blipFill>
        <p:spPr>
          <a:xfrm>
            <a:off x="7596360" y="98100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0002-009-Pravila-povedenija-v-lesu"/>
          <p:cNvPicPr/>
          <p:nvPr/>
        </p:nvPicPr>
        <p:blipFill>
          <a:blip r:embed="rId4"/>
          <a:stretch/>
        </p:blipFill>
        <p:spPr>
          <a:xfrm>
            <a:off x="694836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8900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оряйте птичьих гнезд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720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ети запомнить долж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поня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нёзда у птич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льзя разорять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ли в тра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видали яйц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ли услыша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рики птенц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приближайтес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лезьте ту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не тревожь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и птиц, ни гн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0003-011-Ne-razorjajte-ptichi-gnjozda"/>
          <p:cNvPicPr/>
          <p:nvPr/>
        </p:nvPicPr>
        <p:blipFill>
          <a:blip r:embed="rId1"/>
          <a:stretch/>
        </p:blipFill>
        <p:spPr>
          <a:xfrm>
            <a:off x="5219640" y="981000"/>
            <a:ext cx="3210120" cy="525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54018446"/>
          <p:cNvPicPr/>
          <p:nvPr/>
        </p:nvPicPr>
        <p:blipFill>
          <a:blip r:embed="rId2"/>
          <a:stretch/>
        </p:blipFill>
        <p:spPr>
          <a:xfrm>
            <a:off x="3419640" y="1628640"/>
            <a:ext cx="1604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645804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оряйте муравейни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4" descr="5694"/>
          <p:cNvPicPr/>
          <p:nvPr/>
        </p:nvPicPr>
        <p:blipFill>
          <a:blip r:embed="rId1"/>
          <a:stretch/>
        </p:blipFill>
        <p:spPr>
          <a:xfrm>
            <a:off x="2268360" y="1125360"/>
            <a:ext cx="5185080" cy="345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920" y="458100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уравьи – лесные санитары;                  Гонят разных короедов прочь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ак прозвали люди их недаром!             Только ты им, друг мой, не меша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Чтобы лес красив был и здоров,             Муравейники не разоря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Без личинок вредных и жуков,                Эти санитары так нуж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уравьи на страже день и ночь:             Для лесов твоей родной ст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Мики с флажком"/>
          <p:cNvPicPr/>
          <p:nvPr/>
        </p:nvPicPr>
        <p:blipFill>
          <a:blip r:embed="rId2"/>
          <a:stretch/>
        </p:blipFill>
        <p:spPr>
          <a:xfrm>
            <a:off x="971640" y="3068640"/>
            <a:ext cx="164628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953124323"/>
          <p:cNvPicPr/>
          <p:nvPr/>
        </p:nvPicPr>
        <p:blipFill>
          <a:blip r:embed="rId3"/>
          <a:stretch/>
        </p:blipFill>
        <p:spPr>
          <a:xfrm>
            <a:off x="7451640" y="3141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забирай из леса домой животн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Для ёжиков и белок лес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Это дом родн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ни живут там смел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етом и зимо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стоит их в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абирать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верь: они в невол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аходят пропитан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воих детей растя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уходить из ле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0005-014-Ne-zabiraj-iz-lesa-domoj-zhivotnykh"/>
          <p:cNvPicPr/>
          <p:nvPr/>
        </p:nvPicPr>
        <p:blipFill>
          <a:blip r:embed="rId1"/>
          <a:stretch/>
        </p:blipFill>
        <p:spPr>
          <a:xfrm>
            <a:off x="3851280" y="1916280"/>
            <a:ext cx="4914720" cy="36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946435823"/>
          <p:cNvPicPr/>
          <p:nvPr/>
        </p:nvPicPr>
        <p:blipFill>
          <a:blip r:embed="rId2"/>
          <a:stretch/>
        </p:blipFill>
        <p:spPr>
          <a:xfrm>
            <a:off x="1619280" y="5445000"/>
            <a:ext cx="1425600" cy="81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986"/>
          <p:cNvPicPr/>
          <p:nvPr/>
        </p:nvPicPr>
        <p:blipFill>
          <a:blip r:embed="rId3"/>
          <a:stretch/>
        </p:blipFill>
        <p:spPr>
          <a:xfrm>
            <a:off x="8028000" y="4869000"/>
            <a:ext cx="863640" cy="842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бижай лесных насеком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9" name="Picture 7" descr="0006-017-Ne-obizhaj-lesnykh-nasekomykh"/>
          <p:cNvPicPr/>
          <p:nvPr/>
        </p:nvPicPr>
        <p:blipFill>
          <a:blip r:embed="rId1"/>
          <a:stretch/>
        </p:blipFill>
        <p:spPr>
          <a:xfrm>
            <a:off x="1979640" y="1125360"/>
            <a:ext cx="5329080" cy="3505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450864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лесу летают мотыльки, ползут козявки и жук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рода мать им жизнь дала. У них у всех свои де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 их увидишь на пути – не обижай, а отойди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ез насекомых лес, друг мой, и одинокий, и пусто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стрекоза"/>
          <p:cNvPicPr/>
          <p:nvPr/>
        </p:nvPicPr>
        <p:blipFill>
          <a:blip r:embed="rId2"/>
          <a:stretch/>
        </p:blipFill>
        <p:spPr>
          <a:xfrm>
            <a:off x="7236000" y="1052640"/>
            <a:ext cx="1442880" cy="123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183"/>
          <p:cNvPicPr/>
          <p:nvPr/>
        </p:nvPicPr>
        <p:blipFill>
          <a:blip r:embed="rId3"/>
          <a:stretch/>
        </p:blipFill>
        <p:spPr>
          <a:xfrm>
            <a:off x="7451640" y="3860640"/>
            <a:ext cx="1354320" cy="730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hoto 005"/>
          <p:cNvPicPr/>
          <p:nvPr/>
        </p:nvPicPr>
        <p:blipFill>
          <a:blip r:embed="rId4"/>
          <a:stretch/>
        </p:blipFill>
        <p:spPr>
          <a:xfrm>
            <a:off x="1042920" y="3789360"/>
            <a:ext cx="114300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вите полевые цвет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40100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Цветы украшают луга и ле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о это не только природы кра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них пчёлы находят целительный да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бабочки пьют из них сладкий некта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е надо, друзья, их бессмысленно рва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е надо букеты из них  составлять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авянут букеты…погибнут цветы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больше не будет такой красоты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0007-021-Ne-rvite-polevye-tsvety"/>
          <p:cNvPicPr/>
          <p:nvPr/>
        </p:nvPicPr>
        <p:blipFill>
          <a:blip r:embed="rId1"/>
          <a:stretch/>
        </p:blipFill>
        <p:spPr>
          <a:xfrm>
            <a:off x="5245200" y="981000"/>
            <a:ext cx="3537000" cy="531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pchel09"/>
          <p:cNvPicPr/>
          <p:nvPr/>
        </p:nvPicPr>
        <p:blipFill>
          <a:blip r:embed="rId2"/>
          <a:stretch/>
        </p:blipFill>
        <p:spPr>
          <a:xfrm>
            <a:off x="421164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бабочка анимация"/>
          <p:cNvPicPr/>
          <p:nvPr/>
        </p:nvPicPr>
        <p:blipFill>
          <a:blip r:embed="rId3"/>
          <a:stretch/>
        </p:blipFill>
        <p:spPr>
          <a:xfrm rot="5400000">
            <a:off x="1237320" y="857880"/>
            <a:ext cx="12747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вите редкие цвет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7" descr="0008-022-Ne-rvite-redkie-tsvety"/>
          <p:cNvPicPr/>
          <p:nvPr/>
        </p:nvPicPr>
        <p:blipFill>
          <a:blip r:embed="rId1"/>
          <a:stretch/>
        </p:blipFill>
        <p:spPr>
          <a:xfrm>
            <a:off x="2268360" y="1125360"/>
            <a:ext cx="5329440" cy="3548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2920" y="4797360"/>
            <a:ext cx="7201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Есть цветочки редкие,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лые и нежные: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ам кивнут приветливо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Ландыши, подснежники…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2" descr="flowers_298"/>
          <p:cNvPicPr/>
          <p:nvPr/>
        </p:nvPicPr>
        <p:blipFill>
          <a:blip r:embed="rId2"/>
          <a:stretch/>
        </p:blipFill>
        <p:spPr>
          <a:xfrm>
            <a:off x="7667640" y="2781360"/>
            <a:ext cx="1095480" cy="187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0007-019-Ne-rvite-polevye-tsvety"/>
          <p:cNvPicPr/>
          <p:nvPr/>
        </p:nvPicPr>
        <p:blipFill>
          <a:blip r:embed="rId3"/>
          <a:stretch/>
        </p:blipFill>
        <p:spPr>
          <a:xfrm>
            <a:off x="971640" y="3357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ловите бабочек и стрекоз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абочка цвет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д тобой порхае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трекоза резви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ляшет, весел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ету все так рады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х ловить не над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усть себе летаю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Землю украшаю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0009-024-Ne-lovite-babochek-i-strekoz"/>
          <p:cNvPicPr/>
          <p:nvPr/>
        </p:nvPicPr>
        <p:blipFill>
          <a:blip r:embed="rId1"/>
          <a:stretch/>
        </p:blipFill>
        <p:spPr>
          <a:xfrm>
            <a:off x="5219640" y="1197000"/>
            <a:ext cx="3402000" cy="510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utterfly_2004"/>
          <p:cNvPicPr/>
          <p:nvPr/>
        </p:nvPicPr>
        <p:blipFill>
          <a:blip r:embed="rId2"/>
          <a:stretch/>
        </p:blipFill>
        <p:spPr>
          <a:xfrm>
            <a:off x="4140360" y="1052640"/>
            <a:ext cx="1352520" cy="1074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шумите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Picture 8" descr="0010-028-Ne-shumite-v-lesu"/>
          <p:cNvPicPr/>
          <p:nvPr/>
        </p:nvPicPr>
        <p:blipFill>
          <a:blip r:embed="rId1"/>
          <a:stretch/>
        </p:blipFill>
        <p:spPr>
          <a:xfrm>
            <a:off x="2268360" y="1197000"/>
            <a:ext cx="4751640" cy="3166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4365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 леса музыка своя…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По ветке дятел застучал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Её послушайте друзья!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Как много звуков тут и там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т птичьи трели раздались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В лесу не нужен шум и га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т белка скачет вверх и вниз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Нельзя шуметь, галдеть, крич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 вот кузнечик затрещал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птицы-друзья"/>
          <p:cNvPicPr/>
          <p:nvPr/>
        </p:nvPicPr>
        <p:blipFill>
          <a:blip r:embed="rId2"/>
          <a:stretch/>
        </p:blipFill>
        <p:spPr>
          <a:xfrm>
            <a:off x="6732720" y="692280"/>
            <a:ext cx="19605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21:49:56Z</dcterms:created>
  <dc:creator>USER</dc:creator>
  <dc:description/>
  <dc:language>en-US</dc:language>
  <cp:lastModifiedBy>Лариса</cp:lastModifiedBy>
  <dcterms:modified xsi:type="dcterms:W3CDTF">2020-09-12T20:22:45Z</dcterms:modified>
  <cp:revision>12</cp:revision>
  <dc:subject/>
  <dc:title>Журн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