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8B9-1707-472B-AB79-D7444F42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F84-2C2F-4A4C-B310-598D9A9F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F11-F048-417B-A8C1-448819BA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75F-7E11-412E-AFA0-D7A885B5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A4A-B329-4142-8A11-CC38CB21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409-3618-4520-8E63-B2671C05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B32-C8E1-44B6-8899-3F064919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666-9E27-410D-A0DD-655982F8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0A4-554F-4827-AD1A-F22DEB35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246-8A27-46C2-9CB8-1B2022D2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10F-068B-49D7-98AA-A2D15B9E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C5D-B458-48CE-A2FE-AA37F667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952C11E3-FB99-4669-9C1D-61E129BD8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31640" y="826920"/>
            <a:ext cx="410400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идактическая игра – инструмент педагога для обогащения и укрепления знаний детей в области художественного творче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http://img1.liveinternet.ru/images/attach/c/4/78/692/78692699_4068804_2587652.jpg"/>
          <p:cNvPicPr/>
          <p:nvPr/>
        </p:nvPicPr>
        <p:blipFill>
          <a:blip r:embed="rId1"/>
          <a:stretch/>
        </p:blipFill>
        <p:spPr>
          <a:xfrm>
            <a:off x="4753080" y="243000"/>
            <a:ext cx="5095800" cy="66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792000" y="2556000"/>
            <a:ext cx="45039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звитие произвольного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звитие реч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опление сенсорных впечатлен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мирования различных сенсорных эталонов (цвет, форма, величина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http://rebenku1god.ru/images/650_4123.jpg"/>
          <p:cNvPicPr/>
          <p:nvPr/>
        </p:nvPicPr>
        <p:blipFill>
          <a:blip r:embed="rId1"/>
          <a:stretch/>
        </p:blipFill>
        <p:spPr>
          <a:xfrm>
            <a:off x="5472000" y="250920"/>
            <a:ext cx="4438800" cy="66675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"/>
          <p:cNvSpPr/>
          <p:nvPr/>
        </p:nvSpPr>
        <p:spPr>
          <a:xfrm>
            <a:off x="438120" y="82692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дактические игры традиционно соединяют в себе несколько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741240" y="5796000"/>
            <a:ext cx="8609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процессе разнообразных дидактических игр дети учатся выделять цвет предметов, называть цвета, сравнивать предметы по цвету, группировать, дифференциро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http://twigstudio.ca/blog/wp-content/uploads/2011/09/felted-acorn-sorting-bowls-enchanted-cupboard.jpg"/>
          <p:cNvPicPr/>
          <p:nvPr/>
        </p:nvPicPr>
        <p:blipFill>
          <a:blip r:embed="rId1"/>
          <a:srcRect l="0" t="0" r="0" b="19302"/>
          <a:stretch/>
        </p:blipFill>
        <p:spPr>
          <a:xfrm>
            <a:off x="1584360" y="291960"/>
            <a:ext cx="664056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792000" y="250920"/>
            <a:ext cx="86090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гры на развитие цветовосприя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440000" y="1309680"/>
            <a:ext cx="7199280" cy="5530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735120" y="693720"/>
            <a:ext cx="860904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и игры можно применять в индивидуальной работе с детьми, закреплять пройденную тему, в диагнос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440000" y="5759280"/>
            <a:ext cx="719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cccc"/>
                </a:solidFill>
                <a:latin typeface="Times New Roman"/>
              </a:rPr>
              <a:t>Подбери цве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Times New Roman"/>
              </a:rPr>
              <a:t>Подобрать любимые цвета Снеговика (холодные), Солнышка (тепл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720720" y="5940360"/>
            <a:ext cx="8609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ери буке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снегурочки (холодные), для Солнечного лучика (тепл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52360" y="324000"/>
            <a:ext cx="7704360" cy="57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750960" y="5989680"/>
            <a:ext cx="8609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ери гусеничку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рать гусеничку из холодных или теплых тонов, или начиная с самого темного до самого светлого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079640" y="144360"/>
            <a:ext cx="7920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936720" y="6227640"/>
            <a:ext cx="8609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бери цвет к предмету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36720" y="25092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927000" y="1619280"/>
            <a:ext cx="86090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6:30:35Z</dcterms:created>
  <dc:creator>Татьяна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1</cp:lastModifiedBy>
  <dcterms:modified xsi:type="dcterms:W3CDTF">2020-09-12T14:42:59Z</dcterms:modified>
  <cp:revision>16</cp:revision>
  <dc:subject/>
  <dc:title>Слайд 1</dc:title>
</cp:coreProperties>
</file>