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ACE6-1307-4C28-978E-808E76873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AF08-621B-4D69-B625-6C592EB9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9C6E-856E-4596-9182-2EBC5696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253E-59C4-40B8-9F3E-9F4D4075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71A0-0F77-45F6-8AFD-408CCB55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5C7E-65FA-47B4-8895-80A95584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05F7-A5CB-488F-9C2C-6F188651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9D7D-271B-4EAA-8EF8-5E603A53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1FDA-C117-485E-97B8-B57E6C09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5EC7-0828-4865-B23D-E47D0AC7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99B3-CB06-40B9-AA7F-3897A3AED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3224-61B7-47FE-B014-ABED57452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4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7937640" y="6251400"/>
            <a:ext cx="196848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AutoShape 1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1A8C7A72-CA5E-489F-8894-A87A3787E4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"/>
          <p:cNvSpPr/>
          <p:nvPr/>
        </p:nvSpPr>
        <p:spPr>
          <a:xfrm>
            <a:off x="431640" y="826920"/>
            <a:ext cx="4104000" cy="60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Дидактическая игра – инструмент педагога для обогащения и укрепления знаний детей в области художественного творчест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4" descr="http://img1.liveinternet.ru/images/attach/c/4/78/692/78692699_4068804_2587652.jpg"/>
          <p:cNvPicPr/>
          <p:nvPr/>
        </p:nvPicPr>
        <p:blipFill>
          <a:blip r:embed="rId1"/>
          <a:stretch/>
        </p:blipFill>
        <p:spPr>
          <a:xfrm>
            <a:off x="4753080" y="243000"/>
            <a:ext cx="5095800" cy="66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792000" y="2556000"/>
            <a:ext cx="45039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ctr">
            <a:no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звитие произвольного вниман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звитие реч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копление сенсорных впечатлени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рмирования различных сенсорных эталонов (цвет, форма, величина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4" descr="http://rebenku1god.ru/images/650_4123.jpg"/>
          <p:cNvPicPr/>
          <p:nvPr/>
        </p:nvPicPr>
        <p:blipFill>
          <a:blip r:embed="rId1"/>
          <a:stretch/>
        </p:blipFill>
        <p:spPr>
          <a:xfrm>
            <a:off x="5472000" y="250920"/>
            <a:ext cx="4438800" cy="666756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1"/>
          <p:cNvSpPr/>
          <p:nvPr/>
        </p:nvSpPr>
        <p:spPr>
          <a:xfrm>
            <a:off x="438120" y="826920"/>
            <a:ext cx="460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дактические игры традиционно соединяют в себе несколько задач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741240" y="5796000"/>
            <a:ext cx="860904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 процессе разнообразных дидактических игр дети учатся выделять цвет предметов, называть цвета, сравнивать предметы по цвету, группировать, дифференцирова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4" descr="http://twigstudio.ca/blog/wp-content/uploads/2011/09/felted-acorn-sorting-bowls-enchanted-cupboard.jpg"/>
          <p:cNvPicPr/>
          <p:nvPr/>
        </p:nvPicPr>
        <p:blipFill>
          <a:blip r:embed="rId1"/>
          <a:srcRect l="0" t="0" r="0" b="19302"/>
          <a:stretch/>
        </p:blipFill>
        <p:spPr>
          <a:xfrm>
            <a:off x="1584360" y="291960"/>
            <a:ext cx="6640560" cy="535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"/>
          <p:cNvSpPr/>
          <p:nvPr/>
        </p:nvSpPr>
        <p:spPr>
          <a:xfrm>
            <a:off x="792000" y="250920"/>
            <a:ext cx="860904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Игры на развитие цветовосприят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440000" y="1309680"/>
            <a:ext cx="7199280" cy="553068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735120" y="693720"/>
            <a:ext cx="8609040" cy="15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Эти игры можно применять в индивидуальной работе с детьми, закреплять пройденную тему, в диагности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1440000" y="5759280"/>
            <a:ext cx="7199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cccccc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cccccc"/>
                </a:solidFill>
                <a:latin typeface="Times New Roman"/>
              </a:rPr>
              <a:t>Подбери цве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cccccc"/>
                </a:solidFill>
                <a:latin typeface="Times New Roman"/>
              </a:rPr>
              <a:t>Подобрать любимые цвета Снеговика (холодные), Солнышка (теплы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"/>
          <p:cNvSpPr/>
          <p:nvPr/>
        </p:nvSpPr>
        <p:spPr>
          <a:xfrm>
            <a:off x="720720" y="5940360"/>
            <a:ext cx="86090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обери буке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Для снегурочки (холодные), для Солнечного лучика (теплы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1152360" y="324000"/>
            <a:ext cx="7704360" cy="577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750960" y="5989680"/>
            <a:ext cx="860904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обери гусеничку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обрать гусеничку из холодных или теплых тонов, или начиная с самого темного до самого светлого</a:t>
            </a: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1079640" y="144360"/>
            <a:ext cx="7920000" cy="57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936720" y="6227640"/>
            <a:ext cx="860904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одбери цвет к предмету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936720" y="250920"/>
            <a:ext cx="8208720" cy="61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927000" y="1619280"/>
            <a:ext cx="86090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Спасибо за внимание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0T16:30:35Z</dcterms:created>
  <dc:creator>Татьяна</dc:creator>
  <dc:description>Предложение пути развития и альтернатив, рекомендации по использованию той или другой стратегии</dc:description>
  <dc:language>en-US</dc:language>
  <cp:lastModifiedBy>1</cp:lastModifiedBy>
  <dcterms:modified xsi:type="dcterms:W3CDTF">2020-09-12T14:42:59Z</dcterms:modified>
  <cp:revision>16</cp:revision>
  <dc:subject/>
  <dc:title>Слайд 1</dc:title>
</cp:coreProperties>
</file>