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5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4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6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6.png" ContentType="image/png"/>
  <Override PartName="/ppt/media/image35.jpeg" ContentType="image/jpeg"/>
  <Override PartName="/ppt/media/image10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CE5-66BF-4482-AAA4-8CF1F556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82A-4630-4A4C-A303-EB2D1E42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C7D-5CD9-4175-94DE-9048CA38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324-452D-45C3-81F3-9FE66F9B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1B2F-5DC1-4068-BB53-3156D610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5427-8974-48E6-B33E-1A43405E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D98E-9874-4C93-B64C-9E86C02B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D89E-93D0-46B9-B012-87FBBADF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9C5E-4095-446F-B9FB-FA707EC5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E04A-B823-43EB-B177-B6474E10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98B0-D12F-4141-A77B-C65B320B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761-5A8D-4DFC-A391-DA8FAEDC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C226-743A-4079-930D-CD130E6A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EBE2-1100-427B-9DBF-28D646C1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6417-9EAD-4B67-813D-97088F04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B8A2-75C2-4346-AAFA-004CB5BB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EBD2-77E8-476F-B372-A7359742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50A-AEAB-4A1D-9C84-44CC0475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BB4-CAF4-4BAD-B3D8-889D8F84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C10-C35A-4330-86A4-72ACB506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A45-4D37-4F6D-8F3A-48930D1C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34E-4DBE-4441-9F0B-693414DA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6CE-E170-4D64-96CD-B0D11A9A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BAC-5298-4018-88C7-3F657A48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B489-40E7-413F-ADA9-24A6DDA702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9583-FDAE-4AF1-8B97-FC57C83922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ДЕКУПАЖ (</a:t>
            </a: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decoupage</a:t>
            </a:r>
            <a:r>
              <a:rPr b="1" i="1" lang="en-US" sz="6000" spc="-1" strike="noStrike">
                <a:solidFill>
                  <a:srgbClr val="6600cc"/>
                </a:solidFill>
                <a:latin typeface="Arial"/>
              </a:rPr>
              <a:t>)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900000" y="3284640"/>
            <a:ext cx="7056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ВЫРЕЗАТЬ (</a:t>
            </a: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decouper</a:t>
            </a:r>
            <a:r>
              <a:rPr b="1" i="1" lang="en-US" sz="60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что можно украсить бумажными салфеткам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84360" y="1773360"/>
            <a:ext cx="2217600" cy="1663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6"/>
          <p:cNvPicPr/>
          <p:nvPr/>
        </p:nvPicPr>
        <p:blipFill>
          <a:blip r:embed="rId2"/>
          <a:stretch/>
        </p:blipFill>
        <p:spPr>
          <a:xfrm>
            <a:off x="1116000" y="3789360"/>
            <a:ext cx="1438200" cy="191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16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492360" y="1700280"/>
            <a:ext cx="771840" cy="181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20"/>
          <p:cNvPicPr/>
          <p:nvPr/>
        </p:nvPicPr>
        <p:blipFill>
          <a:blip r:embed="rId4"/>
          <a:stretch/>
        </p:blipFill>
        <p:spPr>
          <a:xfrm>
            <a:off x="3203640" y="3933720"/>
            <a:ext cx="2376360" cy="1627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27"/>
          <p:cNvPicPr/>
          <p:nvPr/>
        </p:nvPicPr>
        <p:blipFill>
          <a:blip r:embed="rId5"/>
          <a:stretch/>
        </p:blipFill>
        <p:spPr>
          <a:xfrm>
            <a:off x="4788000" y="1773360"/>
            <a:ext cx="1778040" cy="180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IMG_1728mama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7020000" y="1557360"/>
            <a:ext cx="1252440" cy="1800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0" descr="зеркало1"/>
          <p:cNvPicPr/>
          <p:nvPr/>
        </p:nvPicPr>
        <p:blipFill>
          <a:blip r:embed="rId7">
            <a:lum contrast="12000"/>
          </a:blip>
          <a:stretch/>
        </p:blipFill>
        <p:spPr>
          <a:xfrm>
            <a:off x="6300720" y="3860640"/>
            <a:ext cx="159696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используемые материал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ка разделочная (деревян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а из под кофе (стеклян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лф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иловые краски, блес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к для дерева, акриловый л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500"/>
                            </p:stCondLst>
                            <p:childTnLst>
                              <p:par>
                                <p:cTn id="36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. Выбрать объект декорирования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100_1698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95640" y="2637000"/>
            <a:ext cx="43196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2. Предварительная обработка поверхност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клянную поверхность обезжирить моющим сре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роховатую деревянную поверхность обработать шкур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3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3. При необходимости нанести грунтовку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(можно акриловую краску подходящего цвета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100_170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71640" y="1700280"/>
            <a:ext cx="2949480" cy="424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100_1707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788000" y="1700280"/>
            <a:ext cx="29304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4. Выбрать узор салфетк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100_1702"/>
          <p:cNvPicPr/>
          <p:nvPr/>
        </p:nvPicPr>
        <p:blipFill>
          <a:blip r:embed="rId1"/>
          <a:stretch/>
        </p:blipFill>
        <p:spPr>
          <a:xfrm>
            <a:off x="1692360" y="1773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5. Вырезать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(необходимое количество)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 мотивы узор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100_1704"/>
          <p:cNvPicPr/>
          <p:nvPr/>
        </p:nvPicPr>
        <p:blipFill>
          <a:blip r:embed="rId1"/>
          <a:stretch/>
        </p:blipFill>
        <p:spPr>
          <a:xfrm>
            <a:off x="2771640" y="1557360"/>
            <a:ext cx="34369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6. Составить композицию из вырезанных элемент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100_1714"/>
          <p:cNvPicPr/>
          <p:nvPr/>
        </p:nvPicPr>
        <p:blipFill>
          <a:blip r:embed="rId1"/>
          <a:stretch/>
        </p:blipFill>
        <p:spPr>
          <a:xfrm>
            <a:off x="1692360" y="1700280"/>
            <a:ext cx="59054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7. Отделить от вырезанных мотивов верхний тонкий красочный слой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100_1733"/>
          <p:cNvPicPr/>
          <p:nvPr/>
        </p:nvPicPr>
        <p:blipFill>
          <a:blip r:embed="rId1"/>
          <a:stretch/>
        </p:blipFill>
        <p:spPr>
          <a:xfrm>
            <a:off x="2124000" y="1700280"/>
            <a:ext cx="504036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8. Приклеить мотив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100_171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9640" y="1628640"/>
            <a:ext cx="1225800" cy="237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100_1716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908000" y="1628640"/>
            <a:ext cx="1257480" cy="2378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100_1717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348000" y="1628640"/>
            <a:ext cx="1290600" cy="2378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100_1718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4788000" y="1628640"/>
            <a:ext cx="1220760" cy="237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00_1719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6156360" y="1628640"/>
            <a:ext cx="1155600" cy="23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100_1720"/>
          <p:cNvPicPr/>
          <p:nvPr/>
        </p:nvPicPr>
        <p:blipFill>
          <a:blip r:embed="rId6">
            <a:lum contrast="-6000"/>
          </a:blip>
          <a:stretch/>
        </p:blipFill>
        <p:spPr>
          <a:xfrm>
            <a:off x="7451640" y="1628640"/>
            <a:ext cx="1127160" cy="23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100_1706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3203640" y="4149720"/>
            <a:ext cx="29527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5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74880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Всё новое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хорошо забытое стар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9. Работа красками, блесткам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100_172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908000" y="4149720"/>
            <a:ext cx="2087640" cy="198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100_1724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788000" y="4149720"/>
            <a:ext cx="2232000" cy="19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100_172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619280" y="1413000"/>
            <a:ext cx="153828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100_1727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851280" y="1413000"/>
            <a:ext cx="1450800" cy="266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100_1729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6012000" y="1413000"/>
            <a:ext cx="1609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10. Покрыть лаком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100_1730"/>
          <p:cNvPicPr/>
          <p:nvPr/>
        </p:nvPicPr>
        <p:blipFill>
          <a:blip r:embed="rId1"/>
          <a:stretch/>
        </p:blipFill>
        <p:spPr>
          <a:xfrm>
            <a:off x="2195640" y="1341360"/>
            <a:ext cx="4608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11. Декорирование горла бутылки шнуро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100_1731"/>
          <p:cNvPicPr/>
          <p:nvPr/>
        </p:nvPicPr>
        <p:blipFill>
          <a:blip r:embed="rId1"/>
          <a:stretch/>
        </p:blipFill>
        <p:spPr>
          <a:xfrm>
            <a:off x="3132000" y="1268280"/>
            <a:ext cx="2635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Готовый набор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100_1732"/>
          <p:cNvPicPr/>
          <p:nvPr/>
        </p:nvPicPr>
        <p:blipFill>
          <a:blip r:embed="rId1"/>
          <a:stretch/>
        </p:blipFill>
        <p:spPr>
          <a:xfrm>
            <a:off x="2411280" y="1268280"/>
            <a:ext cx="4284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ТБ при работе с ножницам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Ножницы лежат с правой стороны от работающего с сомкнутыми лезвиями направленными от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ередавать ножницы только кольцами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Не размахивать ножницами чтобы не поранить себя и со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Не допускать падения ножниц на 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ЖЕЛАЮ ВА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ТВОРЧЕСКИ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i="1" lang="ru-RU" sz="6000" spc="-1" strike="noStrike">
                <a:solidFill>
                  <a:srgbClr val="6600cc"/>
                </a:solidFill>
                <a:latin typeface="Arial"/>
              </a:rPr>
              <a:t>УСПЕХОВ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крепление материал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Что такое ДЕКУПАЖ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Где и почему возник этот вид прикладного творче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Как в настоящее время относятся к технике ДЕКУПАЖ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Какие поверхности можно декорировать бумажными салфет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мир2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392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XVI - XVII 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ека (Китай) -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91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искусство лаковой росписи меб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лист2 005"/>
          <p:cNvPicPr/>
          <p:nvPr/>
        </p:nvPicPr>
        <p:blipFill>
          <a:blip r:embed="rId1"/>
          <a:stretch/>
        </p:blipFill>
        <p:spPr>
          <a:xfrm>
            <a:off x="1403280" y="2421000"/>
            <a:ext cx="3089520" cy="36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Копия лист2 006"/>
          <p:cNvPicPr/>
          <p:nvPr/>
        </p:nvPicPr>
        <p:blipFill>
          <a:blip r:embed="rId2"/>
          <a:stretch/>
        </p:blipFill>
        <p:spPr>
          <a:xfrm>
            <a:off x="5508720" y="2421000"/>
            <a:ext cx="1296720" cy="35733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3">
            <a:hlinkClick r:id="" action="ppaction://hlinkshowjump?jump=previousslide"/>
          </p:cNvPr>
          <p:cNvSpPr/>
          <p:nvPr/>
        </p:nvSpPr>
        <p:spPr>
          <a:xfrm>
            <a:off x="8532720" y="6308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ject  d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’a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лист2 004"/>
          <p:cNvPicPr/>
          <p:nvPr/>
        </p:nvPicPr>
        <p:blipFill>
          <a:blip r:embed="rId1"/>
          <a:stretch/>
        </p:blipFill>
        <p:spPr>
          <a:xfrm>
            <a:off x="4859280" y="1628640"/>
            <a:ext cx="3225960" cy="439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Копия лист2 003"/>
          <p:cNvPicPr/>
          <p:nvPr/>
        </p:nvPicPr>
        <p:blipFill>
          <a:blip r:embed="rId2"/>
          <a:stretch/>
        </p:blipFill>
        <p:spPr>
          <a:xfrm>
            <a:off x="971640" y="1628640"/>
            <a:ext cx="33051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L’arte del povero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скусство   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                      бедня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1" descr="8~18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00000" y="3789360"/>
            <a:ext cx="255456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73b8926ce21et"/>
          <p:cNvPicPr/>
          <p:nvPr/>
        </p:nvPicPr>
        <p:blipFill>
          <a:blip r:embed="rId2"/>
          <a:stretch/>
        </p:blipFill>
        <p:spPr>
          <a:xfrm>
            <a:off x="3851280" y="2060640"/>
            <a:ext cx="2351160" cy="37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%D0%9F%D0%BE%D0%B4%D0%BD%D0%BE%D1%81_%D0%92%D0%B8%D0%BD%D1%8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826920" y="1600200"/>
            <a:ext cx="283212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Deqoupage_1"/>
          <p:cNvPicPr/>
          <p:nvPr/>
        </p:nvPicPr>
        <p:blipFill>
          <a:blip r:embed="rId4"/>
          <a:stretch/>
        </p:blipFill>
        <p:spPr>
          <a:xfrm>
            <a:off x="6516720" y="2133720"/>
            <a:ext cx="1908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ек -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562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данное искусство распространяется по всей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мир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79640" y="2349360"/>
            <a:ext cx="5183280" cy="376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Европа"/>
          <p:cNvPicPr/>
          <p:nvPr/>
        </p:nvPicPr>
        <p:blipFill>
          <a:blip r:embed="rId2"/>
          <a:stretch/>
        </p:blipFill>
        <p:spPr>
          <a:xfrm>
            <a:off x="2484360" y="2349360"/>
            <a:ext cx="410364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ек -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275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данный вид прикладного творчества получил свое нынешнее название -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ДЕКУП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876f99321b6d9e9a346d2e67c7a_prev"/>
          <p:cNvPicPr/>
          <p:nvPr/>
        </p:nvPicPr>
        <p:blipFill>
          <a:blip r:embed="rId1"/>
          <a:stretch/>
        </p:blipFill>
        <p:spPr>
          <a:xfrm>
            <a:off x="4859280" y="1700280"/>
            <a:ext cx="2476440" cy="324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ikasso"/>
          <p:cNvPicPr/>
          <p:nvPr/>
        </p:nvPicPr>
        <p:blipFill>
          <a:blip r:embed="rId2"/>
          <a:stretch/>
        </p:blipFill>
        <p:spPr>
          <a:xfrm>
            <a:off x="1619280" y="1700280"/>
            <a:ext cx="2463840" cy="3284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1547640" y="5157720"/>
            <a:ext cx="2592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859280" y="5157720"/>
            <a:ext cx="2521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ри Мат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что можно украсить бумажными салфеткам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56000" y="1628640"/>
            <a:ext cx="3600360" cy="427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3"/>
          <p:cNvPicPr/>
          <p:nvPr/>
        </p:nvPicPr>
        <p:blipFill>
          <a:blip r:embed="rId2"/>
          <a:stretch/>
        </p:blipFill>
        <p:spPr>
          <a:xfrm>
            <a:off x="2556000" y="1268280"/>
            <a:ext cx="3620880" cy="482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4"/>
          <p:cNvPicPr/>
          <p:nvPr/>
        </p:nvPicPr>
        <p:blipFill>
          <a:blip r:embed="rId3"/>
          <a:stretch/>
        </p:blipFill>
        <p:spPr>
          <a:xfrm>
            <a:off x="1619280" y="1484280"/>
            <a:ext cx="5746680" cy="431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5"/>
          <p:cNvPicPr/>
          <p:nvPr/>
        </p:nvPicPr>
        <p:blipFill>
          <a:blip r:embed="rId4"/>
          <a:stretch/>
        </p:blipFill>
        <p:spPr>
          <a:xfrm>
            <a:off x="971640" y="1484280"/>
            <a:ext cx="6048360" cy="453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6"/>
          <p:cNvPicPr/>
          <p:nvPr/>
        </p:nvPicPr>
        <p:blipFill>
          <a:blip r:embed="rId5"/>
          <a:stretch/>
        </p:blipFill>
        <p:spPr>
          <a:xfrm>
            <a:off x="2627280" y="1341360"/>
            <a:ext cx="3643200" cy="485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9"/>
          <p:cNvPicPr/>
          <p:nvPr/>
        </p:nvPicPr>
        <p:blipFill>
          <a:blip r:embed="rId6"/>
          <a:stretch/>
        </p:blipFill>
        <p:spPr>
          <a:xfrm>
            <a:off x="2843280" y="1341360"/>
            <a:ext cx="3252600" cy="4880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11"/>
          <p:cNvPicPr/>
          <p:nvPr/>
        </p:nvPicPr>
        <p:blipFill>
          <a:blip r:embed="rId7"/>
          <a:stretch/>
        </p:blipFill>
        <p:spPr>
          <a:xfrm>
            <a:off x="1835280" y="1484280"/>
            <a:ext cx="4752720" cy="475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13"/>
          <p:cNvPicPr/>
          <p:nvPr/>
        </p:nvPicPr>
        <p:blipFill>
          <a:blip r:embed="rId8"/>
          <a:stretch/>
        </p:blipFill>
        <p:spPr>
          <a:xfrm>
            <a:off x="2556000" y="1341360"/>
            <a:ext cx="3749400" cy="489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16"/>
          <p:cNvPicPr/>
          <p:nvPr/>
        </p:nvPicPr>
        <p:blipFill>
          <a:blip r:embed="rId9"/>
          <a:stretch/>
        </p:blipFill>
        <p:spPr>
          <a:xfrm>
            <a:off x="3348000" y="1268280"/>
            <a:ext cx="2108160" cy="496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8" descr="17"/>
          <p:cNvPicPr/>
          <p:nvPr/>
        </p:nvPicPr>
        <p:blipFill>
          <a:blip r:embed="rId10"/>
          <a:stretch/>
        </p:blipFill>
        <p:spPr>
          <a:xfrm>
            <a:off x="900000" y="1628640"/>
            <a:ext cx="5184720" cy="414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2" descr="21"/>
          <p:cNvPicPr/>
          <p:nvPr/>
        </p:nvPicPr>
        <p:blipFill>
          <a:blip r:embed="rId11"/>
          <a:stretch/>
        </p:blipFill>
        <p:spPr>
          <a:xfrm>
            <a:off x="2627280" y="1413000"/>
            <a:ext cx="3583080" cy="4776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3" descr="23"/>
          <p:cNvPicPr/>
          <p:nvPr/>
        </p:nvPicPr>
        <p:blipFill>
          <a:blip r:embed="rId12"/>
          <a:stretch/>
        </p:blipFill>
        <p:spPr>
          <a:xfrm>
            <a:off x="2411280" y="1341360"/>
            <a:ext cx="4054680" cy="4837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6" descr="28"/>
          <p:cNvPicPr/>
          <p:nvPr/>
        </p:nvPicPr>
        <p:blipFill>
          <a:blip r:embed="rId13"/>
          <a:stretch/>
        </p:blipFill>
        <p:spPr>
          <a:xfrm>
            <a:off x="2556000" y="1484280"/>
            <a:ext cx="3470040" cy="480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2" descr="decoupage"/>
          <p:cNvPicPr/>
          <p:nvPr/>
        </p:nvPicPr>
        <p:blipFill>
          <a:blip r:embed="rId14">
            <a:lum contrast="30000"/>
          </a:blip>
          <a:stretch/>
        </p:blipFill>
        <p:spPr>
          <a:xfrm>
            <a:off x="1763640" y="1484280"/>
            <a:ext cx="511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кулич</cp:lastModifiedBy>
  <dcterms:modified xsi:type="dcterms:W3CDTF">2016-01-02T13:23:49Z</dcterms:modified>
  <cp:revision>12</cp:revision>
  <dc:subject/>
  <dc:title>PowerPoint Presentation</dc:title>
</cp:coreProperties>
</file>