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9.gif" ContentType="image/gif"/>
  <Override PartName="/ppt/media/image24.png" ContentType="image/png"/>
  <Override PartName="/ppt/media/image1.png" ContentType="image/png"/>
  <Override PartName="/ppt/media/image23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38.gif" ContentType="image/gif"/>
  <Override PartName="/ppt/media/image42.png" ContentType="image/png"/>
  <Override PartName="/ppt/media/image2.jpeg" ContentType="image/jpeg"/>
  <Override PartName="/ppt/media/image1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1E6-9274-4C62-B895-ABA80BAB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B86-A76D-4DCA-9E68-B5C9CDCE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176-7241-4DC9-882C-41283623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58E-24AD-41A9-9B6E-A0EC61D3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D44-3BB4-4021-9D05-74D844C8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9DFB-F699-4214-A514-5B4AC30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62A-EDC8-432F-BF5E-4143D2D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15B3-9A2E-493E-9ACB-6B25F31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8BEC-1335-45A3-A9D3-813EA5D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9F9-32F1-4F7B-BB44-312C3A0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4D3-6BA3-4311-9074-79866DD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7E6-6EB8-4263-8E5C-5DF0D84C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5CE-5B3C-47B6-A7E2-297C3E4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B2D-6544-4CDC-B23E-47597DD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4CCE-129C-4671-B611-6854FB7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5DA-5104-4C56-B02F-5EDC63B5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DAF-F41C-4504-AA56-B938D384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D3CA-7EA8-46FB-ABB5-19A16A22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C93F-51AA-4BAA-A429-A88D460C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B4B5-30D5-4121-B564-6C107C4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45F0-6168-44CE-A833-B463EC2D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9638-C202-4920-91D2-51D8C5E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663-04E5-46A3-9232-A3FBF8D1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BCBA-66FB-4ABA-A99A-B5E5296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D731-7E2E-4F95-BAA4-1658202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171E-60DB-43BF-9DF2-BF2F8E1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6064-934C-4102-AFD7-A5343E1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0765-BA8F-485E-A44A-21E484F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C5D8-9786-46B5-9053-3FEB968B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3F57-CF28-49E5-B05C-0496C1AE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8E30-369F-41B4-8DA1-C3E6EBA0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BBB91-0407-4141-93B6-34FF8C7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5D33-F663-4F24-AD91-D68EE9A7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D83-C04A-4BFF-B1B6-A5E9B4D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C834-AC98-4102-8A3C-325EEF4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17A4-84A6-4127-9FA9-043E207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0D9C-B591-4178-B016-E879EB7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6B96-B663-4558-8A1F-39624BF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2E2F-5981-404D-A5F3-D709391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C3E8-89AA-406F-9174-F6C41A1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C777-E512-4414-AE90-DED2251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4AF1-9805-4E6C-A3C3-73D62583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B0E1-3738-4728-AD29-981BDEB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D3FC-0ABB-415E-9DA2-7B640B1E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E93-6AFA-41BA-A5BC-BC79B0A6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2732-4E1E-4B52-BABE-F76D76B1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EBE9-1E66-4C36-8F14-5BB70AF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E503-583B-4F1A-8DE2-B501C26F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432D-DBAE-4010-BD38-558BA80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531D5-4671-4E61-AE68-AEECDE5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554B-10D2-4F81-9AA5-42BE62B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3F6B-89AA-4AF9-8695-907500A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874E-5BCA-46E7-AC02-40D5B01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A9328-840A-40A5-AB5B-46BE46C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A9ED-8C48-4A76-A3C3-4111C28D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DF7-CEDF-4DE7-B791-EE9EC509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A714-8E05-4325-8C84-7A931807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269-6867-46BB-A527-8074366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79C-CE07-470C-B530-E2C3289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890-D83E-4883-9296-D9E3DA7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9A5A-4B0C-4640-B622-A15AC4B9E216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7AB4-AE45-46B8-92D9-B827E2B68F2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AA2-798C-4BB6-B030-9F384E978461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E45C-EBE5-457D-B4B2-9DD777526EA2}" type="slidenum">
              <a:rPr b="0" lang="ru-RU" sz="1100" spc="-1" strike="noStrike">
                <a:solidFill>
                  <a:srgbClr val="dbf5f9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8103-05CA-4A23-B788-39B4CC842E0C}" type="slidenum">
              <a:rPr b="0" lang="ru-RU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gif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G:\Анимация, картинки, презентации\Картинки 2\c3822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3170160" y="993600"/>
            <a:ext cx="5870520" cy="172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G:\Jugendblick\tumblr_kv00c0p9AQ1qayny7o1_500.jpg"/>
          <p:cNvPicPr/>
          <p:nvPr/>
        </p:nvPicPr>
        <p:blipFill>
          <a:blip r:embed="rId1"/>
          <a:stretch/>
        </p:blipFill>
        <p:spPr>
          <a:xfrm>
            <a:off x="0" y="2286000"/>
            <a:ext cx="5403960" cy="457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G:\Jugendblick\3ae330b9.jpg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1" descr=""/>
          <p:cNvPicPr/>
          <p:nvPr/>
        </p:nvPicPr>
        <p:blipFill>
          <a:blip r:embed="rId3"/>
          <a:stretch/>
        </p:blipFill>
        <p:spPr>
          <a:xfrm>
            <a:off x="353880" y="133200"/>
            <a:ext cx="3919680" cy="1908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714640" y="4143240"/>
            <a:ext cx="232884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рпо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яник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йце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Jugendblick\c34_21479473.jpg"/>
          <p:cNvPicPr/>
          <p:nvPr/>
        </p:nvPicPr>
        <p:blipFill>
          <a:blip r:embed="rId1"/>
          <a:stretch/>
        </p:blipFill>
        <p:spPr>
          <a:xfrm>
            <a:off x="3749760" y="1143000"/>
            <a:ext cx="5394240" cy="3595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G:\Jugendblick\0_27f91_fd2ac206_XL.jpg"/>
          <p:cNvPicPr/>
          <p:nvPr/>
        </p:nvPicPr>
        <p:blipFill>
          <a:blip r:embed="rId2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73" name="Заголовок 1" descr=""/>
          <p:cNvPicPr/>
          <p:nvPr/>
        </p:nvPicPr>
        <p:blipFill>
          <a:blip r:embed="rId3"/>
          <a:stretch/>
        </p:blipFill>
        <p:spPr>
          <a:xfrm>
            <a:off x="-6480" y="-30240"/>
            <a:ext cx="8156880" cy="1176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13880" y="1071360"/>
            <a:ext cx="161460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83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70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91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G:\Анимация, картинки, презентации\Картинки 2\мишки\мишка..jpg"/>
          <p:cNvPicPr/>
          <p:nvPr/>
        </p:nvPicPr>
        <p:blipFill>
          <a:blip r:embed="rId1"/>
          <a:stretch/>
        </p:blipFill>
        <p:spPr>
          <a:xfrm>
            <a:off x="4714920" y="2646360"/>
            <a:ext cx="3463920" cy="421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G:\Анимация, картинки, презентации\Картинки 2\мишки\мишка!.jpg"/>
          <p:cNvPicPr/>
          <p:nvPr/>
        </p:nvPicPr>
        <p:blipFill>
          <a:blip r:embed="rId2"/>
          <a:stretch/>
        </p:blipFill>
        <p:spPr>
          <a:xfrm>
            <a:off x="357120" y="0"/>
            <a:ext cx="3218040" cy="4000680"/>
          </a:xfrm>
          <a:prstGeom prst="rect">
            <a:avLst/>
          </a:prstGeom>
          <a:ln w="0">
            <a:noFill/>
          </a:ln>
        </p:spPr>
      </p:pic>
      <p:pic>
        <p:nvPicPr>
          <p:cNvPr id="279" name="Заголовок 1" descr=""/>
          <p:cNvPicPr/>
          <p:nvPr/>
        </p:nvPicPr>
        <p:blipFill>
          <a:blip r:embed="rId3"/>
          <a:stretch/>
        </p:blipFill>
        <p:spPr>
          <a:xfrm>
            <a:off x="3376440" y="-6480"/>
            <a:ext cx="3951360" cy="2438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42960" y="3929040"/>
            <a:ext cx="48578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ждый день в декабр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день св. Никола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lights1"/>
          <p:cNvPicPr/>
          <p:nvPr/>
        </p:nvPicPr>
        <p:blipFill>
          <a:blip r:embed="rId5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G:\Анимация, картинки, презентации\смайлики\с подарком.gif"/>
          <p:cNvPicPr/>
          <p:nvPr/>
        </p:nvPicPr>
        <p:blipFill>
          <a:blip r:embed="rId6"/>
          <a:stretch/>
        </p:blipFill>
        <p:spPr>
          <a:xfrm>
            <a:off x="6786720" y="1785960"/>
            <a:ext cx="1104840" cy="6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42960" y="2071440"/>
            <a:ext cx="76867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рождественских воскресения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ангелов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континент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5" descr="s9"/>
          <p:cNvPicPr/>
          <p:nvPr/>
        </p:nvPicPr>
        <p:blipFill>
          <a:blip r:embed="rId2"/>
          <a:stretch/>
        </p:blipFill>
        <p:spPr>
          <a:xfrm>
            <a:off x="4429080" y="3214800"/>
            <a:ext cx="3079800" cy="2050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:\Jugendblick\f_16888980.jpg"/>
          <p:cNvPicPr/>
          <p:nvPr/>
        </p:nvPicPr>
        <p:blipFill>
          <a:blip r:embed="rId1"/>
          <a:stretch/>
        </p:blipFill>
        <p:spPr>
          <a:xfrm>
            <a:off x="0" y="0"/>
            <a:ext cx="82152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285720" y="1643040"/>
            <a:ext cx="4643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Счастлив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Долг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be7b6"/>
                </a:solidFill>
                <a:latin typeface="Monotype Corsiva"/>
              </a:rPr>
              <a:t>Богатого рождества!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G:\Jugendblick\ng10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-225360" y="208080"/>
            <a:ext cx="9601200" cy="93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G:\Jugendblick\88982635678b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133640" y="476280"/>
            <a:ext cx="7254720" cy="1176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714480" y="1785600"/>
            <a:ext cx="50720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аздноват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товиться (к чему-либо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ходить, приближатьс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13" descr="lights1"/>
          <p:cNvPicPr/>
          <p:nvPr/>
        </p:nvPicPr>
        <p:blipFill>
          <a:blip r:embed="rId3"/>
          <a:stretch/>
        </p:blipFill>
        <p:spPr>
          <a:xfrm>
            <a:off x="1000080" y="6481800"/>
            <a:ext cx="684072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G:\Jugendblick\36486697.jpg"/>
          <p:cNvPicPr/>
          <p:nvPr/>
        </p:nvPicPr>
        <p:blipFill>
          <a:blip r:embed="rId1"/>
          <a:stretch/>
        </p:blipFill>
        <p:spPr>
          <a:xfrm>
            <a:off x="5286240" y="471492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360360" y="-6480"/>
            <a:ext cx="8313840" cy="1408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28760" y="4143240"/>
            <a:ext cx="2928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6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1 декабр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G:\Jugendblick\img-30-big.jpg"/>
          <p:cNvPicPr/>
          <p:nvPr/>
        </p:nvPicPr>
        <p:blipFill>
          <a:blip r:embed="rId5"/>
          <a:stretch/>
        </p:blipFill>
        <p:spPr>
          <a:xfrm>
            <a:off x="3714840" y="14288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G:\Jugendblick\26214730.jpg"/>
          <p:cNvPicPr/>
          <p:nvPr/>
        </p:nvPicPr>
        <p:blipFill>
          <a:blip r:embed="rId6"/>
          <a:stretch/>
        </p:blipFill>
        <p:spPr>
          <a:xfrm>
            <a:off x="642960" y="1785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G:\Jugendblick\stock-photo-christmas-stocking-hanging-on-the-fireplace-mantle-next-to-the-christmas-tree-in-preparation-for-608430.jpg"/>
          <p:cNvPicPr/>
          <p:nvPr/>
        </p:nvPicPr>
        <p:blipFill>
          <a:blip r:embed="rId1"/>
          <a:stretch/>
        </p:blipFill>
        <p:spPr>
          <a:xfrm>
            <a:off x="4572000" y="7920"/>
            <a:ext cx="4572000" cy="685008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353880" y="517680"/>
            <a:ext cx="4224600" cy="1884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99680" y="3071520"/>
            <a:ext cx="4071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ставить обувь на подоконник или возле двери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покупать новую обувь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гулять босиком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G:\Jugendblick\Christmas_Card_by_nighty.jpg"/>
          <p:cNvPicPr/>
          <p:nvPr/>
        </p:nvPicPr>
        <p:blipFill>
          <a:blip r:embed="rId1"/>
          <a:stretch/>
        </p:blipFill>
        <p:spPr>
          <a:xfrm>
            <a:off x="360036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244440" y="208080"/>
            <a:ext cx="5394240" cy="1657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213920" y="228600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 воскресе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 воскресен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 дн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G:\Jugendblick\53148213_34848349.jpg"/>
          <p:cNvPicPr/>
          <p:nvPr/>
        </p:nvPicPr>
        <p:blipFill>
          <a:blip r:embed="rId1"/>
          <a:stretch/>
        </p:blipFill>
        <p:spPr>
          <a:xfrm>
            <a:off x="1357200" y="1428840"/>
            <a:ext cx="5429520" cy="3622680"/>
          </a:xfrm>
          <a:prstGeom prst="rect">
            <a:avLst/>
          </a:prstGeom>
          <a:ln w="0">
            <a:noFill/>
          </a:ln>
        </p:spPr>
      </p:pic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93560" y="11592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2428560" y="5000400"/>
            <a:ext cx="67150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жёлт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иолетов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ый и зелёны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13" descr="lights1"/>
          <p:cNvPicPr/>
          <p:nvPr/>
        </p:nvPicPr>
        <p:blipFill>
          <a:blip r:embed="rId3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G:\Jugendblick\a8d9250b5d3e.jpg"/>
          <p:cNvPicPr/>
          <p:nvPr/>
        </p:nvPicPr>
        <p:blipFill>
          <a:blip r:embed="rId1"/>
          <a:stretch/>
        </p:blipFill>
        <p:spPr>
          <a:xfrm>
            <a:off x="571680" y="1643040"/>
            <a:ext cx="3363840" cy="471492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" descr=""/>
          <p:cNvPicPr/>
          <p:nvPr/>
        </p:nvPicPr>
        <p:blipFill>
          <a:blip r:embed="rId2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000680" y="2571480"/>
            <a:ext cx="4114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м это приснилос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робьи чирикали об этом с крыш домо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м явился ангел и рассказал об этом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13" descr="lights1"/>
          <p:cNvPicPr/>
          <p:nvPr/>
        </p:nvPicPr>
        <p:blipFill>
          <a:blip r:embed="rId3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lights1"/>
          <p:cNvPicPr/>
          <p:nvPr/>
        </p:nvPicPr>
        <p:blipFill>
          <a:blip r:embed="rId4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G:\Jugendblick\christmas-wallpaper-34.jpg"/>
          <p:cNvPicPr/>
          <p:nvPr/>
        </p:nvPicPr>
        <p:blipFill>
          <a:blip r:embed="rId1"/>
          <a:stretch/>
        </p:blipFill>
        <p:spPr>
          <a:xfrm>
            <a:off x="0" y="2286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lights1"/>
          <p:cNvPicPr/>
          <p:nvPr/>
        </p:nvPicPr>
        <p:blipFill>
          <a:blip r:embed="rId2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G:\Jugendblick\3d2a0213e6d5.jpg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1" descr=""/>
          <p:cNvPicPr/>
          <p:nvPr/>
        </p:nvPicPr>
        <p:blipFill>
          <a:blip r:embed="rId4"/>
          <a:stretch/>
        </p:blipFill>
        <p:spPr>
          <a:xfrm>
            <a:off x="225360" y="12600"/>
            <a:ext cx="4486320" cy="1992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000240" y="4500360"/>
            <a:ext cx="614376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рождественским дедо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королев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 Вифлеемской звездо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13" descr="lights1"/>
          <p:cNvPicPr/>
          <p:nvPr/>
        </p:nvPicPr>
        <p:blipFill>
          <a:blip r:embed="rId5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lights1"/>
          <p:cNvPicPr/>
          <p:nvPr/>
        </p:nvPicPr>
        <p:blipFill>
          <a:blip r:embed="rId1"/>
          <a:stretch/>
        </p:blipFill>
        <p:spPr>
          <a:xfrm rot="5400000">
            <a:off x="-3232440" y="3232080"/>
            <a:ext cx="6840360" cy="376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G:\Jugendblick\Christmas06.jpg"/>
          <p:cNvPicPr/>
          <p:nvPr/>
        </p:nvPicPr>
        <p:blipFill>
          <a:blip r:embed="rId2"/>
          <a:stretch/>
        </p:blipFill>
        <p:spPr>
          <a:xfrm>
            <a:off x="3573360" y="0"/>
            <a:ext cx="557064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3"/>
          <a:stretch/>
        </p:blipFill>
        <p:spPr>
          <a:xfrm>
            <a:off x="-128520" y="-6480"/>
            <a:ext cx="3987720" cy="1438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28400" y="2428920"/>
            <a:ext cx="3143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младенец Христос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рождественский ангел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ягнёнок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13" descr="lights1"/>
          <p:cNvPicPr/>
          <p:nvPr/>
        </p:nvPicPr>
        <p:blipFill>
          <a:blip r:embed="rId4"/>
          <a:stretch/>
        </p:blipFill>
        <p:spPr>
          <a:xfrm>
            <a:off x="0" y="6481800"/>
            <a:ext cx="6840360" cy="37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кулич</cp:lastModifiedBy>
  <dcterms:modified xsi:type="dcterms:W3CDTF">2016-01-02T13:51:37Z</dcterms:modified>
  <cp:revision>59</cp:revision>
  <dc:subject/>
  <dc:title>Слайд 1</dc:title>
</cp:coreProperties>
</file>