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explode.wav" ContentType="audio/x-wav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3.png" ContentType="image/png"/>
  <Override PartName="/ppt/media/image6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3A7-583B-4133-A907-4BC6B983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6C3-8072-40F2-AF5F-D04686DF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C144-1EBC-4767-95E4-7E62F34D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8EE-DAA2-411F-99FA-90516E94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E5D-2A93-4091-9ED6-6C45A5DF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4594-05B1-41EC-BF01-06D2A68F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18C-F5D0-4E83-B66B-1CFB0780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D81-A5D3-4B26-9B88-EA81A485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4D7-1F4F-49EE-AEEC-9FBC8CD2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A21-15C7-40D9-94C5-E9750D3E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31C-7E15-4193-A003-DB1BC3FE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83A-86A7-41E0-9624-217A0FDE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41FA-2539-43FB-A35D-BE1650EA5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8;&#1073;&#1099;&#1096;&#1077;&#1074;,_&#1044;&#1084;&#1080;&#1090;&#1088;&#1080;&#1081;_&#1052;&#1080;&#1093;&#1072;&#1081;&#1083;&#1086;&#1074;&#1080;&#1095;" TargetMode="External"/><Relationship Id="rId2" Type="http://schemas.openxmlformats.org/officeDocument/2006/relationships/hyperlink" Target="http://ru.wikipedia.org/wiki/&#1050;&#1072;&#1088;&#1073;&#1099;&#1096;&#1077;&#1074;,_&#1044;&#1084;&#1080;&#1090;&#1088;&#1080;&#1081;_&#1052;&#1080;&#1093;&#1072;&#1081;&#1083;&#1086;&#1074;&#1080;&#1095;" TargetMode="External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file:///tmp/home/.config/libreoffice/4/user/gallery/explode.wav" TargetMode="External"/><Relationship Id="rId5" Type="http://schemas.microsoft.com/office/2007/relationships/media" Target="file:///tmp/home/.config/libreoffice/4/user/gallery/explode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uchenwald.de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Monotype Corsiva"/>
              </a:rPr>
              <a:t>11 сентября – День памяти жертв фашиз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1962 году было принято решение считать каждое второе воскресенье сентября Международным днем памяти жертв фашиз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Для увеличения нажми на меня!"/>
          <p:cNvPicPr/>
          <p:nvPr/>
        </p:nvPicPr>
        <p:blipFill>
          <a:blip r:embed="rId1"/>
          <a:stretch/>
        </p:blipFill>
        <p:spPr>
          <a:xfrm>
            <a:off x="0" y="0"/>
            <a:ext cx="29242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Monotype Corsiva"/>
              </a:rPr>
              <a:t>Маутхаузен (Австрия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 время Второй Мировой войны Маутхаузен был одним из самых страшных концлагер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жим содержания заключённых был ужасен. Даже его персонал, а это полторы сотни охранников, шутили, что из Маутхаузена можно сбежать не иначе, как через трубу кремато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3816360" cy="4176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219640" y="57276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араки Маутхауз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зниками Маутхаузена было около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335 тысяч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еловек; казнено свыше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22 тысяч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еловек (больше всех —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выше 32 тысяч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— советских граждан; среди них генерал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Д. М.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арбыше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которого зимой в числе других заключённых облили водой на морозе), и сталинградец Д. М. Основин, ставший национальным героем Чехословак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 2-й мировой войны на месте Маутхаузена создан му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003640" y="1484280"/>
            <a:ext cx="2953080" cy="2305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935840" y="342252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у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656560" y="6014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643280" y="3860640"/>
            <a:ext cx="3816360" cy="2219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837680" y="601488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етские военнопл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Дмитрий Михайлович Карбыш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024000" cy="3673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2520720" cy="2517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524560" y="4032360"/>
            <a:ext cx="3079800" cy="2205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75480" y="6303960"/>
            <a:ext cx="318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мятник установлен в Москве на бульваре генерала Карбыш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Музей тюрьмы Плётцензее в Берлине — мемориал жертвам нацизма в Германи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276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47840" y="6257880"/>
            <a:ext cx="830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3120" y="5970600"/>
            <a:ext cx="844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октябре 2002 г. в экспозицию музея вошел стенд, посвященный двум татарским поэтам – Мусе Джалилю и Абдулле Алишу (казнены 25 августа 1944 го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род не может жить, не помня уроков своей ист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3" descr="11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3" descr="77.jpeg"/>
          <p:cNvPicPr/>
          <p:nvPr/>
        </p:nvPicPr>
        <p:blipFill>
          <a:blip r:embed="rId2"/>
          <a:stretch/>
        </p:blipFill>
        <p:spPr>
          <a:xfrm>
            <a:off x="0" y="3500280"/>
            <a:ext cx="3357720" cy="33577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жур55.jpeg"/>
          <p:cNvPicPr/>
          <p:nvPr/>
        </p:nvPicPr>
        <p:blipFill>
          <a:blip r:embed="rId3"/>
          <a:stretch/>
        </p:blipFill>
        <p:spPr>
          <a:xfrm>
            <a:off x="7358040" y="1427040"/>
            <a:ext cx="1785960" cy="2216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00100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5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2" repeatCount="indefinite">
                                  <p:stCondLst>
                                    <p:cond delay="5000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8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Documents and Settings\Admin\Рабочий стол\6.08\гитле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ая соединительная линия 11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14" descr=""/>
          <p:cNvPicPr/>
          <p:nvPr/>
        </p:nvPicPr>
        <p:blipFill>
          <a:blip r:embed="rId2"/>
          <a:stretch/>
        </p:blipFill>
        <p:spPr>
          <a:xfrm>
            <a:off x="2968560" y="-371520"/>
            <a:ext cx="3554640" cy="20480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5" descr=""/>
          <p:cNvPicPr/>
          <p:nvPr/>
        </p:nvPicPr>
        <p:blipFill>
          <a:blip r:embed="rId3"/>
          <a:stretch/>
        </p:blipFill>
        <p:spPr>
          <a:xfrm>
            <a:off x="987480" y="1847880"/>
            <a:ext cx="7181640" cy="204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xit" presetID="51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5" dur="1925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1925" fill="hold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7" dur="3075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8" dur="3075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9" dur="1925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0" dur="3075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1" dur="1925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51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925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1925" fill="hold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6" dur="307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7" dur="3075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8" dur="1925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9" dur="3075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50" dur="1925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ждународный день памяти в каждой стране, принявшей участие во второй мировой войне, отмечается не только отменой развлекательных мероприятий, торжеств, выпадающих на эту дату, но и посещением памятников, мемориалов, кладбищ (во многих странах в этот день принято ухаживать за безымянными, заброшенными, братскими могилам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т праздник один из самых знаменательных и скорбных на территории Рос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Monotype Corsiva"/>
              </a:rPr>
              <a:t>Каждому своё - Бухенвальд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нцентрационный лагерь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Бухенвальд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- один из первых лагерей смерти, построенных в Германии,1937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лагере было 52 основных бар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 холода ни один человек 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жи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s-f7043b4c4c630d836e3ddf6adb0bcf13_461239841_552f2b39ec_o" descr="Для увеличения нажми на меня!"/>
          <p:cNvPicPr/>
          <p:nvPr/>
        </p:nvPicPr>
        <p:blipFill>
          <a:blip r:embed="rId2"/>
          <a:stretch/>
        </p:blipFill>
        <p:spPr>
          <a:xfrm>
            <a:off x="4648320" y="1197000"/>
            <a:ext cx="4316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каждом бараке жило около 750-и человек, около 100 умирали ежедневно. Их тела каждое утро выносили на перекличку, дабы получать их порции 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Для увеличения нажми на меня!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чение "карантинных", сводилось к прививкам, которые проводил медперсонал, например, против тифа, но они ещё больше способствовали распространению заболевания, так как шприцы не меня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Для увеличения нажми на меня!"/>
          <p:cNvPicPr/>
          <p:nvPr/>
        </p:nvPicPr>
        <p:blipFill>
          <a:blip r:embed="rId1"/>
          <a:stretch/>
        </p:blipFill>
        <p:spPr>
          <a:xfrm>
            <a:off x="4648320" y="1413000"/>
            <a:ext cx="4316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феврале Бухенвальд становится самым крупным лагерем смерти: в 88 филиалах концлагеря Бухенвальд за колючей проволокой находятся 112 000 узнико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бщей сложности через лагерь прошли около четверти миллиона узников из всех европейских стран. Число жертв составляет около 56 000 человек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1995 году на месте массовых захоронений были установлены стелы с номерами погибших заключённых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5148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648320" y="476280"/>
            <a:ext cx="4038480" cy="5040360"/>
            <a:chOff x="4648320" y="476280"/>
            <a:chExt cx="4038480" cy="50403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4648320" y="476280"/>
              <a:ext cx="403848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 txBox="1"/>
            <p:nvPr/>
          </p:nvSpPr>
          <p:spPr>
            <a:xfrm>
              <a:off x="4648320" y="476280"/>
              <a:ext cx="4038480" cy="504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695840" y="5537160"/>
            <a:ext cx="41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ин из металлических столбов на месте захоронения советского спецлагеря. Надпись: «Неизвестный 889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5761080" cy="4753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11280" y="546588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Памятник жертвам фаш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13:22:14Z</dcterms:created>
  <dc:creator>Admin</dc:creator>
  <dc:description/>
  <dc:language>en-US</dc:language>
  <cp:lastModifiedBy>Admin</cp:lastModifiedBy>
  <dcterms:modified xsi:type="dcterms:W3CDTF">2011-08-12T08:43:47Z</dcterms:modified>
  <cp:revision>5</cp:revision>
  <dc:subject/>
  <dc:title>11 сентября – День памяти жертв фашизма</dc:title>
</cp:coreProperties>
</file>