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16C-C04F-4750-8EEF-F16A7EBD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7118-6EF6-4DBB-991D-370D0571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AF4F-1C31-44BB-8913-4C34A30A6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AF24-808F-432B-99E4-C370ADB8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9214-CAF9-4133-84C8-5D124A31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2931-8983-4A24-A5A7-608339AC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625C-7873-44CD-B2CA-666B38BB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ADC7-5460-495B-B806-C972C00B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D870-173F-499F-A19B-9C3D734C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35E-FFD7-46A9-9F0E-0A136079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55E9-AB0D-4FED-9021-4DD92BBF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C897-F2A3-426D-808D-C4E285CE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D754-0F52-4535-9FE1-D113DB8E846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97A0-6ECA-4699-9685-1E928BC77B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s://ru.wikipedi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700 лет рублю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ижний колонтитул 2"/>
          <p:cNvSpPr/>
          <p:nvPr/>
        </p:nvSpPr>
        <p:spPr>
          <a:xfrm>
            <a:off x="1042920" y="5734080"/>
            <a:ext cx="6193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БОУ «Вечерняя школ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1 апреля 2016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Администратор\Desktop\Деньги\1437052359_09.06.15_rubl.jpg"/>
          <p:cNvPicPr/>
          <p:nvPr/>
        </p:nvPicPr>
        <p:blipFill>
          <a:blip r:embed="rId1"/>
          <a:stretch/>
        </p:blipFill>
        <p:spPr>
          <a:xfrm>
            <a:off x="468360" y="1149480"/>
            <a:ext cx="828036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4032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пополнить казну, в 1656 г,  цар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ексей Михайлович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то повелел изъять из обращения все серебряные монеты, а вместо них начеканить монеты того же номинала, но из меди. Это означало, что монеты общей стоимостью 100 руб. можно было изготовить из медного слитка, стоившего всего 2 руб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 Кончился же денежный эксперимент царя восстанием в Москв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5 июля 1662 г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36B9-E47F-443A-8DBE-05314592405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0DCC-C414-4611-A00A-3F3B472E29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Содержимое 4" descr="Алексей Михайлович Романов.jpg"/>
          <p:cNvPicPr/>
          <p:nvPr/>
        </p:nvPicPr>
        <p:blipFill>
          <a:blip r:embed="rId1"/>
          <a:stretch/>
        </p:blipFill>
        <p:spPr>
          <a:xfrm>
            <a:off x="4500720" y="260280"/>
            <a:ext cx="450036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езультате реформ Петр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 стране появилась первая в мире десятичная монетная система, в основу которой был положен рубль, делившийся на 100 копее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кина Лидия Петр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Users\Администратор\Desktop\Деньги\288520_900.jpg"/>
          <p:cNvPicPr/>
          <p:nvPr/>
        </p:nvPicPr>
        <p:blipFill>
          <a:blip r:embed="rId1"/>
          <a:stretch/>
        </p:blipFill>
        <p:spPr>
          <a:xfrm>
            <a:off x="285840" y="1928880"/>
            <a:ext cx="4071960" cy="3500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Администратор\Desktop\Деньги\image.jpg"/>
          <p:cNvPicPr/>
          <p:nvPr/>
        </p:nvPicPr>
        <p:blipFill>
          <a:blip r:embed="rId2"/>
          <a:stretch/>
        </p:blipFill>
        <p:spPr>
          <a:xfrm>
            <a:off x="4643280" y="1928880"/>
            <a:ext cx="41785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460836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чти непрерывные войны и гигантское строительство в XVIII веке опорожнили казну.  25 мая 1762 года занявший ненадолго российский престол Пётр III Фёдорович подготовил указ о создании государственного банка, который должен был выпустить бумажные ассигнации. Однако из-за дворцового переворота и отстранения Петра Фёдоровича от власти указ не был воплощён в жиз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1DE9-93E7-4C97-BB85-1CEEEE78192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609D-F60D-4DD5-A7A4-7F5845F675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Объект 4" descr=""/>
          <p:cNvPicPr/>
          <p:nvPr/>
        </p:nvPicPr>
        <p:blipFill>
          <a:blip r:embed="rId1"/>
          <a:stretch/>
        </p:blipFill>
        <p:spPr>
          <a:xfrm>
            <a:off x="5003640" y="692280"/>
            <a:ext cx="377532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7715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вые русские бумажные деньги появились в 1769 г. пр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катерине 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Они назывались ассигнациями и обращались в виде государственных казначейских билет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6" descr="нгнрисунок 013"/>
          <p:cNvPicPr/>
          <p:nvPr/>
        </p:nvPicPr>
        <p:blipFill>
          <a:blip r:embed="rId1"/>
          <a:stretch/>
        </p:blipFill>
        <p:spPr>
          <a:xfrm>
            <a:off x="684360" y="2060640"/>
            <a:ext cx="3176280" cy="446400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4" descr="Екатерина2.jpg"/>
          <p:cNvPicPr/>
          <p:nvPr/>
        </p:nvPicPr>
        <p:blipFill>
          <a:blip r:embed="rId2"/>
          <a:stretch/>
        </p:blipFill>
        <p:spPr>
          <a:xfrm>
            <a:off x="4643280" y="1971720"/>
            <a:ext cx="374508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41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897 г.  Министр финансов Сергей Юльевич Витте ввёл золотое обеспечение рубля, который стал конвертируемой валютой. Это усилило приток капитала из-за границ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CBCA-4982-40CA-A62E-4EBB508072D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313E-8BE1-484D-A356-A275682390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G:\700 лет рублю\фото к рублю\SergeiWitte01548v.jpg"/>
          <p:cNvPicPr/>
          <p:nvPr/>
        </p:nvPicPr>
        <p:blipFill>
          <a:blip r:embed="rId1"/>
          <a:stretch/>
        </p:blipFill>
        <p:spPr>
          <a:xfrm>
            <a:off x="4986360" y="692280"/>
            <a:ext cx="383364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риходом эпохи революций, меняются деньги. Царские деньги сменяются банкнотами «Временного правительства» затем «керенками». Новые деньги стала печатать «Добровольческая армия» Деникина. И наконец с приходом большевиков, появляются денежные знаки правительства большев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1314599079_245003263_20---"/>
          <p:cNvPicPr/>
          <p:nvPr/>
        </p:nvPicPr>
        <p:blipFill>
          <a:blip r:embed="rId1"/>
          <a:stretch/>
        </p:blipFill>
        <p:spPr>
          <a:xfrm>
            <a:off x="5219640" y="1700280"/>
            <a:ext cx="3384720" cy="2584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9181b9cd439a"/>
          <p:cNvPicPr/>
          <p:nvPr/>
        </p:nvPicPr>
        <p:blipFill>
          <a:blip r:embed="rId2"/>
          <a:stretch/>
        </p:blipFill>
        <p:spPr>
          <a:xfrm>
            <a:off x="395280" y="4095720"/>
            <a:ext cx="39607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B94E-0924-4E68-958E-7B58583A8B4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6D5F-2770-4427-80ED-6CB24FCFE3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64960" y="620640"/>
            <a:ext cx="87217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Великой Отечественной войны, на новых купюрах крупных номиналов изображался один и тот же "советский человек" - Владимир Ильич. По стилю денежная серия 1947 г. воспроизводила поздние ассигнации Российской империи. Особенно явственно было сходство 5-рублевок с банкнотами 1909 - 1912 гг. того же достоинства по формату, цвету, рисунку шрифтов и композиции. А 50-рублевая купюра 1947 г. в целом повторяла знаменитые «николаевские» 100 и 500 рублей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RUSSIAN banknote 50 RUBLES 1947"/>
          <p:cNvPicPr/>
          <p:nvPr/>
        </p:nvPicPr>
        <p:blipFill>
          <a:blip r:embed="rId1"/>
          <a:stretch/>
        </p:blipFill>
        <p:spPr>
          <a:xfrm>
            <a:off x="4211640" y="2421000"/>
            <a:ext cx="47512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шества, внесенные в дизайн советских денег реформой 1961 г., логически завершают канонизацию идеи незыблемости и величия Советского Союза. Ленин на банкнотах лишился человеческих черт, и превратился в икону: теперь его изображали в профиль, с медальным лицом и недвижным взором, устремленным "в будущее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f2f44e7081b4"/>
          <p:cNvPicPr/>
          <p:nvPr/>
        </p:nvPicPr>
        <p:blipFill>
          <a:blip r:embed="rId1"/>
          <a:stretch/>
        </p:blipFill>
        <p:spPr>
          <a:xfrm>
            <a:off x="1547640" y="198900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02AB-C654-42AF-9D18-D5F13E60EC6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D674-18AE-4B91-85D9-CF7E2A45CE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66840" y="333360"/>
            <a:ext cx="852624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Меховы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северных областях товарными деньгами служили шкурки куниц, соболей, белок, лисиц. Название древнерусской денежной единицы «куна» берёт своё происхождение от меха куниц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же у древних славян роль денег выполняли лён и изготовленная из него ткань - полотно. От слова "полотно" произошло всем нам известное слово - плат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C:\D&amp;S\ЮРА\Мои документы\МАРИНА\КАРТИНКИ\животные\куницаE.jpg"/>
          <p:cNvPicPr/>
          <p:nvPr/>
        </p:nvPicPr>
        <p:blipFill>
          <a:blip r:embed="rId1"/>
          <a:stretch/>
        </p:blipFill>
        <p:spPr>
          <a:xfrm>
            <a:off x="6286680" y="4500720"/>
            <a:ext cx="265716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26 июля по 07 августа 1993 г. в России была проведена денежная реформа. На российских деньгах образца 1993 г.на месте, где раньше был профиль Ленина, изображён стилизованный Московский Кремль с триколором, На месте герба СССР –вензель Центрального Банка Р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4B1E-0EEB-4ADC-9F7F-6C7329B6E2F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FD2F-9088-4D79-9B2A-1F27363D1E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G:\700 лет рублю\NEW\1280px-Banknote_500_rubles_(1993)_front.jpg"/>
          <p:cNvPicPr/>
          <p:nvPr/>
        </p:nvPicPr>
        <p:blipFill>
          <a:blip r:embed="rId1"/>
          <a:stretch/>
        </p:blipFill>
        <p:spPr>
          <a:xfrm>
            <a:off x="250920" y="2276640"/>
            <a:ext cx="4198680" cy="1825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G:\700 лет рублю\Рублю 700 лет 1316-2016\Вставить\large_1.jpg"/>
          <p:cNvPicPr/>
          <p:nvPr/>
        </p:nvPicPr>
        <p:blipFill>
          <a:blip r:embed="rId2"/>
          <a:stretch/>
        </p:blipFill>
        <p:spPr>
          <a:xfrm>
            <a:off x="5519880" y="2708280"/>
            <a:ext cx="3624120" cy="2719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G:\700 лет рублю\Рублю 700 лет 1316-2016\Вставить\200.jpg"/>
          <p:cNvPicPr/>
          <p:nvPr/>
        </p:nvPicPr>
        <p:blipFill>
          <a:blip r:embed="rId3"/>
          <a:stretch/>
        </p:blipFill>
        <p:spPr>
          <a:xfrm>
            <a:off x="611280" y="4292640"/>
            <a:ext cx="46418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3744720" cy="59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к рубля утвержден Банком России 11 декабря 2013 года в целях укрепления статуса национальной денежной единицы РФ. Графическое изображение рубля в виде символа представляет собой прописную букву «Р» с дополнительной горизонтальной чертой, создающей впечатление присутствия двух параллельных линий, что символизирует  устойчивое положение российской валю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1F48-1A3E-4350-B22E-A111C01C22E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42AD-E770-4AA5-8971-EA4E136896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G:\700 лет рублю\NEW\80px-Ruble_sign.svg.png"/>
          <p:cNvPicPr/>
          <p:nvPr/>
        </p:nvPicPr>
        <p:blipFill>
          <a:blip r:embed="rId1"/>
          <a:stretch/>
        </p:blipFill>
        <p:spPr>
          <a:xfrm>
            <a:off x="4525920" y="692280"/>
            <a:ext cx="422280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201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амятник рублю в Томс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F:\700 лет рублю\фото к рублю\томск.jpg"/>
          <p:cNvPicPr/>
          <p:nvPr/>
        </p:nvPicPr>
        <p:blipFill>
          <a:blip r:embed="rId1"/>
          <a:stretch/>
        </p:blipFill>
        <p:spPr>
          <a:xfrm>
            <a:off x="1379520" y="1052640"/>
            <a:ext cx="63612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амятник рублю в Сыктывкар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F430-7ABB-4ACD-9A7F-C96FA2A3190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09F7-8D07-4DE6-A1DE-D844D5546C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G:\700 лет рублю\NEW\СЫ.jpg"/>
          <p:cNvPicPr/>
          <p:nvPr/>
        </p:nvPicPr>
        <p:blipFill>
          <a:blip r:embed="rId1"/>
          <a:stretch/>
        </p:blipFill>
        <p:spPr>
          <a:xfrm>
            <a:off x="1187280" y="1628640"/>
            <a:ext cx="698508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CustomShape 1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ustomShape 2"/>
          <p:cNvSpPr/>
          <p:nvPr/>
        </p:nvSpPr>
        <p:spPr>
          <a:xfrm>
            <a:off x="493560" y="976320"/>
            <a:ext cx="82900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c000"/>
                </a:solidFill>
                <a:uFillTx/>
                <a:latin typeface="Arial"/>
              </a:rPr>
              <a:t>Презентацию  подготовил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мянцев Александр  (11 а кл.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История рубля с древнейших времён до конц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иновский Вадим (12 а кл.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 История рубля :от Ива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Никола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дрявцев Камиль  (10 а кл.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История рубля с нача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а по 1991 г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гарёв Паве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2 б кл.)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ременный руб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дагог -консультант — Валюк Денис Андреевич, учитель истории и обществ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улецкий Д.В. 100 самых известных монет России.- Москва: Эксмо,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псиц И.В.Экономика.М:Вита-Пресс,200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псиц И.В. Экономика: история и современная организация хозяйственной деятельности.М:Вита-Пресс,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4.  https://ru.wikipedi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http://prezentacii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усские монеты стали чеканить в конц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 –X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еках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ряду со златниками чеканился и сребреник  –первая древнерусская серебряная монета. В первых выпусках златники и серебряники в основном повторяли тип византийских монет: на одной стороне –изображение князя, на другой –Христа .Затем лик Христа был заменён на родовой герб Рюриковичей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Древнейшие монеты Руси"/>
          <p:cNvPicPr/>
          <p:nvPr/>
        </p:nvPicPr>
        <p:blipFill>
          <a:blip r:embed="rId1"/>
          <a:stretch/>
        </p:blipFill>
        <p:spPr>
          <a:xfrm>
            <a:off x="2343240" y="2133720"/>
            <a:ext cx="4173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хранились "серебряники" русского князя Владимира. На одной стороне изображен князь, сидящий на престоле , а на другой - родовой знак. Надпись на монете гласит: "Володимир на столе, а се его серебро"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12" descr="Владимир серебрянник"/>
          <p:cNvPicPr/>
          <p:nvPr/>
        </p:nvPicPr>
        <p:blipFill>
          <a:blip r:embed="rId1"/>
          <a:stretch/>
        </p:blipFill>
        <p:spPr>
          <a:xfrm>
            <a:off x="1071720" y="2357280"/>
            <a:ext cx="7089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3024360" cy="57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мечается, что 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етописях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во «рубль» впервые упомянуто под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316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дом при описании условий мира между новгородцами и тверичами. Тогда новгородцы договорились с тверским князем Михаилом Александровичем о выплате выкупа в 5 тысяч рубл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6087-7CB3-471E-8880-70BC400D51D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DB20-ACD5-4DE0-8329-805A6DFE03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Администратор\Desktop\Деньги\DPreu6KI7jY-800x500_c.jpg"/>
          <p:cNvPicPr/>
          <p:nvPr/>
        </p:nvPicPr>
        <p:blipFill>
          <a:blip r:embed="rId1"/>
          <a:stretch/>
        </p:blipFill>
        <p:spPr>
          <a:xfrm>
            <a:off x="3492360" y="692280"/>
            <a:ext cx="55278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3068640"/>
            <a:ext cx="8291520" cy="378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ительное время считалось, что слово «рубль» происходит от глагола рубить, однако в настоящее время учёные выдвигают версию, что понятие «рубль» происходит от названия древней технологии, согласно которой серебро заливалось в форму в два захода, что подтверждается наличием на серебряных платежных слитках Великого Новгорода хорошо заметного шва на ребр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лово "руб", по мнению исследователей, означает край, кайма. Оно и сегодня встречается в славянских языках. Например, в украинском, белорусском и польском языках «руб» означает рубец, а в переводе с сербскохорватского - шов, кайма. Таким образом, дословно термин рубль, вероятнее всего, нужно понимать как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"слиток со швом"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FA9E-9732-4F68-AEBA-54966799454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D0FB-CE40-4A96-89AB-74798AE94C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Новгородские рубли - слитки. XIV-XV века. Увеличить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4114800" cy="56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 победы на Куликовом пол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митрий Донско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другие русские князья, а также вольные города –Новгород и Псков –стали чеканить собственные серебряные монеты. Именно в то время родилось в русском языке и само слово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деньги»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ло в том, что князь Дмитрий придумал изготавливать свою монету – «гривну» - путём переплавки татарских серебряных монет, которые назывались «деньга»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ак на Руси произносили персидское слово «тенге» –название ордынских денег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Зная это народ окрестил и новые отечественные монеты «деньгой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0BB3-FE75-4C81-9567-7EF0A7E1BB1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2802-6B26-4DE3-A94C-9B73BCEE96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F:\700 лет рублю\фото к рублю\Dmitri_Donskoy.jpg"/>
          <p:cNvPicPr/>
          <p:nvPr/>
        </p:nvPicPr>
        <p:blipFill>
          <a:blip r:embed="rId1"/>
          <a:stretch/>
        </p:blipFill>
        <p:spPr>
          <a:xfrm>
            <a:off x="4502160" y="907920"/>
            <a:ext cx="431784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382752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ый «государь всея Руси»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ван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ёл денежную реформу, связанную с лишением местных князей права чеканки монет.  В конц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V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ка он установил, что право чеканки монет должно принадлежать лишь старшему из князей, держателю Московского престола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CB97-A141-483D-928F-4ED378419C6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6395-9ADD-4B8C-BEF0-BEB204674C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F:\700 лет рублю\фото к рублю\Ivan_III_of_Russia_3.jpg"/>
          <p:cNvPicPr/>
          <p:nvPr/>
        </p:nvPicPr>
        <p:blipFill>
          <a:blip r:embed="rId1"/>
          <a:stretch/>
        </p:blipFill>
        <p:spPr>
          <a:xfrm>
            <a:off x="4468680" y="549360"/>
            <a:ext cx="4302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4392360" cy="50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лена Глинск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авившая от имени своего малолетнего сына, будущего царя Ива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Грозного ,повелела в 1535 г.изъять из обращения все старые монеты . В стране была создана единая для всего русского государства денежная система. На мелкой серебряной монете изображали всадника с мечом - монеты получили название мечевых. На деньгах покрупнее, чеканили всадника, вооруженного копьем. Такие монеты стали называть копейными -                                         отсюда и произошло слов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"копейка"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пейка вытеснила монеты под названием «московки» и «новгородки», бывшие на Руси в ходу до тог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F:\700 лет рублю\фото к рублю\200px-Glinskaya_reconstruction.jpg"/>
          <p:cNvPicPr/>
          <p:nvPr/>
        </p:nvPicPr>
        <p:blipFill>
          <a:blip r:embed="rId1"/>
          <a:stretch/>
        </p:blipFill>
        <p:spPr>
          <a:xfrm>
            <a:off x="4983120" y="620640"/>
            <a:ext cx="378468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05:32:49Z</dcterms:created>
  <dc:creator>Admin</dc:creator>
  <dc:description>http://aida.ucoz.ru</dc:description>
  <cp:keywords>http://aida.ucoz.ru</cp:keywords>
  <dc:language>en-US</dc:language>
  <cp:lastModifiedBy>Денис</cp:lastModifiedBy>
  <dcterms:modified xsi:type="dcterms:W3CDTF">2020-09-13T10:08:22Z</dcterms:modified>
  <cp:revision>182</cp:revision>
  <dc:subject>Шаблоны презентаций</dc:subject>
  <dc:title>История денежных знаков.</dc:title>
</cp:coreProperties>
</file>