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35E-F925-449D-8F5C-C2871062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E68-3065-48ED-BAC0-93928C2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AD0-D7FC-4E10-948F-A581B51F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4F6-737C-408E-9954-1C62A9F5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14C-C2AC-45BA-ABE2-4CBDFB49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7DF-E5AC-43C3-9160-92AA4233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A32-A921-44E3-B4C6-CD61E5D1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B1C-90DC-4960-B723-F0129D28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63B-B182-4E01-BA28-FE0D897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CE4-37E4-4CDB-82BC-AAC5FD2C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E68-1871-412F-AAC0-B5794E8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E58-1BCD-4C06-8A30-DDDD354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35CC-BD43-468F-AC7C-A02FBACC0E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DDA8-F86C-46DE-A750-EBF30B84F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700 лет рубл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1042920" y="5734080"/>
            <a:ext cx="619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БОУ «Вечерняя школ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1 апреля 201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истратор\Desktop\Деньги\1437052359_09.06.15_rubl.jpg"/>
          <p:cNvPicPr/>
          <p:nvPr/>
        </p:nvPicPr>
        <p:blipFill>
          <a:blip r:embed="rId1"/>
          <a:stretch/>
        </p:blipFill>
        <p:spPr>
          <a:xfrm>
            <a:off x="468360" y="1149480"/>
            <a:ext cx="8280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4032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пополнить казну, в 1656 г,  цар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ей Михайлови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 Кончился же денежный эксперимент царя восстанием в Моск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июля 1662 г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2571-5785-48BC-B458-19C9F6714C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3B52-86F1-4866-BCE6-F486F8BD1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Алексей Михайлович Романов.jpg"/>
          <p:cNvPicPr/>
          <p:nvPr/>
        </p:nvPicPr>
        <p:blipFill>
          <a:blip r:embed="rId1"/>
          <a:stretch/>
        </p:blipFill>
        <p:spPr>
          <a:xfrm>
            <a:off x="4500720" y="260280"/>
            <a:ext cx="450036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реформ Петр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стране появилась первая в мире десятичная монетная система, в основу которой был положен рубль, делившийся на 100 копе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кина Лидия Петр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Администратор\Desktop\Деньги\288520_900.jpg"/>
          <p:cNvPicPr/>
          <p:nvPr/>
        </p:nvPicPr>
        <p:blipFill>
          <a:blip r:embed="rId1"/>
          <a:stretch/>
        </p:blipFill>
        <p:spPr>
          <a:xfrm>
            <a:off x="285840" y="1928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Администратор\Desktop\Деньги\image.jpg"/>
          <p:cNvPicPr/>
          <p:nvPr/>
        </p:nvPicPr>
        <p:blipFill>
          <a:blip r:embed="rId2"/>
          <a:stretch/>
        </p:blipFill>
        <p:spPr>
          <a:xfrm>
            <a:off x="4643280" y="1928880"/>
            <a:ext cx="417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ти непрерывные войны и гигантское строительство в XVIII веке опорожнили казну.  25 мая 1762 года занявший ненадолго российский престол Пётр III Фёдорович подготовил указ о создании государственного банка, который должен был выпустить бумажные ассигнации. Однако из-за дворцового переворота и отстранения Петра Фёдоровича от власти указ не был воплощён в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6ED-EA11-4EF9-A70D-B28B65A2C1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02F9-975B-4C1B-8ADF-5D2CBAF51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7753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715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катерине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Они назывались ассигнациями и обращались в виде государственных казначейских билет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нгнрисунок 013"/>
          <p:cNvPicPr/>
          <p:nvPr/>
        </p:nvPicPr>
        <p:blipFill>
          <a:blip r:embed="rId1"/>
          <a:stretch/>
        </p:blipFill>
        <p:spPr>
          <a:xfrm>
            <a:off x="684360" y="2060640"/>
            <a:ext cx="3176280" cy="44640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Екатерина2.jpg"/>
          <p:cNvPicPr/>
          <p:nvPr/>
        </p:nvPicPr>
        <p:blipFill>
          <a:blip r:embed="rId2"/>
          <a:stretch/>
        </p:blipFill>
        <p:spPr>
          <a:xfrm>
            <a:off x="4643280" y="1971720"/>
            <a:ext cx="3745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97 г.  Министр финансов Сергей Юльевич Витте ввёл золотое обеспечение рубля, который стал конвертируемой валютой. Это усилило приток капитала из-за гра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0DFD-F703-43B1-BD89-D45A3BD02B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EC64-BEEB-461D-AB21-C4A9D5F20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G:\700 лет рублю\фото к рублю\SergeiWitte01548v.jpg"/>
          <p:cNvPicPr/>
          <p:nvPr/>
        </p:nvPicPr>
        <p:blipFill>
          <a:blip r:embed="rId1"/>
          <a:stretch/>
        </p:blipFill>
        <p:spPr>
          <a:xfrm>
            <a:off x="4986360" y="692280"/>
            <a:ext cx="38336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8FD-3D30-48BE-A350-E907A1AA08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1DA-D0F4-454D-A0DC-1FDA08093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64960" y="620640"/>
            <a:ext cx="8721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RUSSIAN banknote 50 RUBLES 1947"/>
          <p:cNvPicPr/>
          <p:nvPr/>
        </p:nvPicPr>
        <p:blipFill>
          <a:blip r:embed="rId1"/>
          <a:stretch/>
        </p:blipFill>
        <p:spPr>
          <a:xfrm>
            <a:off x="4211640" y="2421000"/>
            <a:ext cx="4751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E819-764A-4962-AB56-A078917E52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BAD9-75A7-47C7-AF0E-8DAB7346B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66840" y="333360"/>
            <a:ext cx="85262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еверных областях товарными деньгами служили шкурки куниц, соболей, белок, лисиц. Название древнерусской денежной единицы «куна» берёт своё происхождение от меха кун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у древних славян роль денег выполняли лён и изготовленная из него ткань - полотно. От слова "полотно" произошло всем нам известное слово - плат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&amp;S\ЮРА\Мои документы\МАРИНА\КАРТИНКИ\животные\куницаE.jpg"/>
          <p:cNvPicPr/>
          <p:nvPr/>
        </p:nvPicPr>
        <p:blipFill>
          <a:blip r:embed="rId1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26 июля по 07 августа 1993 г. в России была проведена денежная реформа. На российских деньгах образца 1993 г.на месте, где раньше был профиль Ленина, изображён стилизованный Московский Кремль с триколором, На месте герба СССР –вензель Центрального Банка Р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6F19-43AD-4BEC-963E-5CFC713890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B891-B54C-4841-8FF8-75A42A424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G:\700 лет рублю\NEW\1280px-Banknote_500_rubles_(1993)_front.jpg"/>
          <p:cNvPicPr/>
          <p:nvPr/>
        </p:nvPicPr>
        <p:blipFill>
          <a:blip r:embed="rId1"/>
          <a:stretch/>
        </p:blipFill>
        <p:spPr>
          <a:xfrm>
            <a:off x="250920" y="2276640"/>
            <a:ext cx="4198680" cy="1825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:\700 лет рублю\Рублю 700 лет 1316-2016\Вставить\large_1.jpg"/>
          <p:cNvPicPr/>
          <p:nvPr/>
        </p:nvPicPr>
        <p:blipFill>
          <a:blip r:embed="rId2"/>
          <a:stretch/>
        </p:blipFill>
        <p:spPr>
          <a:xfrm>
            <a:off x="5519880" y="2708280"/>
            <a:ext cx="3624120" cy="27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:\700 лет рублю\Рублю 700 лет 1316-2016\Вставить\200.jpg"/>
          <p:cNvPicPr/>
          <p:nvPr/>
        </p:nvPicPr>
        <p:blipFill>
          <a:blip r:embed="rId3"/>
          <a:stretch/>
        </p:blipFill>
        <p:spPr>
          <a:xfrm>
            <a:off x="611280" y="4292640"/>
            <a:ext cx="46418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374472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 рубля утвержден Банком России 11 декабря 2013 года в целях укрепления статуса национальной денежной единицы РФ. Графическое изображение рубля в виде символа представляет собой прописную букву «Р» с дополнительной горизонтальной чертой, создающей впечатление присутствия двух параллельных линий, что символизирует  устойчивое положение российской валю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EFBF-941B-42F6-8964-EC963D2B23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2E1-24CD-4098-A4F7-D23BB0921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G:\700 лет рублю\NEW\80px-Ruble_sign.svg.png"/>
          <p:cNvPicPr/>
          <p:nvPr/>
        </p:nvPicPr>
        <p:blipFill>
          <a:blip r:embed="rId1"/>
          <a:stretch/>
        </p:blipFill>
        <p:spPr>
          <a:xfrm>
            <a:off x="4525920" y="692280"/>
            <a:ext cx="42228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201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мятник рублю в Том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F:\700 лет рублю\фото к рублю\томск.jpg"/>
          <p:cNvPicPr/>
          <p:nvPr/>
        </p:nvPicPr>
        <p:blipFill>
          <a:blip r:embed="rId1"/>
          <a:stretch/>
        </p:blipFill>
        <p:spPr>
          <a:xfrm>
            <a:off x="1379520" y="1052640"/>
            <a:ext cx="63612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рублю в Сыктывк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3685-5D59-4401-8DF9-44A0EC4A108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423-C841-4646-84CC-2C701453E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G:\700 лет рублю\NEW\СЫ.jpg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ustomShape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stomShape 2"/>
          <p:cNvSpPr/>
          <p:nvPr/>
        </p:nvSpPr>
        <p:spPr>
          <a:xfrm>
            <a:off x="493560" y="976320"/>
            <a:ext cx="8290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000"/>
                </a:solidFill>
                <a:uFillTx/>
                <a:latin typeface="Arial"/>
              </a:rPr>
              <a:t>Презентацию  подготовил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мянцев Александр  (11 а кл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рубля с древнейших времён до кон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новский Вадим (12 а кл.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История рубля :от Ива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икол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рявцев Камиль  (10 а кл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рубля с нач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 по 1991 г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арёв Паве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2 б кл.)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ременный руб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 -консультант — Валюк Денис Андреевич, учитель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улецкий Д.В. 100 самых известных монет России.- Москва: Эксмо,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псиц И.В.Экономика.М:Вита-Пресс,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псиц И.В. Экономика: история и современная организация хозяйственной деятельности.М:Вита-Пресс,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4.  https://ru.wikipedi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http://prezentacii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ие монеты стали чеканить в конц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–X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еках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яду со златниками чеканился и сребреник  –первая древнерусская серебряная монета. В первых выпусках златники и серебряники в основном повторяли тип византийских монет: на одной стороне –изображение князя, на другой –Христа .Затем лик Христа был заменён на родовой герб Рюрикович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343240" y="2133720"/>
            <a:ext cx="4173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ились "серебряники" русского князя Владимира. На одной стороне изображен князь, сидящий на престоле 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302436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ется, что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топися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 «рубль» впервые упомянуто под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1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ом при описании условий мира между новгородцами и тверичами. Тогда новгородцы договорились с тверским князем Михаилом Александровичем о выплате выкупа в 5 тысяч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59B0-40BA-4D87-BD88-708E96F251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A26-81FE-4B16-B776-005F09134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Администратор\Desktop\Деньги\DPreu6KI7jY-800x500_c.jpg"/>
          <p:cNvPicPr/>
          <p:nvPr/>
        </p:nvPicPr>
        <p:blipFill>
          <a:blip r:embed="rId1"/>
          <a:stretch/>
        </p:blipFill>
        <p:spPr>
          <a:xfrm>
            <a:off x="3492360" y="692280"/>
            <a:ext cx="5527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291520" cy="37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тельное время считалось, что слово «рубль» происходит от глагола рубить, однако в настоящее время учёные выдвигают версию, что понятие «рубль» происходит от названия древней технологии, согласно которой серебро заливалось в форму в два захода, что подтверждается наличием на серебряных платежных слитках Великого Новгорода хорошо заметного шва на ребр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ово "руб", по мнению исследователей, означает край, кайма. Оно и сегодня встречается в славянских языках. Например, в украинском, белорусском и польском языках «руб» означает рубец, а в переводе с сербскохорватского - шов, кайма. Таким образом, дословно термин рубль, вероятнее всего, нужно понимать ка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"слиток со швом"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915-E459-4C40-80FC-A9A39A2134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0B8-8251-4175-B454-0281B626B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4114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обеды на Куликовом пол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митрий Донско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е русские князья, а также вольные города –Новгород и Псков –стали чеканить собственные серебряные монеты. Именно в то время родилось в русском языке и само слов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ньги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о в том, что князь Дмитрий придумал изготавливать свою монету – «гривну» - путём переплавки татарских серебряных монет, которые назывались «деньга»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ак на Руси произносили персидское слово «тенге» –название ордынских дене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Зная это народ окрестил и новые отечественные монеты «деньго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DB5-0418-4827-8077-B109AE5456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CB3-F7A2-4419-86E4-CB8E55214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:\700 лет рублю\фото к рублю\Dmitri_Donskoy.jpg"/>
          <p:cNvPicPr/>
          <p:nvPr/>
        </p:nvPicPr>
        <p:blipFill>
          <a:blip r:embed="rId1"/>
          <a:stretch/>
        </p:blipFill>
        <p:spPr>
          <a:xfrm>
            <a:off x="4502160" y="907920"/>
            <a:ext cx="43178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382752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«государь всея Руси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ёл денежную реформу, связанную с лишением местных князей права чеканки монет.  В кон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ка он установил, что право чеканки монет должно принадлежать лишь старшему из князей, держателю Московского престол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B26C-8938-4260-84D8-56BB72D444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68B2-F0D9-4598-8AD3-A3B1CA336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F:\700 лет рублю\фото к рублю\Ivan_III_of_Russia_3.jpg"/>
          <p:cNvPicPr/>
          <p:nvPr/>
        </p:nvPicPr>
        <p:blipFill>
          <a:blip r:embed="rId1"/>
          <a:stretch/>
        </p:blipFill>
        <p:spPr>
          <a:xfrm>
            <a:off x="4468680" y="549360"/>
            <a:ext cx="430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4392360" cy="50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лена Глинск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авившая от имени своего малолетнего сына, будущего царя Ива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розного ,повелела в 1535 г.изъять из обращения все старые монеты . В стране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"копейка"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пейка вытеснила монеты под названием «московки» и «новгородки», бывшие на Руси в ходу до т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F:\700 лет рублю\фото к рублю\200px-Glinskaya_reconstruction.jpg"/>
          <p:cNvPicPr/>
          <p:nvPr/>
        </p:nvPicPr>
        <p:blipFill>
          <a:blip r:embed="rId1"/>
          <a:stretch/>
        </p:blipFill>
        <p:spPr>
          <a:xfrm>
            <a:off x="4983120" y="620640"/>
            <a:ext cx="37846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Денис</cp:lastModifiedBy>
  <dcterms:modified xsi:type="dcterms:W3CDTF">2020-09-13T10:08:22Z</dcterms:modified>
  <cp:revision>182</cp:revision>
  <dc:subject>Шаблоны презентаций</dc:subject>
  <dc:title>История денежных знаков.</dc:title>
</cp:coreProperties>
</file>