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B43-3583-4B85-95A7-D41589FF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2B2-870F-470D-BEA1-F1056B84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32B-935D-4DD1-984F-48CE9E4C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813-0EF8-48DD-BB4F-B38E6239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484-2966-482B-B06E-B0F9788B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FCD1-5D77-4919-BE73-22434D8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ED21-8452-4AA7-813F-6412E96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A0AC-E6A2-43F7-AA81-D613C18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972C-0177-4937-8698-5E682ED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D6A4-1811-4091-AFBA-2F49B0F0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55B-9189-4279-8993-2544704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20F-CEF2-4712-83E0-8278577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5DB-AB7E-4DD6-B5C2-2796EF1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2B01-0176-4F27-BF49-83B6B6E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450C-7D74-4071-BFE7-5B92B74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A0BB-621E-4514-9E12-C53BA765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2BB-019C-4199-81CD-21256533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70327-F45C-40E3-9E0D-B81F9D12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3A824-F303-4A3C-9839-476B91F8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F275C-579A-497C-8C2B-50AF0838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88D7-76C3-4DAA-B2C7-6A4928D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290C2-ED35-46B1-AAC2-30CB9B1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502-5912-429A-ACD8-D10B168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62EC2-60EA-4DC0-8685-20EDBB9F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EBBC1-FF76-4008-9E1A-09A7861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F2C54-B042-4C92-B8BA-9AF7905F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70484-C852-4E1C-B4C2-6939F49F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B64B8-8B2C-48E1-877A-19A4F72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06A6F-8D0A-45DA-A463-A09FE07B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488EF-F381-46A6-8C27-C0C2AA47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98F4-C326-4089-AD90-0481C8F0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83FA-3482-40F1-B872-BC50CA6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AB62-E780-440D-BAA8-D1843B3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045-E0C8-475E-8400-AE364DC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F145-653F-4A6F-BF99-82A0FB4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2B4E-7B1E-483A-96EA-D3EBEB3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6896-CFC7-4FAE-9429-16A061AB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A03E-8C0D-43A2-B2BC-6EEDEFA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A610-7327-4FF5-B7C2-20D13A94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B4CB-7B60-4041-BDEA-931BFB9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105E-DFB6-49A1-90D8-A53678AC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15D3-987A-4AC8-AA62-1B385695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12B4-F46A-4899-8E3D-33E24A70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74E-8C63-4A62-B232-D4BAA94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B92-6F0D-4D02-AC10-7164396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702-46EE-4575-B831-08A916D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76B-2CF7-43A7-8ADB-E99C230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46E-9ABA-4A66-847A-A96CCB2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53EC-B2D5-42CD-BB9F-EB2731CA0B8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7C2F-13D4-471F-AF3F-A6325888BEF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DE8-B7DF-4864-917C-4AA2F97AEBC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8F4C-6280-43D3-B355-9844AF95F3D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http://www.buy-toy.ru/sites/default/files/MK002_0.jpg"/>
          <p:cNvPicPr/>
          <p:nvPr/>
        </p:nvPicPr>
        <p:blipFill>
          <a:blip r:embed="rId1"/>
          <a:srcRect l="28750" t="1247" r="28750" b="2501"/>
          <a:stretch/>
        </p:blipFill>
        <p:spPr>
          <a:xfrm>
            <a:off x="7000920" y="3143160"/>
            <a:ext cx="1546200" cy="350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integrasib.ru/image/cache/data/f1/image387-500x500.png"/>
          <p:cNvPicPr/>
          <p:nvPr/>
        </p:nvPicPr>
        <p:blipFill>
          <a:blip r:embed="rId2"/>
          <a:srcRect l="21899" t="0" r="23358" b="0"/>
          <a:stretch/>
        </p:blipFill>
        <p:spPr>
          <a:xfrm>
            <a:off x="3857760" y="2143080"/>
            <a:ext cx="1512720" cy="276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investments.academic.ru/pictures/investments/img232693_4-5_Izobutan.jpg"/>
          <p:cNvPicPr/>
          <p:nvPr/>
        </p:nvPicPr>
        <p:blipFill>
          <a:blip r:embed="rId3"/>
          <a:srcRect l="14997" t="8110" r="14498" b="6762"/>
          <a:stretch/>
        </p:blipFill>
        <p:spPr>
          <a:xfrm>
            <a:off x="2000160" y="428760"/>
            <a:ext cx="207828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kp.by/share/i/12/8941671/wr-720.sh-18.jpg"/>
          <p:cNvPicPr/>
          <p:nvPr/>
        </p:nvPicPr>
        <p:blipFill>
          <a:blip r:embed="rId4"/>
          <a:srcRect l="22856" t="0" r="18094" b="0"/>
          <a:stretch/>
        </p:blipFill>
        <p:spPr>
          <a:xfrm>
            <a:off x="785880" y="4357800"/>
            <a:ext cx="178596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://www.rusuchpribor.ru/school/phys-school/phys-dem/dem-molek/img/krreshfe.jpg"/>
          <p:cNvPicPr/>
          <p:nvPr/>
        </p:nvPicPr>
        <p:blipFill>
          <a:blip r:embed="rId5"/>
          <a:srcRect l="7423" t="1428" r="8203" b="2669"/>
          <a:stretch/>
        </p:blipFill>
        <p:spPr>
          <a:xfrm>
            <a:off x="6143760" y="785880"/>
            <a:ext cx="2225520" cy="2071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www.modellmix.su/sites/default/files/9_68.jpg"/>
          <p:cNvPicPr/>
          <p:nvPr/>
        </p:nvPicPr>
        <p:blipFill>
          <a:blip r:embed="rId6"/>
          <a:stretch/>
        </p:blipFill>
        <p:spPr>
          <a:xfrm>
            <a:off x="3286080" y="5286240"/>
            <a:ext cx="3067200" cy="1214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doka.3dn.ru/_nw/2/00333507.jpg"/>
          <p:cNvPicPr/>
          <p:nvPr/>
        </p:nvPicPr>
        <p:blipFill>
          <a:blip r:embed="rId7"/>
          <a:stretch/>
        </p:blipFill>
        <p:spPr>
          <a:xfrm>
            <a:off x="0" y="2143080"/>
            <a:ext cx="2071800" cy="1986120"/>
          </a:xfrm>
          <a:prstGeom prst="rect">
            <a:avLst/>
          </a:prstGeom>
          <a:ln w="0">
            <a:noFill/>
          </a:ln>
        </p:spPr>
      </p:pic>
      <p:sp>
        <p:nvSpPr>
          <p:cNvPr id="221" name="Скругленный прямоугольник 12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0698-6BFE-4812-ABB3-12B887E418DE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оделирование как метод позна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Учитель Кечкина Н.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МБОУ «Средняя школа № 12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. Дзержинс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–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714400" y="928440"/>
            <a:ext cx="63579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вый объект, который отражает существенные с точки зрения цели моделирования признаки изучаемого предмета, процесса или я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57200" y="2433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ирование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4643280" y="2749680"/>
            <a:ext cx="4429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 познания, состоящий в создании и исследовании мод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s://www.pcweek.ru/images/pcweek/archive/8002_963810966_3.rtf.files/image004.jpg"/>
          <p:cNvPicPr/>
          <p:nvPr/>
        </p:nvPicPr>
        <p:blipFill>
          <a:blip r:embed="rId1"/>
          <a:stretch/>
        </p:blipFill>
        <p:spPr>
          <a:xfrm>
            <a:off x="214200" y="3643200"/>
            <a:ext cx="2649600" cy="1714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e-reading.by/illustrations/130/130363-_607.png"/>
          <p:cNvPicPr/>
          <p:nvPr/>
        </p:nvPicPr>
        <p:blipFill>
          <a:blip r:embed="rId2"/>
          <a:stretch/>
        </p:blipFill>
        <p:spPr>
          <a:xfrm>
            <a:off x="6500880" y="4357800"/>
            <a:ext cx="2293920" cy="1673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www.nios.ru/sites/nios.ru/files/images/news/6cf0c4113d48a0c87f21150224c8fe13.gif"/>
          <p:cNvPicPr/>
          <p:nvPr/>
        </p:nvPicPr>
        <p:blipFill>
          <a:blip r:embed="rId3"/>
          <a:stretch/>
        </p:blipFill>
        <p:spPr>
          <a:xfrm>
            <a:off x="3571920" y="4714920"/>
            <a:ext cx="2214360" cy="189072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6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BEB-4AAD-4CAA-81F4-994D38D85A25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720" y="1928880"/>
            <a:ext cx="4043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ражает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ествен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обенности изучаемого объекта, явления или процесс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http://raskrutimgruppu.okis.ru/store/5/4/4/54428/56.jpg"/>
          <p:cNvPicPr/>
          <p:nvPr/>
        </p:nvPicPr>
        <p:blipFill>
          <a:blip r:embed="rId1"/>
          <a:srcRect l="29130" t="0" r="36897" b="0"/>
          <a:stretch/>
        </p:blipFill>
        <p:spPr>
          <a:xfrm>
            <a:off x="4071960" y="1071720"/>
            <a:ext cx="1820880" cy="53575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право с вырезом 4"/>
          <p:cNvSpPr/>
          <p:nvPr/>
        </p:nvSpPr>
        <p:spPr>
          <a:xfrm rot="19672200">
            <a:off x="5671800" y="1557000"/>
            <a:ext cx="857160" cy="357120"/>
          </a:xfrm>
          <a:custGeom>
            <a:avLst/>
            <a:gdLst>
              <a:gd name="textAreaLeft" fmla="*/ 89280 w 857160"/>
              <a:gd name="textAreaRight" fmla="*/ 767880 w 8571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право с вырезом 5"/>
          <p:cNvSpPr/>
          <p:nvPr/>
        </p:nvSpPr>
        <p:spPr>
          <a:xfrm rot="1036800">
            <a:off x="5793840" y="3021120"/>
            <a:ext cx="857520" cy="357120"/>
          </a:xfrm>
          <a:custGeom>
            <a:avLst/>
            <a:gdLst>
              <a:gd name="textAreaLeft" fmla="*/ 89280 w 857520"/>
              <a:gd name="textAreaRight" fmla="*/ 768240 w 85752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с вырезом 7"/>
          <p:cNvSpPr/>
          <p:nvPr/>
        </p:nvSpPr>
        <p:spPr>
          <a:xfrm rot="3088800">
            <a:off x="5593680" y="4696560"/>
            <a:ext cx="857160" cy="357120"/>
          </a:xfrm>
          <a:custGeom>
            <a:avLst/>
            <a:gdLst>
              <a:gd name="textAreaLeft" fmla="*/ 89280 w 857160"/>
              <a:gd name="textAreaRight" fmla="*/ 767880 w 8571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357960" y="928800"/>
            <a:ext cx="2786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еханике – материальная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2"/>
          <p:cNvSpPr/>
          <p:nvPr/>
        </p:nvSpPr>
        <p:spPr>
          <a:xfrm>
            <a:off x="6357960" y="2571840"/>
            <a:ext cx="27860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химии – объект, состоящий из различных химических вещ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2"/>
          <p:cNvSpPr/>
          <p:nvPr/>
        </p:nvSpPr>
        <p:spPr>
          <a:xfrm>
            <a:off x="5572080" y="5000760"/>
            <a:ext cx="357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биологи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стема, стремящаяся к самосохран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2"/>
          <p:cNvSpPr/>
          <p:nvPr/>
        </p:nvSpPr>
        <p:spPr>
          <a:xfrm>
            <a:off x="142920" y="5000760"/>
            <a:ext cx="40719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ин и тот же объект может иметь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множество моделей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, а разные объекты могут описываться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одной моделью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1E46-1F4F-4D74-AF77-10E4A487D4CF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Формы представления моделе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Стрелка вправо с вырезом 3"/>
          <p:cNvSpPr/>
          <p:nvPr/>
        </p:nvSpPr>
        <p:spPr>
          <a:xfrm rot="7720200">
            <a:off x="2094480" y="973800"/>
            <a:ext cx="506520" cy="428400"/>
          </a:xfrm>
          <a:custGeom>
            <a:avLst/>
            <a:gdLst>
              <a:gd name="textAreaLeft" fmla="*/ 106920 w 506520"/>
              <a:gd name="textAreaRight" fmla="*/ 399600 w 5065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459" y="5400"/>
                </a:lnTo>
                <a:lnTo>
                  <a:pt x="12459" y="0"/>
                </a:lnTo>
                <a:lnTo>
                  <a:pt x="21600" y="10800"/>
                </a:lnTo>
                <a:lnTo>
                  <a:pt x="12459" y="21600"/>
                </a:lnTo>
                <a:lnTo>
                  <a:pt x="12459" y="16200"/>
                </a:lnTo>
                <a:lnTo>
                  <a:pt x="0" y="16200"/>
                </a:lnTo>
                <a:lnTo>
                  <a:pt x="457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с вырезом 4"/>
          <p:cNvSpPr/>
          <p:nvPr/>
        </p:nvSpPr>
        <p:spPr>
          <a:xfrm rot="3702000">
            <a:off x="5545800" y="940680"/>
            <a:ext cx="554040" cy="428400"/>
          </a:xfrm>
          <a:custGeom>
            <a:avLst/>
            <a:gdLst>
              <a:gd name="textAreaLeft" fmla="*/ 106920 w 554040"/>
              <a:gd name="textAreaRight" fmla="*/ 447120 w 55404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45" y="5400"/>
                </a:lnTo>
                <a:lnTo>
                  <a:pt x="13245" y="0"/>
                </a:lnTo>
                <a:lnTo>
                  <a:pt x="21600" y="10800"/>
                </a:lnTo>
                <a:lnTo>
                  <a:pt x="13245" y="21600"/>
                </a:lnTo>
                <a:lnTo>
                  <a:pt x="13245" y="16200"/>
                </a:lnTo>
                <a:lnTo>
                  <a:pt x="0" y="16200"/>
                </a:lnTo>
                <a:lnTo>
                  <a:pt x="41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428760" y="1428840"/>
            <a:ext cx="2571480" cy="9144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атери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286160" y="1442880"/>
            <a:ext cx="3643560" cy="9144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Информа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285840" y="24289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роизводят геометрические, физические и др. свойства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remont-plys.ru/wp-content/uploads/2014/07/198.jpg"/>
          <p:cNvPicPr/>
          <p:nvPr/>
        </p:nvPicPr>
        <p:blipFill>
          <a:blip r:embed="rId1"/>
          <a:stretch/>
        </p:blipFill>
        <p:spPr>
          <a:xfrm>
            <a:off x="0" y="3857760"/>
            <a:ext cx="3071880" cy="2303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4286160" y="24336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исание объекта-оригинала на одном из языков представле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ppt4web.ru/images/40/8907/640/img5.jpg"/>
          <p:cNvPicPr/>
          <p:nvPr/>
        </p:nvPicPr>
        <p:blipFill>
          <a:blip r:embed="rId2"/>
          <a:stretch/>
        </p:blipFill>
        <p:spPr>
          <a:xfrm>
            <a:off x="6286680" y="49291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ngl2006.narod.ru/Contents/Bio/Pictures/12.jpg"/>
          <p:cNvPicPr/>
          <p:nvPr/>
        </p:nvPicPr>
        <p:blipFill>
          <a:blip r:embed="rId3"/>
          <a:stretch/>
        </p:blipFill>
        <p:spPr>
          <a:xfrm>
            <a:off x="3643200" y="3500280"/>
            <a:ext cx="2859120" cy="20005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22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9287-FA2D-4F37-95CC-CF281349B2B2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28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ормализация –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29040" y="1249200"/>
            <a:ext cx="521496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мена реального объекта его формальным описанием, т.е. его информационной модель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642960" y="4714920"/>
            <a:ext cx="38577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Этапы построения информационной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6"/>
          <p:cNvSpPr/>
          <p:nvPr/>
        </p:nvSpPr>
        <p:spPr>
          <a:xfrm>
            <a:off x="142920" y="2428920"/>
            <a:ext cx="150012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еальный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право с вырезом 17"/>
          <p:cNvSpPr/>
          <p:nvPr/>
        </p:nvSpPr>
        <p:spPr>
          <a:xfrm rot="1695600">
            <a:off x="1612800" y="3214800"/>
            <a:ext cx="1571760" cy="571320"/>
          </a:xfrm>
          <a:custGeom>
            <a:avLst/>
            <a:gdLst>
              <a:gd name="textAreaLeft" fmla="*/ 142560 w 1571760"/>
              <a:gd name="textAreaRight" fmla="*/ 1429200 w 157176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8"/>
          <p:cNvSpPr/>
          <p:nvPr/>
        </p:nvSpPr>
        <p:spPr>
          <a:xfrm>
            <a:off x="3143160" y="3500280"/>
            <a:ext cx="214308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право с вырезом 19"/>
          <p:cNvSpPr/>
          <p:nvPr/>
        </p:nvSpPr>
        <p:spPr>
          <a:xfrm rot="1669800">
            <a:off x="5260680" y="4083120"/>
            <a:ext cx="1714320" cy="928440"/>
          </a:xfrm>
          <a:custGeom>
            <a:avLst/>
            <a:gdLst>
              <a:gd name="textAreaLeft" fmla="*/ 231840 w 1714320"/>
              <a:gd name="textAreaRight" fmla="*/ 1482480 w 171432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750" y="5400"/>
                </a:ln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15750" y="16200"/>
                </a:lnTo>
                <a:lnTo>
                  <a:pt x="0" y="16200"/>
                </a:lnTo>
                <a:lnTo>
                  <a:pt x="29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0"/>
          <p:cNvSpPr/>
          <p:nvPr/>
        </p:nvSpPr>
        <p:spPr>
          <a:xfrm>
            <a:off x="7000920" y="4714920"/>
            <a:ext cx="185724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нформ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21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6060-B3F9-4627-8D03-4F6C1E61C44A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0" descr="http://matematikaiskusstvo.ru/images/tb2.jpg"/>
          <p:cNvPicPr/>
          <p:nvPr/>
        </p:nvPicPr>
        <p:blipFill>
          <a:blip r:embed="rId1"/>
          <a:stretch/>
        </p:blipFill>
        <p:spPr>
          <a:xfrm>
            <a:off x="4857840" y="3500280"/>
            <a:ext cx="3322440" cy="2214720"/>
          </a:xfrm>
          <a:prstGeom prst="rect">
            <a:avLst/>
          </a:prstGeom>
          <a:ln w="0">
            <a:noFill/>
          </a:ln>
        </p:spPr>
      </p:pic>
      <p:sp>
        <p:nvSpPr>
          <p:cNvPr id="268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Классификация информационных мод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7"/>
          <p:cNvSpPr/>
          <p:nvPr/>
        </p:nvSpPr>
        <p:spPr>
          <a:xfrm>
            <a:off x="857160" y="571680"/>
            <a:ext cx="3643560" cy="485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едметн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42920" y="1214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000080" y="1558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3500280" y="1571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2428920" y="12142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857160" y="2014560"/>
            <a:ext cx="3643560" cy="485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чет факто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642960" y="26305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2571840" y="2643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на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857160" y="3157560"/>
            <a:ext cx="3643560" cy="7002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орма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00040" y="398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43120" y="398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1643040" y="4344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меш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http://ngl2006.narod.ru/Contents/Bio/Pictures/12.jpg"/>
          <p:cNvPicPr/>
          <p:nvPr/>
        </p:nvPicPr>
        <p:blipFill>
          <a:blip r:embed="rId2"/>
          <a:stretch/>
        </p:blipFill>
        <p:spPr>
          <a:xfrm>
            <a:off x="1111320" y="4714920"/>
            <a:ext cx="2960640" cy="2071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http://karty-mira.ru/maps/14.jpg"/>
          <p:cNvPicPr/>
          <p:nvPr/>
        </p:nvPicPr>
        <p:blipFill>
          <a:blip r:embed="rId3"/>
          <a:stretch/>
        </p:blipFill>
        <p:spPr>
          <a:xfrm>
            <a:off x="5572080" y="961920"/>
            <a:ext cx="3286080" cy="1895760"/>
          </a:xfrm>
          <a:prstGeom prst="rect">
            <a:avLst/>
          </a:prstGeom>
          <a:ln w="0">
            <a:noFill/>
          </a:ln>
        </p:spPr>
      </p:pic>
      <p:sp>
        <p:nvSpPr>
          <p:cNvPr id="283" name="Скругленный прямоугольник 31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9A5-FA75-45B7-B3D1-00A21AC7D07F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§ 1, ответ. на вопросы,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записи в тетр. учить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Скругленный прямоугольник 3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D33-E2B2-43B1-B278-67E073BF114C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5:01:28Z</dcterms:created>
  <dc:creator>Наталия</dc:creator>
  <dc:description/>
  <dc:language>en-US</dc:language>
  <cp:lastModifiedBy>Наталия</cp:lastModifiedBy>
  <dcterms:modified xsi:type="dcterms:W3CDTF">2020-09-06T08:16:16Z</dcterms:modified>
  <cp:revision>74</cp:revision>
  <dc:subject/>
  <dc:title>Слайд 1</dc:title>
</cp:coreProperties>
</file>