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46C-6490-4101-BF62-1ED38C3F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52A-6233-4754-8D6D-2A89152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B72-EAC2-4F3A-BE6E-B1F7EC16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7BF-6277-4303-BF89-E2E06A3B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E5C-2E67-4CEA-8730-0284A41F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EA4-BF4A-491C-8C6E-7C2C153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ABB-ACA4-40E3-9FE2-575E9CB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7DC-9D62-4626-A6C7-7E674F9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C18-931F-4CAB-B183-301196D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499-9272-44A9-BCEA-DA2AD09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97B-B7CB-4794-8BDC-168A55C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32F-18C7-4707-BB83-D8E14C7D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92E-7754-4274-A8A9-9BF415DA3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Дары природы: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вощи, фрукты, грибы, яго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get-pdb/1350656/3f42219c-2800-4a2c-aca9-c299a7e73191/s1200?webp=false"/>
          <p:cNvPicPr/>
          <p:nvPr/>
        </p:nvPicPr>
        <p:blipFill>
          <a:blip r:embed="rId1"/>
          <a:stretch/>
        </p:blipFill>
        <p:spPr>
          <a:xfrm>
            <a:off x="1403280" y="1465200"/>
            <a:ext cx="62643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ds04.infourok.ru/uploads/ex/1008/0004de7f-f8d72528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4358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годы бывают садовые и лес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40000" y="2707920"/>
            <a:ext cx="32036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м яг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ягода лесная – приседаем, если садовая – подпрыгив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s://ds04.infourok.ru/uploads/ex/0475/0003e88c-1b752c27/hello_html_m74327454.jpg"/>
          <p:cNvPicPr/>
          <p:nvPr/>
        </p:nvPicPr>
        <p:blipFill>
          <a:blip r:embed="rId1"/>
          <a:stretch/>
        </p:blipFill>
        <p:spPr>
          <a:xfrm>
            <a:off x="0" y="836640"/>
            <a:ext cx="61866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овитые я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yandex.ru/images/_crpd/4FhZy7232/01d910UB/p19bt5uugA2kvFmjMHA7GlcYe9GUFXi_26AVtImwKUv1Oduyv1ZypodUeAn6wNRbcG55pnrVW60-eH3Qkwjl1DY7zxdLj1U8pJhJ10FRTlojCGt0kdA9664wpcTIkDkKcNiIAWmxdfBw0k-eHKdV_vXOWefrYKrL6BkIl7bLJOLGb2gAT0hCT5b-CLMSR9rYhM4LQKQ12gweY5aUjGIJSNG726MYgAaxMaEeHo0XNvw2LAtk70FIqRlfqCfHyscxdC77Am-Yw1_FPzmgA4f5eDUf-wNF1hidzROEpp_DKjrDGAixq4B1oeBQLRw811SMZYx5xO1hqupJPStFFpsFMBUPW9FPSyMPhM0JUUJ0ipjUfDhxlgfLvk4y5xU-UztIQqpbMqqxN4Ihoj9-LWXFP0QOaiS8sOmru94Lt4TqtAP2jrjifSgSDVRfWTAiNJk5h076ABZGSGxN4AZFrVMqeoMKOHAqk1fDk6GNnJ6UtCwnXmg3PgDZSOsNiFa3Siai1Hx5AT_JMZ_Uv4vTIxT5qnbuyGL1d_rePxAHlX2g2UkwyOnRy8OHEiEDPg0uh_QMh_7q1I1zuhqYTys3ZIhV4iTO-NLMSCB81A9ZA1OUK0o0HRlRdtQqzR4gdSefwWkK0UmL0inxpyHxI6xdXObkPPWeCrbss8jLCG2Z17ZYtqJ2DXoDX-rTLcTNyIIhdEtbVH_KAsYEev_NE1V2_YB4OGMLySJqoHXwwLO-bu9l5f1krGvUfBArWDssGSSGiCcCBk8oQ7wYAb4GnctQ0bTpCrVM2VKkdpl93HA3FT4CmyhS2FnQKNBlUsJDHHwNJoauJf15pt0xaqsJbZgXBrgFcmdsiFKtiJNdxI6YIsJkq0lHrahztqQpbn5BlOVd8zs7IJlLo8mxlaIjI088_vXkr3e8yVacgclIOUyaFbb6VLOFXToDr-iSXVUv2DLwZPsYtSzLQIfnW79d4gekjxKKU"/>
          <p:cNvPicPr/>
          <p:nvPr/>
        </p:nvPicPr>
        <p:blipFill>
          <a:blip r:embed="rId1"/>
          <a:stretch/>
        </p:blipFill>
        <p:spPr>
          <a:xfrm>
            <a:off x="611280" y="98100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собирают овощ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умай и загадай загадку пр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ертый лишний: малина, черника, смородина, крыжо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картина с изображением фруктов, овощей, цветов, посу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отличается огурец от кабач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 ядовитые ягод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img3.goodfon.ru/original/2048x2048/d/fa/spelyy-arbuz-krasnaya.jpg"/>
          <p:cNvPicPr/>
          <p:nvPr/>
        </p:nvPicPr>
        <p:blipFill>
          <a:blip r:embed="rId1"/>
          <a:stretch/>
        </p:blipFill>
        <p:spPr>
          <a:xfrm>
            <a:off x="6156360" y="728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veralline.com/uploads/images/comparison/2014/12/15/84330f90f4.jpg"/>
          <p:cNvPicPr/>
          <p:nvPr/>
        </p:nvPicPr>
        <p:blipFill>
          <a:blip r:embed="rId2"/>
          <a:stretch/>
        </p:blipFill>
        <p:spPr>
          <a:xfrm>
            <a:off x="3132000" y="472428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s://www.meteonova.ru/agro-articles/pictures/pea1.jpg"/>
          <p:cNvPicPr/>
          <p:nvPr/>
        </p:nvPicPr>
        <p:blipFill>
          <a:blip r:embed="rId3"/>
          <a:stretch/>
        </p:blipFill>
        <p:spPr>
          <a:xfrm>
            <a:off x="4284720" y="4724280"/>
            <a:ext cx="1655640" cy="11606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2" descr="https://img2.freepng.ru/20180802/ubf/kisspng-clip-art-vegetable-openclipart-food-portable-netwo-5b62ca26dc8765.9006837915332009349033.jpg"/>
          <p:cNvPicPr/>
          <p:nvPr/>
        </p:nvPicPr>
        <p:blipFill>
          <a:blip r:embed="rId4"/>
          <a:stretch/>
        </p:blipFill>
        <p:spPr>
          <a:xfrm>
            <a:off x="5940360" y="4724280"/>
            <a:ext cx="123372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8" descr="https://sc01.alicdn.com/kf/H180a991f438b4da29951e72bcae6bc28k/Factory-supply-Spray-Dried-Daucus-carrot-powder.jpg"/>
          <p:cNvPicPr/>
          <p:nvPr/>
        </p:nvPicPr>
        <p:blipFill>
          <a:blip r:embed="rId5"/>
          <a:stretch/>
        </p:blipFill>
        <p:spPr>
          <a:xfrm>
            <a:off x="7236000" y="4724280"/>
            <a:ext cx="1908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растет на огоро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w-dog.pw/android-wallpapers/1/20/519177518471309/eggplant-pumpkin-gas-24-pepper-cucumber.jpg"/>
          <p:cNvPicPr/>
          <p:nvPr/>
        </p:nvPicPr>
        <p:blipFill>
          <a:blip r:embed="rId1"/>
          <a:stretch/>
        </p:blipFill>
        <p:spPr>
          <a:xfrm>
            <a:off x="324000" y="907920"/>
            <a:ext cx="83865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отические овощ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88000" y="691920"/>
            <a:ext cx="255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вано (рогатая ды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от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ÐÑÑÐ¸ÑÐ¾Ðº"/>
          <p:cNvPicPr/>
          <p:nvPr/>
        </p:nvPicPr>
        <p:blipFill>
          <a:blip r:embed="rId1"/>
          <a:stretch/>
        </p:blipFill>
        <p:spPr>
          <a:xfrm>
            <a:off x="0" y="765000"/>
            <a:ext cx="3348000" cy="22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ÐÐ°Ð¼Ð¸Ñ"/>
          <p:cNvPicPr/>
          <p:nvPr/>
        </p:nvPicPr>
        <p:blipFill>
          <a:blip r:embed="rId2"/>
          <a:stretch/>
        </p:blipFill>
        <p:spPr>
          <a:xfrm>
            <a:off x="2987640" y="202392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ÐÐ¸Ð²Ð°Ð½Ð¾"/>
          <p:cNvPicPr/>
          <p:nvPr/>
        </p:nvPicPr>
        <p:blipFill>
          <a:blip r:embed="rId3"/>
          <a:stretch/>
        </p:blipFill>
        <p:spPr>
          <a:xfrm>
            <a:off x="5148360" y="4221000"/>
            <a:ext cx="3456000" cy="230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ÐµÐ»Ð¾ÑÑÐ¸Ñ"/>
          <p:cNvPicPr/>
          <p:nvPr/>
        </p:nvPicPr>
        <p:blipFill>
          <a:blip r:embed="rId4"/>
          <a:stretch/>
        </p:blipFill>
        <p:spPr>
          <a:xfrm>
            <a:off x="0" y="4479840"/>
            <a:ext cx="3564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растет в сад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s://beatingpancreatitis.com/wp-content/uploads/2014/06/apple.jpg"/>
          <p:cNvPicPr/>
          <p:nvPr/>
        </p:nvPicPr>
        <p:blipFill>
          <a:blip r:embed="rId1"/>
          <a:stretch/>
        </p:blipFill>
        <p:spPr>
          <a:xfrm>
            <a:off x="0" y="0"/>
            <a:ext cx="228924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fermoved.ru/wp-content/uploads/2018/02/lira-opisanie-sorta-e1519813904236.jpg"/>
          <p:cNvPicPr/>
          <p:nvPr/>
        </p:nvPicPr>
        <p:blipFill>
          <a:blip r:embed="rId2"/>
          <a:stretch/>
        </p:blipFill>
        <p:spPr>
          <a:xfrm>
            <a:off x="5003640" y="4365720"/>
            <a:ext cx="3070440" cy="24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s://img4.goodfon.ru/wallpaper/nbig/8/cf/spelyi-persik-frukt-sladkii-krasnyi-abrikos.jpg"/>
          <p:cNvPicPr/>
          <p:nvPr/>
        </p:nvPicPr>
        <p:blipFill>
          <a:blip r:embed="rId3"/>
          <a:stretch/>
        </p:blipFill>
        <p:spPr>
          <a:xfrm>
            <a:off x="5975280" y="836640"/>
            <a:ext cx="3168720" cy="268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s://avatars.mds.yandex.net/get-zen_doc/1653873/pub_5e12dfe6fe289100b0004701_5e12e4c3fe289100b0004727/scale_1200"/>
          <p:cNvPicPr/>
          <p:nvPr/>
        </p:nvPicPr>
        <p:blipFill>
          <a:blip r:embed="rId4"/>
          <a:stretch/>
        </p:blipFill>
        <p:spPr>
          <a:xfrm>
            <a:off x="3492360" y="76500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im0-tub-ru.yandex.net/i?id=32e36369c8f768b402630543e9d6a5cc&amp;n=13&amp;exp=1"/>
          <p:cNvPicPr/>
          <p:nvPr/>
        </p:nvPicPr>
        <p:blipFill>
          <a:blip r:embed="rId5"/>
          <a:stretch/>
        </p:blipFill>
        <p:spPr>
          <a:xfrm>
            <a:off x="2987640" y="462600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www.itspetha.com/wp-content/uploads/2016/12/13.jpg"/>
          <p:cNvPicPr/>
          <p:nvPr/>
        </p:nvPicPr>
        <p:blipFill>
          <a:blip r:embed="rId6"/>
          <a:stretch/>
        </p:blipFill>
        <p:spPr>
          <a:xfrm>
            <a:off x="4572000" y="3265560"/>
            <a:ext cx="174960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s://avatars.mds.yandex.net/get-zen_doc/1703756/pub_5e0a0399bd639600b171e32a_5e0a128d1febd400b0e35f10/scale_1200"/>
          <p:cNvPicPr/>
          <p:nvPr/>
        </p:nvPicPr>
        <p:blipFill>
          <a:blip r:embed="rId7"/>
          <a:stretch/>
        </p:blipFill>
        <p:spPr>
          <a:xfrm>
            <a:off x="7634160" y="3357720"/>
            <a:ext cx="1509840" cy="1488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s://rbsmi.ru/upload/iblock/820/8201b79a4236899e118d022f541a21b0.jpg"/>
          <p:cNvPicPr/>
          <p:nvPr/>
        </p:nvPicPr>
        <p:blipFill>
          <a:blip r:embed="rId8"/>
          <a:stretch/>
        </p:blipFill>
        <p:spPr>
          <a:xfrm>
            <a:off x="1692360" y="2421000"/>
            <a:ext cx="180180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s://img2.freepng.ru/20180409/ovq/kisspng-cantaloupe-melon-honeydew-fruit-honeydew-5acaf77c9d7599.484110051523251068645.jpg"/>
          <p:cNvPicPr/>
          <p:nvPr/>
        </p:nvPicPr>
        <p:blipFill>
          <a:blip r:embed="rId9"/>
          <a:stretch/>
        </p:blipFill>
        <p:spPr>
          <a:xfrm>
            <a:off x="0" y="4626000"/>
            <a:ext cx="264312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www.1000listnik.ru/wp-content/uploads/2016/03/Sliva2.jpg"/>
          <p:cNvPicPr/>
          <p:nvPr/>
        </p:nvPicPr>
        <p:blipFill>
          <a:blip r:embed="rId10"/>
          <a:stretch/>
        </p:blipFill>
        <p:spPr>
          <a:xfrm>
            <a:off x="0" y="2708280"/>
            <a:ext cx="1387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1200" y="0"/>
            <a:ext cx="8362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отические фр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32720" y="1412640"/>
            <a:ext cx="2411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гос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кфрут  (индийское хлебное дерев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и (китайская сли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нган (глаз драко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1"/>
          <a:stretch/>
        </p:blipFill>
        <p:spPr>
          <a:xfrm>
            <a:off x="0" y="7650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2"/>
          <a:stretch/>
        </p:blipFill>
        <p:spPr>
          <a:xfrm>
            <a:off x="2700360" y="220500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3"/>
          <a:stretch/>
        </p:blipFill>
        <p:spPr>
          <a:xfrm>
            <a:off x="4356000" y="440856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Ð­ÐºÐ·Ð¾ÑÐ¸ÑÐµÑÐºÐ¸Ðµ ÑÑÑÐºÑÑ Ð¼Ð¸ÑÐ°: Ð¾Ñ Ð¿Ð°Ð¿Ð°Ð¹Ð¸ Ð´Ð¾ Ð¼Ð°ÑÐ°Ð½Ð³Ð°"/>
          <p:cNvPicPr/>
          <p:nvPr/>
        </p:nvPicPr>
        <p:blipFill>
          <a:blip r:embed="rId4"/>
          <a:stretch/>
        </p:blipFill>
        <p:spPr>
          <a:xfrm>
            <a:off x="0" y="467208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3.bp.blogspot.com/-6taMe3dynkQ/WhsHLJZZDmI/AAAAAAAABiA/l7YMy2Pw4pg2tCowQQBC4Aib0NQg-FOCACEwYBhgL/s1600/%25D0%25BE%25D0%25B2%25D0%25BE%25D1%2589%25D0%25B8%2B%25D1%2584%25D1%2580%25D1%2583%25D0%25BA%25D1%2582%25D1%258B.png"/>
          <p:cNvPicPr/>
          <p:nvPr/>
        </p:nvPicPr>
        <p:blipFill>
          <a:blip r:embed="rId1"/>
          <a:stretch/>
        </p:blipFill>
        <p:spPr>
          <a:xfrm>
            <a:off x="0" y="22320"/>
            <a:ext cx="89647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картины, на которых художники изображают овощи и фру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ще изображают художники в натюрморта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Ð¢ÑÐ°Ð´Ð¸ÑÑÐ¹Ð½Ð¸Ð¹ Ð½Ð°ÑÑÑÐ¼Ð¾ÑÑ"/>
          <p:cNvPicPr/>
          <p:nvPr/>
        </p:nvPicPr>
        <p:blipFill>
          <a:blip r:embed="rId1"/>
          <a:stretch/>
        </p:blipFill>
        <p:spPr>
          <a:xfrm>
            <a:off x="1116000" y="1268280"/>
            <a:ext cx="6899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900igr.net/datai/biologija/Griby-v-lesu/0006-010-Sedobnye-griby.jpg"/>
          <p:cNvPicPr/>
          <p:nvPr/>
        </p:nvPicPr>
        <p:blipFill>
          <a:blip r:embed="rId1"/>
          <a:stretch/>
        </p:blipFill>
        <p:spPr>
          <a:xfrm>
            <a:off x="1763640" y="907920"/>
            <a:ext cx="5680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овитые гри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900igr.net/datai/biologija/Griby-v-lesu/0017-022-JAdovitye-griby.jpg"/>
          <p:cNvPicPr/>
          <p:nvPr/>
        </p:nvPicPr>
        <p:blipFill>
          <a:blip r:embed="rId1"/>
          <a:stretch/>
        </p:blipFill>
        <p:spPr>
          <a:xfrm>
            <a:off x="1547640" y="836640"/>
            <a:ext cx="6137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3T14:51:55Z</dcterms:created>
  <dc:creator>Ленчик</dc:creator>
  <dc:description/>
  <dc:language>en-US</dc:language>
  <cp:lastModifiedBy>Windows User</cp:lastModifiedBy>
  <dcterms:modified xsi:type="dcterms:W3CDTF">2020-09-13T16:40:17Z</dcterms:modified>
  <cp:revision>10</cp:revision>
  <dc:subject/>
  <dc:title>Дары природы:  овощи, фрукты, грибы, ягоды.</dc:title>
</cp:coreProperties>
</file>