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F399-8D22-4A0A-B72B-51723DBB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279-A25B-4665-B386-E4F234D7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095-87F7-4DB1-8CC4-68D83F4E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D56A-8454-43D6-A019-816CA615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9813-D70D-44E3-9278-3FE0A714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0BC2-2DC5-49F4-A4E9-E193C467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46B0-CCA4-4E21-B46D-B18CD252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D74F-7CA5-46FB-96FD-1BFAB738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5C4B-5E57-495A-94CF-53E97B82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BC7B-5DBD-476F-97E3-96BE1390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8AE1-E540-4A4B-A079-BB4934D7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670F-91CF-4C2B-A106-31522D08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0851-6C0F-425E-B341-88D90B69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F837-8E99-4F93-B47D-A525FC5B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F88A-26B0-46CC-908F-DA514E49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8045-8547-45C8-ADA2-5D402D8D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5172-E2E9-4226-BE32-53489513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09E-1F86-4F91-BE55-54B8BD6C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11A5-CFBA-4F39-8884-2A63D098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05EB-AB2F-4C3A-BC3E-29A9F4D8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96E-1841-4EFA-9123-BE3863A9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236C-BE71-42B1-87CC-EC24360B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FB9-9F47-4A11-A60E-B925D2D5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937-7ACC-40A4-B613-B6FF5E91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4D61-4378-490B-914D-5C9E7B47AF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2F74-472D-44CB-8AC2-0A70AE03B10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image" Target="../media/image9.jpeg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4"/>
          <p:cNvSpPr/>
          <p:nvPr/>
        </p:nvSpPr>
        <p:spPr>
          <a:xfrm>
            <a:off x="1403280" y="62064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 Black"/>
              </a:rPr>
              <a:t>Предметно-пространственная 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Arial Black"/>
              </a:rPr>
              <a:t>сред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900000" y="3137040"/>
            <a:ext cx="7488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66"/>
                </a:solidFill>
                <a:latin typeface="Arial Black"/>
              </a:rPr>
              <a:t>Тема недел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66"/>
                </a:solidFill>
                <a:latin typeface="Times New Roman"/>
              </a:rPr>
              <a:t>«Наша Армия сильна, побеждает всех он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11" descr="images"/>
          <p:cNvPicPr/>
          <p:nvPr/>
        </p:nvPicPr>
        <p:blipFill>
          <a:blip r:embed="rId1"/>
          <a:stretch/>
        </p:blipFill>
        <p:spPr>
          <a:xfrm>
            <a:off x="6588000" y="44370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3"/>
          <p:cNvSpPr/>
          <p:nvPr/>
        </p:nvSpPr>
        <p:spPr>
          <a:xfrm>
            <a:off x="2340000" y="54936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66"/>
                </a:solidFill>
                <a:latin typeface="Arial Black"/>
              </a:rPr>
              <a:t>Книжный цент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5148360" y="2924280"/>
            <a:ext cx="3240000" cy="338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20190219_073542"/>
          <p:cNvPicPr/>
          <p:nvPr/>
        </p:nvPicPr>
        <p:blipFill>
          <a:blip r:embed="rId2"/>
          <a:stretch/>
        </p:blipFill>
        <p:spPr>
          <a:xfrm>
            <a:off x="468360" y="1484280"/>
            <a:ext cx="386568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5"/>
          <p:cNvSpPr/>
          <p:nvPr/>
        </p:nvSpPr>
        <p:spPr>
          <a:xfrm>
            <a:off x="971640" y="33336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66"/>
                </a:solidFill>
                <a:latin typeface="Arial Black"/>
              </a:rPr>
              <a:t>Познавательный цент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176720" cy="3549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20190219_073527"/>
          <p:cNvPicPr/>
          <p:nvPr/>
        </p:nvPicPr>
        <p:blipFill>
          <a:blip r:embed="rId2"/>
          <a:stretch/>
        </p:blipFill>
        <p:spPr>
          <a:xfrm>
            <a:off x="4932360" y="3645000"/>
            <a:ext cx="390060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7"/>
          <p:cNvSpPr txBox="1"/>
          <p:nvPr/>
        </p:nvSpPr>
        <p:spPr>
          <a:xfrm rot="5400000">
            <a:off x="18360" y="996840"/>
            <a:ext cx="3097440" cy="1623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1187280" y="47628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66"/>
                </a:solidFill>
                <a:latin typeface="Arial Black"/>
              </a:rPr>
              <a:t>Центр творчеств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6" descr="20190219_073455"/>
          <p:cNvPicPr/>
          <p:nvPr/>
        </p:nvPicPr>
        <p:blipFill>
          <a:blip r:embed="rId15"/>
          <a:stretch/>
        </p:blipFill>
        <p:spPr>
          <a:xfrm>
            <a:off x="468360" y="1125360"/>
            <a:ext cx="2292480" cy="3057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20190219_073838"/>
          <p:cNvPicPr/>
          <p:nvPr/>
        </p:nvPicPr>
        <p:blipFill>
          <a:blip r:embed="rId16"/>
          <a:stretch/>
        </p:blipFill>
        <p:spPr>
          <a:xfrm>
            <a:off x="6443640" y="3500280"/>
            <a:ext cx="2295720" cy="3060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17"/>
          <a:stretch/>
        </p:blipFill>
        <p:spPr>
          <a:xfrm>
            <a:off x="1187280" y="4221000"/>
            <a:ext cx="270036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18"/>
          <a:stretch/>
        </p:blipFill>
        <p:spPr>
          <a:xfrm>
            <a:off x="3419640" y="1557360"/>
            <a:ext cx="280800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5"/>
          <p:cNvSpPr/>
          <p:nvPr/>
        </p:nvSpPr>
        <p:spPr>
          <a:xfrm>
            <a:off x="826920" y="6922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b050"/>
                </a:solidFill>
                <a:latin typeface="Arial Black"/>
              </a:rPr>
              <a:t>Центр  конструирова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2160720" cy="246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6732720" y="1628640"/>
            <a:ext cx="1942920" cy="203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Documents and Settings\Admin\Рабочий стол\Дети гр. Солнышко\1578621688717.jpg"/>
          <p:cNvPicPr/>
          <p:nvPr/>
        </p:nvPicPr>
        <p:blipFill>
          <a:blip r:embed="rId3"/>
          <a:stretch/>
        </p:blipFill>
        <p:spPr>
          <a:xfrm>
            <a:off x="3780000" y="1557360"/>
            <a:ext cx="2311200" cy="2735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Documents and Settings\Admin\Рабочий стол\Дети гр. Солнышко\1578621277366.jpg"/>
          <p:cNvPicPr/>
          <p:nvPr/>
        </p:nvPicPr>
        <p:blipFill>
          <a:blip r:embed="rId4"/>
          <a:stretch/>
        </p:blipFill>
        <p:spPr>
          <a:xfrm>
            <a:off x="1403280" y="4221000"/>
            <a:ext cx="1944720" cy="208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C:\Documents and Settings\Admin\Рабочий стол\Дети гр. Солнышко\1578621373153.jpg"/>
          <p:cNvPicPr/>
          <p:nvPr/>
        </p:nvPicPr>
        <p:blipFill>
          <a:blip r:embed="rId5"/>
          <a:stretch/>
        </p:blipFill>
        <p:spPr>
          <a:xfrm>
            <a:off x="5580000" y="4365720"/>
            <a:ext cx="1944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8"/>
          <p:cNvSpPr txBox="1"/>
          <p:nvPr/>
        </p:nvSpPr>
        <p:spPr>
          <a:xfrm>
            <a:off x="468360" y="260280"/>
            <a:ext cx="7991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" name="Picture 4" descr="C:\Documents and Settings\Admin\Рабочий стол\Camera\IMG_20200217_075310.jpg"/>
          <p:cNvPicPr/>
          <p:nvPr/>
        </p:nvPicPr>
        <p:blipFill>
          <a:blip r:embed="rId1"/>
          <a:stretch/>
        </p:blipFill>
        <p:spPr>
          <a:xfrm>
            <a:off x="250920" y="2133720"/>
            <a:ext cx="4537080" cy="3462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5364000" y="4076640"/>
            <a:ext cx="3383280" cy="25812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539640" y="549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50"/>
                </a:solidFill>
                <a:latin typeface="Arial Black"/>
              </a:rPr>
              <a:t>Выставка  «День Защитника Отечеств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6" descr="G:\Дети гр. Солнышко\фото З.К\DSC01830.JPG"/>
          <p:cNvPicPr/>
          <p:nvPr/>
        </p:nvPicPr>
        <p:blipFill>
          <a:blip r:embed="rId3"/>
          <a:stretch/>
        </p:blipFill>
        <p:spPr>
          <a:xfrm>
            <a:off x="5651640" y="1773360"/>
            <a:ext cx="295092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5:20:53Z</dcterms:created>
  <dc:creator>USER</dc:creator>
  <dc:description/>
  <dc:language>en-US</dc:language>
  <cp:lastModifiedBy>Мама</cp:lastModifiedBy>
  <dcterms:modified xsi:type="dcterms:W3CDTF">2020-09-13T13:45:25Z</dcterms:modified>
  <cp:revision>17</cp:revision>
  <dc:subject/>
  <dc:title>Слайд 1</dc:title>
</cp:coreProperties>
</file>