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BAA-CA85-4D9B-82BD-B00D5786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D7E-660F-447C-9212-131FADC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09F-4A02-4DC7-A22C-4163D38B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938-4399-4841-9FF2-7F677BC0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312E-DB51-416B-97F4-DA55A53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9E42-F7F8-4213-8649-71C77DE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77D-A84B-43BA-B28B-33FE1249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F7AD-A427-40B4-BDBA-85E4593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2D30-9101-481C-B965-A20581B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54F-8E6A-4F8A-BFBC-572558B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C4C-7E9B-4DDE-9143-709FC6E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FCE-BF55-4319-990D-0C211C2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055-5427-4EBD-B1FD-239059D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02E-77F9-4EE3-A181-4C80128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823-F5D0-4973-9E72-655DB424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861F-EFD6-4538-B095-61169B9C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B27-22E2-478D-8C0F-31071CAD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E5D-709D-415F-8F5F-CD042CC7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A15-593A-484E-9FF1-CC9AC97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C4B-EC35-4A7A-88E5-8EFBB25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E29-BD1B-499C-851B-0CB0A51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60B-5C48-448D-BCBD-509BFAA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B86-6AE1-4ACD-89E2-539F08D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665-985A-49AE-ADF8-D8BCCEB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77C3-8D0A-429A-8FFC-39CA2B0A8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5A7D-D589-4ABE-BE6D-C9FE52958C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1403280" y="62064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Предметно-пространственная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сре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900000" y="3137040"/>
            <a:ext cx="748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66"/>
                </a:solidFill>
                <a:latin typeface="Arial Black"/>
              </a:rPr>
              <a:t>Тема неде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66"/>
                </a:solidFill>
                <a:latin typeface="Times New Roman"/>
              </a:rPr>
              <a:t>«Наша Армия сильна, побеждает всех он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1" descr="images"/>
          <p:cNvPicPr/>
          <p:nvPr/>
        </p:nvPicPr>
        <p:blipFill>
          <a:blip r:embed="rId1"/>
          <a:stretch/>
        </p:blipFill>
        <p:spPr>
          <a:xfrm>
            <a:off x="6588000" y="4437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2340000" y="549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Книжный цен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240000" cy="33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20190219_073542"/>
          <p:cNvPicPr/>
          <p:nvPr/>
        </p:nvPicPr>
        <p:blipFill>
          <a:blip r:embed="rId2"/>
          <a:stretch/>
        </p:blipFill>
        <p:spPr>
          <a:xfrm>
            <a:off x="468360" y="1484280"/>
            <a:ext cx="38656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5"/>
          <p:cNvSpPr/>
          <p:nvPr/>
        </p:nvSpPr>
        <p:spPr>
          <a:xfrm>
            <a:off x="971640" y="333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Познавательный цен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76720" cy="3549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0190219_073527"/>
          <p:cNvPicPr/>
          <p:nvPr/>
        </p:nvPicPr>
        <p:blipFill>
          <a:blip r:embed="rId2"/>
          <a:stretch/>
        </p:blipFill>
        <p:spPr>
          <a:xfrm>
            <a:off x="4932360" y="3645000"/>
            <a:ext cx="39006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7"/>
          <p:cNvSpPr txBox="1"/>
          <p:nvPr/>
        </p:nvSpPr>
        <p:spPr>
          <a:xfrm rot="5400000">
            <a:off x="18360" y="996840"/>
            <a:ext cx="3097440" cy="16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1187280" y="47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c66"/>
                </a:solidFill>
                <a:latin typeface="Arial Black"/>
              </a:rPr>
              <a:t>Центр творчест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20190219_073455"/>
          <p:cNvPicPr/>
          <p:nvPr/>
        </p:nvPicPr>
        <p:blipFill>
          <a:blip r:embed="rId15"/>
          <a:stretch/>
        </p:blipFill>
        <p:spPr>
          <a:xfrm>
            <a:off x="468360" y="1125360"/>
            <a:ext cx="2292480" cy="30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0190219_073838"/>
          <p:cNvPicPr/>
          <p:nvPr/>
        </p:nvPicPr>
        <p:blipFill>
          <a:blip r:embed="rId16"/>
          <a:stretch/>
        </p:blipFill>
        <p:spPr>
          <a:xfrm>
            <a:off x="6443640" y="350028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17"/>
          <a:stretch/>
        </p:blipFill>
        <p:spPr>
          <a:xfrm>
            <a:off x="1187280" y="4221000"/>
            <a:ext cx="27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18"/>
          <a:stretch/>
        </p:blipFill>
        <p:spPr>
          <a:xfrm>
            <a:off x="3419640" y="1557360"/>
            <a:ext cx="2808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826920" y="692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Arial Black"/>
              </a:rPr>
              <a:t>Центр  констру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16072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6732720" y="1628640"/>
            <a:ext cx="1942920" cy="203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dmin\Рабочий стол\Дети гр. Солнышко\1578621688717.jpg"/>
          <p:cNvPicPr/>
          <p:nvPr/>
        </p:nvPicPr>
        <p:blipFill>
          <a:blip r:embed="rId3"/>
          <a:stretch/>
        </p:blipFill>
        <p:spPr>
          <a:xfrm>
            <a:off x="3780000" y="1557360"/>
            <a:ext cx="231120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Admin\Рабочий стол\Дети гр. Солнышко\1578621277366.jpg"/>
          <p:cNvPicPr/>
          <p:nvPr/>
        </p:nvPicPr>
        <p:blipFill>
          <a:blip r:embed="rId4"/>
          <a:stretch/>
        </p:blipFill>
        <p:spPr>
          <a:xfrm>
            <a:off x="1403280" y="4221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Documents and Settings\Admin\Рабочий стол\Дети гр. Солнышко\1578621373153.jpg"/>
          <p:cNvPicPr/>
          <p:nvPr/>
        </p:nvPicPr>
        <p:blipFill>
          <a:blip r:embed="rId5"/>
          <a:stretch/>
        </p:blipFill>
        <p:spPr>
          <a:xfrm>
            <a:off x="5580000" y="4365720"/>
            <a:ext cx="194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8"/>
          <p:cNvSpPr txBox="1"/>
          <p:nvPr/>
        </p:nvSpPr>
        <p:spPr>
          <a:xfrm>
            <a:off x="468360" y="260280"/>
            <a:ext cx="7991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4" descr="C:\Documents and Settings\Admin\Рабочий стол\Camera\IMG_20200217_075310.jpg"/>
          <p:cNvPicPr/>
          <p:nvPr/>
        </p:nvPicPr>
        <p:blipFill>
          <a:blip r:embed="rId1"/>
          <a:stretch/>
        </p:blipFill>
        <p:spPr>
          <a:xfrm>
            <a:off x="250920" y="2133720"/>
            <a:ext cx="4537080" cy="34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383280" cy="25812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539640" y="5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</a:rPr>
              <a:t>Выставка  «День Защитника Отечеств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G:\Дети гр. Солнышко\фото З.К\DSC01830.JPG"/>
          <p:cNvPicPr/>
          <p:nvPr/>
        </p:nvPicPr>
        <p:blipFill>
          <a:blip r:embed="rId3"/>
          <a:stretch/>
        </p:blipFill>
        <p:spPr>
          <a:xfrm>
            <a:off x="5651640" y="1773360"/>
            <a:ext cx="2950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5:20:53Z</dcterms:created>
  <dc:creator>USER</dc:creator>
  <dc:description/>
  <dc:language>en-US</dc:language>
  <cp:lastModifiedBy>Мама</cp:lastModifiedBy>
  <dcterms:modified xsi:type="dcterms:W3CDTF">2020-09-13T13:45:25Z</dcterms:modified>
  <cp:revision>17</cp:revision>
  <dc:subject/>
  <dc:title>Слайд 1</dc:title>
</cp:coreProperties>
</file>