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elephant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2C2-36C3-43B5-8043-10F0FDAF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6CB-1CA2-4691-83AF-40FE65CF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E88-D035-434F-9964-42C0108B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53A-227E-4065-A962-FFD61F5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850-11C7-4621-9262-0E3E0C23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67A-FCE1-4159-B75B-F3A92162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C4B-D6DB-44AF-B3C8-240AA70B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89F-4DE6-463F-B1CD-67A4AE80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172-9E37-4F5F-A7B7-91F9F79E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C70-712F-42D4-9176-D68780F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672-7666-4ECB-A4A4-1136343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307-1133-4879-85B8-B0AA966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7DB-A012-4257-BF8E-7FCFD6ED2F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elephant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source.org/wiki/&#1069;&#1057;&#1041;&#1045;/&#1057;&#1083;&#1086;&#1085;&#1099;" TargetMode="External"/><Relationship Id="rId2" Type="http://schemas.openxmlformats.org/officeDocument/2006/relationships/hyperlink" Target="http://ru.wikipedia.org/wiki/&#1069;&#1085;&#1094;&#1080;&#1082;&#1083;&#1086;&#1087;&#1077;&#1076;&#1080;&#1095;&#1077;&#1089;&#1082;&#1080;&#1081;_&#1089;&#1083;&#1086;&#1074;&#1072;&#1088;&#1100;_&#1041;&#1088;&#1086;&#1082;&#1075;&#1072;&#1091;&#1079;&#1072;_&#1080;_&#1045;&#1092;&#1088;&#1086;&#1085;&#1072;" TargetMode="External"/><Relationship Id="rId3" Type="http://schemas.openxmlformats.org/officeDocument/2006/relationships/hyperlink" Target="http://ru.wikipedia.org/wiki/&#1057;&#1083;&#1091;&#1078;&#1077;&#1073;&#1085;&#1072;&#1103;:&#1048;&#1089;&#1090;&#1086;&#1095;&#1085;&#1080;&#1082;&#1080;_&#1082;&#1085;&#1080;&#1075;/0875961436" TargetMode="External"/><Relationship Id="rId4" Type="http://schemas.openxmlformats.org/officeDocument/2006/relationships/hyperlink" Target="http://ru.wikipedia.org/wiki/&#1057;&#1083;&#1086;&#1085;&#1099;#cite_ref-name_1-0" TargetMode="External"/><Relationship Id="rId5" Type="http://schemas.openxmlformats.org/officeDocument/2006/relationships/hyperlink" Target="http://ru.wikipedia.org/wiki/&#1057;&#1083;&#1086;&#1085;&#1099;#cite_ref-20" TargetMode="External"/><Relationship Id="rId6" Type="http://schemas.openxmlformats.org/officeDocument/2006/relationships/hyperlink" Target="http://www.bucknell.edu/msw3/browse.asp?id=11500002" TargetMode="External"/><Relationship Id="rId7" Type="http://schemas.openxmlformats.org/officeDocument/2006/relationships/hyperlink" Target="http://ru.wikipedia.org/wiki/Mammal_Species_of_the_World" TargetMode="External"/><Relationship Id="rId8" Type="http://schemas.openxmlformats.org/officeDocument/2006/relationships/hyperlink" Target="http://ru.wikipedia.org/wiki/&#1057;&#1083;&#1091;&#1078;&#1077;&#1073;&#1085;&#1072;&#1103;:&#1048;&#1089;&#1090;&#1086;&#1095;&#1085;&#1080;&#1082;&#1080;_&#1082;&#1085;&#1080;&#1075;/9780801882210" TargetMode="External"/><Relationship Id="rId9" Type="http://schemas.openxmlformats.org/officeDocument/2006/relationships/hyperlink" Target="http://www.google.com/books?id=JgAMbNSt8ikC&amp;printsec=frontcover&amp;hl=ru" TargetMode="External"/><Relationship Id="rId10" Type="http://schemas.openxmlformats.org/officeDocument/2006/relationships/hyperlink" Target="http://ru.wikipedia.org/wiki/&#1057;&#1083;&#1086;&#1085;&#1099;#cite_ref-.D0.B2_21-0" TargetMode="External"/><Relationship Id="rId11" Type="http://schemas.openxmlformats.org/officeDocument/2006/relationships/hyperlink" Target="http://zmmu.msu.ru/personal/pavlinov/mam_world/paenung.htm" TargetMode="External"/><Relationship Id="rId12" Type="http://schemas.openxmlformats.org/officeDocument/2006/relationships/hyperlink" Target="http://zmmu.msu.ru/personal/pavlinov/mam_world/paenung.htm" TargetMode="External"/><Relationship Id="rId13" Type="http://schemas.openxmlformats.org/officeDocument/2006/relationships/hyperlink" Target="http://ru.wikipedia.org/wiki/&#1057;&#1083;&#1086;&#1085;&#1099;#cite_ref-.D0.B0_22-0" TargetMode="External"/><Relationship Id="rId14" Type="http://schemas.openxmlformats.org/officeDocument/2006/relationships/hyperlink" Target="http://ru.wikipedia.org/wiki/&#1057;&#1083;&#1086;&#1085;&#1099;#cite_ref-.D0.B0_22-1" TargetMode="External"/><Relationship Id="rId15" Type="http://schemas.openxmlformats.org/officeDocument/2006/relationships/hyperlink" Target="http://paleodb.org/cgi-bin/bridge.pl?a=checkTaxonInfo&amp;taxon_no=43263&amp;is_real_user=1" TargetMode="External"/><Relationship Id="rId16" Type="http://schemas.openxmlformats.org/officeDocument/2006/relationships/hyperlink" Target="http://paleodb.org/cgi-bin/bridge.pl?a=checkTaxonInfo&amp;taxon_no=43263&amp;is_real_user=1" TargetMode="External"/><Relationship Id="rId17" Type="http://schemas.openxmlformats.org/officeDocument/2006/relationships/hyperlink" Target="http://ru.wikipedia.org/wiki/&#1057;&#1083;&#1086;&#1085;&#1099;#cite_ref-.D0.B1_23-0" TargetMode="External"/><Relationship Id="rId18" Type="http://schemas.openxmlformats.org/officeDocument/2006/relationships/hyperlink" Target="http://paleodb.org/cgi-bin/bridge.pl?a=checkTaxonInfo&amp;taxon_no=43264&amp;is_real_user=1" TargetMode="External"/><Relationship Id="rId19" Type="http://schemas.openxmlformats.org/officeDocument/2006/relationships/hyperlink" Target="http://paleodb.org/cgi-bin/bridge.pl?a=checkTaxonInfo&amp;taxon_no=43264&amp;is_real_user=1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363" t="3130" r="8272" b="11654"/>
          <a:stretch/>
        </p:blipFill>
        <p:spPr>
          <a:xfrm>
            <a:off x="4809960" y="428760"/>
            <a:ext cx="4786560" cy="58989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960" y="428400"/>
            <a:ext cx="4219920" cy="15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СЛ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37960" y="2143080"/>
            <a:ext cx="42498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винкина О.С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ОУ «Детский сад №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2440" y="196920"/>
            <a:ext cx="982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ычно слоны передвигаются шагом, но умеют они и бегать, и плавать. А вот прыгать слоны не мог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Documents and Settings\vo\Desktop\africa15.jpg"/>
          <p:cNvPicPr/>
          <p:nvPr/>
        </p:nvPicPr>
        <p:blipFill>
          <a:blip r:embed="rId1"/>
          <a:srcRect l="3797" t="4289" r="3797" b="4616"/>
          <a:stretch/>
        </p:blipFill>
        <p:spPr>
          <a:xfrm>
            <a:off x="577800" y="1295280"/>
            <a:ext cx="8750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64880" y="151920"/>
            <a:ext cx="95756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ы живут стада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7960" y="1125360"/>
            <a:ext cx="889020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099200" y="76320"/>
            <a:ext cx="280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аде обычно 9 – 12 животных из одной семьи. Во главе стада – самая старшая сам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vo\Desktop\Afrikanische_Elefanten_(Loxodonta_africana).jpg"/>
          <p:cNvPicPr/>
          <p:nvPr/>
        </p:nvPicPr>
        <p:blipFill>
          <a:blip r:embed="rId1"/>
          <a:stretch/>
        </p:blipFill>
        <p:spPr>
          <a:xfrm>
            <a:off x="165240" y="152280"/>
            <a:ext cx="6769080" cy="4656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82440" y="5394240"/>
            <a:ext cx="982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решает когда стаду кормиться, когда отдыхать или куп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52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ныш слона называется слоненок. Слониха кормит слоненка молоком до 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vo\Desktop\664px-H20elebaby.jpg"/>
          <p:cNvPicPr/>
          <p:nvPr/>
        </p:nvPicPr>
        <p:blipFill>
          <a:blip r:embed="rId1"/>
          <a:srcRect l="0" t="0" r="0" b="5334"/>
          <a:stretch/>
        </p:blipFill>
        <p:spPr>
          <a:xfrm>
            <a:off x="1403280" y="1219320"/>
            <a:ext cx="6851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5240" y="228600"/>
            <a:ext cx="53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два вида слонов – индийские и африкан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Documents and Settings\vo\Desktop\10000328.JPG"/>
          <p:cNvPicPr/>
          <p:nvPr/>
        </p:nvPicPr>
        <p:blipFill>
          <a:blip r:embed="rId1"/>
          <a:stretch/>
        </p:blipFill>
        <p:spPr>
          <a:xfrm>
            <a:off x="5564160" y="152280"/>
            <a:ext cx="4176720" cy="518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vo\Desktop\90000409.JPG"/>
          <p:cNvPicPr/>
          <p:nvPr/>
        </p:nvPicPr>
        <p:blipFill>
          <a:blip r:embed="rId2"/>
          <a:stretch/>
        </p:blipFill>
        <p:spPr>
          <a:xfrm>
            <a:off x="165240" y="2932200"/>
            <a:ext cx="52005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ЙСКИЙ 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Documents and Settings\vo\Desktop\800px-Working_Elephant_Vietnam.jpg"/>
          <p:cNvPicPr/>
          <p:nvPr/>
        </p:nvPicPr>
        <p:blipFill>
          <a:blip r:embed="rId1"/>
          <a:stretch/>
        </p:blipFill>
        <p:spPr>
          <a:xfrm>
            <a:off x="1073160" y="1219320"/>
            <a:ext cx="78422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7960" y="259920"/>
            <a:ext cx="89028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тает в джунглях Индии и Индокита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6948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75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слон хорошо приручается, поэтому у себя на родине активно используется в хозяйстве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Documents and Settings\vo\Desktop\800px-ElephantTrainingCamp.jpg"/>
          <p:cNvPicPr/>
          <p:nvPr/>
        </p:nvPicPr>
        <p:blipFill>
          <a:blip r:embed="rId1"/>
          <a:stretch/>
        </p:blipFill>
        <p:spPr>
          <a:xfrm>
            <a:off x="577800" y="1274760"/>
            <a:ext cx="8915400" cy="55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  <a:ea typeface="굴림"/>
              </a:rPr>
              <a:t>АФРИКАНСКИЙ 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981080" y="1212840"/>
            <a:ext cx="601668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12680"/>
            <a:ext cx="990612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ии от индийского, африканский слон крупнее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8244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детей со слоном, как с одним из представителей африканской фау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12680"/>
            <a:ext cx="99061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почти не возможно приру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vo\Desktop\an_slon.jpg"/>
          <p:cNvPicPr/>
          <p:nvPr/>
        </p:nvPicPr>
        <p:blipFill>
          <a:blip r:embed="rId1"/>
          <a:stretch/>
        </p:blipFill>
        <p:spPr>
          <a:xfrm>
            <a:off x="1981080" y="1371600"/>
            <a:ext cx="579924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2920" y="304560"/>
            <a:ext cx="404496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ую часть жизни слоны проводят стоя и в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952880" y="0"/>
            <a:ext cx="495324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0" y="3079800"/>
            <a:ext cx="544824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6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жаркое время суток слоны, как и другие животные, предпочитают отдых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4280" y="1268280"/>
            <a:ext cx="873756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я у слонов нет врагов в дикой природе, они занесены в Международную Красную книгу и являются охраняемыми живот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vo\Desktop\African_Elephants_in_Kenya.jpg"/>
          <p:cNvPicPr/>
          <p:nvPr/>
        </p:nvPicPr>
        <p:blipFill>
          <a:blip r:embed="rId1"/>
          <a:stretch/>
        </p:blipFill>
        <p:spPr>
          <a:xfrm>
            <a:off x="990720" y="13716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457200"/>
            <a:ext cx="990612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ло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//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нциклопедический словарь Брокгауза и Ефро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 86 томах (82 т. и 4 доп.). — СПб., 1890—19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ephants: Majestic Creatures of the Wild / Shoshani, J.. — Checkmark Books, 2000. —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SBN 0-87596-14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hoshani, J.; Shoshani, S. L . — P. 14–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ов В. П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нимательная биоакуст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зд. 2-е, доп., перераб. — М.: Знание, 1987. — 208 с. + 32 с. вкл. — С. 54—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lephantida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son D. E. &amp; Reeder D. M. (editors). 2005.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ammal Species of the Wor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 Taxonomic and Geographic Reference (3rd ed.). — Baltimore: Johns Hopkins University Press, 2 vols. (2142 pp.)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SBN 978-0-8018-8221-0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Отряд Хоботные —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roboscid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//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влинов И. Я. Систематика современных млекопитающих. — М.: изд-во МГУ, 2003. — 29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↑ </a:t>
            </a:r>
            <a:r>
              <a:rPr b="0" lang="ru-RU" sz="1400" spc="-1" strike="noStrike" u="sng" baseline="30000">
                <a:solidFill>
                  <a:srgbClr val="009999"/>
                </a:solidFill>
                <a:uFillTx/>
                <a:latin typeface="Arial"/>
                <a:hlinkClick r:id="rId13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 u="sng" baseline="30000">
                <a:solidFill>
                  <a:srgbClr val="009999"/>
                </a:solidFill>
                <a:uFillTx/>
                <a:latin typeface="Arial"/>
                <a:hlinkClick r:id="rId14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he Paleobiology Database: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lephan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he Paleobiology Database: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lep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итаются сло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↑ 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м. М. Фасмер. Этимологический словарь русского языка, 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. 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очная служба «Грамоты.р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oking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522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ны – самые крупные наземные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vo\Desktop\3469.jpg"/>
          <p:cNvPicPr/>
          <p:nvPr/>
        </p:nvPicPr>
        <p:blipFill>
          <a:blip r:embed="rId1"/>
          <a:stretch/>
        </p:blipFill>
        <p:spPr>
          <a:xfrm>
            <a:off x="660240" y="1447920"/>
            <a:ext cx="850284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9906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а сразу можно узнать по его носу, который называется хобо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1440" y="1341360"/>
            <a:ext cx="939960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440" y="228240"/>
            <a:ext cx="4540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 помощью хобота слон дышит, нюхает, рвет ветки, поднимает предме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56520" y="3962160"/>
            <a:ext cx="354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а также пьет воду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издает трубящие зву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2990880"/>
            <a:ext cx="6318360" cy="386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746600" y="0"/>
            <a:ext cx="51595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6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 съедает до 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0 кг травы, веток и другого растительного корма в день. Кроме этого, каждый день он выпивает около 180 л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442880" y="1703520"/>
            <a:ext cx="721548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3440" y="75960"/>
            <a:ext cx="905976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Изо рта у слона торчат два огромных зуба, которые называются бивня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19000" y="1413000"/>
            <a:ext cx="82677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12320"/>
            <a:ext cx="99061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Чтобы не перегреться в сильную жару, слоны расправляют уши 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ахиваются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и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41240" y="1413000"/>
            <a:ext cx="8504280" cy="52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09440" y="88920"/>
            <a:ext cx="6164280" cy="3797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6356520" y="304920"/>
            <a:ext cx="354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Еще о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част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ливают себя водой 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обсыпают пыл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4114800"/>
            <a:ext cx="470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Так он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только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ухаживают за своей коже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покрывая ее защитным слоем гряз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защищают себя от укусов насекомых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Documents and Settings\vo\Desktop\65209929.JPG"/>
          <p:cNvPicPr/>
          <p:nvPr/>
        </p:nvPicPr>
        <p:blipFill>
          <a:blip r:embed="rId2"/>
          <a:stretch/>
        </p:blipFill>
        <p:spPr>
          <a:xfrm>
            <a:off x="4705200" y="3657600"/>
            <a:ext cx="51739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8:08:50Z</dcterms:created>
  <dc:creator>Jose Gustavo Piñedo</dc:creator>
  <dc:description/>
  <dc:language>en-US</dc:language>
  <cp:lastModifiedBy>user</cp:lastModifiedBy>
  <dcterms:modified xsi:type="dcterms:W3CDTF">2020-09-13T10:10:59Z</dcterms:modified>
  <cp:revision>7</cp:revision>
  <dc:subject/>
  <dc:title>Diapositiva 1</dc:title>
</cp:coreProperties>
</file>