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6D99-BDDB-4BAB-84DB-EE12D13F48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7FA5-5240-46A6-AE07-24391F8F82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0C7F-76FF-4E29-AB6F-5DEB22A8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CC50-550F-4EBC-855C-B69E4861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81F2-FB34-4656-B6C4-5A2AF657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FC38-B115-40EA-A8A4-B420222A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9B77-B850-4BF5-84B1-0A8FE61A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CEAB-495F-4A0F-9C24-B96B98B8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600D-49B6-41C2-885B-62DABC54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4640-FD59-4B68-8CEF-7FF772EC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E95F-FC61-4FDD-95BD-8FAF1E04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9C31-40E7-4084-966A-D690D431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2DFC-C808-43E3-AF51-026705A0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9B6D-F1F3-49FB-BD80-6E84971A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9C15-8AD2-4192-93A5-6E2B3630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EB24-6CAD-4CFF-92E7-E393F9AC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D183-7896-4018-A2BF-5E6CAD74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50BC-B4A8-4E28-B063-7FB1676D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8591-B530-4842-AB54-E9C83DB4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AE75-7347-4ADB-AF15-82233975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427D-A269-498B-8933-077E3F8B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7CCC-20A5-4D94-8652-F440B811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F689-B5D9-4992-9522-C8379553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F6B2-421B-45CB-89F5-D1189910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5FE-A762-4B21-8AA6-5862F006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004-170F-4E78-8005-F36A571A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56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57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58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59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60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62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63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64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65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66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67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68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69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70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71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72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73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74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75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76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77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78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79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80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81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82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83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84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85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86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87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88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89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90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91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92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93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94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95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96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97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98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99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00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01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102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03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72a3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db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72a3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db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b0ccb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b0ccb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b0ccb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b0cc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0363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293C-1A2C-4CB1-BDB6-E4690513A9E7}" type="slidenum">
              <a:rPr b="0" lang="ru-RU" sz="1400" spc="-1" strike="noStrike">
                <a:solidFill>
                  <a:srgbClr val="90363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3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72a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5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6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8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9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0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1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2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3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4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5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6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19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20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23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24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25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26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27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28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29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30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31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32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33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34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35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36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37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38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39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40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41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42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43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44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45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46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47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48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49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50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51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52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53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55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56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57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58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59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60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61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62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63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64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65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66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67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68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69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70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71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72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73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74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75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76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77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78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79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80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81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82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83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84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85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86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87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88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89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90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91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92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93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94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95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96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97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98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99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100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01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102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Rectangle 108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db5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0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db5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b0ccb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b0ccb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b0ccb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b0cc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0363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9789-2DDD-416A-8718-B9E30444EFBF}" type="slidenum">
              <a:rPr b="0" lang="ru-RU" sz="1400" spc="-1" strike="noStrike">
                <a:solidFill>
                  <a:srgbClr val="90363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838080" y="2133360"/>
            <a:ext cx="7958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ВРЕМЕННЫЕ ПЕДАГОГИЧЕСК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ХНОЛОГИИ ФОРМИРОВ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НИВЕРСАЛЬНЫХ УЧЕБНЫХ ДЕЙСТВИЙ  НА УРОКА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УССКОГО ЯЗЫКА И ЛИТЕРА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ванова И.Л.,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1"/>
          <a:stretch/>
        </p:blipFill>
        <p:spPr>
          <a:xfrm>
            <a:off x="5553000" y="152280"/>
            <a:ext cx="3591000" cy="12193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ятивные универсальные учебные действия</a:t>
            </a:r>
            <a:endParaRPr b="0" lang="en-US" sz="2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85440" y="2209680"/>
            <a:ext cx="25909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еполаг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ан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гноз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276360" y="2209320"/>
            <a:ext cx="5491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иск ответа на вопрос «Для чего необходимо знать (уметь)?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Как это делать?», «Что и как нужно было сделать, чтобы получился правильный результат?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Как думаешь, какой результат может получиться?», «Как думаешь, достаточно знать… для выполнения задания?», «Какие трудности могут возникнуть и почему?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Одноклассник сказал… Проверь: прав ли он?», «Такой ли получен результат, как в образце?», «Правильно ли это делается?», «Сможешь доказать?», «Поменяйтесь тетрадями, проверьте друг у друга», «Проверь по словарю…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ятивные универсальные учебные действ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умение организовывать свою деятельность и работать с информацией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809280" y="2209320"/>
            <a:ext cx="2390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ценка и самооцен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морегуля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505320" y="2285640"/>
            <a:ext cx="5262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Установи правильный порядок предложений в тексте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Оцени свою работу на уроке», «Мне понравилось…», «Я хочу похвалить себя (или одноклассников) за то…», «Мне было интересно», «Мне показалось важным…», «Для меня было открытием…», «Сегодня мне было трудно…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Ты сможешь прочитать зашифрованное слово (дойти до вершины горы), выполнив ряд заданий»), тренинговые упражнения психологического характе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ятивные универсальные учебные действия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умение организовывать свою деятельность и работать с информацией)</a:t>
            </a:r>
            <a:endParaRPr b="0" lang="en-US" sz="2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иды зад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Преднамеренные ошибк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иск информации в предложенных  источни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контр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ный дикт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трольный опро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9360">
            <a:solidFill>
              <a:srgbClr val="72a37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овые задачи по формированию регулятивных УУД. Русский язык</a:t>
            </a:r>
            <a:endParaRPr b="0" lang="en-US" sz="3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дан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Выбрать цель урока из предложенных фраз». 5 клас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: формирование умения определять цель урока по теме уро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 урока «Неопределенная форма глагол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ери из предложенных фраз ту, которая, на твой взгляд, является целью нашего урок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Дать определение глагол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Мне нравится искать глаголы в текс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Научиться определять глаголы неопределенной формы, запомнить, какие окончания может иметь неопределенная фор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иповые задачи по формированию регулятивных УУД</a:t>
            </a:r>
            <a:endParaRPr b="0" lang="en-US" sz="28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09640" y="2057400"/>
            <a:ext cx="795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ние «Расскажи все, что ты знаешь о данном члене предложения по плану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мы уроков «Подлежащее», «Сказуемое», «Дополнение», «Обстоятельство», «Определение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: развивать умение соотносить полученный результат с образцом, находить и исправлять ошиб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: Расскажи все, что ты знаешь о дополнении (определении, обстоятельстве и т.д.) по план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это такое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обозначает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какой вопрос отвечает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ими частями речи может быть выражено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подчеркивается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е ли верно в вашем рассказе? (дети читают правило в учебник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овые задачи по формированию регулятивных УУД</a:t>
            </a:r>
            <a:endParaRPr b="0" lang="en-US" sz="3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З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дание «Исправь ошибк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мотивации объясняется значение слова «сыщик», объявляется индивидуальное соревнование на звание «Самый лучший сыщик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териал: текст с допущенными орфографическими и пунктуационными ошибками. Условие соревнования: кто быстрее и правильно найдёт все ошибки, тот объявляется победителем. Время засекает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кварец высунулса ис сваего домека. Прикриплённого к виршине сохронённого для токой целе маладого дупка. Паслушал паслушал взмохнул крылями и начял дерско дрознить салавья. Аднако голоз ево был слап, ему нехвотала тех не улавимых отенкав, каторыми прерода адаряет лиш сваих исбраников – генеальных пивц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овые задачи по формированию регулятивных УУД</a:t>
            </a:r>
            <a:endParaRPr b="0" lang="en-US" sz="3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«Повторение изученного в 5-9 классах. Орфоэпия». 10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 «Ток-шоу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 принимаете участие в телевизионном ток-шоу, посвященном проблемам русского языка. В своем выступлении вам необходимо использовать слова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налог, вандал, жалюзи, завсегдатай, зевота, немота, факсимиле, феномен, вероисповедание, мышление, намерение, обеспечение, ознакомление, разное видение одного и того же вопроса, украинский, отроческий, мизерный, красивее, баловать, звони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сставьте ударения, чтобы правильно произнести слова во время выступл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окончания работы проверьте правильность выполнения по словар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авьте себе оценку за качество выполнения задания, исходя из следующих критериев: «5»- не более одной ошибки; «4»-2-4; «3»- 5-6; .«2»-более 6. Сформулируйте свою учебную задач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иповые задачи по формированию регулятивных УУД</a:t>
            </a:r>
            <a:endParaRPr b="0" lang="en-US" sz="28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чинаем изучать тему «Причастие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д учениками ставится вопрос: «Что надо знать и уметь, чтобы успешно справиться с новой темой?» Далее учитель делает полный обзор темы (или, что лучше, ученики просматривают все параграфы темы в учебнике), на основе которого каждый ученик приходит к выводу, что он должен хорошо знать морфологические признаки прилагательного и глагола, уметь определять основу настоящего и прошедшего времени глагола и т.д. и что только при этом условии он может рассчитывать хорошо понять новую тему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едующий этап саморегуляци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ответ на вопрос: Знаю ли я всё необходимое для освоения темы?» Ответ на этот вопрос должен определить дальнейшие действия ученика и меру помощи, которую должен оказать ему учител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иповые задачи по формированию регулятивных УУД</a:t>
            </a:r>
            <a:endParaRPr b="0" lang="en-US" sz="28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ние 2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ставь алгоритм определения вида придаточного предложения« (9 класс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бная дисциплин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сский язы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ма урока: 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ипы придаточных в сложноподчиненном предложении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изучения типов придаточных предложений в составе сложноподчиненного учащимся предлагается составить словесный алгоритм "Как определить вид придаточного предложения?" После общего обсуждения вариантов и определении всех необходимых шагов этот алгоритм предлагается записать в виде логической схемы, затем обсудить схемы в парах и выбрать лучший вариант, применив алгоритмы к группе примеров, предложенных учител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знавательные универсальные учебные действия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умение мыслить и работать с информацией в современном мире)</a:t>
            </a:r>
            <a:endParaRPr b="0" lang="en-US" sz="20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мостоятельно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деление и формулирование познавательной це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иск и выделе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бходимой информации; применение методов информационного поиска, в том числе с помощью компьютерных сред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мение осознанно и произволь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троить речевое высказывание в устной и письменной форм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бор наиболее эффектив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пособов решения задач в зависимости от конкретных услов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флексия способ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условий действия, контроль и оценка процесса и результатов деятельн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Line 35"/>
          <p:cNvSpPr/>
          <p:nvPr/>
        </p:nvSpPr>
        <p:spPr>
          <a:xfrm flipH="1">
            <a:off x="2057040" y="2819520"/>
            <a:ext cx="1066680" cy="685800"/>
          </a:xfrm>
          <a:prstGeom prst="line">
            <a:avLst/>
          </a:prstGeom>
          <a:ln w="108000">
            <a:solidFill>
              <a:srgbClr val="db535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7"/>
          <p:cNvSpPr/>
          <p:nvPr/>
        </p:nvSpPr>
        <p:spPr>
          <a:xfrm>
            <a:off x="6477120" y="2819520"/>
            <a:ext cx="1295280" cy="609480"/>
          </a:xfrm>
          <a:prstGeom prst="line">
            <a:avLst/>
          </a:prstGeom>
          <a:ln w="108000">
            <a:solidFill>
              <a:srgbClr val="db535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1066680" y="5335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бования к результатам освоения основных общеобразовательных пр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_s49188"/>
          <p:cNvGrpSpPr/>
          <p:nvPr/>
        </p:nvGrpSpPr>
        <p:grpSpPr>
          <a:xfrm>
            <a:off x="1530360" y="1944720"/>
            <a:ext cx="6620040" cy="914400"/>
            <a:chOff x="1530360" y="1944720"/>
            <a:chExt cx="6620040" cy="914400"/>
          </a:xfrm>
        </p:grpSpPr>
        <p:pic>
          <p:nvPicPr>
            <p:cNvPr id="304" name="_s49188" descr=""/>
            <p:cNvPicPr/>
            <p:nvPr/>
          </p:nvPicPr>
          <p:blipFill>
            <a:blip r:embed="rId1"/>
            <a:stretch/>
          </p:blipFill>
          <p:spPr>
            <a:xfrm>
              <a:off x="1530360" y="1944720"/>
              <a:ext cx="66200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1700280" y="2081160"/>
              <a:ext cx="62769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ланируемые результаты обучения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_s49189"/>
          <p:cNvGrpSpPr/>
          <p:nvPr/>
        </p:nvGrpSpPr>
        <p:grpSpPr>
          <a:xfrm>
            <a:off x="60480" y="4462560"/>
            <a:ext cx="2774880" cy="1060200"/>
            <a:chOff x="60480" y="4462560"/>
            <a:chExt cx="2774880" cy="1060200"/>
          </a:xfrm>
        </p:grpSpPr>
        <p:pic>
          <p:nvPicPr>
            <p:cNvPr id="307" name="_s49189" descr=""/>
            <p:cNvPicPr/>
            <p:nvPr/>
          </p:nvPicPr>
          <p:blipFill>
            <a:blip r:embed="rId2"/>
            <a:stretch/>
          </p:blipFill>
          <p:spPr>
            <a:xfrm>
              <a:off x="60480" y="4462560"/>
              <a:ext cx="277488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250920" y="4594320"/>
              <a:ext cx="239400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ЕДМЕТ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_s49189"/>
          <p:cNvGrpSpPr/>
          <p:nvPr/>
        </p:nvGrpSpPr>
        <p:grpSpPr>
          <a:xfrm>
            <a:off x="2749680" y="3468600"/>
            <a:ext cx="3717720" cy="1139760"/>
            <a:chOff x="2749680" y="3468600"/>
            <a:chExt cx="3717720" cy="1139760"/>
          </a:xfrm>
        </p:grpSpPr>
        <p:pic>
          <p:nvPicPr>
            <p:cNvPr id="310" name="_s49189" descr=""/>
            <p:cNvPicPr/>
            <p:nvPr/>
          </p:nvPicPr>
          <p:blipFill>
            <a:blip r:embed="rId3"/>
            <a:stretch/>
          </p:blipFill>
          <p:spPr>
            <a:xfrm>
              <a:off x="2749680" y="3468600"/>
              <a:ext cx="37177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2916360" y="3598920"/>
              <a:ext cx="33829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ЕТАПРЕДМЕТ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_s49189"/>
          <p:cNvGrpSpPr/>
          <p:nvPr/>
        </p:nvGrpSpPr>
        <p:grpSpPr>
          <a:xfrm>
            <a:off x="6388200" y="4309920"/>
            <a:ext cx="2841480" cy="1133640"/>
            <a:chOff x="6388200" y="4309920"/>
            <a:chExt cx="2841480" cy="1133640"/>
          </a:xfrm>
        </p:grpSpPr>
        <p:pic>
          <p:nvPicPr>
            <p:cNvPr id="313" name="_s49189" descr=""/>
            <p:cNvPicPr/>
            <p:nvPr/>
          </p:nvPicPr>
          <p:blipFill>
            <a:blip r:embed="rId4"/>
            <a:stretch/>
          </p:blipFill>
          <p:spPr>
            <a:xfrm>
              <a:off x="6388200" y="4309920"/>
              <a:ext cx="284148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575400" y="4441680"/>
              <a:ext cx="247032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ИЧНОСТ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Line 36"/>
          <p:cNvSpPr/>
          <p:nvPr/>
        </p:nvSpPr>
        <p:spPr>
          <a:xfrm>
            <a:off x="4572000" y="2819520"/>
            <a:ext cx="0" cy="685800"/>
          </a:xfrm>
          <a:prstGeom prst="line">
            <a:avLst/>
          </a:prstGeom>
          <a:ln w="108000">
            <a:solidFill>
              <a:srgbClr val="db535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_s49189"/>
          <p:cNvGrpSpPr/>
          <p:nvPr/>
        </p:nvGrpSpPr>
        <p:grpSpPr>
          <a:xfrm>
            <a:off x="2901960" y="4614840"/>
            <a:ext cx="3346560" cy="676440"/>
            <a:chOff x="2901960" y="4614840"/>
            <a:chExt cx="3346560" cy="676440"/>
          </a:xfrm>
        </p:grpSpPr>
        <p:pic>
          <p:nvPicPr>
            <p:cNvPr id="317" name="_s49189" descr=""/>
            <p:cNvPicPr/>
            <p:nvPr/>
          </p:nvPicPr>
          <p:blipFill>
            <a:blip r:embed="rId5"/>
            <a:stretch/>
          </p:blipFill>
          <p:spPr>
            <a:xfrm>
              <a:off x="2901960" y="4614840"/>
              <a:ext cx="33465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3029040" y="4705200"/>
              <a:ext cx="30859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ОММУНИКАТИВ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_s49189"/>
          <p:cNvGrpSpPr/>
          <p:nvPr/>
        </p:nvGrpSpPr>
        <p:grpSpPr>
          <a:xfrm>
            <a:off x="2822400" y="5297400"/>
            <a:ext cx="3346560" cy="682560"/>
            <a:chOff x="2822400" y="5297400"/>
            <a:chExt cx="3346560" cy="682560"/>
          </a:xfrm>
        </p:grpSpPr>
        <p:pic>
          <p:nvPicPr>
            <p:cNvPr id="320" name="_s49189" descr=""/>
            <p:cNvPicPr/>
            <p:nvPr/>
          </p:nvPicPr>
          <p:blipFill>
            <a:blip r:embed="rId6"/>
            <a:stretch/>
          </p:blipFill>
          <p:spPr>
            <a:xfrm>
              <a:off x="2822400" y="5297400"/>
              <a:ext cx="33465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2952720" y="5391000"/>
              <a:ext cx="308628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РЕГУЛЯТИВ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_s49189"/>
          <p:cNvGrpSpPr/>
          <p:nvPr/>
        </p:nvGrpSpPr>
        <p:grpSpPr>
          <a:xfrm>
            <a:off x="2901960" y="6138720"/>
            <a:ext cx="3346560" cy="676440"/>
            <a:chOff x="2901960" y="6138720"/>
            <a:chExt cx="3346560" cy="676440"/>
          </a:xfrm>
        </p:grpSpPr>
        <p:pic>
          <p:nvPicPr>
            <p:cNvPr id="323" name="_s49189" descr=""/>
            <p:cNvPicPr/>
            <p:nvPr/>
          </p:nvPicPr>
          <p:blipFill>
            <a:blip r:embed="rId7"/>
            <a:stretch/>
          </p:blipFill>
          <p:spPr>
            <a:xfrm>
              <a:off x="2901960" y="6138720"/>
              <a:ext cx="33465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3029040" y="6229440"/>
              <a:ext cx="3085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ОЗНАВАТЕЛЬ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знавательные универсальные учебные действия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умение мыслить и работать с информацией в современном мире)</a:t>
            </a:r>
            <a:endParaRPr b="0" lang="en-US" sz="20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мысловое чт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к осмысление цели чтения и выбор вида чтения в зависимости от цели; извлечение необходимой информации из прослушанных текстов различных жанров; определение основной и второстепенной информации; свободная ориентация и восприятие текстов художественного, научного, публицистического и официально-делового стилей; понимание и адекватная оценка языка средств массовой информ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ановка и формул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блемы, самостоятельное создание алгоритмов деятельности при решении проблем творческого и поискового характер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иповые задания по формированию познавательных УУД.</a:t>
            </a:r>
            <a:br>
              <a:rPr sz="2800"/>
            </a:br>
            <a:endParaRPr b="0" lang="en-US" sz="28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дание: «Составь слово», 5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ловах, которые я назову, запоминайте букву. Если вы всё сделаете правильно, то получится слово, имеющее непосредственное значение к теме уро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Глухой – ф, звонкий –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Предпоследняя буква в слове “ветер”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Стоит за буквой Р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Суффикс в слове “речной”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Первая буква алфави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иповые задания по формированию познавательных УУД.</a:t>
            </a:r>
            <a:endParaRPr b="0" lang="en-US" sz="28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34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дание «Заполнение таблицы по тексту»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6 клас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34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ма урока: «Правописание приставок –ПРИ –ПРЕ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34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писание задания: учащимся предлагается прочитать текст и выполнить различные задания к нему. Можно добавить задание на развитие личностных УУД: попробуйте сказать своими словами, в чём главная мысль этой басни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34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тям раздаются карточки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34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читайте басню Л. Н.Толстого «Отец и сыновья» и выполните задания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34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ец приказал сыновьям, чтобы жили в согласии. Они не слушались. Вот он велел принести веник и говорит: «Сломайте»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34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колько они ни бились, не могли сломать. Тогда отец развязал веник и велел ломать по одному пруту. Они легко переломили прутья поодиночке. Отец и говорит: «Так-то и вы, если в согласии жить будете, никто вас не одолеет, а если будете ссориться да всё врозь – вас всякий легко погубит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34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В чем главная мысль этой басни?- На какие группы делятся все приставки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34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Заполнить таблицу примерами из данного текста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изменяемые приставки                      Изменяемые пристав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овые задания по формированию познавательных УУД.</a:t>
            </a:r>
            <a:endParaRPr b="0" lang="en-US" sz="2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ма урок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Галерея помещиков в поэме Н. В. Гоголя "Мертвые души» (9класс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ащимся необходимо выяснить, с какой целью писатель изображает несколько помещичьих хозяйств и их владельцев.  Возникает необходимость выявить подход, художественный прием, который используется в "помещичьих главах". Поэтому девятиклассники получают задание: выявить общие элементы в композиции глав о посещении Чичиковым помещик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организации такой работы в классе можно использовать обсуждение в группах, причем каждая группа сравнивает две главы в таком порядке:1 гр. - 2 и 3 главы, 2 гр. - 3 - 4 главы, 3гр. - 4 - 5 главы и т. д. При заслушивании выступлений групп составляется список повторяющихся элементов композиции глав и делается вывод о способах изображения героев, о приемах раскрытия характеров 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муникативные УУД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мение общаться, взаимодействовать с людьми)</a:t>
            </a:r>
            <a:endParaRPr b="0" lang="en-US" sz="2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ладеть всеми видами речевой деятель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влекать информацию из различных источник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рабатывать, систематизировать информацию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ъявлять информацию разными способа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ить продуктивное речевое взаимодейств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уществлять речевой контрол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муникативные УУД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умение общаться, взаимодействовать с людьми)</a:t>
            </a:r>
            <a:endParaRPr b="0" lang="en-US" sz="2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иды зад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ставь задание партнеру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дставь себя в роли учителя и составь задание для класс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ставь рассказ от имени геро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ставь рассказ от имени неодушевленного предмета (например, от имени школьной парты, от имени разделительного мягкого знака и т.п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зыв на работу товарищ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овая работа по составлению кроссворд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отгадай, о ком говорим»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алоговое слушание (формулировка вопросов для обратной связ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подготовь рассказ...»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опиши устно...»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объясни...» и т. д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муникативные УУД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 умение общаться, взаимодействовать с людьми)</a:t>
            </a:r>
            <a:endParaRPr b="0" lang="en-US" sz="2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одические приемы на осмысление тек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ение с остановк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ение с пометами ( инсер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авление класт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скусс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ектная и исследовательская деятель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атрализац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флекс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муникативные УУД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 умение общаться, взаимодействовать с людьми)</a:t>
            </a:r>
            <a:endParaRPr b="0" lang="en-US" sz="2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ние «Подготовь связный рассказ на определенную тему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ям предлагается домашнее задание составить свой связный текст на определенную тему, например: «Ура инфинитиву», «Служебные части речи», «Стили речи»  и подготовиться к возможным вопросам по этой тем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4"/>
          <p:cNvSpPr/>
          <p:nvPr/>
        </p:nvSpPr>
        <p:spPr>
          <a:xfrm>
            <a:off x="1371600" y="6094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мение уч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76a55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нивесальные учебные действия (УУД)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совокупность  способов действия ребенка, которые позволяют самостоятельно усваивать новые знания и умения и организовать этот процес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5" descr="C:\Documents and Settings\simonova\Рабочий стол\Мои документы\клипарты\школьники\144828.jpg"/>
          <p:cNvPicPr/>
          <p:nvPr/>
        </p:nvPicPr>
        <p:blipFill>
          <a:blip r:embed="rId1"/>
          <a:stretch/>
        </p:blipFill>
        <p:spPr>
          <a:xfrm>
            <a:off x="6324480" y="4648320"/>
            <a:ext cx="2648160" cy="192852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ниверсальные учебные действия (УУД)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чност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гулятив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знаватель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муникатив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чностные УУД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сформировать внутреннюю позицию, мотивацию к учебе, ориентацию на моральные нормы)</a:t>
            </a:r>
            <a:endParaRPr b="0" lang="en-US" sz="28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деляют три вида личностных действий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чностное, профессиональное, жизненное самоопределе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мыслообразование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е.ученик должен задаваться вопросом: какое значение и какой смысл имеет для меня учение? – и уметь на него отвеча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равственно-этическая ориент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в том числе и оценивание усваиваемого содержания (исходя из социальных и личностных ценностей), обеспечивающее личностный моральный выбо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ичностные УУД</a:t>
            </a:r>
            <a:endParaRPr b="0" lang="en-US" sz="36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иды зада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астие в проект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ворческие зад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рительное,  вербальное восприятие музы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сленное воспроизведение картины, ситуации, видеофиль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ооценка событий,происшест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невники достиж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863960" y="2214360"/>
            <a:ext cx="3903840" cy="3881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е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атрал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прос к текст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лог с автор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ментированное чт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ичностные УУД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: «Развитие речи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: привить любовь к родному языку, повысить культуру речи, обогатить учищихся народной мудростью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Учащимся предлагается     дописать пословицы, подобрав глаголы противоположного значения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печи не храбрись, а в поле…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мелый побеждает,а трус  …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уд кормит,а лень…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выполнения предлагается объединить в группы и написать мини-сочинение на понимание одной из пословиц.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овые задачи по формированию личностных УУД. Литература</a:t>
            </a:r>
            <a:endParaRPr b="0" lang="en-US" sz="3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621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дание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Законы чести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суждение законов чести, которыми руководствовались герои романа А. С. Пушкина «Дубровский». Разработка законов чести, которыми должны руководствоваться люди в наше врем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орма выполнения задания: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ндивидуальная и групповая рабо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исание задания: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ащимся предлагается обсудить законы чести, которыми руководствовались герои романа А. С. Пушкина «Дубровский». Ребятам даётся время для нахождения в тексте произведения примеров на заданную тему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алее ученики объединяются в пары, обсуждают и на основании общего решения выделяют 5–6 законов чести нашего времени. Далее объединение продолжается вплоть до общей группы. Тогда сравниваются и формулируются общие законы чести нашего времени. Законы чести записываются на доске. Ребята обсуждают их и приводят примеры из жизн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гулятивные универсальные учебные действия</a:t>
            </a:r>
            <a:endParaRPr b="0" lang="en-US" sz="28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целеполагани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постановка учебной задачи на основе соотнесения того, что уже известно и усвоено учащимся, и того, что еще неизвестно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ланировани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определение последовательности промежуточных целей с учетом конечного результата; составление плана и последовательности действи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- прогнозировани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предвосхищение результата и уровня усвоения знаний, его временных характеристик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- контрол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форме сличения способа действия и его результата с заданным эталоном с целью обнаружения отклонений и отличий от эталон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- коррекц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внесение необходимых дополнений и корректив в план и способ действия в случае расхождения эталона, реального действия и его результат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- оценка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деление и осознание учащимся того, что уже усвоено и что еще нужно усвоить, осознание качества и уровня усвоени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саморегуляц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способность к мобилизации сил и энергии, к волевому усилию  для к преодолению препятств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04:11:47Z</dcterms:created>
  <dc:creator>RealEdu</dc:creator>
  <dc:description/>
  <dc:language>en-US</dc:language>
  <cp:lastModifiedBy>Valentin Ivanov</cp:lastModifiedBy>
  <dcterms:modified xsi:type="dcterms:W3CDTF">2020-09-13T17:17:33Z</dcterms:modified>
  <cp:revision>210</cp:revision>
  <dc:subject/>
  <dc:title>Слайд 1</dc:title>
</cp:coreProperties>
</file>