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414-26E2-4AE6-BC62-5BF3FEB15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17A4-F842-4AF5-A116-FC6106CA4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28E-DB2B-4C17-91E3-EE4B3665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598-DACB-4FFF-BE58-209ADF4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0EB-E9A4-4B6A-AD22-53EEBEB7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548-6D57-479C-9D85-1E5B75E8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A005-2E6F-49AA-867F-D535C664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F65B-B666-4D88-91C2-14AB3A62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57D-A247-49AE-9E9F-C1B14C77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E88C-3A65-42F3-AF66-579605E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42D-82C5-4154-B36A-D91406AD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FEF-210B-4E7D-B634-E744887B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63E-0018-49B7-8976-2C1F8FB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921-5B07-4242-BBAC-E5E1D33E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8F4-6354-45DA-AA92-2ACEC17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E2A-5113-4C88-B77B-DC4B6ADD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44CD-38F4-40B3-977F-63F0C92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CD7-CF48-4288-B1B6-9910ED42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732-7EB3-4028-9D74-9B6C5563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36A-28F9-43D8-8CD7-805D808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3D8-4D22-4478-951C-9C9868F7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BDB-010D-4957-8237-846EC66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769-E968-4AF6-9E8B-9C441F89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5FD-6DD4-4DB1-B812-671834C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415-BE60-488C-8393-88E2697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FEA-C6F3-436E-A048-A42CF2B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72a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db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72a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db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b0ccb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b0cc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b0ccb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b0cc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036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EF65-91D6-40A0-B666-D47315E02897}" type="slidenum">
              <a:rPr b="0" lang="ru-RU" sz="1400" spc="-1" strike="noStrike">
                <a:solidFill>
                  <a:srgbClr val="9036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db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db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b0ccb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b0ccb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b0ccb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b0cc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0363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433-04EB-4CA1-87FF-EC2B3496E79E}" type="slidenum">
              <a:rPr b="0" lang="ru-RU" sz="1400" spc="-1" strike="noStrike">
                <a:solidFill>
                  <a:srgbClr val="9036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И ФОРМИР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НИВЕРСАЛЬНЫХ УЧЕБНЫХ ДЕЙСТВИЙ  НА УРО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ванова И.Л.,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5553000" y="152280"/>
            <a:ext cx="3591000" cy="12193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440" y="2209680"/>
            <a:ext cx="25909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полаг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6360" y="2209320"/>
            <a:ext cx="5491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иск ответа на вопрос «Для чего необходимо знать (уметь)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ак это делать?», «Что и как нужно было сделать, чтобы получился правильный результат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ак думаешь, какой результат может получиться?», «Как думаешь, достаточно знать… для выполнения задания?», «Какие трудности могут возникнуть и почему?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дноклассник сказал… Проверь: прав ли он?», «Такой ли получен результат, как в образце?», «Правильно ли это делается?», «Сможешь доказать?», «Поменяйтесь тетрадями, проверьте друг у друга», «Проверь по словарю…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рганизовывать свою деятельность и работать с информацией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09280" y="2209320"/>
            <a:ext cx="23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и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регу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05320" y="2285640"/>
            <a:ext cx="526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Установи правильный порядок предложений в текст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цени свою работу на уроке», «Мне понравилось…», «Я хочу похвалить себя (или одноклассников) за то…», «Мне было интересно», «Мне показалось важным…», «Для меня было открытием…», «Сегодня мне было трудно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Ты сможешь прочитать зашифрованное слово (дойти до вершины горы), выполнив ряд заданий»), тренинговые упражнения психологического характе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рганизовывать свою деятельность и работать с информацией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зад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еднамеренные ошиб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информации в предложенных  источни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конт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ный дикт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ный опр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9360">
            <a:solidFill>
              <a:srgbClr val="72a37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. Русский язык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ыбрать цель урока из предложенных фраз». 5 кла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формирование умения определять цель урока по теме у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урока «Неопределенная форма глагол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 из предложенных фраз ту, которая, на твой взгляд, является целью нашего уро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ать определение глаго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Мне нравится искать глаголы в текс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учиться определять глаголы неопределенной формы, запомнить, какие окончания может иметь неопределенная фор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09640" y="205740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«Расскажи все, что ты знаешь о данном члене предложения по план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ы уроков «Подлежащее», «Сказуемое», «Дополнение», «Обстоятельство», «Определени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развивать умение соотносить полученный результат с образцом, находить и исправлять оши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Расскажи все, что ты знаешь о дополнении (определении, обстоятельстве и т.д.) по план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это т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обознач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й вопрос отвеча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ми частями речи может быть выражено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дчеркиваетс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ли верно в вашем рассказе? (дети читают правило в учебник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ание «Исправь ошиб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мотивации объясняется значение слова «сыщик», объявляется индивидуальное соревнование на звание «Самый лучший сыщик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ериал: текст с допущенными орфографическими и пунктуационными ошибками. Условие соревнования: кто быстрее и правильно найдёт все ошибки, тот объявляется победителем. Время засека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варец высунулса ис сваего домека. Прикриплённого к виршине сохронённого для токой целе маладого дупка. Паслушал паслушал взмохнул крылями и начял дерско дрознить салавья. Аднако голоз ево был слап, ему нехвотала тех не улавимых отенкав, каторыми прерода адаряет лиш сваих исбраников – генеальных пивц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овторение изученного в 5-9 классах. Орфоэпия». 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«Ток-шо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принимаете участие в телевизионном ток-шоу, посвященном проблемам русского языка. В своем выступлении вам необходимо использовать слов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налог, вандал, жалюзи, завсегдатай, зевота, немота, факсимиле, феномен, вероисповедание, мышление, намерение, обеспечение, ознакомление, разное видение одного и того же вопроса, украинский, отроческий, мизерный, красивее, баловать, звони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сставьте ударения, чтобы правильно произнести слова во время выступл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работы проверьте правильность выполнения по словар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вьте себе оценку за качество выполнения задания, исходя из следующих критериев: «5»- не более одной ошибки; «4»-2-4; «3»- 5-6; .«2»-более 6. Сформулируйте свою учебную задач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инаем изучать тему «Причастие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 учениками ставится вопрос: «Что надо знать и уметь, чтобы успешно справиться с новой темой?» Далее учитель делает полный обзор темы (или, что лучше, ученики просматривают все параграфы темы в учебнике), на основе которого каждый ученик приходит к выводу, что он должен хорошо знать морфологические признаки прилагательного и глагола, уметь определять основу настоящего и прошедшего времени глагола и т.д. и что только при этом условии он может рассчитывать хорошо понять новую тему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ующий этап саморегуля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ответ на вопрос: Знаю ли я всё необходимое для освоения темы?» Ответ на этот вопрос должен определить дальнейшие действия ученика и меру помощи, которую должен оказать ему учит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регулятивных УУД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ь алгоритм определения вида придаточного предложения« (9 клас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 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 придаточных в сложноподчиненном предложени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изучения типов придаточных предложений в составе сложноподчиненного учащимся предлагается составить словесный алгоритм "Как определить вид придаточного предложения?" После общего обсуждения вариантов и определении всех необходимых шагов этот алгоритм предлагается записать в виде логической схемы, затем обсудить схемы в парах и выбрать лучший вариант, применив алгоритмы к группе примеров, предложенных учи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универсальные учебные действ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мыслить и работать с информацией в современном мире)</a:t>
            </a:r>
            <a:endParaRPr b="0" lang="en-US" sz="20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деление и формулирование познавательной це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иск и выдел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й информации; применение методов информационного поиска, в том числе с помощью компьютерных сред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е осознанно и произво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роить речевое высказывание в устной и письменной фор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наиболее эффектив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пособов решения задач в зависимости от конкретных услов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флексия способ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условий действия, контроль и оценка процесса и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35"/>
          <p:cNvSpPr/>
          <p:nvPr/>
        </p:nvSpPr>
        <p:spPr>
          <a:xfrm flipH="1">
            <a:off x="2057040" y="2819520"/>
            <a:ext cx="1066680" cy="68580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7"/>
          <p:cNvSpPr/>
          <p:nvPr/>
        </p:nvSpPr>
        <p:spPr>
          <a:xfrm>
            <a:off x="6477120" y="2819520"/>
            <a:ext cx="1295280" cy="60948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066680" y="533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ования к результатам освоения основных общеобразователь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_s49188"/>
          <p:cNvGrpSpPr/>
          <p:nvPr/>
        </p:nvGrpSpPr>
        <p:grpSpPr>
          <a:xfrm>
            <a:off x="1530360" y="1944720"/>
            <a:ext cx="6620040" cy="914400"/>
            <a:chOff x="1530360" y="1944720"/>
            <a:chExt cx="6620040" cy="914400"/>
          </a:xfrm>
        </p:grpSpPr>
        <p:pic>
          <p:nvPicPr>
            <p:cNvPr id="304" name="_s49188" descr=""/>
            <p:cNvPicPr/>
            <p:nvPr/>
          </p:nvPicPr>
          <p:blipFill>
            <a:blip r:embed="rId1"/>
            <a:stretch/>
          </p:blipFill>
          <p:spPr>
            <a:xfrm>
              <a:off x="1530360" y="1944720"/>
              <a:ext cx="6620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700280" y="2081160"/>
              <a:ext cx="62769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ланируемые результаты обучен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_s49189"/>
          <p:cNvGrpSpPr/>
          <p:nvPr/>
        </p:nvGrpSpPr>
        <p:grpSpPr>
          <a:xfrm>
            <a:off x="60480" y="4462560"/>
            <a:ext cx="2774880" cy="1060200"/>
            <a:chOff x="60480" y="4462560"/>
            <a:chExt cx="2774880" cy="1060200"/>
          </a:xfrm>
        </p:grpSpPr>
        <p:pic>
          <p:nvPicPr>
            <p:cNvPr id="307" name="_s49189" descr=""/>
            <p:cNvPicPr/>
            <p:nvPr/>
          </p:nvPicPr>
          <p:blipFill>
            <a:blip r:embed="rId2"/>
            <a:stretch/>
          </p:blipFill>
          <p:spPr>
            <a:xfrm>
              <a:off x="60480" y="4462560"/>
              <a:ext cx="2774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50920" y="4594320"/>
              <a:ext cx="23940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М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_s49189"/>
          <p:cNvGrpSpPr/>
          <p:nvPr/>
        </p:nvGrpSpPr>
        <p:grpSpPr>
          <a:xfrm>
            <a:off x="2749680" y="3468600"/>
            <a:ext cx="3717720" cy="1139760"/>
            <a:chOff x="2749680" y="3468600"/>
            <a:chExt cx="3717720" cy="1139760"/>
          </a:xfrm>
        </p:grpSpPr>
        <p:pic>
          <p:nvPicPr>
            <p:cNvPr id="310" name="_s49189" descr=""/>
            <p:cNvPicPr/>
            <p:nvPr/>
          </p:nvPicPr>
          <p:blipFill>
            <a:blip r:embed="rId3"/>
            <a:stretch/>
          </p:blipFill>
          <p:spPr>
            <a:xfrm>
              <a:off x="2749680" y="3468600"/>
              <a:ext cx="3717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916360" y="3598920"/>
              <a:ext cx="33829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ТАПРЕДМ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_s49189"/>
          <p:cNvGrpSpPr/>
          <p:nvPr/>
        </p:nvGrpSpPr>
        <p:grpSpPr>
          <a:xfrm>
            <a:off x="6388200" y="4309920"/>
            <a:ext cx="2841480" cy="1133640"/>
            <a:chOff x="6388200" y="4309920"/>
            <a:chExt cx="2841480" cy="1133640"/>
          </a:xfrm>
        </p:grpSpPr>
        <p:pic>
          <p:nvPicPr>
            <p:cNvPr id="313" name="_s49189" descr=""/>
            <p:cNvPicPr/>
            <p:nvPr/>
          </p:nvPicPr>
          <p:blipFill>
            <a:blip r:embed="rId4"/>
            <a:stretch/>
          </p:blipFill>
          <p:spPr>
            <a:xfrm>
              <a:off x="6388200" y="4309920"/>
              <a:ext cx="28414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575400" y="4441680"/>
              <a:ext cx="24703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Line 36"/>
          <p:cNvSpPr/>
          <p:nvPr/>
        </p:nvSpPr>
        <p:spPr>
          <a:xfrm>
            <a:off x="4572000" y="2819520"/>
            <a:ext cx="0" cy="685800"/>
          </a:xfrm>
          <a:prstGeom prst="line">
            <a:avLst/>
          </a:prstGeom>
          <a:ln w="108000">
            <a:solidFill>
              <a:srgbClr val="db535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_s49189"/>
          <p:cNvGrpSpPr/>
          <p:nvPr/>
        </p:nvGrpSpPr>
        <p:grpSpPr>
          <a:xfrm>
            <a:off x="2901960" y="4614840"/>
            <a:ext cx="3346560" cy="676440"/>
            <a:chOff x="2901960" y="4614840"/>
            <a:chExt cx="3346560" cy="676440"/>
          </a:xfrm>
        </p:grpSpPr>
        <p:pic>
          <p:nvPicPr>
            <p:cNvPr id="317" name="_s49189" descr=""/>
            <p:cNvPicPr/>
            <p:nvPr/>
          </p:nvPicPr>
          <p:blipFill>
            <a:blip r:embed="rId5"/>
            <a:stretch/>
          </p:blipFill>
          <p:spPr>
            <a:xfrm>
              <a:off x="2901960" y="4614840"/>
              <a:ext cx="33465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029040" y="4705200"/>
              <a:ext cx="30859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_s49189"/>
          <p:cNvGrpSpPr/>
          <p:nvPr/>
        </p:nvGrpSpPr>
        <p:grpSpPr>
          <a:xfrm>
            <a:off x="2822400" y="5297400"/>
            <a:ext cx="3346560" cy="682560"/>
            <a:chOff x="2822400" y="5297400"/>
            <a:chExt cx="3346560" cy="682560"/>
          </a:xfrm>
        </p:grpSpPr>
        <p:pic>
          <p:nvPicPr>
            <p:cNvPr id="320" name="_s49189" descr=""/>
            <p:cNvPicPr/>
            <p:nvPr/>
          </p:nvPicPr>
          <p:blipFill>
            <a:blip r:embed="rId6"/>
            <a:stretch/>
          </p:blipFill>
          <p:spPr>
            <a:xfrm>
              <a:off x="2822400" y="5297400"/>
              <a:ext cx="3346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952720" y="5391000"/>
              <a:ext cx="30862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ГУЛЯ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_s49189"/>
          <p:cNvGrpSpPr/>
          <p:nvPr/>
        </p:nvGrpSpPr>
        <p:grpSpPr>
          <a:xfrm>
            <a:off x="2901960" y="6138720"/>
            <a:ext cx="3346560" cy="676440"/>
            <a:chOff x="2901960" y="6138720"/>
            <a:chExt cx="3346560" cy="676440"/>
          </a:xfrm>
        </p:grpSpPr>
        <p:pic>
          <p:nvPicPr>
            <p:cNvPr id="323" name="_s49189" descr=""/>
            <p:cNvPicPr/>
            <p:nvPr/>
          </p:nvPicPr>
          <p:blipFill>
            <a:blip r:embed="rId7"/>
            <a:stretch/>
          </p:blipFill>
          <p:spPr>
            <a:xfrm>
              <a:off x="2901960" y="6138720"/>
              <a:ext cx="33465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029040" y="6229440"/>
              <a:ext cx="3085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ЗНАВАТЕ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универсальные учебные действи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мение мыслить и работать с информацией в современном мире)</a:t>
            </a:r>
            <a:endParaRPr b="0" lang="en-US" sz="20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ысловое чт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 осмысление цели чтения и выбор вида чтения в зависимости от цели; извлечение необходимой информации из прослушанных текстов различных жанров; определение основной и второстепенной информации; свободная ориентация и восприятие текстов художественного, научного, публицистического и официально-делового стилей; понимание и адекватная оценка языка средств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и форм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блемы, самостоятельное создание алгоритмов деятельности при решении проблем творческого и поискового характе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br>
              <a:rPr sz="2800"/>
            </a:b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: «Составь слово», 5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овах, которые я назову, запоминайте букву. Если вы всё сделаете правильно, то получится слово, имеющее непосредственное значение к теме ур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Глухой – ф, звонкий –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едпоследняя буква в слове “ветер”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тоит за буквой Р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уффикс в слове “речной”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ервая буква алфави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ние «Заполнение таблицы по тексту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 клас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ма урока: «Правописание приставок –ПРИ –ПРЕ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исание задания: учащимся предлагается прочитать текст и выполнить различные задания к нему. Можно добавить задание на развитие личностных УУД: попробуйте сказать своими словами, в чём главная мысль этой басни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ям раздаются карто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читайте басню Л. Н.Толстого «Отец и сыновья» и выполните задани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ец приказал сыновьям, чтобы жили в согласии. Они не слушались. Вот он велел принести веник и говорит: «Сломайте»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ко они ни бились, не могли сломать. Тогда отец развязал веник и велел ломать по одному пруту. Они легко переломили прутья поодиночке. Отец и говорит: «Так-то и вы, если в согласии жить будете, никто вас не одолеет, а если будете ссориться да всё врозь – вас всякий легко погубит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 чем главная мысль этой басни?- На какие группы делятся все приставк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Заполнить таблицу примерами из данного текс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изменяемые приставки                      Изменяемые приста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овые задания по формированию познавательных УУД.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алерея помещиков в поэме Н. В. Гоголя "Мертвые души» (9клас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щимся необходимо выяснить, с какой целью писатель изображает несколько помещичьих хозяйств и их владельцев.  Возникает необходимость выявить подход, художественный прием, который используется в "помещичьих главах". Поэтому девятиклассники получают задание: выявить общие элементы в композиции глав о посещении Чичиковым помещ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рганизации такой работы в классе можно использовать обсуждение в группах, причем каждая группа сравнивает две главы в таком порядке:1 гр. - 2 и 3 главы, 2 гр. - 3 - 4 главы, 3гр. - 4 - 5 главы и т. д. При заслушивании выступлений групп составляется список повторяющихся элементов композиции глав и делается вывод о способах изображения героев, о приемах раскрытия характеров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деть всеми видами речевой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влекать информацию из различных ист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рабатывать, систематизировать информац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ъявлять информацию разными способ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 продуктивное речевое взаимодей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ть речевой контрол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задание партнер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ь себя в роли учителя и составь задание для класс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рассказ от имени геро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ь рассказ от имени неодушевленного предмета (например, от имени школьной парты, от имени разделительного мягкого знака и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зыв на работу товарищ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овая работа по составлению кроссвор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тгадай, о ком говорим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логовое слушание (формулировка вопросов для обратной связ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одготовь рассказ...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пиши устно...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бъясни...» и т. д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ические приемы на осмысление тек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 с останов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 с пометами ( инсер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клас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ная и исследовательская де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флекс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ые УУ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умение общаться, взаимодействовать с людьми)</a:t>
            </a:r>
            <a:endParaRPr b="0" lang="en-US" sz="2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 «Подготовь связный рассказ на определенную тему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ям предлагается домашнее задание составить свой связный текст на определенную тему, например: «Ура инфинитиву», «Служебные части речи», «Стили речи»  и подготовиться к возможным вопросам по этой 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1371600" y="609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уч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нивесальные учебные действия (УУД)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 способов действия ребенка, которые позволяют самостоятельно усваивать новые знания и умения и организовать этот проце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5" descr="C:\Documents and Settings\simonova\Рабочий стол\Мои документы\клипарты\школьники\144828.jpg"/>
          <p:cNvPicPr/>
          <p:nvPr/>
        </p:nvPicPr>
        <p:blipFill>
          <a:blip r:embed="rId1"/>
          <a:stretch/>
        </p:blipFill>
        <p:spPr>
          <a:xfrm>
            <a:off x="6324480" y="4648320"/>
            <a:ext cx="2648160" cy="1928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ниверсальные учебные действия (УУД)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ятив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знаватель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ные УУ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сформировать внутреннюю позицию, мотивацию к учебе, ориентацию на моральные нормы)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деляют три вида личностных действ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чностное, профессиональное, жизненное самоопредел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ыслообразовани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ученик должен задаваться вопросом: какое значение и какой смысл имеет для меня учение? – и уметь на него отвеча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равственно-этическая 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том числе и оценивание усваиваемого содержания (исходя из социальных и личностных ценностей), обеспечивающее личностный моральный выбо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чностные УУД</a:t>
            </a:r>
            <a:endParaRPr b="0" lang="en-US" sz="36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ы зад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проект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рительное,  вербальное восприятие музы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сленное воспроизведение картины, ситуации, видеофиль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ценка событий,происше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евники дости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863960" y="2214360"/>
            <a:ext cx="3903840" cy="3881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атр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 к текс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с авт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ментированное чт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чностные УУД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«Развитие реч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: привить любовь к родному языку, повысить культуру речи, обогатить учищихся народной мудростью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чащимся предлагается     дописать пословицы, подобрав глаголы противоположного значени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ечи не храбрись, а в поле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лый побеждает,а трус  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 кормит,а лень…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ыполнения предлагается объединить в группы и написать мини-сочинение на понимание одной из пословиц.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овые задачи по формированию личностных УУД. Литература</a:t>
            </a:r>
            <a:endParaRPr b="0" lang="en-US" sz="3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коны чест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суждение законов чести, которыми руководствовались герои романа А. С. Пушкина «Дубровский». Разработка законов чести, которыми должны руководствоваться люди в наше врем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 выполнения задания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дивидуальная и групповая рабо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исание задания: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мся предлагается обсудить законы чести, которыми руководствовались герои романа А. С. Пушкина «Дубровский». Ребятам даётся время для нахождения в тексте произведения примеров на заданную тем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ее ученики объединяются в пары, обсуждают и на основании общего решения выделяют 5–6 законов чести нашего времени. Далее объединение продолжается вплоть до общей группы. Тогда сравниваются и формулируются общие законы чести нашего времени. Законы чести записываются на доске. Ребята обсуждают их и приводят примеры из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тивные универсальные учебные действия</a:t>
            </a:r>
            <a:endParaRPr b="0" lang="en-US" sz="2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еполаг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остановка учебной задачи на основе соотнесения того, что уже известно и усвоено учащимся, и того, что еще неизвест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аниров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определение последовательности промежуточных целей с учетом конечного результата; составление плана и последовательности действ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прогнозирован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редвосхищение результата и уровня усвоения знаний, его временных характеристик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орме сличения способа действия и его результата с заданным эталоном с целью обнаружения отклонений и отличий от этал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коррек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внесение необходимых дополнений и корректив в план и способ действия в случае расхождения эталона, реального действия и его результа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- оценка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ение и осознание учащимся того, что уже усвоено и что еще нужно усвоить, осознание качества и уровня усво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морегуля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способность к мобилизации сил и энергии, к волевому усилию  для к преодолению препятств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b0ccb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4:11:47Z</dcterms:created>
  <dc:creator>RealEdu</dc:creator>
  <dc:description/>
  <dc:language>en-US</dc:language>
  <cp:lastModifiedBy>Valentin Ivanov</cp:lastModifiedBy>
  <dcterms:modified xsi:type="dcterms:W3CDTF">2020-09-13T17:17:33Z</dcterms:modified>
  <cp:revision>210</cp:revision>
  <dc:subject/>
  <dc:title>Слайд 1</dc:title>
</cp:coreProperties>
</file>