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0825" cy="6854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436-5924-4B63-B1E4-A44C0BB3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D88-FFB0-407B-B68E-C7429137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B98-D005-4B6D-949A-638C9D48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530-E572-4A33-98C2-079D7F4E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5ECD-A31B-494B-BBBF-CD3B3111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C58-6005-4EB3-A232-99AAA922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3F2D-3A06-4D98-A1CA-267AF414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887-3EE9-4E43-B3E0-E17FED56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164-8E9F-4A06-9568-408453EA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DF20-B022-48B2-A496-0CD20527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479-3C89-492C-B347-42F4163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080-839F-4E93-B50E-0FDF3492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6F6-650B-4B2A-9A48-9AC5B66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CA23-6BC7-4C68-8366-471DDC6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45DD-D2EB-48D4-8BB8-5107ACD3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B514-4428-434B-9CBD-5DA3F634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ACEF-2B41-4333-B392-5B05BDE0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792C-6EBA-4103-BAA0-1585B534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1FF6-CCF1-4323-AAD6-074B8A56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C715-D9A2-46F2-8121-D97F58FD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10BB-1880-43A4-BDF9-9F0ECD40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6A24-F987-4CF1-BD3B-7FE1ADC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66F-3125-425D-A055-A57D4EA6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7E4D-FA47-4FE1-B000-643CEDBE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191A-BC02-4BD7-A726-8860F762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A573-6AA2-404B-864A-7AA62DAC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2B15-461F-4261-B5FB-82E7534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581C-ECDA-4DFB-924B-5CF8FED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6BDB-ACCE-402F-8565-ADC26057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7B73-3C70-4AED-80BD-70CC2AC9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B2C3-3E53-4532-810F-0F44E23E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DE60-89A2-4BC1-A5D0-8D914FF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B2BC-987D-496C-AC7A-B8991231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DDA-9052-4F52-9EB9-16E73D7D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E1E7-0222-46EF-8BCA-802CEA7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829E-3458-47BE-BA1B-E7A9BF7C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9608-5EFE-4DF7-A41A-54E386CC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FC0E-D867-4297-A1FA-83100F1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D51C-882E-47EA-9DA3-2EBB1E5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F555-CFA0-426D-B383-7BDC4B8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1FF8-C47F-4863-A6E6-13A06D70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D0AB-9F3E-4FC1-814F-7D9B6FC9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AC45-692F-4D71-9D9B-D104E9B0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EC6-3AD4-441C-9E27-3951E13D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6EC-5F2F-45B3-A103-B16D837F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F66-2842-43C5-A506-C5A09E3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A6B-66EC-4E13-8BF9-1E8EEE7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0EC-1CD0-412A-8199-9BB77A9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BAD-1AA3-40ED-82A4-912833FAF4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576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1680"/>
            <a:ext cx="2894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020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A19543-8001-47A1-9238-E2E023D6B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576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2280" y="6241680"/>
            <a:ext cx="2894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020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490607-259B-46AC-9FC4-04D820142A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576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2280" y="6241680"/>
            <a:ext cx="2894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020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38ECCC-AA55-4276-BFCB-AB1744553A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drugaya-arh.ru/200-text/arh-slov/pic-hata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hyperlink" Target="http://img1.liveinternet.ru/images/attach/c/3/77/406/77406103_4bf4f21c80ff5351d55169f7c800b18e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18003.rimg.info/icon/17615530005312f4a72fc8da96650b9b0eba3897cf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900igr.net/datas/istorija/Russkij-byt/0027-027-Pech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images.yandex.ru/yandsearch?img_url=http%3A%2F%2Fimg.rian.ru%2Fimages%2F11938%2F28%2F119382805.jpg&amp;iorient=&amp;icolor=&amp;site=&amp;text=&#1050;&#1072;&#1082;%20&#1093;&#1086;&#1076;&#1080;&#1083;&#1080;%20&#1079;&#1072;%20&#1074;&#1086;&#1076;&#1086;&#1081;%20&#1088;&#1091;&#1089;&#1080;%20&#1082;&#1072;&#1088;&#1090;&#1080;&#1085;&#1082;&#1080;&amp;wp=&amp;pos=2&amp;isize=&amp;type=&amp;recent=&amp;rpt=simage&amp;itype=&amp;nojs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1120" y="712800"/>
            <a:ext cx="87138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детей дошкольного возрас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Знакомство детей с бытом и культурой русского на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40480" y="3284640"/>
            <a:ext cx="3286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: Алексеева Н.С.,  воспитатель,                               первая квалификационная категория,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ДОУ Выездновский д/с №1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500040" y="642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и для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s://bipbap.ru/wp-content/uploads/2017/05/bolshie-golubye-glaza-rebenka.jpg"/>
          <p:cNvPicPr/>
          <p:nvPr/>
        </p:nvPicPr>
        <p:blipFill>
          <a:blip r:embed="rId2"/>
          <a:stretch/>
        </p:blipFill>
        <p:spPr>
          <a:xfrm>
            <a:off x="285840" y="1357200"/>
            <a:ext cx="5118120" cy="37864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5286240" y="1000080"/>
            <a:ext cx="3857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ам нужно отдохну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ти закрывают глаза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глубоко вздохну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убокий вдох, глаза все так же закрыты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по кругу побегу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 открыты, движение зрачком по кругу по часовой и против часовой стрелки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раз они моргнут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ое моргание глазами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ам стало хорошо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касание кончиками пальцев закрытых гл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ят мои глазки вс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!!!Включить следующий слайд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s://pp.userapi.com/c848636/v848636268/b8222/6bNI1b1l9Ek.jpg"/>
          <p:cNvPicPr/>
          <p:nvPr/>
        </p:nvPicPr>
        <p:blipFill>
          <a:blip r:embed="rId2"/>
          <a:stretch/>
        </p:blipFill>
        <p:spPr>
          <a:xfrm>
            <a:off x="3929040" y="500040"/>
            <a:ext cx="4929120" cy="58705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285840" y="428760"/>
            <a:ext cx="350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и были 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 вместе бабушки с дедушками, их дети и вн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мье было несколько детей. Старшие дети помогали младшим и уважали взросл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500040" y="357120"/>
            <a:ext cx="32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214200" y="42876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14200" y="10000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кукла с давних времён делалась из веточек и лоскутиков, сухой тра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553" descr="Русская народна кукла"/>
          <p:cNvPicPr/>
          <p:nvPr/>
        </p:nvPicPr>
        <p:blipFill>
          <a:blip r:embed="rId2"/>
          <a:stretch/>
        </p:blipFill>
        <p:spPr>
          <a:xfrm>
            <a:off x="214200" y="1928880"/>
            <a:ext cx="2887920" cy="3000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76" descr="Берегиня"/>
          <p:cNvPicPr/>
          <p:nvPr/>
        </p:nvPicPr>
        <p:blipFill>
          <a:blip r:embed="rId3"/>
          <a:stretch/>
        </p:blipFill>
        <p:spPr>
          <a:xfrm>
            <a:off x="3286080" y="1928880"/>
            <a:ext cx="2571840" cy="28922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78" descr="http://img-fotki.yandex.ru/get/6005/zaryanka-tlt.6/0_5a158_871afc8a_M"/>
          <p:cNvPicPr/>
          <p:nvPr/>
        </p:nvPicPr>
        <p:blipFill>
          <a:blip r:embed="rId4"/>
          <a:stretch/>
        </p:blipFill>
        <p:spPr>
          <a:xfrm>
            <a:off x="6072120" y="1857240"/>
            <a:ext cx="2616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s://i.pinimg.com/originals/b4/a1/12/b4a112be9a98ec94407da509172421fe.jpg"/>
          <p:cNvPicPr/>
          <p:nvPr/>
        </p:nvPicPr>
        <p:blipFill>
          <a:blip r:embed="rId2"/>
          <a:stretch/>
        </p:blipFill>
        <p:spPr>
          <a:xfrm>
            <a:off x="214200" y="85716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s://ds04.infourok.ru/uploads/ex/0cad/00004744-4ad0e729/hello_html_m698a0f3c.jpg"/>
          <p:cNvPicPr/>
          <p:nvPr/>
        </p:nvPicPr>
        <p:blipFill>
          <a:blip r:embed="rId3"/>
          <a:srcRect l="0" t="0" r="92" b="137"/>
          <a:stretch/>
        </p:blipFill>
        <p:spPr>
          <a:xfrm>
            <a:off x="4257720" y="3571920"/>
            <a:ext cx="4886280" cy="3286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4500720" y="7858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няные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285840" y="428616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ымк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4500720" y="29289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имон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s://s57.radikal.ru/i156/1501/4a/cb2599d2ee96.jpg"/>
          <p:cNvPicPr/>
          <p:nvPr/>
        </p:nvPicPr>
        <p:blipFill>
          <a:blip r:embed="rId2"/>
          <a:stretch/>
        </p:blipFill>
        <p:spPr>
          <a:xfrm>
            <a:off x="214200" y="1214280"/>
            <a:ext cx="3786480" cy="2802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071720" y="571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адай русскую народную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https://s017.radikal.ru/i415/1501/db/1f1c2cc3a8ca.jpg"/>
          <p:cNvPicPr/>
          <p:nvPr/>
        </p:nvPicPr>
        <p:blipFill>
          <a:blip r:embed="rId3"/>
          <a:stretch/>
        </p:blipFill>
        <p:spPr>
          <a:xfrm>
            <a:off x="5210280" y="1285920"/>
            <a:ext cx="3933720" cy="2714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Ð¢ÑÐ¸ Ð¼ÐµÐ´Ð²ÐµÐ´Ñ - ÑÑÑÑÐºÐ°Ñ Ð½Ð°ÑÐ¾Ð´Ð½Ð°Ñ ÑÐºÐ°Ð·ÐºÐ°"/>
          <p:cNvPicPr/>
          <p:nvPr/>
        </p:nvPicPr>
        <p:blipFill>
          <a:blip r:embed="rId4"/>
          <a:stretch/>
        </p:blipFill>
        <p:spPr>
          <a:xfrm>
            <a:off x="214200" y="4143240"/>
            <a:ext cx="3772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Ð Ð¿ÑÐµÐ´Ð½Ð¾Ð²Ð¾Ð³Ð¾Ð´Ð½ÑÑ Ð¿Ð¾ÑÑ ÑÐ¾Ð»ÑÐºÐ¾ ÑÐºÐ°Ð·ÐºÐ¸ ÑÐºÐ°Ð·ÑÐ²Ð°ÑÑ. Ð Ð²Ð¾Ñ Ð¸ ÑÑÑÑÐºÐ¸Ðµ Ð½Ð°ÑÐ¾Ð´Ð½ÑÐµ Ð¿Ð¾ÑÐ»Ð¾Ð²Ð¸ÑÑ Ð¸ Ð¿Ð¾Ð³Ð¾Ð²Ð¾ÑÐºÐ¸ Ð¾ ÑÐºÐ°Ð·ÐºÐ°Ñ. ÐÑÐ°ÑÐ¸Ð²ÑÐµ Ð¸ Ð¼ÑÐ´ÑÑÐµ!"/>
          <p:cNvPicPr/>
          <p:nvPr/>
        </p:nvPicPr>
        <p:blipFill>
          <a:blip r:embed="rId5"/>
          <a:stretch/>
        </p:blipFill>
        <p:spPr>
          <a:xfrm>
            <a:off x="5324400" y="4143240"/>
            <a:ext cx="3819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s://img.labirint.ru/images/comments_pic/1540/2_95488b0dcff4c80a0e1b3c01a4869452_1443734930.jpg"/>
          <p:cNvPicPr/>
          <p:nvPr/>
        </p:nvPicPr>
        <p:blipFill>
          <a:blip r:embed="rId2"/>
          <a:srcRect l="0" t="0" r="0" b="65"/>
          <a:stretch/>
        </p:blipFill>
        <p:spPr>
          <a:xfrm>
            <a:off x="357120" y="64296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-141120"/>
            <a:ext cx="9331200" cy="6995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62080" y="479520"/>
            <a:ext cx="864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7360" y="763560"/>
            <a:ext cx="8926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уре Р.С. Социально – нравственное воспитание дошкольников, Мозаика – Синтез, 20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Малова В.В. Конспекты занятий по духовно-нравственному воспитанию дошкольников, Владос, 2010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Мулько И.Ф. Социально-нравственное воспитание детей 5-7 лет, Сфера,2009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От рождения до школы. Основная общеобразовательная программа дошкольного образования / Под ред. Н.Е. Вераксы, Т.С.Комаровой, М.А.Васильевой, Мозаика-Синтез,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http://www.metodichka.org/_asave/save1/byt_i_kultura_russkogo_naroda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0"/>
            <a:ext cx="9331200" cy="6997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2080" y="479520"/>
            <a:ext cx="8640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и и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интерес к истории и народному творчеств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с народным традициям и обыча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ять представления о культуре русского нар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эстетическое и нравственное восприятие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ть представление об устройстве дома, об истории народного костюма, о народном промысле, о русском фольклор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totalarch.com/files/gallery/gc_2016_12_04.jpg"/>
          <p:cNvPicPr/>
          <p:nvPr/>
        </p:nvPicPr>
        <p:blipFill>
          <a:blip r:embed="rId2"/>
          <a:stretch/>
        </p:blipFill>
        <p:spPr>
          <a:xfrm>
            <a:off x="285840" y="714240"/>
            <a:ext cx="4236840" cy="2786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http://www.drugaya-arh.ru/200-text/arh-slov/pic-hata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071800"/>
            <a:ext cx="4373640" cy="29811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4"/>
          <p:cNvSpPr/>
          <p:nvPr/>
        </p:nvSpPr>
        <p:spPr>
          <a:xfrm>
            <a:off x="4643280" y="714240"/>
            <a:ext cx="428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авно на Руси жили в деревянных домах. Строили их из бревен и называли изб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285840" y="214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5572080" y="1000080"/>
            <a:ext cx="30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Передний конец крыши имел конёк – знак устремления. Только русские сравнивали дом с колесницей, которая должна привести семью к лучшему будущему. Снаружи дома украшались резь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s://kelohouse.ru/images/lemex/160x127x36.jpg.pagespeed.ic.32IzTC0jLc.jpg"/>
          <p:cNvPicPr/>
          <p:nvPr/>
        </p:nvPicPr>
        <p:blipFill>
          <a:blip r:embed="rId2"/>
          <a:stretch/>
        </p:blipFill>
        <p:spPr>
          <a:xfrm>
            <a:off x="214200" y="100008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www.art-catalog.ru/data_picture_2016/picture/129/11682.jpg"/>
          <p:cNvPicPr/>
          <p:nvPr/>
        </p:nvPicPr>
        <p:blipFill>
          <a:blip r:embed="rId3"/>
          <a:stretch/>
        </p:blipFill>
        <p:spPr>
          <a:xfrm>
            <a:off x="214200" y="642960"/>
            <a:ext cx="4808520" cy="3357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img1.liveinternet.ru/images/attach/c/3/77/406/77406103_4bf4f21c80ff5351d55169f7c800b18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2571840"/>
            <a:ext cx="4429080" cy="40575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8"/>
          <p:cNvSpPr/>
          <p:nvPr/>
        </p:nvSpPr>
        <p:spPr>
          <a:xfrm>
            <a:off x="5000760" y="57168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е была одна комната – горница. Она была и кухней и спальней. В обстановке избы нет ни одного лишнего предмета, каждая вещь имеет свое строго определенное назначение и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"/>
          <p:cNvSpPr/>
          <p:nvPr/>
        </p:nvSpPr>
        <p:spPr>
          <a:xfrm>
            <a:off x="214200" y="3929040"/>
            <a:ext cx="43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нице стояли сундуки, которые служили хозяевам вместо шкафов, тумбочек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хранили одежду, ткани, украшения. Чем больше сундуков было в доме, тем богаче считалась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571680" y="28584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http://a18003.rimg.info/icon/17615530005312f4a72fc8da96650b9b0eba3897cf.jpg">
            <a:hlinkClick r:id="rId2"/>
          </p:cNvPr>
          <p:cNvPicPr/>
          <p:nvPr/>
        </p:nvPicPr>
        <p:blipFill>
          <a:blip r:embed="rId3"/>
          <a:srcRect l="0" t="0" r="0" b="-53"/>
          <a:stretch/>
        </p:blipFill>
        <p:spPr>
          <a:xfrm>
            <a:off x="214200" y="2928960"/>
            <a:ext cx="4500720" cy="375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http://900igr.net/datas/istorija/Russkij-byt/0027-027-Pec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84920" y="857160"/>
            <a:ext cx="4159080" cy="2457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s://media.informpskov.ru/pictures/20101113111940.jpg"/>
          <p:cNvPicPr/>
          <p:nvPr/>
        </p:nvPicPr>
        <p:blipFill>
          <a:blip r:embed="rId6"/>
          <a:stretch/>
        </p:blipFill>
        <p:spPr>
          <a:xfrm>
            <a:off x="5000760" y="3571920"/>
            <a:ext cx="4143240" cy="3031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21420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и горницы ставили печь. О ней говорили: «Печь – всему голова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– значит, самая главная. Топили печь дровами. Русская печь, как мать родная, накормит и обогреет, когда надо вылечит и обсуш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угуне готовили пищу. Ухват использовали для того, чтобы достать из печи чугунок с горячей едой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tropa_922"/>
          <p:cNvPicPr/>
          <p:nvPr/>
        </p:nvPicPr>
        <p:blipFill>
          <a:blip r:embed="rId2"/>
          <a:stretch/>
        </p:blipFill>
        <p:spPr>
          <a:xfrm>
            <a:off x="285840" y="928800"/>
            <a:ext cx="3571920" cy="298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content.foto.mail.ru/mail/lyudmila-1946/_blogs/i-18110.jpg"/>
          <p:cNvPicPr/>
          <p:nvPr/>
        </p:nvPicPr>
        <p:blipFill>
          <a:blip r:embed="rId3"/>
          <a:stretch/>
        </p:blipFill>
        <p:spPr>
          <a:xfrm>
            <a:off x="4000680" y="928800"/>
            <a:ext cx="5186160" cy="3071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im0-tub-ru.yandex.net/i?id=123309110-36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0280" y="3429000"/>
            <a:ext cx="2656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looks.ru/images/article/orig/2016/11/russkij-narodnyj-russkij-kostyum-2.jpg"/>
          <p:cNvPicPr/>
          <p:nvPr/>
        </p:nvPicPr>
        <p:blipFill>
          <a:blip r:embed="rId2"/>
          <a:srcRect l="0" t="0" r="114" b="0"/>
          <a:stretch/>
        </p:blipFill>
        <p:spPr>
          <a:xfrm>
            <a:off x="214200" y="928800"/>
            <a:ext cx="3857760" cy="54925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3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4286160" y="100008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традиционные наряды всегда делились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седневные и празднич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иболее роскошной считалась одежд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го 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яды для женщин всегда были интереснее и разнообразнее мужских. Со времен Древней Рус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костю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л из сорочницы (простой рубахи в пол), сарафана и передника. Неотъемлемой частью любого традиционного наряда всегда была вышивка. В каждой губернии она отличалась цветами и узорами. Вышивкой украшали подол и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костю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л из простой рубахи, штанов и поя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857160" y="5716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i?id=17692540-52-72&amp;n=21"/>
          <p:cNvPicPr/>
          <p:nvPr/>
        </p:nvPicPr>
        <p:blipFill>
          <a:blip r:embed="rId2"/>
          <a:stretch/>
        </p:blipFill>
        <p:spPr>
          <a:xfrm>
            <a:off x="500040" y="571680"/>
            <a:ext cx="3286080" cy="319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i?id=431694681-20-72&amp;n=21"/>
          <p:cNvPicPr/>
          <p:nvPr/>
        </p:nvPicPr>
        <p:blipFill>
          <a:blip r:embed="rId3"/>
          <a:stretch/>
        </p:blipFill>
        <p:spPr>
          <a:xfrm>
            <a:off x="5429160" y="571680"/>
            <a:ext cx="3429000" cy="321120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142920" y="38577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User</cp:lastModifiedBy>
  <dcterms:modified xsi:type="dcterms:W3CDTF">2020-09-13T13:48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60000000000010290110207f7000400038000</vt:lpwstr>
  </property>
</Properties>
</file>