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0825" cy="6854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8BE-9C66-4570-8017-3B16BFCD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E61-46E8-4FE0-ABB5-705854A0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4F4-BA24-4236-AF2D-715ECDFB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CAC-57BE-46F8-B4C6-7DB7ADA1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EB59-437A-4413-8EA0-021233DE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4529-A9A4-49BA-90DD-086300A2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652D-73E8-4E2F-9979-CABDBB7E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80DE-AC14-4920-A7A3-C7BC5570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5190-F72B-4E99-B988-072C52A5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7D76-AF4B-4452-8057-9A6C03BA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4781-11AB-42E5-8B3E-64F26DC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73F-9B41-4B06-8208-094368B3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C186-B425-4273-B5C6-EF51983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8163-9D61-4016-8F81-9AB734B0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8B55-6AEC-47FF-842F-85405FB4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65A8-168E-4DD4-94C4-3EF34E0F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6147-40CE-46CE-9746-6A40CEAA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BF09-BDE0-4E1E-8643-2163A419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6E3F2-6F75-4B18-B90E-9F21CC4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9CC2E-A30E-4EC8-AD0F-C293765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A1A7-0518-4C84-BF60-94D97966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BAA9-7E38-49F9-9B7F-8084667B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402-14CD-4770-8BE4-5FE12D9C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A808-929F-4912-901F-07A422E1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FFD7-4F5C-4E8D-81A8-4D33BB88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1BE0-1F72-485A-AB8B-BF659E04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BD90-EF69-41D4-93EB-57CCB26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FBA0-9648-45E0-B6F0-DAC50C79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2A3F-9CAF-43B0-9918-E11A80BD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792F-5F12-4FCC-9A53-29805997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06BB8-6F22-4724-98C4-446261E6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1E17-4DE5-4969-9B19-D58EA72C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AA8B-3B6D-4ADF-98A5-BFBE8B53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A75-9084-4AAC-9355-5658DA41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CEC70-D642-43FC-AB0F-9988A867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5A45B-B249-4BAD-8CB1-144E4131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508E-26BE-40ED-B348-9A41F9E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05EC-E0C7-49EC-BF76-966DBAC3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F5F5-D066-456C-8E82-240516B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D79C0-2D71-4C53-82CB-4187521B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6914-9482-4EE6-B462-011B13DF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827C-5CD4-45DA-A533-B4AD2241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820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9560" y="16038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820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19560" y="36802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B186-9550-4346-8500-C362ECFB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7D9-7988-42C7-BA47-C871517D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71E-2C44-44CB-B752-9FE56484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8C9-667C-4865-A1E1-D5FE5F0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68028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0E4-3109-4EDE-ACE7-DDD3A62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03800"/>
            <a:ext cx="4014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80280"/>
            <a:ext cx="82260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763-4E86-4B09-849A-6F59743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7F3B-718D-4ECA-8EDF-21DDD47D2C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576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2280" y="6241680"/>
            <a:ext cx="2894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020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8035AC-4153-44FC-831F-953233C4DC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576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2280" y="6241680"/>
            <a:ext cx="2894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020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75E650-2524-4B1D-B7EE-D25C4FBC04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576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2280" y="6241680"/>
            <a:ext cx="2894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0200" y="6241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ECC5B3-C702-480C-90A4-D975DCBB98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drugaya-arh.ru/200-text/arh-slov/pic-hata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hyperlink" Target="http://img1.liveinternet.ru/images/attach/c/3/77/406/77406103_4bf4f21c80ff5351d55169f7c800b18e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18003.rimg.info/icon/17615530005312f4a72fc8da96650b9b0eba3897cf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900igr.net/datas/istorija/Russkij-byt/0027-027-Pech.jpg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images.yandex.ru/yandsearch?img_url=http%3A%2F%2Fimg.rian.ru%2Fimages%2F11938%2F28%2F119382805.jpg&amp;iorient=&amp;icolor=&amp;site=&amp;text=&#1050;&#1072;&#1082;%20&#1093;&#1086;&#1076;&#1080;&#1083;&#1080;%20&#1079;&#1072;%20&#1074;&#1086;&#1076;&#1086;&#1081;%20&#1088;&#1091;&#1089;&#1080;%20&#1082;&#1072;&#1088;&#1090;&#1080;&#1085;&#1082;&#1080;&amp;wp=&amp;pos=2&amp;isize=&amp;type=&amp;recent=&amp;rpt=simage&amp;itype=&amp;nojs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1120" y="712800"/>
            <a:ext cx="87138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детей дошкольного возрас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Знакомство детей с бытом и культурой русского на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40480" y="3284640"/>
            <a:ext cx="3286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: Алексеева Н.С.,  воспитатель,                               первая квалификационная категория,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ДОУ Выездновский д/с №1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3"/>
          <p:cNvSpPr/>
          <p:nvPr/>
        </p:nvSpPr>
        <p:spPr>
          <a:xfrm>
            <a:off x="500040" y="6429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и для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https://bipbap.ru/wp-content/uploads/2017/05/bolshie-golubye-glaza-rebenka.jpg"/>
          <p:cNvPicPr/>
          <p:nvPr/>
        </p:nvPicPr>
        <p:blipFill>
          <a:blip r:embed="rId2"/>
          <a:stretch/>
        </p:blipFill>
        <p:spPr>
          <a:xfrm>
            <a:off x="285840" y="1357200"/>
            <a:ext cx="5118120" cy="37864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5286240" y="1000080"/>
            <a:ext cx="3857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ам нужно отдохну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ти закрывают глаза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глубоко вздохну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убокий вдох, глаза все так же закрыты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по кругу побегут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 открыты, движение зрачком по кругу по часовой и против часовой стрелки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раз они моргнут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ое моргание глазами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ам стало хорошо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е касание кончиками пальцев закрытых гла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ят мои глазки вс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!!!Включить следующий слайд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https://pp.userapi.com/c848636/v848636268/b8222/6bNI1b1l9Ek.jpg"/>
          <p:cNvPicPr/>
          <p:nvPr/>
        </p:nvPicPr>
        <p:blipFill>
          <a:blip r:embed="rId2"/>
          <a:stretch/>
        </p:blipFill>
        <p:spPr>
          <a:xfrm>
            <a:off x="3929040" y="500040"/>
            <a:ext cx="4929120" cy="587052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285840" y="428760"/>
            <a:ext cx="350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ьи были 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 вместе бабушки с дедушками, их дети и вн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мье было несколько детей. Старшие дети помогали младшим и уважали взросл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"/>
          <p:cNvSpPr/>
          <p:nvPr/>
        </p:nvSpPr>
        <p:spPr>
          <a:xfrm>
            <a:off x="500040" y="357120"/>
            <a:ext cx="32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214200" y="42876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- обе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14200" y="10000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 кукла с давних времён делалась из веточек и лоскутиков, сухой тра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символизировали всё тайное и волшебное, что есть в душ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553" descr="Русская народна кукла"/>
          <p:cNvPicPr/>
          <p:nvPr/>
        </p:nvPicPr>
        <p:blipFill>
          <a:blip r:embed="rId2"/>
          <a:stretch/>
        </p:blipFill>
        <p:spPr>
          <a:xfrm>
            <a:off x="214200" y="1928880"/>
            <a:ext cx="2887920" cy="30002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76" descr="Берегиня"/>
          <p:cNvPicPr/>
          <p:nvPr/>
        </p:nvPicPr>
        <p:blipFill>
          <a:blip r:embed="rId3"/>
          <a:stretch/>
        </p:blipFill>
        <p:spPr>
          <a:xfrm>
            <a:off x="3286080" y="1928880"/>
            <a:ext cx="2571840" cy="28922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78" descr="http://img-fotki.yandex.ru/get/6005/zaryanka-tlt.6/0_5a158_871afc8a_M"/>
          <p:cNvPicPr/>
          <p:nvPr/>
        </p:nvPicPr>
        <p:blipFill>
          <a:blip r:embed="rId4"/>
          <a:stretch/>
        </p:blipFill>
        <p:spPr>
          <a:xfrm>
            <a:off x="6072120" y="1857240"/>
            <a:ext cx="2616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s://i.pinimg.com/originals/b4/a1/12/b4a112be9a98ec94407da509172421fe.jpg"/>
          <p:cNvPicPr/>
          <p:nvPr/>
        </p:nvPicPr>
        <p:blipFill>
          <a:blip r:embed="rId2"/>
          <a:stretch/>
        </p:blipFill>
        <p:spPr>
          <a:xfrm>
            <a:off x="214200" y="85716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s://ds04.infourok.ru/uploads/ex/0cad/00004744-4ad0e729/hello_html_m698a0f3c.jpg"/>
          <p:cNvPicPr/>
          <p:nvPr/>
        </p:nvPicPr>
        <p:blipFill>
          <a:blip r:embed="rId3"/>
          <a:srcRect l="0" t="0" r="92" b="137"/>
          <a:stretch/>
        </p:blipFill>
        <p:spPr>
          <a:xfrm>
            <a:off x="4257720" y="3571920"/>
            <a:ext cx="4886280" cy="3286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6"/>
          <p:cNvSpPr/>
          <p:nvPr/>
        </p:nvSpPr>
        <p:spPr>
          <a:xfrm>
            <a:off x="4500720" y="7858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няные иг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285840" y="428616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ымковская иг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8"/>
          <p:cNvSpPr/>
          <p:nvPr/>
        </p:nvSpPr>
        <p:spPr>
          <a:xfrm>
            <a:off x="4500720" y="29289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лимоновская игр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https://s57.radikal.ru/i156/1501/4a/cb2599d2ee96.jpg"/>
          <p:cNvPicPr/>
          <p:nvPr/>
        </p:nvPicPr>
        <p:blipFill>
          <a:blip r:embed="rId2"/>
          <a:stretch/>
        </p:blipFill>
        <p:spPr>
          <a:xfrm>
            <a:off x="214200" y="1214280"/>
            <a:ext cx="3786480" cy="28022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1071720" y="5716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адай русскую народную ска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https://s017.radikal.ru/i415/1501/db/1f1c2cc3a8ca.jpg"/>
          <p:cNvPicPr/>
          <p:nvPr/>
        </p:nvPicPr>
        <p:blipFill>
          <a:blip r:embed="rId3"/>
          <a:stretch/>
        </p:blipFill>
        <p:spPr>
          <a:xfrm>
            <a:off x="5210280" y="1285920"/>
            <a:ext cx="3933720" cy="2714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Ð¢ÑÐ¸ Ð¼ÐµÐ´Ð²ÐµÐ´Ñ - ÑÑÑÑÐºÐ°Ñ Ð½Ð°ÑÐ¾Ð´Ð½Ð°Ñ ÑÐºÐ°Ð·ÐºÐ°"/>
          <p:cNvPicPr/>
          <p:nvPr/>
        </p:nvPicPr>
        <p:blipFill>
          <a:blip r:embed="rId4"/>
          <a:stretch/>
        </p:blipFill>
        <p:spPr>
          <a:xfrm>
            <a:off x="214200" y="4143240"/>
            <a:ext cx="3772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Ð Ð¿ÑÐµÐ´Ð½Ð¾Ð²Ð¾Ð³Ð¾Ð´Ð½ÑÑ Ð¿Ð¾ÑÑ ÑÐ¾Ð»ÑÐºÐ¾ ÑÐºÐ°Ð·ÐºÐ¸ ÑÐºÐ°Ð·ÑÐ²Ð°ÑÑ. Ð Ð²Ð¾Ñ Ð¸ ÑÑÑÑÐºÐ¸Ðµ Ð½Ð°ÑÐ¾Ð´Ð½ÑÐµ Ð¿Ð¾ÑÐ»Ð¾Ð²Ð¸ÑÑ Ð¸ Ð¿Ð¾Ð³Ð¾Ð²Ð¾ÑÐºÐ¸ Ð¾ ÑÐºÐ°Ð·ÐºÐ°Ñ. ÐÑÐ°ÑÐ¸Ð²ÑÐµ Ð¸ Ð¼ÑÐ´ÑÑÐµ!"/>
          <p:cNvPicPr/>
          <p:nvPr/>
        </p:nvPicPr>
        <p:blipFill>
          <a:blip r:embed="rId5"/>
          <a:stretch/>
        </p:blipFill>
        <p:spPr>
          <a:xfrm>
            <a:off x="5324400" y="4143240"/>
            <a:ext cx="3819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ttps://img.labirint.ru/images/comments_pic/1540/2_95488b0dcff4c80a0e1b3c01a4869452_1443734930.jpg"/>
          <p:cNvPicPr/>
          <p:nvPr/>
        </p:nvPicPr>
        <p:blipFill>
          <a:blip r:embed="rId2"/>
          <a:srcRect l="0" t="0" r="0" b="65"/>
          <a:stretch/>
        </p:blipFill>
        <p:spPr>
          <a:xfrm>
            <a:off x="357120" y="642960"/>
            <a:ext cx="8358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-141120"/>
            <a:ext cx="9331200" cy="6995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62080" y="479520"/>
            <a:ext cx="864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7360" y="763560"/>
            <a:ext cx="8926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Буре Р.С. Социально – нравственное воспитание дошкольников, Мозаика – Синтез, 201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Малова В.В. Конспекты занятий по духовно-нравственному воспитанию дошкольников, Владос, 2010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Мулько И.Ф. Социально-нравственное воспитание детей 5-7 лет, Сфера,2009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От рождения до школы. Основная общеобразовательная программа дошкольного образования / Под ред. Н.Е. Вераксы, Т.С.Комаровой, М.А.Васильевой, Мозаика-Синтез,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http://www.metodichka.org/_asave/save1/byt_i_kultura_russkogo_naroda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0"/>
            <a:ext cx="9331200" cy="6997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2080" y="479520"/>
            <a:ext cx="86407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и и 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ывать интерес к истории и народному творчеств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с народным традициям и обыча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ширять представления о культуре русского нар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эстетическое и нравственное восприятие ми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ть представление об устройстве дома, об истории народного костюма, о народном промысле, о русском фольклор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totalarch.com/files/gallery/gc_2016_12_04.jpg"/>
          <p:cNvPicPr/>
          <p:nvPr/>
        </p:nvPicPr>
        <p:blipFill>
          <a:blip r:embed="rId2"/>
          <a:stretch/>
        </p:blipFill>
        <p:spPr>
          <a:xfrm>
            <a:off x="285840" y="714240"/>
            <a:ext cx="4236840" cy="2786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http://www.drugaya-arh.ru/200-text/arh-slov/pic-hata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071800"/>
            <a:ext cx="4373640" cy="29811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4"/>
          <p:cNvSpPr/>
          <p:nvPr/>
        </p:nvSpPr>
        <p:spPr>
          <a:xfrm>
            <a:off x="4643280" y="714240"/>
            <a:ext cx="428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давно на Руси жили в деревянных домах. Строили их из бревен и называли изб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285840" y="2142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из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5572080" y="1000080"/>
            <a:ext cx="30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традиционный дом состоит из двух частей: холодной (сени, клеть, подклеть) и тёплой (там, где находилась печь).  Всё в доме было продуманно до мелочей и выверено веками. Дом строился из сосны. А крышу крыли соломой или осиновыми дощечками. Передний конец крыши имел конёк – знак устремления. Только русские сравнивали дом с колесницей, которая должна привести семью к лучшему будущему. Снаружи дома украшались резь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s://kelohouse.ru/images/lemex/160x127x36.jpg.pagespeed.ic.32IzTC0jLc.jpg"/>
          <p:cNvPicPr/>
          <p:nvPr/>
        </p:nvPicPr>
        <p:blipFill>
          <a:blip r:embed="rId2"/>
          <a:stretch/>
        </p:blipFill>
        <p:spPr>
          <a:xfrm>
            <a:off x="214200" y="100008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900igr.net/up/datai/263465/0001-001-.jpg"/>
          <p:cNvPicPr/>
          <p:nvPr/>
        </p:nvPicPr>
        <p:blipFill>
          <a:blip r:embed="rId2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www.art-catalog.ru/data_picture_2016/picture/129/11682.jpg"/>
          <p:cNvPicPr/>
          <p:nvPr/>
        </p:nvPicPr>
        <p:blipFill>
          <a:blip r:embed="rId3"/>
          <a:stretch/>
        </p:blipFill>
        <p:spPr>
          <a:xfrm>
            <a:off x="214200" y="642960"/>
            <a:ext cx="4808520" cy="3357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img1.liveinternet.ru/images/attach/c/3/77/406/77406103_4bf4f21c80ff5351d55169f7c800b18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4920" y="2571840"/>
            <a:ext cx="4429080" cy="40575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8"/>
          <p:cNvSpPr/>
          <p:nvPr/>
        </p:nvSpPr>
        <p:spPr>
          <a:xfrm>
            <a:off x="5000760" y="571680"/>
            <a:ext cx="41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е была одна комната – горница. Она была и кухней и спальней. В обстановке избы нет ни одного лишнего предмета, каждая вещь имеет свое строго определенное назначение и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9"/>
          <p:cNvSpPr/>
          <p:nvPr/>
        </p:nvSpPr>
        <p:spPr>
          <a:xfrm>
            <a:off x="214200" y="3929040"/>
            <a:ext cx="43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нице стояли сундуки, которые служили хозяевам вместо шкафов, тумбочек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хранили одежду, ткани, украшения. Чем больше сундуков было в доме, тем богаче считалась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571680" y="285840"/>
            <a:ext cx="81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печь в из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http://a18003.rimg.info/icon/17615530005312f4a72fc8da96650b9b0eba3897cf.jpg">
            <a:hlinkClick r:id="rId2"/>
          </p:cNvPr>
          <p:cNvPicPr/>
          <p:nvPr/>
        </p:nvPicPr>
        <p:blipFill>
          <a:blip r:embed="rId3"/>
          <a:srcRect l="0" t="0" r="0" b="-53"/>
          <a:stretch/>
        </p:blipFill>
        <p:spPr>
          <a:xfrm>
            <a:off x="214200" y="2928960"/>
            <a:ext cx="4500720" cy="3751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http://900igr.net/datas/istorija/Russkij-byt/0027-027-Pech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84920" y="857160"/>
            <a:ext cx="4159080" cy="2457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s://media.informpskov.ru/pictures/20101113111940.jpg"/>
          <p:cNvPicPr/>
          <p:nvPr/>
        </p:nvPicPr>
        <p:blipFill>
          <a:blip r:embed="rId6"/>
          <a:stretch/>
        </p:blipFill>
        <p:spPr>
          <a:xfrm>
            <a:off x="5000760" y="3571920"/>
            <a:ext cx="4143240" cy="30319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6"/>
          <p:cNvSpPr/>
          <p:nvPr/>
        </p:nvSpPr>
        <p:spPr>
          <a:xfrm>
            <a:off x="214200" y="6429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и горницы ставили печь. О ней говорили: «Печь – всему голова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– значит, самая главная. Топили печь дровами. Русская печь, как мать родная, накормит и обогреет, когда надо вылечит и обсуш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угуне готовили пищу. Ухват использовали для того, чтобы достать из печи чугунок с горячей едой на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2"/>
          <p:cNvSpPr/>
          <p:nvPr/>
        </p:nvSpPr>
        <p:spPr>
          <a:xfrm>
            <a:off x="357120" y="4287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уси за водой ходили с коромысл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tropa_922"/>
          <p:cNvPicPr/>
          <p:nvPr/>
        </p:nvPicPr>
        <p:blipFill>
          <a:blip r:embed="rId2"/>
          <a:stretch/>
        </p:blipFill>
        <p:spPr>
          <a:xfrm>
            <a:off x="285840" y="928800"/>
            <a:ext cx="3571920" cy="298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content.foto.mail.ru/mail/lyudmila-1946/_blogs/i-18110.jpg"/>
          <p:cNvPicPr/>
          <p:nvPr/>
        </p:nvPicPr>
        <p:blipFill>
          <a:blip r:embed="rId3"/>
          <a:stretch/>
        </p:blipFill>
        <p:spPr>
          <a:xfrm>
            <a:off x="4000680" y="928800"/>
            <a:ext cx="5186160" cy="3071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im0-tub-ru.yandex.net/i?id=123309110-36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0280" y="3429000"/>
            <a:ext cx="2656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wlooks.ru/images/article/orig/2016/11/russkij-narodnyj-russkij-kostyum-2.jpg"/>
          <p:cNvPicPr/>
          <p:nvPr/>
        </p:nvPicPr>
        <p:blipFill>
          <a:blip r:embed="rId2"/>
          <a:srcRect l="0" t="0" r="114" b="0"/>
          <a:stretch/>
        </p:blipFill>
        <p:spPr>
          <a:xfrm>
            <a:off x="214200" y="928800"/>
            <a:ext cx="3857760" cy="54925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3"/>
          <p:cNvSpPr/>
          <p:nvPr/>
        </p:nvSpPr>
        <p:spPr>
          <a:xfrm>
            <a:off x="357120" y="42876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циональный костю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4286160" y="1000080"/>
            <a:ext cx="485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е традиционные наряды всегда делились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седневные и празднич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иболее роскошной считалась одежд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го цв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ряды для женщин всегда были интереснее и разнообразнее мужских. Со времен Древней Рус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костю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л из сорочницы (простой рубахи в пол), сарафана и передника. Неотъемлемой частью любого традиционного наряда всегда была вышивка. В каждой губернии она отличалась цветами и узорами. Вышивкой украшали подол и рук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ой костю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л из простой рубахи, штанов и поя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900igr.net/up/datai/263465/0001-001-.jpg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2"/>
          <p:cNvSpPr/>
          <p:nvPr/>
        </p:nvSpPr>
        <p:spPr>
          <a:xfrm>
            <a:off x="857160" y="57168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i?id=17692540-52-72&amp;n=21"/>
          <p:cNvPicPr/>
          <p:nvPr/>
        </p:nvPicPr>
        <p:blipFill>
          <a:blip r:embed="rId2"/>
          <a:stretch/>
        </p:blipFill>
        <p:spPr>
          <a:xfrm>
            <a:off x="500040" y="571680"/>
            <a:ext cx="3286080" cy="319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i?id=431694681-20-72&amp;n=21"/>
          <p:cNvPicPr/>
          <p:nvPr/>
        </p:nvPicPr>
        <p:blipFill>
          <a:blip r:embed="rId3"/>
          <a:stretch/>
        </p:blipFill>
        <p:spPr>
          <a:xfrm>
            <a:off x="5429160" y="571680"/>
            <a:ext cx="3429000" cy="321120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5"/>
          <p:cNvSpPr/>
          <p:nvPr/>
        </p:nvSpPr>
        <p:spPr>
          <a:xfrm>
            <a:off x="142920" y="385776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 – один из самых древних видов обуви. Делались лапти и из коры ракиты (верзки), ивы (ивняки), вяза (вязовики), березы (берестянники), дуба (дубовики), из тала (шелюжники), из пеньковых оческов, старых веревок (курпы, крутцы, чуни, шептуны), из конского волоса – грив и хвостов – (волосянники), и даже из соломы (соломенни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User</cp:lastModifiedBy>
  <dcterms:modified xsi:type="dcterms:W3CDTF">2020-09-13T13:48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60000000000010290110207f7000400038000</vt:lpwstr>
  </property>
</Properties>
</file>