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D416A-A237-4151-84A8-D9C0C5429D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EC220-146E-4512-A1FD-7DE0E6681C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FAA0F-93B7-4FDF-A572-087ABBFA4A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ED318-813B-45B4-BA92-BF51D40495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BA147-9011-4E2E-BC96-7D9F23C67E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76852-521C-4778-A0E2-06BE2603E7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6AB00-3779-4308-A438-B9543717F2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5DD2A-3234-4C93-B8AC-138AA097A3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D50EB-D80F-45BD-A39C-F15C16B6B0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29812-B0A7-442D-8A4A-0B03D041C6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847A2-2A47-4AA1-B012-B811B22CCF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6B365-94BD-4657-8575-BFA69728A2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8C0-CC94-4FA6-8517-98CBF8A4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9FA-0C82-4090-97D8-606607A6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F3D-50C4-4AD5-BEF4-9747721E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863-DCBE-44D7-A15E-9F00D613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2C5-18C4-44D6-B69A-913C6A6A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07B-71D7-40DB-96A2-1925B674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FCD-437A-4DE5-A6A1-30A34AC8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18D-2CBA-41F5-9FB2-2807683C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E58-9158-4119-849E-72BF1FAC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A23-A2EB-4E55-A595-5A7EF51F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7A1-FD53-4657-A74E-949CC4E0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F7C-974C-4E7A-8CA2-3E1489C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703BEC-21BA-4B73-982A-B7F26FFC19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944720"/>
            <a:ext cx="10080720" cy="48528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592360" y="5003640"/>
            <a:ext cx="50389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13 г.Павловский По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акова Виталина Витал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6920" y="87480"/>
            <a:ext cx="9791640" cy="71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If the government 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giv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more money to the factory it 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not clos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. If the government _______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build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flood barriers, we _______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not hav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the floods last year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. If Dan _______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know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how to swim, he __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not drown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. If Molly ________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listen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to the weather- forecast, she __________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know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it was going to rain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5. If Greg __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tell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me he was ill, I  __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b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more sympathetic. 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6. If she _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prepar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for the exam, she  ___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pass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it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7. If Bill 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se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the house, he 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not buy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280" y="322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UNLES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31640" y="1728720"/>
            <a:ext cx="898704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I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they invite me to the party, I won’t go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3b3b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3b3b3"/>
                </a:solidFill>
                <a:latin typeface="Arial"/>
              </a:rPr>
              <a:t>Если они пригласят меня на вечеринку, то я не п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Unles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they invite me to the party, I won’t 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3b3b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3b3b3"/>
                </a:solidFill>
                <a:latin typeface="Arial"/>
              </a:rPr>
              <a:t>Если они не пригласят меня на вечеринку, то я не пой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20720" y="2087640"/>
            <a:ext cx="8783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I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you do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'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do your homework, you will get a bad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Unles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you do your homework, you will get a bad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192720" y="6443640"/>
            <a:ext cx="38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итель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У СОШ №13 г.Павловский Пос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накова Виталина Виталье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920" y="144360"/>
            <a:ext cx="10007640" cy="2500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типы условных предложений состоят из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вух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частей: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главной части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придаточной (условной) части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2734920"/>
            <a:ext cx="907128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даточная часть выражает условие и содержит слов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 algn="ctr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Unicode MS"/>
              </a:rPr>
              <a:t>If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-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 algn="ctr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Unicode MS"/>
              </a:rPr>
              <a:t>When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-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 algn="ctr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Unicode MS"/>
              </a:rPr>
              <a:t>Unless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- если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36720" y="5904000"/>
            <a:ext cx="87120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вная часть показывает результат соблюдения условия придаточной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224360" y="7207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Zero Condit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1640" y="2376000"/>
            <a:ext cx="90712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потребляется, если речь идет о научных фактах, прописных истинах, очевидных причинах и следст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31640" y="4176720"/>
            <a:ext cx="907128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Present Simple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Present Simple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76360" y="5873760"/>
            <a:ext cx="90709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6016680" y="0"/>
            <a:ext cx="4043160" cy="208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431640" y="3887640"/>
            <a:ext cx="9360000" cy="1409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87280" y="5413320"/>
            <a:ext cx="95043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you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eat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much, you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gain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600360" y="5332320"/>
            <a:ext cx="324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 = whe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31640" y="6264360"/>
            <a:ext cx="93600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ater and oil do not mix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you combin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ater and oil do not mix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whe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you combin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360" y="0"/>
            <a:ext cx="1008072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The grass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ge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wet when it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rain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If you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(to hea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ice, it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mel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If you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mix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green and blue, you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not to ge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purple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If public transport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be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efficient, people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stop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using their cars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If people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ea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too much, they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ge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fat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 People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die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if they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not to ea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. You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ge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water if you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mix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hydrogen and oxygen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. Snakes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bite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if they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be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scared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. If babies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be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hungry, they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cry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872000" y="322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Conditional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717200"/>
            <a:ext cx="9070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ет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уществим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итуаци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могут относиться к настоящему или будущ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04720" y="4000680"/>
            <a:ext cx="9070920" cy="13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Present Simple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Future Simple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47640" y="5543640"/>
            <a:ext cx="90709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I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find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a good job, I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will be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ha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503280" y="3672000"/>
            <a:ext cx="936000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5759280" y="0"/>
            <a:ext cx="41040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7439040" y="0"/>
            <a:ext cx="264168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000" y="-319320"/>
            <a:ext cx="9791640" cy="8815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Many wildlife habitats will be destroy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man 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keep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olluting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we dump all sorts of chemicals into river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not be able to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wim in them in the future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If we 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not stop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utting down so many trees, we _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endanger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ur oxygen supply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If the global temperature _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ri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sea levels 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ris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o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People _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run out of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rinking water one day if they _______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not us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t more rationally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f a human ___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wan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help the planet, then he ______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have to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hange his habits.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800360" y="46512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Conditional 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401400" indent="-3009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ватывае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аловероятные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воображаемые  ситуаци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сящиеся к настоящему или будущ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936720" y="3527280"/>
            <a:ext cx="90709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Past Simple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would+verb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31640" y="6335640"/>
            <a:ext cx="979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I 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had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more money, I 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would live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in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 palace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503280" y="3348000"/>
            <a:ext cx="9360000" cy="140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6408720" y="71280"/>
            <a:ext cx="3527280" cy="2592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76360" y="4859280"/>
            <a:ext cx="90709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t">
            <a:no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Note: в условной части глагол </a:t>
            </a:r>
            <a:r>
              <a:rPr b="1" lang="ru-RU" sz="3200" spc="-1" strike="noStrike">
                <a:solidFill>
                  <a:srgbClr val="008080"/>
                </a:solidFill>
                <a:latin typeface="Bookman Old Style"/>
              </a:rPr>
              <a:t>to be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может иметь форму </a:t>
            </a:r>
            <a:r>
              <a:rPr b="1" lang="ru-RU" sz="3200" spc="-1" strike="noStrike">
                <a:solidFill>
                  <a:srgbClr val="008080"/>
                </a:solidFill>
                <a:latin typeface="Bookman Old Style"/>
              </a:rPr>
              <a:t>were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для любых подлежащ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If I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were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you, I would read this fantasy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44360" y="73080"/>
          <a:ext cx="5159520" cy="7562880"/>
        </p:xfrm>
        <a:graphic>
          <a:graphicData uri="http://schemas.openxmlformats.org/drawingml/2006/table">
            <a:tbl>
              <a:tblPr/>
              <a:tblGrid>
                <a:gridCol w="515952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What would you do if 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other student ask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copy your homework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were bullied at school or work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t lost in the forest at nigh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one stole your bicycl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saw a friend stealing something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were stuck in a lif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r mobile phone fell in the toile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9" descr=""/>
          <p:cNvPicPr/>
          <p:nvPr/>
        </p:nvPicPr>
        <p:blipFill>
          <a:blip r:embed="rId1"/>
          <a:stretch/>
        </p:blipFill>
        <p:spPr>
          <a:xfrm>
            <a:off x="5826240" y="1800360"/>
            <a:ext cx="1735200" cy="165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0" descr=""/>
          <p:cNvPicPr/>
          <p:nvPr/>
        </p:nvPicPr>
        <p:blipFill>
          <a:blip r:embed="rId2"/>
          <a:stretch/>
        </p:blipFill>
        <p:spPr>
          <a:xfrm>
            <a:off x="7777080" y="1728720"/>
            <a:ext cx="1654200" cy="208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1" descr=""/>
          <p:cNvPicPr/>
          <p:nvPr/>
        </p:nvPicPr>
        <p:blipFill>
          <a:blip r:embed="rId3"/>
          <a:stretch/>
        </p:blipFill>
        <p:spPr>
          <a:xfrm>
            <a:off x="4549680" y="3600360"/>
            <a:ext cx="1930320" cy="165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2" descr=""/>
          <p:cNvPicPr/>
          <p:nvPr/>
        </p:nvPicPr>
        <p:blipFill>
          <a:blip r:embed="rId4"/>
          <a:stretch/>
        </p:blipFill>
        <p:spPr>
          <a:xfrm>
            <a:off x="7056360" y="5610240"/>
            <a:ext cx="1944720" cy="187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3" descr=""/>
          <p:cNvPicPr/>
          <p:nvPr/>
        </p:nvPicPr>
        <p:blipFill>
          <a:blip r:embed="rId5"/>
          <a:stretch/>
        </p:blipFill>
        <p:spPr>
          <a:xfrm>
            <a:off x="5145120" y="5400720"/>
            <a:ext cx="147780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4" descr=""/>
          <p:cNvPicPr/>
          <p:nvPr/>
        </p:nvPicPr>
        <p:blipFill>
          <a:blip r:embed="rId6"/>
          <a:stretch/>
        </p:blipFill>
        <p:spPr>
          <a:xfrm>
            <a:off x="6624720" y="3743280"/>
            <a:ext cx="1584360" cy="151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5" descr=""/>
          <p:cNvPicPr/>
          <p:nvPr/>
        </p:nvPicPr>
        <p:blipFill>
          <a:blip r:embed="rId7"/>
          <a:stretch/>
        </p:blipFill>
        <p:spPr>
          <a:xfrm>
            <a:off x="8352000" y="3600360"/>
            <a:ext cx="1655640" cy="18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8" descr=""/>
          <p:cNvPicPr/>
          <p:nvPr/>
        </p:nvPicPr>
        <p:blipFill>
          <a:blip r:embed="rId8"/>
          <a:stretch/>
        </p:blipFill>
        <p:spPr>
          <a:xfrm>
            <a:off x="5975280" y="3451320"/>
            <a:ext cx="3603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"/>
          <p:cNvPicPr/>
          <p:nvPr/>
        </p:nvPicPr>
        <p:blipFill>
          <a:blip r:embed="rId9"/>
          <a:stretch/>
        </p:blipFill>
        <p:spPr>
          <a:xfrm>
            <a:off x="8064360" y="3672000"/>
            <a:ext cx="314640" cy="604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0" descr=""/>
          <p:cNvPicPr/>
          <p:nvPr/>
        </p:nvPicPr>
        <p:blipFill>
          <a:blip r:embed="rId10"/>
          <a:stretch/>
        </p:blipFill>
        <p:spPr>
          <a:xfrm>
            <a:off x="8901000" y="3743280"/>
            <a:ext cx="459000" cy="60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1" descr=""/>
          <p:cNvPicPr/>
          <p:nvPr/>
        </p:nvPicPr>
        <p:blipFill>
          <a:blip r:embed="rId11"/>
          <a:stretch/>
        </p:blipFill>
        <p:spPr>
          <a:xfrm>
            <a:off x="6335640" y="6840360"/>
            <a:ext cx="314280" cy="60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2" descr=""/>
          <p:cNvPicPr/>
          <p:nvPr/>
        </p:nvPicPr>
        <p:blipFill>
          <a:blip r:embed="rId12"/>
          <a:stretch/>
        </p:blipFill>
        <p:spPr>
          <a:xfrm>
            <a:off x="9072720" y="6335640"/>
            <a:ext cx="360360" cy="792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3"/>
          <p:cNvSpPr/>
          <p:nvPr/>
        </p:nvSpPr>
        <p:spPr>
          <a:xfrm>
            <a:off x="4896000" y="109440"/>
            <a:ext cx="54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dobe Garamond Pro"/>
              </a:rPr>
              <a:t>If another student asked me to copy my homework, I would say «No». It's pic 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440000" y="14436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Conditional 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6920" y="1357200"/>
            <a:ext cx="575964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ывает невыполненные условия в прошлом, ситуацию, которую нельзя изме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31640" y="3887640"/>
            <a:ext cx="936000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327640" y="1079640"/>
            <a:ext cx="4705200" cy="2663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92000" y="4032360"/>
            <a:ext cx="885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Past Perfect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would have +V</a:t>
            </a:r>
            <a:r>
              <a:rPr b="0" i="1" lang="ru-RU" sz="2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03280" y="5468760"/>
            <a:ext cx="907236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4400" spc="-1" strike="noStrike">
                <a:solidFill>
                  <a:srgbClr val="333333"/>
                </a:solidFill>
                <a:latin typeface="Arial"/>
              </a:rPr>
              <a:t>had listened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to your advice, I </a:t>
            </a:r>
            <a:r>
              <a:rPr b="0" lang="ru-RU" sz="4400" spc="-1" strike="noStrike">
                <a:solidFill>
                  <a:srgbClr val="333333"/>
                </a:solidFill>
                <a:latin typeface="Arial"/>
              </a:rPr>
              <a:t>would have been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saf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But now I am in a hospit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13:52:57Z</dcterms:created>
  <dc:creator/>
  <dc:description/>
  <dc:language>en-US</dc:language>
  <cp:lastModifiedBy>Пуся-Лапуся</cp:lastModifiedBy>
  <dcterms:modified xsi:type="dcterms:W3CDTF">2018-11-05T12:31:19Z</dcterms:modified>
  <cp:revision>5</cp:revision>
  <dc:subject/>
  <dc:title>Conditionals</dc:title>
</cp:coreProperties>
</file>