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37A5C-EA7C-4A38-B773-89F8E99E1F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9D0D9-B427-4B4E-899C-34EB19C99A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849C6-8750-44DB-97B8-9E38CB2DE2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5008B-494F-4EC8-B318-BAC019FCC1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18BE7-BE3A-4391-AF1C-79B7A6B0A7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2B197-A428-48AB-BE11-D27203F23D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5AF92-BB4B-4419-9705-C8DC8B505A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24058-3AC6-4C84-AC7F-7128965F75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AC4B8-769D-4BA1-8950-C4CE6D7D12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6D0DE-2AA1-409B-9D34-D77180FCDF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49E58-B07C-4AD8-8B2E-45A7EA6DA0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C02ED-5F84-4D60-B65C-1FDD8BB889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F65-63B6-4099-A799-F888FC9B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9AE-193C-45FD-9B2D-6398986A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E8E-E4DB-43CC-9C6C-F6ACC50F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242-F9C9-4B49-9C9A-1F33CC3F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D01-819F-4B53-9ED8-C12EE5C6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D83-1601-4964-BF54-DEFD4834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4BA-784F-4599-A2B5-55F74FBE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237-17E8-4D14-9943-CEA02992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EA5-8149-444C-99FB-B103F406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A39-65BB-4981-921B-EEA25BD6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471-007E-4A2C-86BD-68D5B6B7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B70-D214-42F2-89E1-B94C8E40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B6F293-86D4-4196-BFFC-9B081499EF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944720"/>
            <a:ext cx="10080720" cy="48528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592360" y="5003640"/>
            <a:ext cx="50389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СОШ №13 г.Павловский По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акова Виталина Витал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6920" y="87480"/>
            <a:ext cx="9791640" cy="71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. If the government 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give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more money to the factory it 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not close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. If the government _______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build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flood barriers, we _______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not have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the floods last year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. If Dan _______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know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how to swim, he ___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not drown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. If Molly ________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listen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to the weather- forecast, she __________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know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it was going to rain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5. If Greg ___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tell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me he was ill, I  ___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be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more sympathetic. 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6. If she __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prepare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for the exam, she  ____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pass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it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7. If Bill _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see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the house, he ______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(not buy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280" y="322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UNLES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31640" y="1728720"/>
            <a:ext cx="898704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If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they invite me to the party, I won’t go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b3b3b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3b3b3"/>
                </a:solidFill>
                <a:latin typeface="Arial"/>
              </a:rPr>
              <a:t>Если они пригласят меня на вечеринку, то я не п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Unles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they invite me to the party, I won’t 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b3b3b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3b3b3"/>
                </a:solidFill>
                <a:latin typeface="Arial"/>
              </a:rPr>
              <a:t>Если они не пригласят меня на вечеринку, то я не пой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720720" y="2087640"/>
            <a:ext cx="8783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If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you do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n'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do your homework, you will get a bad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Unles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you do your homework, you will get a bad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192720" y="6443640"/>
            <a:ext cx="38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ю подготов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итель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У СОШ №13 г.Павловский Пос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накова Виталина Виталье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920" y="144360"/>
            <a:ext cx="10007640" cy="2500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типы условных предложений состоят из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вух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частей: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главной части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придаточной (условной) части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2734920"/>
            <a:ext cx="907128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даточная часть выражает условие и содержит слов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 algn="ctr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Unicode MS"/>
              </a:rPr>
              <a:t>If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- е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 algn="ctr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Unicode MS"/>
              </a:rPr>
              <a:t>When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- 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 algn="ctr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 Unicode MS"/>
              </a:rPr>
              <a:t>Unless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 - если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36720" y="5904000"/>
            <a:ext cx="87120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авная часть показывает результат соблюдения условия придаточной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224360" y="7207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Zero Conditio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1640" y="2376000"/>
            <a:ext cx="907128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потребляется, если речь идет о научных фактах, прописных истинах, очевидных причинах и следст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31640" y="4176720"/>
            <a:ext cx="907128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808080"/>
                </a:solidFill>
                <a:latin typeface="Arial"/>
              </a:rPr>
              <a:t>Present Simple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ru-RU" sz="4400" spc="-1" strike="noStrike">
                <a:solidFill>
                  <a:srgbClr val="808080"/>
                </a:solidFill>
                <a:latin typeface="Arial"/>
              </a:rPr>
              <a:t>Present Simple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76360" y="5873760"/>
            <a:ext cx="90709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6016680" y="0"/>
            <a:ext cx="4043160" cy="2087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431640" y="3887640"/>
            <a:ext cx="9360000" cy="1409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287280" y="5413320"/>
            <a:ext cx="95043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you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eat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much, you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gain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600360" y="5332320"/>
            <a:ext cx="3240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If = whe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31640" y="6264360"/>
            <a:ext cx="93600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ater and oil do not mix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you combin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ater and oil do not mix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whe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you combin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360" y="0"/>
            <a:ext cx="10080720" cy="76327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The grass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get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wet when it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rain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If you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(to heat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ice, it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melt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If you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mix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green and blue, you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not to get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purple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If public transport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be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efficient, people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stop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using their cars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 If people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eat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too much, they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get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fat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. People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die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if they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not to eat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. You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get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water if you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mix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hydrogen and oxygen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. Snakes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bite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if they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be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scared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. If babies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be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hungry, they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(to cry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872000" y="322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Conditional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717200"/>
            <a:ext cx="9070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ает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существим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итуации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могут относиться к настоящему или будущ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04720" y="4000680"/>
            <a:ext cx="9070920" cy="13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808080"/>
                </a:solidFill>
                <a:latin typeface="Arial"/>
              </a:rPr>
              <a:t>Present Simple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ru-RU" sz="4400" spc="-1" strike="noStrike">
                <a:solidFill>
                  <a:srgbClr val="808080"/>
                </a:solidFill>
                <a:latin typeface="Arial"/>
              </a:rPr>
              <a:t>Future Simple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47640" y="5543640"/>
            <a:ext cx="90709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I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find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a good job, I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will be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happ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503280" y="3672000"/>
            <a:ext cx="9360000" cy="1409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5759280" y="0"/>
            <a:ext cx="410400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7439040" y="0"/>
            <a:ext cx="2641680" cy="2376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000" y="-319320"/>
            <a:ext cx="9791640" cy="8815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Many wildlife habitats will be destroy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man _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keep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olluting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vironment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we dump all sorts of chemicals into river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not be able to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wim in them in the future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If we _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not stop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utting down so many trees, we ___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endanger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ur oxygen supply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If the global temperature ___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ri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sea levels __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rise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o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People ___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run out of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rinking water one day if they _______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not use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t more rationally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If a human _____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wan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 help the planet, then he _____________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have to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hange his habits.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800360" y="46512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Conditional 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401400" indent="-3009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ватывае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аловероятные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воображаемые  ситуации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сящиеся к настоящему или будущ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936720" y="3527280"/>
            <a:ext cx="90709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808080"/>
                </a:solidFill>
                <a:latin typeface="Arial"/>
              </a:rPr>
              <a:t>Past Simple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ru-RU" sz="4400" spc="-1" strike="noStrike">
                <a:solidFill>
                  <a:srgbClr val="808080"/>
                </a:solidFill>
                <a:latin typeface="Arial"/>
              </a:rPr>
              <a:t>would+verb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31640" y="6335640"/>
            <a:ext cx="9792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I 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had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more money, I 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would live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in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 palace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503280" y="3348000"/>
            <a:ext cx="9360000" cy="140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6408720" y="71280"/>
            <a:ext cx="3527280" cy="2592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576360" y="4859280"/>
            <a:ext cx="90709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" bIns="0" anchor="t">
            <a:no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Note: в условной части глагол </a:t>
            </a:r>
            <a:r>
              <a:rPr b="1" lang="ru-RU" sz="3200" spc="-1" strike="noStrike">
                <a:solidFill>
                  <a:srgbClr val="008080"/>
                </a:solidFill>
                <a:latin typeface="Bookman Old Style"/>
              </a:rPr>
              <a:t>to be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может иметь форму </a:t>
            </a:r>
            <a:r>
              <a:rPr b="1" lang="ru-RU" sz="3200" spc="-1" strike="noStrike">
                <a:solidFill>
                  <a:srgbClr val="008080"/>
                </a:solidFill>
                <a:latin typeface="Bookman Old Style"/>
              </a:rPr>
              <a:t>were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для любых подлежащ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If I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were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you, I would read this fantasy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44360" y="73080"/>
          <a:ext cx="5159520" cy="7562880"/>
        </p:xfrm>
        <a:graphic>
          <a:graphicData uri="http://schemas.openxmlformats.org/drawingml/2006/table">
            <a:tbl>
              <a:tblPr/>
              <a:tblGrid>
                <a:gridCol w="515952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What would you do if 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other student ask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copy your homework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were bullied at school or work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t lost in the forest at night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one stole your bicycle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saw a friend stealing something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were stuck in a lift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r mobile phone fell in the toilet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Picture 39" descr=""/>
          <p:cNvPicPr/>
          <p:nvPr/>
        </p:nvPicPr>
        <p:blipFill>
          <a:blip r:embed="rId1"/>
          <a:stretch/>
        </p:blipFill>
        <p:spPr>
          <a:xfrm>
            <a:off x="5826240" y="1800360"/>
            <a:ext cx="1735200" cy="165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0" descr=""/>
          <p:cNvPicPr/>
          <p:nvPr/>
        </p:nvPicPr>
        <p:blipFill>
          <a:blip r:embed="rId2"/>
          <a:stretch/>
        </p:blipFill>
        <p:spPr>
          <a:xfrm>
            <a:off x="7777080" y="1728720"/>
            <a:ext cx="1654200" cy="208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1" descr=""/>
          <p:cNvPicPr/>
          <p:nvPr/>
        </p:nvPicPr>
        <p:blipFill>
          <a:blip r:embed="rId3"/>
          <a:stretch/>
        </p:blipFill>
        <p:spPr>
          <a:xfrm>
            <a:off x="4549680" y="3600360"/>
            <a:ext cx="1930320" cy="165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2" descr=""/>
          <p:cNvPicPr/>
          <p:nvPr/>
        </p:nvPicPr>
        <p:blipFill>
          <a:blip r:embed="rId4"/>
          <a:stretch/>
        </p:blipFill>
        <p:spPr>
          <a:xfrm>
            <a:off x="7056360" y="5610240"/>
            <a:ext cx="1944720" cy="187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3" descr=""/>
          <p:cNvPicPr/>
          <p:nvPr/>
        </p:nvPicPr>
        <p:blipFill>
          <a:blip r:embed="rId5"/>
          <a:stretch/>
        </p:blipFill>
        <p:spPr>
          <a:xfrm>
            <a:off x="5145120" y="5400720"/>
            <a:ext cx="1477800" cy="208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4" descr=""/>
          <p:cNvPicPr/>
          <p:nvPr/>
        </p:nvPicPr>
        <p:blipFill>
          <a:blip r:embed="rId6"/>
          <a:stretch/>
        </p:blipFill>
        <p:spPr>
          <a:xfrm>
            <a:off x="6624720" y="3743280"/>
            <a:ext cx="1584360" cy="151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5" descr=""/>
          <p:cNvPicPr/>
          <p:nvPr/>
        </p:nvPicPr>
        <p:blipFill>
          <a:blip r:embed="rId7"/>
          <a:stretch/>
        </p:blipFill>
        <p:spPr>
          <a:xfrm>
            <a:off x="8352000" y="3600360"/>
            <a:ext cx="1655640" cy="18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8" descr=""/>
          <p:cNvPicPr/>
          <p:nvPr/>
        </p:nvPicPr>
        <p:blipFill>
          <a:blip r:embed="rId8"/>
          <a:stretch/>
        </p:blipFill>
        <p:spPr>
          <a:xfrm>
            <a:off x="5975280" y="3451320"/>
            <a:ext cx="3603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9" descr=""/>
          <p:cNvPicPr/>
          <p:nvPr/>
        </p:nvPicPr>
        <p:blipFill>
          <a:blip r:embed="rId9"/>
          <a:stretch/>
        </p:blipFill>
        <p:spPr>
          <a:xfrm>
            <a:off x="8064360" y="3672000"/>
            <a:ext cx="314640" cy="604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0" descr=""/>
          <p:cNvPicPr/>
          <p:nvPr/>
        </p:nvPicPr>
        <p:blipFill>
          <a:blip r:embed="rId10"/>
          <a:stretch/>
        </p:blipFill>
        <p:spPr>
          <a:xfrm>
            <a:off x="8901000" y="3743280"/>
            <a:ext cx="459000" cy="60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1" descr=""/>
          <p:cNvPicPr/>
          <p:nvPr/>
        </p:nvPicPr>
        <p:blipFill>
          <a:blip r:embed="rId11"/>
          <a:stretch/>
        </p:blipFill>
        <p:spPr>
          <a:xfrm>
            <a:off x="6335640" y="6840360"/>
            <a:ext cx="314280" cy="60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2" descr=""/>
          <p:cNvPicPr/>
          <p:nvPr/>
        </p:nvPicPr>
        <p:blipFill>
          <a:blip r:embed="rId12"/>
          <a:stretch/>
        </p:blipFill>
        <p:spPr>
          <a:xfrm>
            <a:off x="9072720" y="6335640"/>
            <a:ext cx="360360" cy="792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3"/>
          <p:cNvSpPr/>
          <p:nvPr/>
        </p:nvSpPr>
        <p:spPr>
          <a:xfrm>
            <a:off x="4896000" y="109440"/>
            <a:ext cx="54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dobe Garamond Pro"/>
              </a:rPr>
              <a:t>If another student asked me to copy my homework, I would say «No». It's pic 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440000" y="14436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Conditional I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6920" y="1357200"/>
            <a:ext cx="575964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ывает невыполненные условия в прошлом, ситуацию, которую нельзя изме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431640" y="3887640"/>
            <a:ext cx="936000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327640" y="1079640"/>
            <a:ext cx="4705200" cy="2663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92000" y="4032360"/>
            <a:ext cx="885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808080"/>
                </a:solidFill>
                <a:latin typeface="Arial"/>
              </a:rPr>
              <a:t>Past Perfect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ru-RU" sz="4400" spc="-1" strike="noStrike">
                <a:solidFill>
                  <a:srgbClr val="808080"/>
                </a:solidFill>
                <a:latin typeface="Arial"/>
              </a:rPr>
              <a:t>would have +V</a:t>
            </a:r>
            <a:r>
              <a:rPr b="0" i="1" lang="ru-RU" sz="2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03280" y="5468760"/>
            <a:ext cx="907236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ru-RU" sz="4400" spc="-1" strike="noStrike">
                <a:solidFill>
                  <a:srgbClr val="333333"/>
                </a:solidFill>
                <a:latin typeface="Arial"/>
              </a:rPr>
              <a:t>had listened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to your advice, I </a:t>
            </a:r>
            <a:r>
              <a:rPr b="0" lang="ru-RU" sz="4400" spc="-1" strike="noStrike">
                <a:solidFill>
                  <a:srgbClr val="333333"/>
                </a:solidFill>
                <a:latin typeface="Arial"/>
              </a:rPr>
              <a:t>would have been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saf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But now I am in a hospit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13:52:57Z</dcterms:created>
  <dc:creator/>
  <dc:description/>
  <dc:language>en-US</dc:language>
  <cp:lastModifiedBy>Пуся-Лапуся</cp:lastModifiedBy>
  <dcterms:modified xsi:type="dcterms:W3CDTF">2018-11-05T12:31:19Z</dcterms:modified>
  <cp:revision>5</cp:revision>
  <dc:subject/>
  <dc:title>Conditionals</dc:title>
</cp:coreProperties>
</file>