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E78-29FC-439F-824C-167BDB28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912-0025-4D13-8D83-F1B0D4C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896-8071-4344-9AA8-1FCEA272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50C-E2A1-4B4C-83D4-19DFDD16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DE1-AD8C-41D3-AD53-0FC7763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C6E-648F-412C-A772-C9B9BDF1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759-6AFB-42EE-B6B0-94ED7B9B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93D-DA56-4E03-B543-A050602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CA9-776D-46C2-81F9-75B6E2B9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FC1-4022-469A-8A6F-A3B07EB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6FA-23AB-43AA-B26B-0035B389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0FB-731F-4887-B2D6-2268BED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0043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5176-F2CC-4313-A562-CEB026986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ятельностный подход в обучении младших школьников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85440" y="5929200"/>
            <a:ext cx="7558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учитель"/>
          <p:cNvPicPr/>
          <p:nvPr/>
        </p:nvPicPr>
        <p:blipFill>
          <a:blip r:embed="rId1"/>
          <a:stretch/>
        </p:blipFill>
        <p:spPr>
          <a:xfrm>
            <a:off x="357120" y="4286160"/>
            <a:ext cx="250056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рефлекс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флекторно-оценоч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ворчески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j0356713[1]"/>
          <p:cNvPicPr/>
          <p:nvPr/>
        </p:nvPicPr>
        <p:blipFill>
          <a:blip r:embed="rId1"/>
          <a:stretch/>
        </p:blipFill>
        <p:spPr>
          <a:xfrm>
            <a:off x="5572080" y="464328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о-оценочны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378080"/>
          <a:ext cx="8358120" cy="5194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577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выявленных связей и отношений в «чистом» виде (графическое изображ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предложенных задан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качества овладения каждым учащимся 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 учащихся по готовому образцу сво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проводить оценку собствен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в листе «Формирование способов действ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ображения освоения учащимися каждой конкр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1589040"/>
          <a:ext cx="8643960" cy="40546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л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ичных ошибок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ой отде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спос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, дифференци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ений, постро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хода из затруд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не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ок - выбор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вышенной труд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86868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85840" y="1397160"/>
          <a:ext cx="8643960" cy="510372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3640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77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по схеме, коррекция (для учащихся допустивших ошиб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стическая оценка возможностей, проверка качества овла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дифференцированной основе (учащиеся выбирают только те задания из числа предложенных, которые необходимы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 (по алгорит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задания повышенной трудности) для учащихся, выполнивших работу безошиб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зоны ближайше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7120" y="1214280"/>
          <a:ext cx="8286840" cy="485784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для учащихся, допустивших ошибк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ка качест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владения отдельными опер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заданий «Для товарища» (для учащихся, не допустивших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00040" y="1357200"/>
          <a:ext cx="8001000" cy="42148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40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работы в листе «Формирование способов действ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ое удовлетворение собственной рабо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Образование, чтобы достичь своей ц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отдельного ученика и для общ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азироваться на актуаль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зненном опыте отдельного человека…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ью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02a499217de5"/>
          <p:cNvPicPr/>
          <p:nvPr/>
        </p:nvPicPr>
        <p:blipFill>
          <a:blip r:embed="rId1"/>
          <a:stretch/>
        </p:blipFill>
        <p:spPr>
          <a:xfrm>
            <a:off x="642960" y="4500720"/>
            <a:ext cx="30002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 формы  и  методы 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, (различные  виды  иг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облемная  ситуа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бучение  через 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упповая  и  парная  раб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оценочная»  деятельность  учащихся (результа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4a"/>
          <p:cNvPicPr/>
          <p:nvPr/>
        </p:nvPicPr>
        <p:blipFill>
          <a:blip r:embed="rId1"/>
          <a:stretch/>
        </p:blipFill>
        <p:spPr>
          <a:xfrm>
            <a:off x="4071960" y="4500720"/>
            <a:ext cx="40719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тенц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 набор  ЗУ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тент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 качество  владения  и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4b"/>
          <p:cNvPicPr/>
          <p:nvPr/>
        </p:nvPicPr>
        <p:blipFill>
          <a:blip r:embed="rId1"/>
          <a:stretch/>
        </p:blipFill>
        <p:spPr>
          <a:xfrm>
            <a:off x="4214880" y="3857760"/>
            <a:ext cx="4500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 означает деятельностный подход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детей познавательного мотива (желания узнать, открыть, научиться) и конкретной учебной цели (понимания того, что именно нужно выяснить, освоить);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полнение учениками определённых действий для приобретения недостающих знаний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явление и освоение учащимися способа действия, позволяющего осознанно применять приобретённые знания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ирование у школьников умения контролировать свои действия – как после их завершения, так и по ходу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ключение содержания обучения в контекст решения значимых жизненных задач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Прямая со стрелкой 14"/>
          <p:cNvCxnSpPr/>
          <p:nvPr/>
        </p:nvCxnSpPr>
        <p:spPr>
          <a:xfrm>
            <a:off x="4500720" y="1071360"/>
            <a:ext cx="3072240" cy="3215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928520"/>
            <a:ext cx="8686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                                думать                                 сотруднич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6"/>
          <p:cNvCxnSpPr/>
          <p:nvPr/>
        </p:nvCxnSpPr>
        <p:spPr>
          <a:xfrm>
            <a:off x="4572000" y="1071360"/>
            <a:ext cx="26438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8"/>
          <p:cNvCxnSpPr/>
          <p:nvPr/>
        </p:nvCxnSpPr>
        <p:spPr>
          <a:xfrm flipH="1">
            <a:off x="1642680" y="1070640"/>
            <a:ext cx="28584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0"/>
          <p:cNvCxnSpPr/>
          <p:nvPr/>
        </p:nvCxnSpPr>
        <p:spPr>
          <a:xfrm flipH="1">
            <a:off x="4498200" y="107172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12"/>
          <p:cNvCxnSpPr/>
          <p:nvPr/>
        </p:nvCxnSpPr>
        <p:spPr>
          <a:xfrm flipH="1">
            <a:off x="2214360" y="1071360"/>
            <a:ext cx="2286720" cy="25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" name="Picture 10" descr="4c"/>
          <p:cNvPicPr/>
          <p:nvPr/>
        </p:nvPicPr>
        <p:blipFill>
          <a:blip r:embed="rId1"/>
          <a:stretch/>
        </p:blipFill>
        <p:spPr>
          <a:xfrm>
            <a:off x="428760" y="4143240"/>
            <a:ext cx="41432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ак составная часть деятельностного подход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убъективности воспит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ведущих видов деятельности и законов их см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сензитивных периодов разви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 – трансформ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одоления зоны приближающегося развития и организация в ней совместной деятельности детей и взросл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огащения, усиления, углубления детского разви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ектирования, конструирования и создания ситуации воспитывающ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зультативности каждого вида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ысокой мотивированности люб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флективности вся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трудничества при организации и управлении различным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авторучка"/>
          <p:cNvPicPr/>
          <p:nvPr/>
        </p:nvPicPr>
        <p:blipFill>
          <a:blip r:embed="rId1"/>
          <a:stretch/>
        </p:blipFill>
        <p:spPr>
          <a:xfrm>
            <a:off x="7667640" y="428760"/>
            <a:ext cx="1476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уроков в дидактической систем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метод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«открытия» нового зна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ефлекс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щеметодологической направлен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eti"/>
          <p:cNvPicPr/>
          <p:nvPr/>
        </p:nvPicPr>
        <p:blipFill>
          <a:blip r:embed="rId1"/>
          <a:stretch/>
        </p:blipFill>
        <p:spPr>
          <a:xfrm>
            <a:off x="5581800" y="3786120"/>
            <a:ext cx="35622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, задачи уроков рефлекс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ц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учащихся определять область своего незнания, умения объяснять причины своих ошибок, отбирать задания для устранения этих причи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лгоритма рефлексивного мыш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формированность способа действ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членять из общего способа действия отдельные операции, производить процессуальный контрол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7:27:50Z</dcterms:created>
  <dc:creator>SamLab.ws</dc:creator>
  <dc:description/>
  <dc:language>en-US</dc:language>
  <cp:lastModifiedBy>Рамиль</cp:lastModifiedBy>
  <dcterms:modified xsi:type="dcterms:W3CDTF">2011-06-03T18:39:58Z</dcterms:modified>
  <cp:revision>19</cp:revision>
  <dc:subject/>
  <dc:title>«Деятельностный подход в обучении младших школьников» </dc:title>
</cp:coreProperties>
</file>