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44E-43E0-446C-B78C-11F4E73C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DEA-9F68-4EB3-81BE-98ED006C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446-440E-4FCC-B37F-2BD93ADD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E5C-32B0-4165-A98C-D866DF99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D5F-61EB-4FDF-BB31-F4116223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E0D-E509-499C-A553-EF438447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7C7-E1FD-447B-9813-180AB7AC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09C-2EBE-42DE-A5DA-D4AE7D79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B7B-7451-4A23-90EE-80ADEAB7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305-17A6-497C-8CAF-32A6A98E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759-9823-4748-AFE7-BD21CE24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37B-EC34-47BC-A34E-EE7F6AFC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0043"/>
            </a:gs>
            <a:gs pos="100000">
              <a:srgbClr val="55261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11CA-C10E-48CF-8AB4-8AD98FA54A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ятельностный подход в обучении младших школьников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85440" y="5929200"/>
            <a:ext cx="75582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учитель"/>
          <p:cNvPicPr/>
          <p:nvPr/>
        </p:nvPicPr>
        <p:blipFill>
          <a:blip r:embed="rId1"/>
          <a:stretch/>
        </p:blipFill>
        <p:spPr>
          <a:xfrm>
            <a:off x="357120" y="4286160"/>
            <a:ext cx="250056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рефлекси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ефлекторно-оценочны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очно-мотивационны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онно-исполнительски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ворческий э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j0356713[1]"/>
          <p:cNvPicPr/>
          <p:nvPr/>
        </p:nvPicPr>
        <p:blipFill>
          <a:blip r:embed="rId1"/>
          <a:stretch/>
        </p:blipFill>
        <p:spPr>
          <a:xfrm>
            <a:off x="5572080" y="4643280"/>
            <a:ext cx="3000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торно-оценочный эта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57120" y="1378080"/>
          <a:ext cx="8358120" cy="519408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5778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14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ксация выявленных связей и отношений в «чистом» виде (графическое изображ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предложенных заданий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качества овладения каждым учащимся отдельными операц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проверка учащихся по готовому образцу своих раб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е проводить оценку собственных дейст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ксация результатов в листе «Формирование способов действ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ображения освоения учащимися каждой конкрет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очно-мотивационный эта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85840" y="1589040"/>
          <a:ext cx="8643960" cy="405468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45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чле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ичных ошибок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ждой отдель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ерации спосо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учащихся, допусти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шибки, дифференци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труднений, построение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хода из затрудн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учащихся, не допусти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шибок - выбор 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ческого харак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повышенной трудн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928800"/>
            <a:ext cx="86868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онно-исполнительский эта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85840" y="1397160"/>
          <a:ext cx="8643960" cy="510372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53640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77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заданий по схеме, коррекция (для учащихся допустивших ошибк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гностическая оценка возможностей, проверка качества овла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ьными операц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дифференцированной основе (учащиеся выбирают только те задания из числа предложенных, которые необходимы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овая (по алгоритм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95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заданий творческого характера (задания повышенной трудности) для учащихся, выполнивших работу безошибо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зоны ближайшего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эта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57120" y="1214280"/>
          <a:ext cx="8286840" cy="4857840"/>
        </p:xfrm>
        <a:graphic>
          <a:graphicData uri="http://schemas.openxmlformats.org/drawingml/2006/table">
            <a:tbl>
              <a:tblPr/>
              <a:tblGrid>
                <a:gridCol w="2762280"/>
                <a:gridCol w="2762280"/>
                <a:gridCol w="2762280"/>
              </a:tblGrid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заданий творческого характера (для учащихся, допустивших ошибк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рка качест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владения отдельными опер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ение заданий «Для товарища» (для учащихся, не допустивших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рабо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00040" y="1357200"/>
          <a:ext cx="8001000" cy="421488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40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ксация результатов работы в листе «Формирование способов действ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оциональное удовлетворение собственной рабо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Образование, чтобы достичь своей це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ля отдельного ученика и для общ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 базироваться на актуальн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изненном опыте отдельного человека…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ью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02a499217de5"/>
          <p:cNvPicPr/>
          <p:nvPr/>
        </p:nvPicPr>
        <p:blipFill>
          <a:blip r:embed="rId1"/>
          <a:stretch/>
        </p:blipFill>
        <p:spPr>
          <a:xfrm>
            <a:off x="642960" y="4500720"/>
            <a:ext cx="30002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е  формы  и  методы 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а, (различные  виды  игр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облемная  ситуац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бучение  через  деятель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рупповая  и  парная  рабо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«оценочная»  деятельность  учащихся (результа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4a"/>
          <p:cNvPicPr/>
          <p:nvPr/>
        </p:nvPicPr>
        <p:blipFill>
          <a:blip r:embed="rId1"/>
          <a:stretch/>
        </p:blipFill>
        <p:spPr>
          <a:xfrm>
            <a:off x="4071960" y="4500720"/>
            <a:ext cx="40719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петенци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 набор  ЗУН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петентнос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 качество  владения  и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4b"/>
          <p:cNvPicPr/>
          <p:nvPr/>
        </p:nvPicPr>
        <p:blipFill>
          <a:blip r:embed="rId1"/>
          <a:stretch/>
        </p:blipFill>
        <p:spPr>
          <a:xfrm>
            <a:off x="4214880" y="3857760"/>
            <a:ext cx="45003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 означает деятельностный подход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•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у детей познавательного мотива (желания узнать, открыть, научиться) и конкретной учебной цели (понимания того, что именно нужно выяснить, освоить); 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выполнение учениками определённых действий для приобретения недостающих знаний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выявление и освоение учащимися способа действия, позволяющего осознанно применять приобретённые знания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формирование у школьников умения контролировать свои действия – как после их завершения, так и по ходу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включение содержания обучения в контекст решения значимых жизненных задач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Прямая со стрелкой 14"/>
          <p:cNvCxnSpPr/>
          <p:nvPr/>
        </p:nvCxnSpPr>
        <p:spPr>
          <a:xfrm>
            <a:off x="4500720" y="1071360"/>
            <a:ext cx="3072240" cy="3215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ый подх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928520"/>
            <a:ext cx="8686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ть                                 думать                                 сотруднича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ся за дело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ть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Прямая со стрелкой 6"/>
          <p:cNvCxnSpPr/>
          <p:nvPr/>
        </p:nvCxnSpPr>
        <p:spPr>
          <a:xfrm>
            <a:off x="4572000" y="1071360"/>
            <a:ext cx="264384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8"/>
          <p:cNvCxnSpPr/>
          <p:nvPr/>
        </p:nvCxnSpPr>
        <p:spPr>
          <a:xfrm flipH="1">
            <a:off x="1642680" y="1070640"/>
            <a:ext cx="285840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Прямая со стрелкой 10"/>
          <p:cNvCxnSpPr/>
          <p:nvPr/>
        </p:nvCxnSpPr>
        <p:spPr>
          <a:xfrm flipH="1">
            <a:off x="4498200" y="1071720"/>
            <a:ext cx="2520" cy="1715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Прямая со стрелкой 12"/>
          <p:cNvCxnSpPr/>
          <p:nvPr/>
        </p:nvCxnSpPr>
        <p:spPr>
          <a:xfrm flipH="1">
            <a:off x="2214360" y="1071360"/>
            <a:ext cx="2286720" cy="257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2" name="Picture 10" descr="4c"/>
          <p:cNvPicPr/>
          <p:nvPr/>
        </p:nvPicPr>
        <p:blipFill>
          <a:blip r:embed="rId1"/>
          <a:stretch/>
        </p:blipFill>
        <p:spPr>
          <a:xfrm>
            <a:off x="428760" y="4143240"/>
            <a:ext cx="414324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как составная часть деятельностного подход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убъективности воспит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учета ведущих видов деятельности и законов их см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учета сензитивных периодов развит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 – трансформ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еодоления зоны приближающегося развития и организация в ней совместной деятельности детей и взрослы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огащения, усиления, углубления детского развит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ектирования, конструирования и создания ситуации воспитывающе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язательной результативности каждого вида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ысокой мотивированности любых видов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язательной рефлективности вся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равственного обогащения используемых в качестве средства видов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трудничества при организации и управлении различными видами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авторучка"/>
          <p:cNvPicPr/>
          <p:nvPr/>
        </p:nvPicPr>
        <p:blipFill>
          <a:blip r:embed="rId1"/>
          <a:stretch/>
        </p:blipFill>
        <p:spPr>
          <a:xfrm>
            <a:off x="7667640" y="428760"/>
            <a:ext cx="147636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логия уроков в дидактической системе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метода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«открытия» нового зна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рефлекс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общеметодологической направлен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развивающего контрол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deti"/>
          <p:cNvPicPr/>
          <p:nvPr/>
        </p:nvPicPr>
        <p:blipFill>
          <a:blip r:embed="rId1"/>
          <a:stretch/>
        </p:blipFill>
        <p:spPr>
          <a:xfrm>
            <a:off x="5581800" y="3786120"/>
            <a:ext cx="356220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, задачи уроков рефлекс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цел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мения учащихся определять область своего незнания, умения объяснять причины своих ошибок, отбирать задания для устранения этих причи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лгоритма рефлексивного мышл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задач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сформированность способа действ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вычленять из общего способа действия отдельные операции, производить процессуальный контрол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7:27:50Z</dcterms:created>
  <dc:creator>SamLab.ws</dc:creator>
  <dc:description/>
  <dc:language>en-US</dc:language>
  <cp:lastModifiedBy>Рамиль</cp:lastModifiedBy>
  <dcterms:modified xsi:type="dcterms:W3CDTF">2011-06-03T18:39:58Z</dcterms:modified>
  <cp:revision>19</cp:revision>
  <dc:subject/>
  <dc:title>«Деятельностный подход в обучении младших школьников» </dc:title>
</cp:coreProperties>
</file>