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542-61F7-46C6-BFE3-260C098F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1FA-9D54-4061-A3B0-6129FCED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185-4152-45F5-B689-09942E6E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EEA-A42E-4060-8E00-CDA8451B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DF15-CCDD-412A-92DB-2AA08D6F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70B9-98AD-4703-A344-0B91C5FB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D342-2284-4D7E-A9A6-C113929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5AC2-DCA3-46A8-8F6A-5B1958A2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A225-587D-493D-83C7-6E55FF4E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C2C5-9140-4CBF-B29C-783D1C06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AF3B-63D8-491E-A0E9-44402FD7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CDD-7006-459E-BD87-BD4CB95A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DE25-50B4-4907-96AE-E50A07E0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55E8-AE82-4773-BA3E-031D679D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CA0A-39A2-4F26-8176-A9C3D7CB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F004-DF7C-43C1-B70E-76C35965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8802-CF37-4796-8365-00DF6D69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39B-4E49-4C13-A0E4-C423F3DA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741-C323-4ECB-9866-7611BFC5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E02-CC1B-436C-AF2A-7FF83424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F3F-3A4E-4859-9C1E-81924A02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957-942C-47DC-813D-06C8FF6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0CF-39EB-426B-B757-D65387FE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E6C-A703-4237-95D3-68B02EF0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ff4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2284-B078-4A80-9F3B-ABC7B148B0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09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ff4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4407-3BC0-431C-A78D-E62D05B9F4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727236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пользование центра опытов и исследования в познавательном развитии детей младшего дошкольного возраст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4892760" y="5732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аяндина Ма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БДОУ «ЦРР –д/с «Хрустал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User\Desktop\фото\IMG_20200219_161318.jpg"/>
          <p:cNvPicPr/>
          <p:nvPr/>
        </p:nvPicPr>
        <p:blipFill>
          <a:blip r:embed="rId1"/>
          <a:stretch/>
        </p:blipFill>
        <p:spPr>
          <a:xfrm>
            <a:off x="179280" y="2924280"/>
            <a:ext cx="51912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Природн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есок, глина, опил, стружка, уголь, ме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ричудливые семена ( чечевица, пшеница, бобы, горох, фасоль, подсолнечник, кукуруза, кабачки, перец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амешки, ракови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оллекция листье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лоды разных растений (шишки, желуд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ора и ветки деревьев (береза, сосна, рябина, клен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о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скорлупа (яичная, орех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28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Природн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7" descr="DSCN8566"/>
          <p:cNvPicPr/>
          <p:nvPr/>
        </p:nvPicPr>
        <p:blipFill>
          <a:blip r:embed="rId1"/>
          <a:stretch/>
        </p:blipFill>
        <p:spPr>
          <a:xfrm>
            <a:off x="2340000" y="1557360"/>
            <a:ext cx="1752480" cy="29512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6" descr="DSCN8564"/>
          <p:cNvPicPr/>
          <p:nvPr/>
        </p:nvPicPr>
        <p:blipFill>
          <a:blip r:embed="rId2"/>
          <a:stretch/>
        </p:blipFill>
        <p:spPr>
          <a:xfrm>
            <a:off x="250920" y="1557360"/>
            <a:ext cx="1676160" cy="29512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DSCN8562"/>
          <p:cNvPicPr/>
          <p:nvPr/>
        </p:nvPicPr>
        <p:blipFill>
          <a:blip r:embed="rId3"/>
          <a:stretch/>
        </p:blipFill>
        <p:spPr>
          <a:xfrm>
            <a:off x="971640" y="4724280"/>
            <a:ext cx="7416720" cy="18734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DSCN8569"/>
          <p:cNvPicPr/>
          <p:nvPr/>
        </p:nvPicPr>
        <p:blipFill>
          <a:blip r:embed="rId4"/>
          <a:stretch/>
        </p:blipFill>
        <p:spPr>
          <a:xfrm>
            <a:off x="4427640" y="1557360"/>
            <a:ext cx="4471920" cy="29512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783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Бросов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усочки кожи, меха, ткань разного цвета и фактуры, тесьма, веревочки, пуговиц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ластмассы (прищепки, яйца от киндер-сюрприз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усочки дерева, пробки, спичечные короб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бумага (обычная, картон с разной фактурой поверхности: глянцевая, матовая, с тисением, гофрированная, прозрачная, шерховатая, блестящая, наждачна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енопласт, параллон, вата, фольг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винтики, болтики, проволока, лес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Бросов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8" descr="DSCN8567"/>
          <p:cNvPicPr/>
          <p:nvPr/>
        </p:nvPicPr>
        <p:blipFill>
          <a:blip r:embed="rId1"/>
          <a:stretch/>
        </p:blipFill>
        <p:spPr>
          <a:xfrm>
            <a:off x="395280" y="1484280"/>
            <a:ext cx="2435400" cy="48974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0" descr="DSCN8571"/>
          <p:cNvPicPr/>
          <p:nvPr/>
        </p:nvPicPr>
        <p:blipFill>
          <a:blip r:embed="rId2"/>
          <a:stretch/>
        </p:blipFill>
        <p:spPr>
          <a:xfrm>
            <a:off x="3203640" y="2451240"/>
            <a:ext cx="5184720" cy="2720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26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471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Медицински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ипет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рные лож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шприц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деревянные пало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резиновые гр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ватные пало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резиновые перч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5" descr="D:\Документы\Desktop\уголок эксперементирования\фото\DSCN8556.JPG"/>
          <p:cNvPicPr/>
          <p:nvPr/>
        </p:nvPicPr>
        <p:blipFill>
          <a:blip r:embed="rId1"/>
          <a:stretch/>
        </p:blipFill>
        <p:spPr>
          <a:xfrm>
            <a:off x="4427640" y="1900080"/>
            <a:ext cx="42940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Красит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акварельные крас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гуа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7" descr="D:\Документы\Desktop\уголок эксперементирования\фото\DSCN8558.JPG"/>
          <p:cNvPicPr/>
          <p:nvPr/>
        </p:nvPicPr>
        <p:blipFill>
          <a:blip r:embed="rId1"/>
          <a:stretch/>
        </p:blipFill>
        <p:spPr>
          <a:xfrm>
            <a:off x="2124000" y="2276640"/>
            <a:ext cx="6193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Прочие материал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о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зеркал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ыльные пузыр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воздушные ша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ука, соль, сахар, крупы (греча, пшенка, рис, манная крупа), масло подсолнечно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трубо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вертуш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сач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орудия разного размера, форм, консрукций для экспериментов с песком и вод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002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процессе экспериментирования  ребенку необходимо ответить на следующие вопросы: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8360" y="306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Как я это делаю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очему я это делаю именно так, а не иначе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Зачем я это делаю, что хочу узнать, что получилось в результате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-эксперименты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C:\Users\User\Desktop\фото\IMG_20200219_171536.jpg"/>
          <p:cNvPicPr/>
          <p:nvPr/>
        </p:nvPicPr>
        <p:blipFill>
          <a:blip r:embed="rId1"/>
          <a:stretch/>
        </p:blipFill>
        <p:spPr>
          <a:xfrm>
            <a:off x="0" y="855720"/>
            <a:ext cx="3003480" cy="4005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C:\Users\User\Desktop\фото\IMG_20200219_092354.jpg"/>
          <p:cNvPicPr/>
          <p:nvPr/>
        </p:nvPicPr>
        <p:blipFill>
          <a:blip r:embed="rId2"/>
          <a:stretch/>
        </p:blipFill>
        <p:spPr>
          <a:xfrm>
            <a:off x="3003480" y="1557360"/>
            <a:ext cx="3141720" cy="4235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C:\Users\User\Desktop\фото\IMG_20200219_091840.jpg"/>
          <p:cNvPicPr/>
          <p:nvPr/>
        </p:nvPicPr>
        <p:blipFill>
          <a:blip r:embed="rId3"/>
          <a:stretch/>
        </p:blipFill>
        <p:spPr>
          <a:xfrm>
            <a:off x="6135840" y="2749680"/>
            <a:ext cx="304632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5160" y="19512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-эксперименты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2400" y="5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36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C:\Users\User\Desktop\фото\IMG_20200219_154421.jpg"/>
          <p:cNvPicPr/>
          <p:nvPr/>
        </p:nvPicPr>
        <p:blipFill>
          <a:blip r:embed="rId1"/>
          <a:stretch/>
        </p:blipFill>
        <p:spPr>
          <a:xfrm>
            <a:off x="468360" y="907920"/>
            <a:ext cx="2489040" cy="3319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C:\Users\User\Desktop\фото\IMG_20200219_154540.jpg"/>
          <p:cNvPicPr/>
          <p:nvPr/>
        </p:nvPicPr>
        <p:blipFill>
          <a:blip r:embed="rId2"/>
          <a:stretch/>
        </p:blipFill>
        <p:spPr>
          <a:xfrm>
            <a:off x="3421080" y="1773360"/>
            <a:ext cx="2301840" cy="3068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C:\Users\User\Desktop\фото\IMG_20200219_155129.jpg"/>
          <p:cNvPicPr/>
          <p:nvPr/>
        </p:nvPicPr>
        <p:blipFill>
          <a:blip r:embed="rId3"/>
          <a:stretch/>
        </p:blipFill>
        <p:spPr>
          <a:xfrm>
            <a:off x="6156360" y="2684520"/>
            <a:ext cx="2541600" cy="3387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C:\Users\User\Desktop\фото\IMG_20200219_155530.jpg"/>
          <p:cNvPicPr/>
          <p:nvPr/>
        </p:nvPicPr>
        <p:blipFill>
          <a:blip r:embed="rId4"/>
          <a:stretch/>
        </p:blipFill>
        <p:spPr>
          <a:xfrm>
            <a:off x="1386000" y="4405320"/>
            <a:ext cx="31334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08000" y="205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«Самое лучшее открытие то, которое ребенок сделает сам» Ральф У. Эмерсо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https://avatars.mds.yandex.net/get-zen_doc/56585/pub_5bab8e3a10492a00a9e6e439_5bab8e9b2098b300aab613fd/scale_1200"/>
          <p:cNvPicPr/>
          <p:nvPr/>
        </p:nvPicPr>
        <p:blipFill>
          <a:blip r:embed="rId1"/>
          <a:stretch/>
        </p:blipFill>
        <p:spPr>
          <a:xfrm>
            <a:off x="1042920" y="2060640"/>
            <a:ext cx="660096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- иссле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6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3333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26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37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355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User\Desktop\фото\IMG_20200213_100103.jpg"/>
          <p:cNvPicPr/>
          <p:nvPr/>
        </p:nvPicPr>
        <p:blipFill>
          <a:blip r:embed="rId1"/>
          <a:stretch/>
        </p:blipFill>
        <p:spPr>
          <a:xfrm>
            <a:off x="250920" y="1413000"/>
            <a:ext cx="2376360" cy="3168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Users\User\Desktop\фото\IMG_20200213_100636.jpg"/>
          <p:cNvPicPr/>
          <p:nvPr/>
        </p:nvPicPr>
        <p:blipFill>
          <a:blip r:embed="rId2"/>
          <a:stretch/>
        </p:blipFill>
        <p:spPr>
          <a:xfrm>
            <a:off x="2771640" y="2311560"/>
            <a:ext cx="2373480" cy="3165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Users\User\Desktop\фото\IMG_20200213_101947_BURST001_COVER.jpg"/>
          <p:cNvPicPr/>
          <p:nvPr/>
        </p:nvPicPr>
        <p:blipFill>
          <a:blip r:embed="rId3"/>
          <a:stretch/>
        </p:blipFill>
        <p:spPr>
          <a:xfrm>
            <a:off x="5364000" y="3244680"/>
            <a:ext cx="23702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-эксперименты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36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C:\Users\User\Desktop\фото\IMG_20200213_101054.jpg"/>
          <p:cNvPicPr/>
          <p:nvPr/>
        </p:nvPicPr>
        <p:blipFill>
          <a:blip r:embed="rId1"/>
          <a:stretch/>
        </p:blipFill>
        <p:spPr>
          <a:xfrm>
            <a:off x="324000" y="1442880"/>
            <a:ext cx="3263760" cy="435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C:\Users\User\Desktop\фото\IMG_20200213_101411.jpg"/>
          <p:cNvPicPr/>
          <p:nvPr/>
        </p:nvPicPr>
        <p:blipFill>
          <a:blip r:embed="rId2"/>
          <a:stretch/>
        </p:blipFill>
        <p:spPr>
          <a:xfrm>
            <a:off x="4427640" y="1442880"/>
            <a:ext cx="32637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 - иссле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36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C:\Users\User\Desktop\фото\IMG_20200219_162550.jpg"/>
          <p:cNvPicPr/>
          <p:nvPr/>
        </p:nvPicPr>
        <p:blipFill>
          <a:blip r:embed="rId1"/>
          <a:stretch/>
        </p:blipFill>
        <p:spPr>
          <a:xfrm>
            <a:off x="563400" y="1555920"/>
            <a:ext cx="3095640" cy="4127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C:\Users\User\Desktop\фото\IMG_20200219_162708.jpg"/>
          <p:cNvPicPr/>
          <p:nvPr/>
        </p:nvPicPr>
        <p:blipFill>
          <a:blip r:embed="rId2"/>
          <a:stretch/>
        </p:blipFill>
        <p:spPr>
          <a:xfrm>
            <a:off x="4572000" y="1587600"/>
            <a:ext cx="30481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754380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Игры - иссле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3" name="Picture 2" descr="C:\Users\User\Desktop\фото\IMG_20200219_100131.jpg"/>
          <p:cNvPicPr/>
          <p:nvPr/>
        </p:nvPicPr>
        <p:blipFill>
          <a:blip r:embed="rId1"/>
          <a:stretch/>
        </p:blipFill>
        <p:spPr>
          <a:xfrm>
            <a:off x="203040" y="942840"/>
            <a:ext cx="2687760" cy="3622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Users\User\Desktop\фото\IMG_20200219_100202.jpg"/>
          <p:cNvPicPr/>
          <p:nvPr/>
        </p:nvPicPr>
        <p:blipFill>
          <a:blip r:embed="rId2"/>
          <a:stretch/>
        </p:blipFill>
        <p:spPr>
          <a:xfrm>
            <a:off x="3132000" y="2490840"/>
            <a:ext cx="2722680" cy="3672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C:\Users\User\Desktop\фото\IMG_20200219_100239.jpg"/>
          <p:cNvPicPr/>
          <p:nvPr/>
        </p:nvPicPr>
        <p:blipFill>
          <a:blip r:embed="rId3"/>
          <a:stretch/>
        </p:blipFill>
        <p:spPr>
          <a:xfrm>
            <a:off x="6084720" y="3192480"/>
            <a:ext cx="26132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1378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сновная задача центра исследования - поддержать и развить в ребенке интерес к исследованиям, открытиям, создать необходимые для этого условия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рамотное сочетание материалов и оборудования в центре опытов и исследования способствуют овладению детьми средствами познавательной деятельности, способам действий, обследованию объектов, расширению познавательного опыта.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50920" y="4221000"/>
            <a:ext cx="8229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цесс познания, освоение новых знаний очень важны для детей , поэтому в детском саду не должно быть четкой границы между обыденной жизнью и исследование, ведь исследование не самоцель, а только способ ознакомления детей с миром, в котором им предстоит ж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Для ребенка естественнее и потому гораздо легче постигать новое, проводя собственные исследования – наблюдая, ставя эксперименты, делая на их основе собственные суждения и умозаключения, чем получать уже добытые кем-то знания в «готовом виде». (А.И.Савен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-360" y="2997360"/>
            <a:ext cx="8785080" cy="31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Потребность ребенка в новых впечатлениях лежит в основе исследовательской деятельности, направленной на познание окружающ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Чем разнообразнее и интенсивнее поисковая деятельность, тем больше новой информации получает ребёнок, тем быстрее и полноценнее он разв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79280" y="189000"/>
            <a:ext cx="77058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В соответствии с ФГОС дошкольного образования и с требованиями к результатам основной образовательной программы одним из целевых ориентиров на этапе завершения дошкольного образования являетс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ПРОЯВЛЕНИЕ ЛЮБОЗНАТЕЛЬ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68000" y="2276640"/>
            <a:ext cx="7364520" cy="26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развитие умений детей взаимодействовать с исследуемыми объектами в «лабораторных» условиях как средствами познания окружающего ми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формирование предпосылок поисковой деятельности, интеллектуальной     инициати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468360" y="260280"/>
            <a:ext cx="71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Цели исследовательск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Задачи исследовательского центр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развитие первичных естественнонаучных представлен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наблюда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любозна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активност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ыслительных операций (анализ, сравнение, обобщение, классификация, наблюдение)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формирование умений комплексно обследовать предм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26370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Организация познавательно-исследовательской деятельности идет по четырем направлениям: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5280" y="1988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Живая природа 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– характерные особенности сезонов, многообразие живых организмов, приспособляемость  к окружающей среде, взаимосвязь живой и неживой прир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Неживая природа 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– почва, песок, глина, воздух, вода; агрегатные состояния воды; небесные т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Физические явления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 – магнетизм, звук, вес, тепловые явления, движение, свет, цвет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Рукотворный мир 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– предмет как таковой, материалы и их свой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Требования при оборудовании центра исследования в групп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безопасность для жизни и здоровья де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достаточ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доступ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рас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:\Users\User\Desktop\фото\IMG_20200219_170423.jpg"/>
          <p:cNvPicPr/>
          <p:nvPr/>
        </p:nvPicPr>
        <p:blipFill>
          <a:blip r:embed="rId1"/>
          <a:stretch/>
        </p:blipFill>
        <p:spPr>
          <a:xfrm>
            <a:off x="3635280" y="285264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99"/>
                </a:solidFill>
                <a:latin typeface="Arial"/>
              </a:rPr>
              <a:t>В центре исследования, должно быть выделено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постоянной выставки, где размещают различные коллекции, экспонаты, редкие предм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прибор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хранения материал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проведения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сто для неструктурированных материалов (песок, вод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Основное оборудование </a:t>
            </a:r>
            <a:br>
              <a:rPr sz="3900"/>
            </a:br>
            <a:r>
              <a:rPr b="1" lang="ru-RU" sz="3900" spc="-1" strike="noStrike">
                <a:solidFill>
                  <a:srgbClr val="333399"/>
                </a:solidFill>
                <a:latin typeface="Arial"/>
              </a:rPr>
              <a:t>в центре иссле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риборы-помощни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емк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риродный матери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бросовый матери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медицинский матери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красител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рочие материа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07:31Z</dcterms:created>
  <dc:creator>OEM</dc:creator>
  <dc:description/>
  <dc:language>en-US</dc:language>
  <cp:lastModifiedBy>User</cp:lastModifiedBy>
  <dcterms:modified xsi:type="dcterms:W3CDTF">2020-09-14T16:03:06Z</dcterms:modified>
  <cp:revision>70</cp:revision>
  <dc:subject/>
  <dc:title>Уголок экспериментирования в детском саду</dc:title>
</cp:coreProperties>
</file>