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685-3644-4F25-9F37-64FE8248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C15-AB34-422C-8EB5-906750A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2EE-4F84-4A39-B825-D5BEEEF6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80E-7467-4C58-AF65-913EB6D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3164-B2E5-472F-9E8A-04ACBE7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1E70-0A77-470A-A9FC-4D38126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0EC5-3C1C-4010-8713-56AE5DC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86B-176E-4C58-BDDA-FF8C5733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213-2837-449A-8D16-3DA181E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8AFC-25D6-4A11-A8BA-BDAC734D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0EB9-B58D-4096-B6E3-773150E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A79-3A64-45B8-AF0B-4D6A7E50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8FA6-0660-490E-954E-034D25B3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4F20-BBE2-4744-8227-8DBC85EF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9B4E-8553-4D7B-9356-BD8DE8C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F0F-7797-4BAC-B7D0-5B6B3BC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F7D-471C-4CB1-A0B1-FC717C4C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D2C-F390-4D69-93FC-72A8AA20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339-7C68-4C3F-89B0-225FA9C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1A3-8859-47C4-BC93-BAF49AE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6EF-CA3E-43C3-AAB9-401489F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0A9-CBFE-4BD0-84A2-3BE7961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FB5-E9F5-40D8-81BB-E71DD5B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2A7-2224-463B-BC27-B797C6E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ff4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67E-9B03-4169-B17B-4D9965A43F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ff4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CE4-252B-4416-A9A8-51AA23981D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72723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ование центра опытов и исследования в познавательном развитии детей младшего дошкольного возраст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4892760" y="5732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аянд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БДОУ «ЦРР –д/с «Хрустал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User\Desktop\фото\IMG_20200219_161318.jpg"/>
          <p:cNvPicPr/>
          <p:nvPr/>
        </p:nvPicPr>
        <p:blipFill>
          <a:blip r:embed="rId1"/>
          <a:stretch/>
        </p:blipFill>
        <p:spPr>
          <a:xfrm>
            <a:off x="179280" y="2924280"/>
            <a:ext cx="5191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ирод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есок, глина, опил, стружка, уголь, ме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чудливые семена ( чечевица, пшеница, бобы, горох, фасоль, подсолнечник, кукуруза, кабачки, перец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амешки, раков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оллекция листье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лоды разных растений (шишки, желуд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ора и ветки деревьев (береза, сосна, рябина, клен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о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скорлупа (яичная, орех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ирод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7" descr="DSCN8566"/>
          <p:cNvPicPr/>
          <p:nvPr/>
        </p:nvPicPr>
        <p:blipFill>
          <a:blip r:embed="rId1"/>
          <a:stretch/>
        </p:blipFill>
        <p:spPr>
          <a:xfrm>
            <a:off x="2340000" y="1557360"/>
            <a:ext cx="1752480" cy="29512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DSCN8564"/>
          <p:cNvPicPr/>
          <p:nvPr/>
        </p:nvPicPr>
        <p:blipFill>
          <a:blip r:embed="rId2"/>
          <a:stretch/>
        </p:blipFill>
        <p:spPr>
          <a:xfrm>
            <a:off x="250920" y="1557360"/>
            <a:ext cx="1676160" cy="29512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DSCN8562"/>
          <p:cNvPicPr/>
          <p:nvPr/>
        </p:nvPicPr>
        <p:blipFill>
          <a:blip r:embed="rId3"/>
          <a:stretch/>
        </p:blipFill>
        <p:spPr>
          <a:xfrm>
            <a:off x="971640" y="4724280"/>
            <a:ext cx="7416720" cy="1873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DSCN8569"/>
          <p:cNvPicPr/>
          <p:nvPr/>
        </p:nvPicPr>
        <p:blipFill>
          <a:blip r:embed="rId4"/>
          <a:stretch/>
        </p:blipFill>
        <p:spPr>
          <a:xfrm>
            <a:off x="4427640" y="1557360"/>
            <a:ext cx="4471920" cy="2951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783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Бросов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усочки кожи, меха, ткань разного цвета и фактуры, тесьма, веревочки, пугови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ластмассы (прищепки, яйца от киндер-сюрприз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усочки дерева, пробки, спичечные короб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бумага (обычная, картон с разной фактурой поверхности: глянцевая, матовая, с тисением, гофрированная, прозрачная, шерховатая, блестящая, наждачна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енопласт, параллон, вата, фоль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интики, болтики, проволока, ле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Бросов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8" descr="DSCN8567"/>
          <p:cNvPicPr/>
          <p:nvPr/>
        </p:nvPicPr>
        <p:blipFill>
          <a:blip r:embed="rId1"/>
          <a:stretch/>
        </p:blipFill>
        <p:spPr>
          <a:xfrm>
            <a:off x="395280" y="1484280"/>
            <a:ext cx="2435400" cy="48974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DSCN8571"/>
          <p:cNvPicPr/>
          <p:nvPr/>
        </p:nvPicPr>
        <p:blipFill>
          <a:blip r:embed="rId2"/>
          <a:stretch/>
        </p:blipFill>
        <p:spPr>
          <a:xfrm>
            <a:off x="3203640" y="2451240"/>
            <a:ext cx="5184720" cy="2720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26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471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Медицински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ипет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рные лож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шпри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деревянные пал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езиновые гр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атные пал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езиновые перч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5" descr="D:\Документы\Desktop\уголок эксперементирования\фото\DSCN8556.JPG"/>
          <p:cNvPicPr/>
          <p:nvPr/>
        </p:nvPicPr>
        <p:blipFill>
          <a:blip r:embed="rId1"/>
          <a:stretch/>
        </p:blipFill>
        <p:spPr>
          <a:xfrm>
            <a:off x="4427640" y="1900080"/>
            <a:ext cx="42940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Красит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акварельные крас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гуа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7" descr="D:\Документы\Desktop\уголок эксперементирования\фото\DSCN8558.JPG"/>
          <p:cNvPicPr/>
          <p:nvPr/>
        </p:nvPicPr>
        <p:blipFill>
          <a:blip r:embed="rId1"/>
          <a:stretch/>
        </p:blipFill>
        <p:spPr>
          <a:xfrm>
            <a:off x="2124000" y="2276640"/>
            <a:ext cx="619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очие материал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зерк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ыльные пузыр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оздушные ша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ука, соль, сахар, крупы (греча, пшенка, рис, манная крупа), масло подсолнечно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труб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ертуш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са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орудия разного размера, форм, консрукций для экспериментов с песком и вод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002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роцессе экспериментирования  ребенку необходимо ответить на следующие вопросы: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306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ак я это делаю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очему я это делаю именно так, а не иначе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Зачем я это делаю, что хочу узнать, что получилось в результате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C:\Users\User\Desktop\фото\IMG_20200219_171536.jpg"/>
          <p:cNvPicPr/>
          <p:nvPr/>
        </p:nvPicPr>
        <p:blipFill>
          <a:blip r:embed="rId1"/>
          <a:stretch/>
        </p:blipFill>
        <p:spPr>
          <a:xfrm>
            <a:off x="0" y="85572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C:\Users\User\Desktop\фото\IMG_20200219_092354.jpg"/>
          <p:cNvPicPr/>
          <p:nvPr/>
        </p:nvPicPr>
        <p:blipFill>
          <a:blip r:embed="rId2"/>
          <a:stretch/>
        </p:blipFill>
        <p:spPr>
          <a:xfrm>
            <a:off x="3003480" y="1557360"/>
            <a:ext cx="3141720" cy="4235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C:\Users\User\Desktop\фото\IMG_20200219_091840.jpg"/>
          <p:cNvPicPr/>
          <p:nvPr/>
        </p:nvPicPr>
        <p:blipFill>
          <a:blip r:embed="rId3"/>
          <a:stretch/>
        </p:blipFill>
        <p:spPr>
          <a:xfrm>
            <a:off x="6135840" y="2749680"/>
            <a:ext cx="30463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160" y="19512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2400" y="5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C:\Users\User\Desktop\фото\IMG_20200219_154421.jpg"/>
          <p:cNvPicPr/>
          <p:nvPr/>
        </p:nvPicPr>
        <p:blipFill>
          <a:blip r:embed="rId1"/>
          <a:stretch/>
        </p:blipFill>
        <p:spPr>
          <a:xfrm>
            <a:off x="468360" y="907920"/>
            <a:ext cx="2489040" cy="3319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C:\Users\User\Desktop\фото\IMG_20200219_154540.jpg"/>
          <p:cNvPicPr/>
          <p:nvPr/>
        </p:nvPicPr>
        <p:blipFill>
          <a:blip r:embed="rId2"/>
          <a:stretch/>
        </p:blipFill>
        <p:spPr>
          <a:xfrm>
            <a:off x="3421080" y="1773360"/>
            <a:ext cx="2301840" cy="3068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C:\Users\User\Desktop\фото\IMG_20200219_155129.jpg"/>
          <p:cNvPicPr/>
          <p:nvPr/>
        </p:nvPicPr>
        <p:blipFill>
          <a:blip r:embed="rId3"/>
          <a:stretch/>
        </p:blipFill>
        <p:spPr>
          <a:xfrm>
            <a:off x="6156360" y="2684520"/>
            <a:ext cx="2541600" cy="338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C:\Users\User\Desktop\фото\IMG_20200219_155530.jpg"/>
          <p:cNvPicPr/>
          <p:nvPr/>
        </p:nvPicPr>
        <p:blipFill>
          <a:blip r:embed="rId4"/>
          <a:stretch/>
        </p:blipFill>
        <p:spPr>
          <a:xfrm>
            <a:off x="1386000" y="4405320"/>
            <a:ext cx="3133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8000" y="205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Самое лучшее открытие то, которое ребенок сделает сам» Ральф У. Эмерс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s://avatars.mds.yandex.net/get-zen_doc/56585/pub_5bab8e3a10492a00a9e6e439_5bab8e9b2098b300aab613fd/scale_1200"/>
          <p:cNvPicPr/>
          <p:nvPr/>
        </p:nvPicPr>
        <p:blipFill>
          <a:blip r:embed="rId1"/>
          <a:stretch/>
        </p:blipFill>
        <p:spPr>
          <a:xfrm>
            <a:off x="1042920" y="2060640"/>
            <a:ext cx="66009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3333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26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37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55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ser\Desktop\фото\IMG_20200213_100103.jpg"/>
          <p:cNvPicPr/>
          <p:nvPr/>
        </p:nvPicPr>
        <p:blipFill>
          <a:blip r:embed="rId1"/>
          <a:stretch/>
        </p:blipFill>
        <p:spPr>
          <a:xfrm>
            <a:off x="250920" y="1413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User\Desktop\фото\IMG_20200213_100636.jpg"/>
          <p:cNvPicPr/>
          <p:nvPr/>
        </p:nvPicPr>
        <p:blipFill>
          <a:blip r:embed="rId2"/>
          <a:stretch/>
        </p:blipFill>
        <p:spPr>
          <a:xfrm>
            <a:off x="2771640" y="2311560"/>
            <a:ext cx="2373480" cy="316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Users\User\Desktop\фото\IMG_20200213_101947_BURST001_COVER.jpg"/>
          <p:cNvPicPr/>
          <p:nvPr/>
        </p:nvPicPr>
        <p:blipFill>
          <a:blip r:embed="rId3"/>
          <a:stretch/>
        </p:blipFill>
        <p:spPr>
          <a:xfrm>
            <a:off x="5364000" y="3244680"/>
            <a:ext cx="23702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C:\Users\User\Desktop\фото\IMG_20200213_101054.jpg"/>
          <p:cNvPicPr/>
          <p:nvPr/>
        </p:nvPicPr>
        <p:blipFill>
          <a:blip r:embed="rId1"/>
          <a:stretch/>
        </p:blipFill>
        <p:spPr>
          <a:xfrm>
            <a:off x="324000" y="1442880"/>
            <a:ext cx="3263760" cy="435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Users\User\Desktop\фото\IMG_20200213_101411.jpg"/>
          <p:cNvPicPr/>
          <p:nvPr/>
        </p:nvPicPr>
        <p:blipFill>
          <a:blip r:embed="rId2"/>
          <a:stretch/>
        </p:blipFill>
        <p:spPr>
          <a:xfrm>
            <a:off x="4427640" y="14428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 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C:\Users\User\Desktop\фото\IMG_20200219_162550.jpg"/>
          <p:cNvPicPr/>
          <p:nvPr/>
        </p:nvPicPr>
        <p:blipFill>
          <a:blip r:embed="rId1"/>
          <a:stretch/>
        </p:blipFill>
        <p:spPr>
          <a:xfrm>
            <a:off x="563400" y="1555920"/>
            <a:ext cx="3095640" cy="4127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:\Users\User\Desktop\фото\IMG_20200219_162708.jpg"/>
          <p:cNvPicPr/>
          <p:nvPr/>
        </p:nvPicPr>
        <p:blipFill>
          <a:blip r:embed="rId2"/>
          <a:stretch/>
        </p:blipFill>
        <p:spPr>
          <a:xfrm>
            <a:off x="4572000" y="15876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754380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 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Picture 2" descr="C:\Users\User\Desktop\фото\IMG_20200219_100131.jpg"/>
          <p:cNvPicPr/>
          <p:nvPr/>
        </p:nvPicPr>
        <p:blipFill>
          <a:blip r:embed="rId1"/>
          <a:stretch/>
        </p:blipFill>
        <p:spPr>
          <a:xfrm>
            <a:off x="203040" y="942840"/>
            <a:ext cx="2687760" cy="362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User\Desktop\фото\IMG_20200219_100202.jpg"/>
          <p:cNvPicPr/>
          <p:nvPr/>
        </p:nvPicPr>
        <p:blipFill>
          <a:blip r:embed="rId2"/>
          <a:stretch/>
        </p:blipFill>
        <p:spPr>
          <a:xfrm>
            <a:off x="3132000" y="2490840"/>
            <a:ext cx="2722680" cy="3672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C:\Users\User\Desktop\фото\IMG_20200219_100239.jpg"/>
          <p:cNvPicPr/>
          <p:nvPr/>
        </p:nvPicPr>
        <p:blipFill>
          <a:blip r:embed="rId3"/>
          <a:stretch/>
        </p:blipFill>
        <p:spPr>
          <a:xfrm>
            <a:off x="6084720" y="3192480"/>
            <a:ext cx="26132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1378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новная задача центра исследования - поддержать и развить в ребенке интерес к исследованиям, открытиям, создать необходимые для этого условия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амотное сочетание материалов и оборудования в центре опытов и исслед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50920" y="42210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цесс познания, освоение новых знаний очень важны для детей , поэтому в детском саду не должно быть четкой границы между обыденной жизнью и исследование, ведь исследование не самоцель, а только способ ознакомления детей с миром, в котором им предстоит 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Для ребенка естественнее и потому гораздо легче постигать новое, проводя собственные исследования – наблюдая, ставя эксперименты, делая на их основе собственные суждения и умозаключения, чем получать уже добытые кем-то знания в «готовом виде». (А.И.Савен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-360" y="2997360"/>
            <a:ext cx="8785080" cy="31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отребность ребенка в новых впечатлениях лежит в основе исследовательской деятельности, направленной на познан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Чем разнообразнее и интенсивнее поисковая деятельность, тем больше новой информации получает ребёнок, тем быстрее и полноценнее он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79280" y="189000"/>
            <a:ext cx="77058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 соответствии с ФГОС дошкольного образования и с требованиями к результатам основной образовательной программы одним из целевых ориентиров на этапе завершения дошкольного образования являет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РОЯВЛЕНИЕ ЛЮБОЗНАТЕЛЬ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68000" y="2276640"/>
            <a:ext cx="7364520" cy="26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развитие умений детей взаимодействовать с исследуемыми объектами в «лабораторных» условиях как средствами познания окружающего ми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формирование предпосылок поисковой деятельности, интеллектуальной     инициати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68360" y="26028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и исследовательск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Задачи исследовательского цент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азвитие первичных естественнонаучных представле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наблюда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любозна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активност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6370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Организация познавательно-исследовательской деятельности идет по четырем направлениям: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Живая природа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характерные особенности сезонов, многообразие живых организмов, приспособляемость  к окружающей среде, взаимосвязь живой и неживой прир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Неживая природа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почва, песок, глина, воздух, вода; агрегатные состояния воды; небесные т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Физические явления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– магнетизм, звук, вес, тепловые явления, движение, свет, цвет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Рукотворный мир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предмет как таковой, материалы и их свой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Требования при оборудовании центра исслед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User\Desktop\фото\IMG_20200219_170423.jpg"/>
          <p:cNvPicPr/>
          <p:nvPr/>
        </p:nvPicPr>
        <p:blipFill>
          <a:blip r:embed="rId1"/>
          <a:stretch/>
        </p:blipFill>
        <p:spPr>
          <a:xfrm>
            <a:off x="3635280" y="285264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В центре исследования, должно быть выделено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остоянной выставки, где размещают различные коллекции, экспонаты, редкие предм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рибор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хранения материал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ровед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неструктурированных материалов (песок, во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Основное оборудование </a:t>
            </a:r>
            <a:br>
              <a:rPr sz="3900"/>
            </a:b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в центре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боры-помощни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емк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родны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бросовы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дицински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расите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очие материа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User</cp:lastModifiedBy>
  <dcterms:modified xsi:type="dcterms:W3CDTF">2020-09-14T16:03:06Z</dcterms:modified>
  <cp:revision>70</cp:revision>
  <dc:subject/>
  <dc:title>Уголок экспериментирования в детском саду</dc:title>
</cp:coreProperties>
</file>