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6A1-7215-4DBB-8E53-2A097D7D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60D-DF16-4A2B-B76F-E1D9D2B8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445-5089-4869-82AC-F8D090D4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A21-F2D4-4C35-BEEC-55484D41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3A06-8B74-47F5-A762-F0A2C942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CAA9-9DD1-44C6-A314-092F79BD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132D-4D99-4DEB-BBE6-98DFFAC2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CE9A-C6CB-4921-99CE-11DD54EC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BD07-FC75-40CB-BB95-AC218953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9513-2425-4D84-B3B2-41ED4043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0835-53B3-4B54-AF5B-3898066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862-11B2-4395-B262-B182569E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9E76-5F2A-44D9-85B8-955A1D0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92F5-DDED-419A-B6EF-BFE1B5D3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59C7-BF40-4380-BE99-88C18701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A9A7-F60D-4B7C-84FC-D10753CF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ADD3-AD60-417C-819A-1D31FEFD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B462-94AE-4952-B556-8A914A77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5107-62DF-4212-AFDE-1D3C3C35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8968-7B25-4576-BFCF-531DADCB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0256-1BA1-442B-88EF-E1F1FEC0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F8BD-136F-49CB-A7D6-B6ECCAF9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373-475B-4E64-83F6-D10E1F4F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3196-2CBB-412E-B9FC-A5C28E03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105E-B681-445E-B484-4DEAC77B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642E-9E0A-4097-84F1-7F2D150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083F-8AD4-4F82-B27B-078D183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5369-471E-4595-B7F7-93E68C0B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E09D-1E84-4EEA-B228-92148FAC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BF9E-83FF-4DD1-9869-97345B02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0EE-ABBC-474A-AE61-8CDEE824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E69-CCF2-45F2-BC41-5009E2F4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DAC-E90C-42FB-8E1C-2D552338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82E-C052-4764-8C4B-02A20F7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14F-379E-4380-96EB-F4E4961C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F6B-8EF1-4E46-97D9-99B6659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C31CA9-A62A-4C8A-8DD3-54E9DE06BA0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D6EEEF-E28A-47A7-BAFC-1D1875A8C81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4D4D30-1652-4C59-8709-D3D055FC762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57200" y="3887640"/>
            <a:ext cx="73576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b0f0"/>
                </a:solidFill>
                <a:latin typeface="Times New Roman"/>
              </a:rPr>
              <a:t>Гиперактивность как проблема нарушения психологического здоровья дошкольни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255640" y="260640"/>
            <a:ext cx="3888000" cy="178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образовательное учреждение города Нижневартовска детский сад №4 «Сказ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6536880" y="1772640"/>
            <a:ext cx="2427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дагог-психолог: Ковальчук Юлия 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974880" y="1916640"/>
            <a:ext cx="719424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ГРАТЬ С ГИПЕРАКТИВНЫМИ ДЕТ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2355480"/>
            <a:ext cx="9143640" cy="447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ирая игры (особенно подвижные) для гиперактивных детей, необходимо учитывать такие их особенности, как дефицит внимания, импульсивность, неумение длительное время подчиняться групповым правилам, выслушивать и выполнять инструкции (заостряя внимание на деталях), быстрая утомляемость, неспособность дождаться своей очереди и считаться с интересами других. Поэтому включать таких детей в коллективную деятельность, в том числе в игры, целесообразно поэтапно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инать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индивидуальной работы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тем привлекать к участию в деятельности в малых подгруппах и только посл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переходить к фронтальным видам работы, прежде всего к играм с четкими правилами, способствующим развитию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0" y="2520"/>
            <a:ext cx="914364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Таблица 2"/>
          <p:cNvGraphicFramePr/>
          <p:nvPr/>
        </p:nvGraphicFramePr>
        <p:xfrm>
          <a:off x="179640" y="2565000"/>
          <a:ext cx="8784720" cy="3634920"/>
        </p:xfrm>
        <a:graphic>
          <a:graphicData uri="http://schemas.openxmlformats.org/drawingml/2006/table">
            <a:tbl>
              <a:tblPr/>
              <a:tblGrid>
                <a:gridCol w="3587040"/>
                <a:gridCol w="2198520"/>
                <a:gridCol w="2998800"/>
              </a:tblGrid>
              <a:tr h="67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я, на трениров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торой направлены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йди отличие», «Запрещенное движ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апрещенное движение», «Передай мяч», «Броуновское движ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двигательной а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азговор с рукам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оре волнует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импульс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овори!», «Съедобное - несъедобно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овори!», «Сиамские близнецы», «Слепой и поводыр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251640" y="130320"/>
            <a:ext cx="889200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тренировку двух и трех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Таблица 3"/>
          <p:cNvGraphicFramePr/>
          <p:nvPr/>
        </p:nvGraphicFramePr>
        <p:xfrm>
          <a:off x="323640" y="2133000"/>
          <a:ext cx="8568720" cy="4437000"/>
        </p:xfrm>
        <a:graphic>
          <a:graphicData uri="http://schemas.openxmlformats.org/drawingml/2006/table">
            <a:tbl>
              <a:tblPr/>
              <a:tblGrid>
                <a:gridCol w="4090680"/>
                <a:gridCol w="4477680"/>
              </a:tblGrid>
              <a:tr h="60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руемые 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 и контроль импульс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ричалки – шепталки - молчалки», «Гвал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 и контроль двигательной а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олпак мой треугольный», «Расставь посты», «Замр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21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импульсивности контроль и  двигательной а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ас «Тишина» и час «Можно»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21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, контроль импульсивности и контроль двигательной а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лушай команду», «Слушай хлопки», «Морские волн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0" y="3717000"/>
            <a:ext cx="914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0" y="1892880"/>
            <a:ext cx="9143640" cy="33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ктивный»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 латинского «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activus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-  деятельный, действенный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Гипер»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 греческого «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Hype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- над, сверху – указывает на превышение нор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1507320" y="1917000"/>
            <a:ext cx="6443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ерактивный ребе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1902240"/>
            <a:ext cx="9143640" cy="57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трет гиперактивного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7640" y="2421000"/>
            <a:ext cx="8928720" cy="89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перактивность детей с синдромом дефицита внимания характеризуется тем, что они чрезмерно подвижны, бегают, крутятся и т. п. избыточная моторная активность бывает бесцельной, не соответствующей требованиям конкретн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пульсивность у детей с СДВГ выражается в том, что ребенок часто действует не подумав; на занятиях и в играх он с трудом дожидается своей очереди; перебивает других, не выслушивает до конца обращенные к нему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ушения внимания проявляются у детей с СДВГ в слабости концентрации, неспособности сохранить внимание более нескольких минут, отвлекаемость. Хуже всего гиперактивные дети выполняют неоднократно повторяющиеся задания, кажущиеся им скучными, трудными, не приносящими удовлетворения и не подкрепляемые поощр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917000"/>
            <a:ext cx="8229240" cy="107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признаки гиперактивност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640" y="3213000"/>
            <a:ext cx="8877240" cy="364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ения координа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моциональные нарушен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ение межличностных отношений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еденческие расстрой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619640" y="332640"/>
            <a:ext cx="431640" cy="369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395640" y="2435760"/>
            <a:ext cx="8352720" cy="307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е проявления гиперактивности можно наблюдать в возрасте до 7 лет. Пики проявления данного синдрома совпадают с пиками психоречевого развития. В 1-2 года, 3 года и 6-7 лет. В 1-2 года закладываются навыки речи, в 3 года у ребенка увеличивается  словарный запас, в 6-7 лет формируются навыки  чтения и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0" y="1002600"/>
            <a:ext cx="6876000" cy="435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гноз «гиперактивность» имеет право поставить только вр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которые педагоги и родители принимают повышенную подвижность ребенка за гиперактивность. Однако только излишняя (с точки зрения взрослых) двигательная активность не может послужить поводом для постановки такого диагно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67640" y="1894320"/>
            <a:ext cx="8496720" cy="484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ы гиперактив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ческие поражения головного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натальная патолог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етический факт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социальные факторы, действующие на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олевания, нарушающие деятельность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енности нейрофизиологии и нейроанатом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ияние неблагоприятных факторов внешне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ы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547640" y="2951280"/>
            <a:ext cx="45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7640" y="1772640"/>
            <a:ext cx="8856720" cy="525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гностика гиперактивного ребен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о-педагогическое обследование, которое включает в себя беседу, анкетирование родителей и других членов семьи, наблюдение за ребенком, исследование его психических функций. В ходе такого обследования выявляется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развития когнитивных функций (внимания, памяти, мышления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оциональные особенно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сформированности двигательной сферы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ные особенно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ые условия жизн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бенности поведения дома и в детском сад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0" y="2217240"/>
            <a:ext cx="9143640" cy="447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ботать с гиперактивным ребенком целесообразней в первую половину дня, а не веч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меньшать нагрузку ребенка следует по времени, но не облегчать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лить работу на более короткие, но более частые периоды. Использовать физкультмин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ыть артистичным, экспрессивным педаг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низить требования к аккуратности в начале работы, чтобы сформировать чув­ство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садить ребенка во время занятий рядом с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спользовать тактильный контакт (элементы массажа, прикосновения, по­глажива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Договариваться с ребенком о тех или иных действиях зара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Давать короткие, четкие и конкрет­ные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Использовать гибкую систему поощ­рений и наказ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оощрять ребенка сразу же, не от­кладывая на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редоставлять ребенку возмож­ность вы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Оставаться спокойным. Нет хладно­кровия - нет преимуществ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04360" y="0"/>
            <a:ext cx="8278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аботы с гипepактивными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tegral</Template>
  <TotalTime>361</TotalTime>
  <Application>LibreOffice/7.4.7.2$Linux_X86_64 LibreOffice_project/40$Build-2</Application>
  <AppVersion>15.0000</AppVersion>
  <Words>709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7:44:48Z</dcterms:created>
  <dc:creator>Пользователь</dc:creator>
  <dc:description/>
  <dc:language>en-US</dc:language>
  <cp:lastModifiedBy>lenovo</cp:lastModifiedBy>
  <dcterms:modified xsi:type="dcterms:W3CDTF">2016-02-10T07:02:06Z</dcterms:modified>
  <cp:revision>44</cp:revision>
  <dc:subject/>
  <dc:title>ВОЗРАСТНЫЕ  ОСОБЕННОСТИ       ДЕТЕЙ  5-6 Л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