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F39-B6B8-400F-A9B7-783F1D6C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2D5-3B66-4B4F-80A6-F718CD0C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795-A15C-4D43-B0A2-8748C2D1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6AD-0C8D-4610-8D0C-77EB871D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EC82-11AB-411C-87E4-F5329E9D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0239-EF06-489E-80F5-DD45AB6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F099-0F6C-473F-A162-2C2687DA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E509-CE67-47EB-80AE-BB1C2CF8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7DEE-7D68-4C4D-8FD9-3412CB5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587-599C-4EDB-9206-6503AD2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DB46-1F19-4575-9BF5-4FAA8AA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93B-F338-43F7-9AC8-3C34D01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9491-4C15-4368-A221-9BA0A27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A62A-1F48-4C7E-8D6B-113A36E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A558-8140-4084-AEF2-AB8E138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003F-C9C0-4C1C-A309-881CE052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2A05-33D6-4414-BA6C-05F0DE72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FA22-2126-46C9-8BE9-845DBAF5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2FAE-C909-4F23-8DAB-03B9E19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CC8B-911E-43C9-8E39-F81E0FFB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F954-B35D-47D2-99FA-6C74FC8D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345B-E6F9-47DC-8ABA-329D5347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1FB-48F3-4CCA-9ADB-7298007E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07C5-4753-4DB2-82AA-6E24CF10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B98C-3054-4196-9C46-16FD3F0E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3024-C2DB-40B7-A745-45A541D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BEB9-AE2D-4EEB-86D6-916DD34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95B1-A9B1-497D-B12C-48EE3E0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7AA7-0B6C-44C1-A0E2-7C23CD26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3AF0-16B4-4160-A4E3-285E0D05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8DE-2DD1-40B8-9D71-F6A0DA6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C2A-4B93-46BE-AFAD-530D971B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72A-019A-4429-9C73-90E933E2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D1C-9B1E-4E99-B9E4-C10A949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765-D0D6-4C30-ABE9-C9E7C1F7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50A-E598-496B-9025-5BD64ACE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6F3837-F057-442E-B0F6-975DB4476ED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28C3EF-146B-4296-8C5D-701349DD643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64CB55-980F-4545-AB7E-750981B189B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7200" y="3887640"/>
            <a:ext cx="73576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b0f0"/>
                </a:solidFill>
                <a:latin typeface="Times New Roman"/>
              </a:rPr>
              <a:t>Гиперактивность как проблема нарушения психологического здоровья дошкольни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255640" y="260640"/>
            <a:ext cx="3888000" cy="178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 города Нижневартовска детский сад №4 «Сказ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6536880" y="1772640"/>
            <a:ext cx="2427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дагог-психолог: Ковальчук Юлия 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974880" y="1916640"/>
            <a:ext cx="719424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ГРАТЬ С ГИПЕРАКТИВНЫМИ ДЕТ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2355480"/>
            <a:ext cx="9143640" cy="447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ирая игры (особенно подвижные) для гиперактивных детей, необходимо учитывать такие их особенности, как дефицит внимания, импульсивность, неумение длительное время подчиняться групповым правилам, выслушивать и выполнять инструкции (заостряя внимание на деталях), быстрая утомляемость, неспособность дождаться своей очереди и считаться с интересами других. Поэтому включать таких детей в коллективную деятельность, в том числе в игры, целесообразно поэтапно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инать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индивидуальной работы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ем привлекать к участию в деятельности в малых подгруппах и только посл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переходить к фронтальным видам работы, прежде всего к играм с четкими правилами, способствующим развитию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0" y="2520"/>
            <a:ext cx="914364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Таблица 2"/>
          <p:cNvGraphicFramePr/>
          <p:nvPr/>
        </p:nvGraphicFramePr>
        <p:xfrm>
          <a:off x="179640" y="2565000"/>
          <a:ext cx="8784720" cy="3634920"/>
        </p:xfrm>
        <a:graphic>
          <a:graphicData uri="http://schemas.openxmlformats.org/drawingml/2006/table">
            <a:tbl>
              <a:tblPr/>
              <a:tblGrid>
                <a:gridCol w="3587040"/>
                <a:gridCol w="2198520"/>
                <a:gridCol w="2998800"/>
              </a:tblGrid>
              <a:tr h="67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, на трениров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орой направлены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йди отличие», «Запрещенное движ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апрещенное движение», «Передай мяч», «Броуновское движ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двигательной 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азговор с рукам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оре волнует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импульс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овори!», «Съедобное - несъедобно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овори!», «Сиамские близнецы», «Слепой и поводыр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251640" y="130320"/>
            <a:ext cx="889200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тренировку двух и трех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Таблица 3"/>
          <p:cNvGraphicFramePr/>
          <p:nvPr/>
        </p:nvGraphicFramePr>
        <p:xfrm>
          <a:off x="323640" y="2133000"/>
          <a:ext cx="8568720" cy="4437000"/>
        </p:xfrm>
        <a:graphic>
          <a:graphicData uri="http://schemas.openxmlformats.org/drawingml/2006/table">
            <a:tbl>
              <a:tblPr/>
              <a:tblGrid>
                <a:gridCol w="4090680"/>
                <a:gridCol w="4477680"/>
              </a:tblGrid>
              <a:tr h="60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руемые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 и контроль импульс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ричалки – шепталки - молчалки», «Гвал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 и контроль двигательной 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олпак мой треугольный», «Расставь посты», «Замр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2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импульсивности контроль и  двигательной 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ас «Тишина» и час «Можно»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2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, контроль импульсивности и контроль двигательной 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лушай команду», «Слушай хлопки», «Морские волн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0" y="371700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0" y="1892880"/>
            <a:ext cx="9143640" cy="33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ктивный»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 латинского «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activus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-  деятельный, действенный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Гипер»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 греческого «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Hype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- над, сверху – указывает на превышение нор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1507320" y="1917000"/>
            <a:ext cx="6443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ерактивный ребе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1902240"/>
            <a:ext cx="914364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трет гиперактивного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7640" y="2421000"/>
            <a:ext cx="8928720" cy="89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перактивность детей с синдромом дефицита внимания характеризуется тем, что они чрезмерно подвижны, бегают, крутятся и т. п. избыточная моторная активность бывает бесцельной, не соответствующей требованиям конкретн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пульсивность у детей с СДВГ выражается в том, что ребенок часто действует не подумав; на занятиях и в играх он с трудом дожидается своей очереди; перебивает других, не выслушивает до конца обращенные к нему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ушения внимания проявляются у детей с СДВГ в слабости концентрации, неспособности сохранить внимание более нескольких минут, отвлекаемость. Хуже всего гиперактивные дети выполняют неоднократно повторяющиеся задания, кажущиеся им скучными, трудными, не приносящими удовлетворения и не подкрепляемые поощр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917000"/>
            <a:ext cx="8229240" cy="107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признаки гиперактивност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640" y="3213000"/>
            <a:ext cx="8877240" cy="364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ения координа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оциональные наруше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ение межличностных отношений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еденческие расстрой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619640" y="332640"/>
            <a:ext cx="431640" cy="369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395640" y="2435760"/>
            <a:ext cx="8352720" cy="307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е проявления гиперактивности можно наблюдать в возрасте до 7 лет. Пики проявления данного синдрома совпадают с пиками психоречевого развития. В 1-2 года, 3 года и 6-7 лет. В 1-2 года закладываются навыки речи, в 3 года у ребенка увеличивается  словарный запас, в 6-7 лет формируются навыки  чтения и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0" y="1002600"/>
            <a:ext cx="6876000" cy="435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гноз «гиперактивность» имеет право поставить только вр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которые педагоги и родители принимают повышенную подвижность ребенка за гиперактивность. Однако только излишняя (с точки зрения взрослых) двигательная активность не может послужить поводом для постановки такого диагн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67640" y="1894320"/>
            <a:ext cx="8496720" cy="484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ы гиперакти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ческие поражения головного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натальная патолог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тический факт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социальные факторы, действующие на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олевания, нарушающие деятельность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енности нейрофизиологии и нейроанатом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е неблагоприятных факторов внешн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ы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547640" y="2951280"/>
            <a:ext cx="45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7640" y="1772640"/>
            <a:ext cx="8856720" cy="525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гностика гиперактивного ребен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о-педагогическое обследование, которое включает в себя беседу, анкетирование родителей и других членов семьи, наблюдение за ребенком, исследование его психических функций. В ходе такого обследования выявляется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развития когнитивных функций (внимания, памяти, мышления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оциональные особен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сформированности двигательной сферы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ные особен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ые условия жизн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енности поведения дома и в детском сад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0" y="2217240"/>
            <a:ext cx="9143640" cy="447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ботать с гиперактивным ребенком целесообразней в первую половину дня, а не веч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меньшать нагрузку ребенка следует по времени, но не облегчать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лить работу на более короткие, но более частые периоды. Использовать физкультмин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ыть артистичным, экспрессивным педаг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низить требования к аккуратности в начале работы, чтобы сформировать чув­ство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садить ребенка во время занятий рядом с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спользовать тактильный контакт (элементы массажа, прикосновения, по­глажива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Договариваться с ребенком о тех или иных действиях зара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авать короткие, четкие и конкрет­ные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Использовать гибкую систему поощ­рений и наказ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оощрять ребенка сразу же, не от­кладывая на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редоставлять ребенку возмож­ность вы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Оставаться спокойным. Нет хладно­кровия - нет преимущест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04360" y="0"/>
            <a:ext cx="8278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аботы с гипepактивными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tegral</Template>
  <TotalTime>361</TotalTime>
  <Application>LibreOffice/7.4.7.2$Linux_X86_64 LibreOffice_project/40$Build-2</Application>
  <AppVersion>15.0000</AppVersion>
  <Words>709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7:44:48Z</dcterms:created>
  <dc:creator>Пользователь</dc:creator>
  <dc:description/>
  <dc:language>en-US</dc:language>
  <cp:lastModifiedBy>lenovo</cp:lastModifiedBy>
  <dcterms:modified xsi:type="dcterms:W3CDTF">2016-02-10T07:02:06Z</dcterms:modified>
  <cp:revision>44</cp:revision>
  <dc:subject/>
  <dc:title>ВОЗРАСТНЫЕ  ОСОБЕННОСТИ       ДЕТЕЙ  5-6 Л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