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D66-0355-4170-B61D-367F6A1C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FE7-4173-4497-90C4-195FBB46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5C5-7138-45A4-AC14-AAC8247C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01A-29C9-4D79-93E6-30D87F69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D07-3E65-4E8C-B97E-15A57A92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2F3-1EF2-4775-83F8-965D25A9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491-FD28-4709-9E96-D046F8A7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675-404D-456E-8E79-75003B7F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F31-D319-432D-AC1A-CB525505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FE8-D2DA-4775-B168-80DC42C3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DCB-270D-4C27-AC91-05BDD494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E1F-BDB7-4CBB-BFFE-16BAD059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18F6-F0EC-4091-B722-BA2EA42001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с социально – неблагополучными семьями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семей, состоящих на учете по постановлению в ТКДН и ЗП и находящихся в социально – опас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99640" y="3357720"/>
            <a:ext cx="755820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5 – 2016 учебный год – 9 сем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6 – 2017 учебный год – 5 сем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7 – 2018 учебный год – 2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8 – 2019 учебный год –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детей, оставшихся без попечения родителей и детей, находящихся под опе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26920" y="2421000"/>
            <a:ext cx="763128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5 – 2016 учебный год – 1 ребе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6 – 2017 учебный год – 1 ребе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7 – 2018 учебный год – 2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8 – 2019 учебный год – 4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о – правовая доку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дународный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Конвенция о правах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деральный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  Конституция Р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  Декларация прав и свобод человека и граждан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  Семейный кодекс Р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  Уголовный кодекс Р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Закон РФ «Об основных гарантиях прав ребенка в Российской Федерации» от 24.07. 1998г. № 103 Ф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Закон РФ «Об основах системы профилактики безнадзорности и правонарушений несовершеннолетних» (с изменениями от 21.07.2007г. N194-ФЗ) от 24.06.1999г. N120-Ф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ие воспитанников из семей. находящихся в с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689040" y="1974960"/>
            <a:ext cx="7772400" cy="39812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2:00:18Z</dcterms:created>
  <dc:creator>User</dc:creator>
  <dc:description/>
  <dc:language>en-US</dc:language>
  <cp:lastModifiedBy>lenovo</cp:lastModifiedBy>
  <dcterms:modified xsi:type="dcterms:W3CDTF">2019-02-13T03:15:10Z</dcterms:modified>
  <cp:revision>256</cp:revision>
  <dc:subject/>
  <dc:title>Региональная программа «Социокультурные истоки»</dc:title>
</cp:coreProperties>
</file>