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DE5-F3DD-4453-BBC9-7CEA60FB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98A-C505-422F-A615-D9EE8934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A4E-70FC-4543-97FC-C0AD323B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D19-F51E-47EE-818B-4832F6F9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0A8-FB7E-4AEA-B88F-241D743C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707-21A9-4827-A94B-CB7B62CB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5FD-ABB1-417B-8540-A4518F93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D06-CD2D-4044-BD77-D9A82568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E9D-7912-46BD-BD9A-9F52066E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CCF-E67C-4265-823D-BDDF59D4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1C4-3F7D-4A30-AFE1-864AF573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AC8-E32E-4A54-8E09-C2EBE264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1A56-107C-4390-995D-545E0487EE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социально – неблагополучными семьями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семей, состоящих на учете по постановлению в ТКДН и ЗП и находящихся в социально – опас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99640" y="3357720"/>
            <a:ext cx="755820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5 – 2016 учебный год – 9 сем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6 – 2017 учебный год – 5 сем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7 – 2018 учебный год – 2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8 – 2019 учебный год –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детей, оставшихся без попечения родителей и детей, находящихся под опе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26920" y="2421000"/>
            <a:ext cx="763128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5 – 2016 учебный год – 1 ребе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6 – 2017 учебный год – 1 ребе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7 – 2018 учебный год – 2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8 – 2019 учебный год – 4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о – правовая доку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дународны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Конвенция о правах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ы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  Конституция Р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  Декларация прав и свобод человека и граждан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  Семейный кодекс Р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  Уголовный кодекс Р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Закон РФ «Об основных гарантиях прав ребенка в Российской Федерации» от 24.07. 1998г. № 103 Ф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Закон РФ «Об основах системы профилактики безнадзорности и правонарушений несовершеннолетних» (с изменениями от 21.07.2007г. N194-ФЗ) от 24.06.1999г. N120-Ф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ие воспитанников из семей. находящихся в с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689040" y="1974960"/>
            <a:ext cx="7772400" cy="3981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2:00:18Z</dcterms:created>
  <dc:creator>User</dc:creator>
  <dc:description/>
  <dc:language>en-US</dc:language>
  <cp:lastModifiedBy>lenovo</cp:lastModifiedBy>
  <dcterms:modified xsi:type="dcterms:W3CDTF">2019-02-13T03:15:10Z</dcterms:modified>
  <cp:revision>256</cp:revision>
  <dc:subject/>
  <dc:title>Региональная программа «Социокультурные истоки»</dc:title>
</cp:coreProperties>
</file>