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9F9-6132-428F-8A3C-4D55AD10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EAA-CE96-4346-91C0-CE47AD40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A4E-CD03-4ACC-A370-109B8A99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94F-9093-4A27-AAC4-0D3EE426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A22E-186D-4DF4-BCF5-C2F6B6B7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9663-2C60-43B2-BA19-E9FE1C9C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7EFF-B400-4C8D-BDD1-2A3D5885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F854-F690-45EB-8100-18F5608E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4A66-556E-4207-A00C-A8AB03DF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67F5-E47C-4B1A-9C0A-CDC2680F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AADB-9497-4437-AFAA-117128A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01E-446C-4FB3-B18E-B98225F3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A24D-9645-495B-AD16-D1DA6500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E2E6-E7E7-496B-8D72-AD37120E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7B7F-1180-4E3D-B2AB-A2648B10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6F25-A2A0-4486-8424-ADE44688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DF2D-00FF-4C99-A2E1-4A3EDAB3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51E8-2FB1-414E-A0BD-6DBF3CDD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5816-C690-4E10-A738-F84CD806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C373-6B1E-47A7-A6D1-0DCC0595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8951-9CA4-44D7-8D05-DBBCF89F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4F1C-BC3A-47AC-93C7-1F4F33D2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B45-AC70-4FE9-8423-485737CF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6CC8D-DE6E-4157-A338-A468C0FA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E98C6-4870-4D7F-A36B-0E0E0866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97B2-DD1B-40F4-88EE-6809FB94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B5D0B-2316-44D3-B396-3AD328A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418C-9F59-46B0-AA6A-BEB4D22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CA90E-8376-445A-97C5-833B0A0E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7C03-9005-4BBE-805C-D0CBACF5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B75F3-A40E-4B75-B908-0E011459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BA449-F2F2-4DE4-8557-21C6CC37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A5F48-DCCD-4808-A5E3-028311D8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FB6-E3E6-4126-8775-BBDD58B0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9457-F16B-4FAF-8BEE-495AB7EB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2706-348B-4DD9-8583-7A65F48D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CB78-1245-4248-B161-F14D02CD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BCB2C-6F1B-4176-8B1B-E5ABA570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5150-5321-4653-AE40-4F7C54F8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769B-7D53-417B-9926-EF24A7D4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ADACA-041E-4EFB-B790-C9597E0F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CB0D9-C113-43FD-A619-839ABF44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11130-9C88-43EF-8AC8-CFF62680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45424-A3C7-4E8D-83EA-F7066009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805-4097-4D91-A4D4-1D4AF4A0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C6D68-24D5-483F-80B6-87326B69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F70B3-8D52-4B1C-B0E7-F215DD69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0B707-09D2-4FF6-A2A0-F747A43A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29283-0632-47AA-AA30-9660126A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DAEE8-8C9F-4EE8-B8E6-0ACE4BE2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78C67-6B52-4137-8AB3-C5719CF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14BC7-8ADD-4283-875B-4721F004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C84D-B5E8-491A-8189-D252A94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3948F-A53F-4303-887B-EFA6541B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70B7-EE46-4943-86EC-243AE0B3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3E3-D73B-4D68-8E1B-A6BF1B49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D805-45E6-475B-A6A0-C6A9197C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2CFD2-F8B3-464A-B38F-11C0FDE4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93BB6-D60A-4D2A-9D54-BC2BF3EB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1DD75-A659-4FDA-8938-71899035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E01B4-DF94-4650-81F7-5E828D6D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A23BE-867F-4EFE-A44E-7354463A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47B52-9E2D-4147-8AB1-1FBFDB71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E6BD-ED94-42CE-9A4B-4D5E4C1C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A339-34C8-4EEF-847F-5AFED125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65B78-6514-410A-88B6-5372176A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FBE-A64D-4E27-87B2-9A75EF2E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275DC-DF1B-471C-AEEA-45B0550A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9F675-B636-487F-A75A-BDACC87C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F4F3B-A3F2-4194-9A03-64D20AB2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1588A-025E-4524-AE54-0DEE9D2B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64BD3-9973-476B-8EDB-AC9F7BD7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BA75C-40B0-4168-A333-6DBDF918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DAA20-A44D-47E6-BE7F-84207090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A6C1A-9BE7-4461-A1AB-BE895D7B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B4CA2-750C-4C7F-91D5-A82C1559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A403-8577-41BE-B77E-2D56646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D42-35DC-456C-AFA5-A6A6985D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78C79-A7BF-4711-9B5F-DD3A1C7C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9C099-2767-4445-BB0A-B45C51A0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4F1C4-EEE0-4AF3-A844-6236EAA3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997FE-7608-4896-94BD-B00DBE41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04797-02B4-4AFA-8688-A6906017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06E-A649-4F83-98FE-5599F6C5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0912ACE0-8080-43CD-96D2-B71F738628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6BCA2525-6C14-46F8-8689-88EB3BB8C513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876C8694-9EFD-4AB7-88BA-4E22DF60801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D932DA07-DB95-4327-8816-6C7760CF3746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0C9F7DBE-3703-4F17-868F-4606018DD19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46AF83F5-BBEA-4E43-9553-E1302EBFAE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3679ECBD-6299-4C69-B711-705C001988F6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FBBDC6D4-56DB-46CF-B848-5837AC1F5670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49ABDB8B-90FB-486D-9630-857837068D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67B16415-E0AA-45B3-B523-FF531642CA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appy-djungarik.ru/wp-content/uploads/2012/11/ZHemchuzhny-j-okras-dzhungarika-600x450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pitomecdoma.ru/homjak/homjak4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4"/>
          <p:cNvSpPr/>
          <p:nvPr/>
        </p:nvSpPr>
        <p:spPr>
          <a:xfrm>
            <a:off x="3289320" y="4060800"/>
            <a:ext cx="21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6919920" y="3525840"/>
            <a:ext cx="18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6919920" y="3525840"/>
            <a:ext cx="18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6919920" y="3422520"/>
            <a:ext cx="57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5106960" y="6396120"/>
            <a:ext cx="1978200" cy="459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Новг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оугольник 1"/>
          <p:cNvSpPr/>
          <p:nvPr/>
        </p:nvSpPr>
        <p:spPr>
          <a:xfrm>
            <a:off x="1643040" y="369720"/>
            <a:ext cx="92026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езентация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ИДЫ ХОМЯК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ушкина Улья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4 «Д»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оугольник 8"/>
          <p:cNvSpPr/>
          <p:nvPr/>
        </p:nvSpPr>
        <p:spPr>
          <a:xfrm>
            <a:off x="1285920" y="347760"/>
            <a:ext cx="102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"Гимназия №4 имени Героя Советского Союза, Почетного гражданина Новгорода И. А. Каберова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Список литературы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1. «Мир живой природы» (энциклопедия, 2000 год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2. «Домашние питомцы» (энциклопедия, 2004 год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3.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itomecdoma.ru›homjak/homjak.shtm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u.wikipedia.or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8" name="Picture 2" descr="&amp;Scy;&amp;acy;&amp;mcy;&amp;ycy;&amp;jcy; &amp;bcy;&amp;ocy;&amp;lcy;&amp;softcy;&amp;shcy;&amp;ocy;&amp;jcy; &amp;khcy;&amp;ocy;&amp;mcy;&amp;yacy;&amp;kcy; &amp;vcy; &amp;mcy;&amp;icy;&amp;rcy;&amp;iecy; &amp;ocy;&amp;bcy;&amp;ocy;&amp;icy;, &amp;fcy;&amp;ocy;&amp;tcy;&amp;ocy;, &amp;kcy;&amp;acy;&amp;rcy;&amp;tcy;&amp;icy;&amp;ncy;&amp;kcy;&amp;icy; &amp;ncy;&amp;acy; &amp;rcy;&amp;acy;&amp;bcy;&amp;ocy;&amp;chcy;&amp;icy;&amp;jcy; &amp;scy;&amp;tcy;&amp;ocy;&amp;lcy;. &amp;mcy;&amp;icy;&amp;lcy;&amp;ycy;&amp;jcy; &amp;khcy;&amp;ocy;&amp;mcy;&amp;yacy;&amp;kcy; &amp;ncy;&amp;acy; &amp;vcy;&amp;iecy;&amp;rcy;&amp;iecy;&amp;vcy;&amp;kcy;&amp;iecy;"/>
          <p:cNvPicPr/>
          <p:nvPr/>
        </p:nvPicPr>
        <p:blipFill>
          <a:blip r:embed="rId1"/>
          <a:stretch/>
        </p:blipFill>
        <p:spPr>
          <a:xfrm>
            <a:off x="6772320" y="2581200"/>
            <a:ext cx="499248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1"/>
          <p:cNvSpPr/>
          <p:nvPr/>
        </p:nvSpPr>
        <p:spPr>
          <a:xfrm>
            <a:off x="1643040" y="369720"/>
            <a:ext cx="92026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Узнать  чем  различаются условия содержания различных видов хомяков в домашних услов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Изучение видов домашних хомяков и их 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у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ловий содерж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Рисунок 2" descr="&amp;shcy;&amp;ocy;&amp;kcy;&amp;ocy;&amp;lcy;&amp;acy;&amp;dcy;&amp;ncy;&amp;ycy;&amp;jcy;"/>
          <p:cNvPicPr/>
          <p:nvPr/>
        </p:nvPicPr>
        <p:blipFill>
          <a:blip r:embed="rId1"/>
          <a:stretch/>
        </p:blipFill>
        <p:spPr>
          <a:xfrm>
            <a:off x="784080" y="3600360"/>
            <a:ext cx="2527560" cy="2027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&amp;Pcy;&amp;rcy;&amp;icy;&amp;kcy;&amp;ocy;&amp;lcy;&amp;softcy;&amp;ncy;&amp;ycy;&amp;iecy; &amp;kcy;&amp;acy;&amp;rcy;&amp;tcy;&amp;icy;&amp;ncy;&amp;kcy;&amp;icy; &amp;ncy;&amp;acy; &amp;kcy;&amp;acy;&amp;zhcy;&amp;dcy;&amp;ycy;&amp;jcy; &amp;dcy;&amp;iecy;&amp;ncy;&amp;softcy; Korefun.net - Part 37"/>
          <p:cNvPicPr/>
          <p:nvPr/>
        </p:nvPicPr>
        <p:blipFill>
          <a:blip r:embed="rId2"/>
          <a:stretch/>
        </p:blipFill>
        <p:spPr>
          <a:xfrm>
            <a:off x="4573440" y="2954160"/>
            <a:ext cx="2799000" cy="3110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&amp;Scy;&amp;lcy;&amp;acy;&amp;vcy;&amp;yacy;&amp;ncy;&amp;scy;&amp;kcy;&amp;icy;&amp;jcy; &amp;Zcy;&amp;vcy;&amp;iecy;&amp;rcy;&amp;icy;&amp;ncy;&amp;ycy;&amp;jcy; &amp;Gcy;&amp;ocy;&amp;rcy;&amp;ocy;&amp;scy;&amp;kcy;&amp;ocy;&amp;pcy;. 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3"/>
          <a:stretch/>
        </p:blipFill>
        <p:spPr>
          <a:xfrm>
            <a:off x="7950240" y="3459240"/>
            <a:ext cx="2895480" cy="21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233520" y="988560"/>
            <a:ext cx="5180040" cy="2551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К 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семейству хомяков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относятся небольшие, плотно сложенные </a:t>
            </a:r>
            <a:r>
              <a:rPr b="0" lang="ru-RU" sz="1600" spc="-1" strike="noStrike" u="sng">
                <a:solidFill>
                  <a:srgbClr val="404040"/>
                </a:solidFill>
                <a:uFillTx/>
                <a:latin typeface="Calibri"/>
              </a:rPr>
              <a:t>грызуны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с короткими конечностями, маленькими ушами и короткими хвостами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Длина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тела от 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до 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34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 см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Окраска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густого меха на спине от светло-серой до тёмно- коричневой; на животе — чёрная, белая или серая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Иногда вдоль спины проходит чёрная полос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Имеются очень развитые защечные мешки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57280" y="194760"/>
            <a:ext cx="752328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Arial Black"/>
                <a:ea typeface="Adobe Gothic Std B"/>
              </a:rPr>
              <a:t>КТО ТАКИЕ ХОМЯКИ?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3313080" y="3370320"/>
            <a:ext cx="51008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яч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условно делятся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две групп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дикие хомя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роживающие в естественных условиях в природ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декоратив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домаш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хомяки, которых содержат в домашних услови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Виды домашних хомя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ычно дома заводят хомячко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яти видов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джунгарский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хомя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ячок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Кэмпбелл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ячок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Роборовског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китайски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я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рийски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я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Рисунок 6" descr="http://filjaiko.ru/images/1.jpg"/>
          <p:cNvPicPr/>
          <p:nvPr/>
        </p:nvPicPr>
        <p:blipFill>
          <a:blip r:embed="rId1"/>
          <a:srcRect l="0" t="0" r="0" b="13990"/>
          <a:stretch/>
        </p:blipFill>
        <p:spPr>
          <a:xfrm>
            <a:off x="8567640" y="1036800"/>
            <a:ext cx="3262320" cy="2409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&amp;ZHcy;&amp;icy;&amp;vcy;&amp;ocy;&amp;tcy;&amp;ncy;&amp;ycy;&amp;iecy; www.krasfun.ru"/>
          <p:cNvPicPr/>
          <p:nvPr/>
        </p:nvPicPr>
        <p:blipFill>
          <a:blip r:embed="rId2"/>
          <a:stretch/>
        </p:blipFill>
        <p:spPr>
          <a:xfrm>
            <a:off x="196920" y="1036800"/>
            <a:ext cx="2825640" cy="250344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10" descr="&amp;khcy;&amp;ocy;&amp;mcy;&amp;yacy;&amp;kcy; &amp;kcy;&amp;ecy;&amp;mcy;&amp;pcy;&amp;bcy;&amp;iecy;&amp;lcy;&amp;lcy;&amp;acy;"/>
          <p:cNvPicPr/>
          <p:nvPr/>
        </p:nvPicPr>
        <p:blipFill>
          <a:blip r:embed="rId3"/>
          <a:stretch/>
        </p:blipFill>
        <p:spPr>
          <a:xfrm>
            <a:off x="196920" y="3849840"/>
            <a:ext cx="2825640" cy="207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&amp;Fcy;&amp;ocy;&amp;tcy;&amp;ocy;&amp;gcy;&amp;rcy;&amp;acy;&amp;fcy;&amp;icy;&amp;yacy; &amp;khcy;&amp;ocy;&amp;mcy;&amp;yacy;&amp;kcy; - &amp;fcy;&amp;ocy;&amp;tcy;&amp;ocy;&amp;bcy;&amp;acy;&amp;ncy;&amp;kcy; &amp;Fcy;&amp;ocy;&amp;tcy;&amp;ocy;&amp;tcy;&amp;acy;&amp;jcy;&amp;mcy;&amp;scy;"/>
          <p:cNvPicPr/>
          <p:nvPr/>
        </p:nvPicPr>
        <p:blipFill>
          <a:blip r:embed="rId4"/>
          <a:stretch/>
        </p:blipFill>
        <p:spPr>
          <a:xfrm>
            <a:off x="8844120" y="3610080"/>
            <a:ext cx="25779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6320" y="136440"/>
            <a:ext cx="53704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ДЖУНГАРСКИЙ ХОМЯК</a:t>
            </a:r>
            <a:r>
              <a:rPr b="0" lang="ru-RU" sz="2000" spc="-1" strike="noStrike">
                <a:solidFill>
                  <a:srgbClr val="7030a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290680" y="892080"/>
            <a:ext cx="3500640" cy="233856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Джунгарский хомяк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является одним из самых популярных видов. Он относится к карликовым хомякам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Вырастает всего до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10 см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, а вес около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45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граммов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На спинке у зверька вдоль позво-ночника проходит полоска шерсти черного цвета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997240" y="90360"/>
            <a:ext cx="5357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ХОМЯЧОК КЭМПБЕЛЛА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699400" y="1050840"/>
            <a:ext cx="3276720" cy="165600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Хомячок Кэмпбелла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очень схож с джунгарским хомяком и по разме-рам и по весу, но отличается окрасом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Размер до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10 см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, а вес до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40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граммов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Прямоугольник 8"/>
          <p:cNvSpPr/>
          <p:nvPr/>
        </p:nvSpPr>
        <p:spPr>
          <a:xfrm>
            <a:off x="169920" y="3557520"/>
            <a:ext cx="2784240" cy="228852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ордоч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жунгарски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хомячков заостренная, а ушки небольшого размер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часть «джунгари-ков» имеет природный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кра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темно-серый, со светлым животик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Рисунок 9" descr="&amp;dcy;&amp;zhcy;&amp;ucy;&amp;ncy;&amp;gcy;&amp;acy;&amp;rcy;&amp;scy;&amp;kcy;&amp;icy;&amp;jcy; &amp;khcy;&amp;ocy;&amp;mcy;&amp;yacy;&amp;kcy;"/>
          <p:cNvPicPr/>
          <p:nvPr/>
        </p:nvPicPr>
        <p:blipFill>
          <a:blip r:embed="rId1"/>
          <a:stretch/>
        </p:blipFill>
        <p:spPr>
          <a:xfrm>
            <a:off x="285840" y="882720"/>
            <a:ext cx="1855800" cy="164628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10"/>
          <p:cNvSpPr/>
          <p:nvPr/>
        </p:nvSpPr>
        <p:spPr>
          <a:xfrm>
            <a:off x="181080" y="2581200"/>
            <a:ext cx="210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  <a:ea typeface="Calibri"/>
              </a:rPr>
              <a:t>Сапфировый джунгар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Рисунок 11" descr="Фото джунгарика жемчужного окрас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4720" y="3927600"/>
            <a:ext cx="2546280" cy="208440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12"/>
          <p:cNvSpPr/>
          <p:nvPr/>
        </p:nvSpPr>
        <p:spPr>
          <a:xfrm>
            <a:off x="3313080" y="601200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Белый джунгар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6230880" y="3857760"/>
            <a:ext cx="2494080" cy="155412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мячка Кэмпбелл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ерстка менее серая, с золотисто-коричневым оттенко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же они имеют темную полоску на спин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Рисунок 16" descr="Фото Хомяк Кэмпбелла"/>
          <p:cNvPicPr/>
          <p:nvPr/>
        </p:nvPicPr>
        <p:blipFill>
          <a:blip r:embed="rId4"/>
          <a:stretch/>
        </p:blipFill>
        <p:spPr>
          <a:xfrm>
            <a:off x="5997600" y="720720"/>
            <a:ext cx="2511360" cy="231768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7" descr="Хомячок Кэмпбелл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66240" y="3927600"/>
            <a:ext cx="2909880" cy="19112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ая соединительная линия 21"/>
          <p:cNvSpPr/>
          <p:nvPr/>
        </p:nvSpPr>
        <p:spPr>
          <a:xfrm>
            <a:off x="5861160" y="0"/>
            <a:ext cx="29880" cy="6411960"/>
          </a:xfrm>
          <a:prstGeom prst="line">
            <a:avLst/>
          </a:prstGeom>
          <a:ln w="3168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82160" y="140760"/>
            <a:ext cx="5815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ХОМЯЧОК </a:t>
            </a:r>
            <a:r>
              <a:rPr b="1" lang="ru-RU" sz="22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РОБОРОВСКОГО</a:t>
            </a:r>
            <a:r>
              <a:rPr b="1" lang="ru-RU" sz="17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793600" y="638280"/>
            <a:ext cx="3273480" cy="545616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Хомячки Роборовского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считаются самыми маленькими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Их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размер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достигает всего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4-5 </a:t>
            </a:r>
            <a:r>
              <a:rPr b="1" i="1" lang="ru-RU" sz="1800" spc="-1" strike="noStrike">
                <a:solidFill>
                  <a:srgbClr val="404040"/>
                </a:solidFill>
                <a:latin typeface="Calibri"/>
              </a:rPr>
              <a:t>см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ес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около 30 граммов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Это очень мелкий зверек с коротким хвостиком, который практически незаметен под пушистой шерсткой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Мордочка у хомячка курносая, ушки сравнительно большие, округлой формы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Окраска спинки розово-палевая, брюшка и лапок чисто белая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Над глазами имеются небольшие белые пятна. Черные ушки имеют белую кайму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Вид назван в честь русского натуралиста В. И. Роборовского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72200" y="66600"/>
            <a:ext cx="5781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КИТАЙСКИЙ ХОМЯК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878680" y="638280"/>
            <a:ext cx="3157560" cy="353376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Calibri"/>
              </a:rPr>
              <a:t>Китайский карликовый хомяк </a:t>
            </a: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- это маленький грызун, похожий на мышь.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</a:rPr>
              <a:t>Длина</a:t>
            </a: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 его тела </a:t>
            </a:r>
            <a:r>
              <a:rPr b="1" lang="ru-RU" sz="1500" spc="-1" strike="noStrike">
                <a:solidFill>
                  <a:srgbClr val="404040"/>
                </a:solidFill>
                <a:latin typeface="Calibri"/>
              </a:rPr>
              <a:t>10-12 см</a:t>
            </a: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, самцы крупнее самок.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</a:rPr>
              <a:t>Вес</a:t>
            </a: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Calibri"/>
              </a:rPr>
              <a:t>38-46</a:t>
            </a: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 граммов.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Природная окраска темно-бурого цвета.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Вдоль хребта идет темная линия.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Брюшко кремовое, глаза черные, уши серые.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У них обычно более длинный хвост и более длинное тело, чем у других хомяков.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9" name="Рисунок 9" descr="породы домашних хомячков"/>
          <p:cNvPicPr/>
          <p:nvPr/>
        </p:nvPicPr>
        <p:blipFill>
          <a:blip r:embed="rId1"/>
          <a:stretch/>
        </p:blipFill>
        <p:spPr>
          <a:xfrm>
            <a:off x="82440" y="638280"/>
            <a:ext cx="2748240" cy="208584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0" descr=""/>
          <p:cNvPicPr/>
          <p:nvPr/>
        </p:nvPicPr>
        <p:blipFill>
          <a:blip r:embed="rId2"/>
          <a:stretch/>
        </p:blipFill>
        <p:spPr>
          <a:xfrm>
            <a:off x="130320" y="4113360"/>
            <a:ext cx="2593800" cy="19810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2"/>
          <p:cNvSpPr/>
          <p:nvPr/>
        </p:nvSpPr>
        <p:spPr>
          <a:xfrm>
            <a:off x="6183360" y="3154320"/>
            <a:ext cx="2554200" cy="252756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итается, что эта порода была получен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 скрещиван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вух типов хомяков: джунгарского и роборовского.                                        Китайские хомячки приспособлены для домашнего содержания, даются в руки, дружелюб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Рисунок 14" descr="3720816_kitaiskii_homyachok (350x292, 35Kb)"/>
          <p:cNvPicPr/>
          <p:nvPr/>
        </p:nvPicPr>
        <p:blipFill>
          <a:blip r:embed="rId3"/>
          <a:stretch/>
        </p:blipFill>
        <p:spPr>
          <a:xfrm>
            <a:off x="6172200" y="696960"/>
            <a:ext cx="2268360" cy="202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15" descr="3720816_kit1 (300x197, 19Kb)"/>
          <p:cNvPicPr/>
          <p:nvPr/>
        </p:nvPicPr>
        <p:blipFill>
          <a:blip r:embed="rId4"/>
          <a:stretch/>
        </p:blipFill>
        <p:spPr>
          <a:xfrm>
            <a:off x="9093240" y="4430880"/>
            <a:ext cx="2860560" cy="187452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ая соединительная линия 17"/>
          <p:cNvSpPr/>
          <p:nvPr/>
        </p:nvSpPr>
        <p:spPr>
          <a:xfrm>
            <a:off x="6124680" y="0"/>
            <a:ext cx="0" cy="6305400"/>
          </a:xfrm>
          <a:prstGeom prst="line">
            <a:avLst/>
          </a:prstGeom>
          <a:ln w="3168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36080"/>
            <a:ext cx="10515600" cy="6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Сирийский хомяк 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730600" y="744120"/>
            <a:ext cx="6138720" cy="231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10000"/>
              </a:lnSpc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Сирийский хомяк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размером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около 18 см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с золотисто-желтой или коричневатой шерсткой, которая бывает как короткой, так и довольно длинной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Масса 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этих хомяков — 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от 110 до 220 граммов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и иногда даже больше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Зверек очень покладистый и безобидный, милейшее создание с забавными повадками. Поэтому сирийские также являются одним из наиболее предпочтительных видов домашних хомячков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016080" y="3182760"/>
            <a:ext cx="913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рийские хомяки отличаются наиболее разнообразным количеством окрасов, рисунков и типов шер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150840" y="2033640"/>
            <a:ext cx="24955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рийский короткошерстный хомя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Рисунок 6" descr="3720816_sir (564x452, 180Kb)"/>
          <p:cNvPicPr/>
          <p:nvPr/>
        </p:nvPicPr>
        <p:blipFill>
          <a:blip r:embed="rId1"/>
          <a:stretch/>
        </p:blipFill>
        <p:spPr>
          <a:xfrm>
            <a:off x="150840" y="160200"/>
            <a:ext cx="2579760" cy="18734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7"/>
          <p:cNvSpPr/>
          <p:nvPr/>
        </p:nvSpPr>
        <p:spPr>
          <a:xfrm>
            <a:off x="9101160" y="2316240"/>
            <a:ext cx="28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рийский длинношерстный (или ангорский) хомя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Рисунок 8" descr="3720816_homo1 (640x438, 222Kb)"/>
          <p:cNvPicPr/>
          <p:nvPr/>
        </p:nvPicPr>
        <p:blipFill>
          <a:blip r:embed="rId2"/>
          <a:stretch/>
        </p:blipFill>
        <p:spPr>
          <a:xfrm>
            <a:off x="9101160" y="160200"/>
            <a:ext cx="2806560" cy="20336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9" descr="3720816_chyornii (640x344, 99Kb)"/>
          <p:cNvPicPr/>
          <p:nvPr/>
        </p:nvPicPr>
        <p:blipFill>
          <a:blip r:embed="rId3"/>
          <a:stretch/>
        </p:blipFill>
        <p:spPr>
          <a:xfrm>
            <a:off x="150840" y="2705040"/>
            <a:ext cx="2579760" cy="19051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0"/>
          <p:cNvSpPr/>
          <p:nvPr/>
        </p:nvSpPr>
        <p:spPr>
          <a:xfrm>
            <a:off x="150840" y="4797360"/>
            <a:ext cx="3720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Черный хомяк</a:t>
            </a: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итается особым, такой окрас присущ только одному виду хомяков - сирийскому. У черного хомячка на брюшке могут быть белые пятна, остальная шерсть черная целиком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Рисунок 12" descr="&amp;kcy;&amp;rcy;&amp;iecy;&amp;mcy;&amp;ocy;&amp;vcy;&amp;ycy;&amp;jcy;"/>
          <p:cNvPicPr/>
          <p:nvPr/>
        </p:nvPicPr>
        <p:blipFill>
          <a:blip r:embed="rId4"/>
          <a:stretch/>
        </p:blipFill>
        <p:spPr>
          <a:xfrm>
            <a:off x="8874000" y="3986280"/>
            <a:ext cx="2498760" cy="2103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&amp;Acy;&amp;bcy;&amp;icy;&amp;tcy;&amp;ucy;&amp;rcy;&amp;icy;&amp;iecy;&amp;ncy;&amp;tcy;&amp;ycy; &amp;Tcy;&amp;ocy;&amp;mcy;&amp;scy;&amp;kcy;&amp;ocy;&amp;gcy;&amp;ocy; &amp;pcy;&amp;ocy;&amp;lcy;&amp;icy;&amp;tcy;&amp;iecy;&amp;khcy;&amp;acy; &amp;scy;&amp;ncy;&amp;acy;&amp;bcy;&amp;zhcy;&amp;acy;&amp;yucy;&amp;tcy; &amp;zcy;&amp;acy;&amp;yacy;&amp;vcy;&amp;kcy;&amp;icy; &amp;ncy;&amp;acy; &amp;pcy;&amp;ocy;&amp;scy;&amp;tcy;&amp;ucy;&amp;pcy;&amp;lcy;&amp;iecy;&amp;ncy;&amp;icy;&amp;iecy;…"/>
          <p:cNvPicPr/>
          <p:nvPr/>
        </p:nvPicPr>
        <p:blipFill>
          <a:blip r:embed="rId5"/>
          <a:stretch/>
        </p:blipFill>
        <p:spPr>
          <a:xfrm>
            <a:off x="4575240" y="3986280"/>
            <a:ext cx="322416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250920" y="74520"/>
          <a:ext cx="9042480" cy="5991480"/>
        </p:xfrm>
        <a:graphic>
          <a:graphicData uri="http://schemas.openxmlformats.org/drawingml/2006/table">
            <a:tbl>
              <a:tblPr/>
              <a:tblGrid>
                <a:gridCol w="1627200"/>
                <a:gridCol w="741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хомя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и в условиях содержания хомя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Джунгарский хом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джунгарских хомячков ярко выражена тяга к движени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и хомяки – животные общительные: уделять им внимание нужно ежедневно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жунгарики плохо переносят падение даже с небольшой выс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жунгарики могут прожить в домашних условиях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3 л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Хомячок Кэмпбе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ть хомячков Кэмпбелла лучше в клетке по одному, иначе зверьки передерутс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и  зверьки больше других любят кусаться. Поэтому необходимо одевать перчатки, когда захотите потискать хомя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жизни хомячков Кэмпбелла 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г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11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Хомячок Роборов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мяки Роборовского содержат ОДНОПОЛЫМИ ГРУППАМИ по 2 особи: самцы с самцами; самки с самкам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гаются они с очень высокой скоростью и вообще отличаются повышенной нервозность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жизни 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2 до 3 с половиной л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11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итайский хом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стро привыкают к рукам и легко уживаются с разнополыми особями, если их приучать друг к другу с юного возра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отличие от других карликовых хомячков, этот вид редко содержат в качестве домашнего животного, возможно потому, что китайские хомячки очень похожи на мыш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жизни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 г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13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ирийский хом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лоть до раннего вечера зверек может мирно спать в своем домике-норке, а позже он начинает буквально без остановки крутиться в колесе и грызть прутья клетки на протяжении всей ночи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ночь хомячок способен «набегать» до 7 к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сирийским хомякам нельзя подселять сосед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жизни 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4 л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</a:tbl>
          </a:graphicData>
        </a:graphic>
      </p:graphicFrame>
      <p:pic>
        <p:nvPicPr>
          <p:cNvPr id="357" name="Рисунок 4" descr="Клетка для хомяка"/>
          <p:cNvPicPr/>
          <p:nvPr/>
        </p:nvPicPr>
        <p:blipFill>
          <a:blip r:embed="rId1"/>
          <a:stretch/>
        </p:blipFill>
        <p:spPr>
          <a:xfrm>
            <a:off x="9325080" y="3451320"/>
            <a:ext cx="2484360" cy="261144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" descr="http://pitomecdoma.ru/homjak/homjak9.jpg"/>
          <p:cNvPicPr/>
          <p:nvPr/>
        </p:nvPicPr>
        <p:blipFill>
          <a:blip r:embed="rId2"/>
          <a:stretch/>
        </p:blipFill>
        <p:spPr>
          <a:xfrm>
            <a:off x="9448920" y="503280"/>
            <a:ext cx="274320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122640" y="192240"/>
          <a:ext cx="8921880" cy="3170160"/>
        </p:xfrm>
        <a:graphic>
          <a:graphicData uri="http://schemas.openxmlformats.org/drawingml/2006/table">
            <a:tbl>
              <a:tblPr/>
              <a:tblGrid>
                <a:gridCol w="2574720"/>
                <a:gridCol w="4329360"/>
                <a:gridCol w="896760"/>
                <a:gridCol w="11210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хомя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меры кле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мер кол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сти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60093"/>
                          </a:solidFill>
                          <a:latin typeface="Arial Black"/>
                        </a:rPr>
                        <a:t>джунгарский хомя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вариум из стекла, длиной 100 см и высотой 40 с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ка размером не меньше, чем 30 на 70 с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4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лк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лоем в 3 с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60093"/>
                          </a:solidFill>
                          <a:latin typeface="Arial Black"/>
                        </a:rPr>
                        <a:t>хомячок Кэмпбе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ка 30х70 с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большой аквариу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минимум 40*60 см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4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лк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ли специальный на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60093"/>
                          </a:solidFill>
                          <a:latin typeface="Arial Black"/>
                        </a:rPr>
                        <a:t>хомячок Роборов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к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*30 см для одного хомя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70*40 для пар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омяков Роборовского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4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й песк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щин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 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60093"/>
                          </a:solidFill>
                          <a:latin typeface="Arial Black"/>
                        </a:rPr>
                        <a:t>китайский хомя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ка для мышей, а также пластиковый или стеклянный аквариум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4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лки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ем в 3 с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60093"/>
                          </a:solidFill>
                          <a:latin typeface="Arial Black"/>
                        </a:rPr>
                        <a:t>сирийский хомя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ка размером 40 см х 60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8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лк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й фр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</a:tbl>
          </a:graphicData>
        </a:graphic>
      </p:graphicFrame>
      <p:pic>
        <p:nvPicPr>
          <p:cNvPr id="360" name="Picture 8" descr="HAMSTER.ru * Просмотр темы - Аквариум 2 /и не только аквариум"/>
          <p:cNvPicPr/>
          <p:nvPr/>
        </p:nvPicPr>
        <p:blipFill>
          <a:blip r:embed="rId1"/>
          <a:stretch/>
        </p:blipFill>
        <p:spPr>
          <a:xfrm>
            <a:off x="3782880" y="3484440"/>
            <a:ext cx="4635720" cy="26370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403200" y="411120"/>
            <a:ext cx="2216160" cy="286452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00b0f0"/>
                </a:solidFill>
                <a:latin typeface="Calibri"/>
              </a:rPr>
              <a:t>жилищ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у каждого хомячка должны присутст-вовать следующие вещи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ециальная </a:t>
            </a: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поил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Мис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для сухого и свежего кор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Специальный камень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грызунов - для стачивания зуб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Доми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Колес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Лесенки, труб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Наполнител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7" descr="Многоярусная клетка"/>
          <p:cNvPicPr/>
          <p:nvPr/>
        </p:nvPicPr>
        <p:blipFill>
          <a:blip r:embed="rId2"/>
          <a:stretch/>
        </p:blipFill>
        <p:spPr>
          <a:xfrm>
            <a:off x="0" y="3386160"/>
            <a:ext cx="2712960" cy="2754360"/>
          </a:xfrm>
          <a:prstGeom prst="rect">
            <a:avLst/>
          </a:prstGeom>
          <a:ln w="0">
            <a:noFill/>
          </a:ln>
        </p:spPr>
      </p:pic>
      <p:sp>
        <p:nvSpPr>
          <p:cNvPr id="363" name="Выгнутая влево стрелка 10"/>
          <p:cNvSpPr/>
          <p:nvPr/>
        </p:nvSpPr>
        <p:spPr>
          <a:xfrm>
            <a:off x="144360" y="2924280"/>
            <a:ext cx="354240" cy="1846080"/>
          </a:xfrm>
          <a:custGeom>
            <a:avLst/>
            <a:gdLst>
              <a:gd name="textAreaLeft" fmla="*/ 47160 w 354240"/>
              <a:gd name="textAreaRight" fmla="*/ 307080 w 354240"/>
              <a:gd name="textAreaTop" fmla="*/ 423360 h 1846080"/>
              <a:gd name="textAreaBottom" fmla="*/ 1295280 h 184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08" stAng="-5400000" swAng="-5400000"/>
                <a:lnTo>
                  <a:pt x="0" y="10201"/>
                </a:lnTo>
                <a:arcTo wR="21600" hR="9908" stAng="10800000" swAng="-3828144"/>
                <a:lnTo>
                  <a:pt x="16845" y="21357"/>
                </a:lnTo>
                <a:lnTo>
                  <a:pt x="21600" y="19962"/>
                </a:lnTo>
                <a:lnTo>
                  <a:pt x="16845" y="18080"/>
                </a:lnTo>
                <a:lnTo>
                  <a:pt x="16845" y="19572"/>
                </a:lnTo>
                <a:arcTo wR="21600" hR="9908" stAng="6971856" swAng="3804825"/>
                <a:lnTo>
                  <a:pt x="2" y="10054"/>
                </a:lnTo>
                <a:arcTo wR="21600" hR="9908" stAng="-10776682" swAng="5376682"/>
                <a:close/>
              </a:path>
              <a:path fill="darkenLess" w="21600" h="21600">
                <a:moveTo>
                  <a:pt x="21600" y="0"/>
                </a:moveTo>
                <a:arcTo wR="21600" hR="9908" stAng="-5400000" swAng="-5400000"/>
                <a:lnTo>
                  <a:pt x="0" y="9908"/>
                </a:lnTo>
                <a:arcTo wR="21600" hR="9908" stAng="10800000" swAng="-23318"/>
                <a:lnTo>
                  <a:pt x="2" y="10054"/>
                </a:lnTo>
                <a:arcTo wR="21600" hR="9908" stAng="-10776682" swAng="5376682"/>
                <a:close/>
              </a:path>
            </a:pathLst>
          </a:cu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Выгнутая влево стрелка 11"/>
          <p:cNvSpPr/>
          <p:nvPr/>
        </p:nvSpPr>
        <p:spPr>
          <a:xfrm rot="20886600">
            <a:off x="623520" y="2681280"/>
            <a:ext cx="279360" cy="1373040"/>
          </a:xfrm>
          <a:custGeom>
            <a:avLst/>
            <a:gdLst>
              <a:gd name="textAreaLeft" fmla="*/ 37440 w 279360"/>
              <a:gd name="textAreaRight" fmla="*/ 241920 w 279360"/>
              <a:gd name="textAreaTop" fmla="*/ 316800 h 1373040"/>
              <a:gd name="textAreaBottom" fmla="*/ 1021320 h 137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76" stAng="-5400000" swAng="-5400000"/>
                <a:lnTo>
                  <a:pt x="0" y="11075"/>
                </a:lnTo>
                <a:arcTo wR="21600" hR="9976" stAng="10800000" swAng="-3647554"/>
                <a:lnTo>
                  <a:pt x="16200" y="21283"/>
                </a:lnTo>
                <a:lnTo>
                  <a:pt x="21600" y="20502"/>
                </a:lnTo>
                <a:lnTo>
                  <a:pt x="16200" y="19086"/>
                </a:lnTo>
                <a:lnTo>
                  <a:pt x="16200" y="19635"/>
                </a:lnTo>
                <a:arcTo wR="21600" hR="9976" stAng="7152446" swAng="3559984"/>
                <a:lnTo>
                  <a:pt x="33" y="10526"/>
                </a:lnTo>
                <a:arcTo wR="21600" hR="9976" stAng="-10712430" swAng="5312430"/>
                <a:close/>
              </a:path>
              <a:path fill="darkenLess" w="21600" h="21600">
                <a:moveTo>
                  <a:pt x="21600" y="0"/>
                </a:moveTo>
                <a:arcTo wR="21600" hR="9976" stAng="-5400000" swAng="-5400000"/>
                <a:lnTo>
                  <a:pt x="0" y="9976"/>
                </a:lnTo>
                <a:arcTo wR="21600" hR="9976" stAng="10800000" swAng="-87570"/>
                <a:lnTo>
                  <a:pt x="33" y="10526"/>
                </a:lnTo>
                <a:arcTo wR="21600" hR="9976" stAng="-10712430" swAng="5312430"/>
                <a:close/>
              </a:path>
            </a:pathLst>
          </a:cu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5" name="Выгнутая вправо стрелка 12"/>
          <p:cNvGrpSpPr/>
          <p:nvPr/>
        </p:nvGrpSpPr>
        <p:grpSpPr>
          <a:xfrm>
            <a:off x="1474920" y="2431440"/>
            <a:ext cx="935640" cy="1745640"/>
            <a:chOff x="1474920" y="2431440"/>
            <a:chExt cx="935640" cy="1745640"/>
          </a:xfrm>
        </p:grpSpPr>
        <p:pic>
          <p:nvPicPr>
            <p:cNvPr id="366" name="Выгнутая вправо стрелка 12" descr=""/>
            <p:cNvPicPr/>
            <p:nvPr/>
          </p:nvPicPr>
          <p:blipFill>
            <a:blip r:embed="rId3"/>
            <a:stretch/>
          </p:blipFill>
          <p:spPr>
            <a:xfrm>
              <a:off x="1474920" y="2531880"/>
              <a:ext cx="774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 rot="20523000">
              <a:off x="1760040" y="2450880"/>
              <a:ext cx="397080" cy="17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68" name="Скругленная соединительная линия 15"/>
          <p:cNvCxnSpPr/>
          <p:nvPr/>
        </p:nvCxnSpPr>
        <p:spPr>
          <a:xfrm>
            <a:off x="1828440" y="3164040"/>
            <a:ext cx="4474440" cy="239760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255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69" name="Соединительная линия уступом 22"/>
          <p:cNvCxnSpPr/>
          <p:nvPr/>
        </p:nvCxnSpPr>
        <p:spPr>
          <a:xfrm rot="5400000">
            <a:off x="-97200" y="2965320"/>
            <a:ext cx="3999600" cy="1043640"/>
          </a:xfrm>
          <a:prstGeom prst="bentConnector3">
            <a:avLst>
              <a:gd name="adj1" fmla="val 49995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370" name="Picture 2" descr="&amp;Scy;&amp;kcy;&amp;ocy;&amp;lcy;&amp;softcy;&amp;kcy;&amp;ocy; &amp;scy;&amp;tcy;&amp;ocy;&amp;icy;&amp;tcy; &amp;pcy;&amp;ocy;&amp;icy;&amp;lcy;&amp;kcy;&amp;acy; &amp;dcy;&amp;lcy;&amp;yacy; &amp;khcy;&amp;ocy;&amp;mcy;&amp;yacy;&amp;kcy;&amp;acy;?&amp;icy; &amp;kcy;&amp;acy;&amp;kcy;&amp;ucy;&amp;yucy; &amp;lcy;&amp;ucy;&amp;chcy;&amp;shcy;&amp;iecy; &amp;kcy;&amp;ucy;&amp;pcy;&amp;icy;&amp;tcy;&amp;softcy;? . - &amp;Vcy;&amp;ocy;&amp;pcy;&amp;rcy;&amp;ocy;&amp;scy;&amp;ycy; &amp;ocy; &amp;mcy;&amp;iecy;&amp;bcy;&amp;iecy;&amp;lcy;&amp;icy; &amp;icy; &amp;icy;&amp;ncy;&amp;tcy;&amp;iecy;&amp;rcy;&amp;softcy;&amp;iecy;&amp;rcy;&amp;iecy;"/>
          <p:cNvPicPr/>
          <p:nvPr/>
        </p:nvPicPr>
        <p:blipFill>
          <a:blip r:embed="rId4"/>
          <a:stretch/>
        </p:blipFill>
        <p:spPr>
          <a:xfrm>
            <a:off x="2509920" y="915840"/>
            <a:ext cx="503280" cy="7858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7"/>
          <p:cNvSpPr/>
          <p:nvPr/>
        </p:nvSpPr>
        <p:spPr>
          <a:xfrm>
            <a:off x="8798040" y="3938760"/>
            <a:ext cx="2949480" cy="1768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Место обитания хомя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лжно быть просторным, чтобы он мог бегат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лет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лжна находиться на хорошо освещенном месте, вдали от прямых солнечных лучей, источников тепла и сквозняков.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4" descr="&amp;Ocy;&amp;tcy;&amp;zcy;&amp;ycy;&amp;vcy; &amp;ocy; &amp;Mcy;&amp;icy;&amp;ncy;&amp;iecy;&amp;rcy;&amp;acy;&amp;lcy;&amp;softcy;&amp;ncy;&amp;ocy;-&amp;scy;&amp;ocy;&amp;lcy;&amp;iecy;&amp;vcy;&amp;ocy;&amp;jcy; &amp;kcy;&amp;acy;&amp;mcy;&amp;iecy;&amp;ncy;&amp;softcy; &amp;dcy;&amp;lcy;&amp;yacy; &amp;gcy;&amp;rcy;&amp;ycy;&amp;zcy;&amp;ucy;&amp;ncy;&amp;ocy;&amp;vcy; &amp;Kcy;&amp;rcy;&amp;icy;&amp;tscy; &quot;&amp;CHcy;&amp;icy;&amp;kcy;&amp;acy;&quot; &amp;Vcy;&amp;ycy;&amp;zcy;&amp;vcy;&amp;acy;&amp;lcy; &amp;ocy;&amp;gcy;&amp;rcy;&amp;ocy;&amp;mcy;&amp;ncy;&amp;ycy;&amp;jcy; &amp;vcy;&amp;ocy;&amp;scy;&amp;tcy;&amp;ocy;&amp;rcy;&amp;gcy; &amp;ucy; &amp;mcy;&amp;ocy;&amp;iecy;&amp;gcy;&amp;ocy; &amp;khcy;&amp;ocy;&amp;mcy;&amp;yacy;&amp;kcy;&amp;acy;"/>
          <p:cNvPicPr/>
          <p:nvPr/>
        </p:nvPicPr>
        <p:blipFill>
          <a:blip r:embed="rId5"/>
          <a:stretch/>
        </p:blipFill>
        <p:spPr>
          <a:xfrm>
            <a:off x="2470320" y="1897200"/>
            <a:ext cx="58572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Black"/>
              </a:rPr>
              <a:t>ВЫВОДЫ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96920" y="1846440"/>
            <a:ext cx="59212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Изучая, виды домашних хомяков я пришла к выводу, что существует 5 видов хомяков, приспособленных к содержанию в домашних условиях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Я также узнала какие условия необходимы для содержания каждого вида хомяк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5" name="Picture 2" descr="&amp;Ocy;&amp;scy;&amp;acy;&amp;dcy;&amp;acy; 15.12.13 (2-3 &amp;gcy;&amp;lcy;&amp;ucy;&amp;pcy;&amp;ycy;&amp;khcy; &amp;scy;&amp;lcy;&amp;ocy;&amp;vcy;&amp;acy;, &amp;ncy;&amp;iecy;&amp;pcy;&amp;rcy;&amp;icy;&amp;chcy;&amp;acy;&amp;scy;&amp;tcy;&amp;ncy;&amp;ycy;&amp;iecy; &amp;kcy; &amp;tcy;&amp;iecy;&amp;mcy;&amp;iecy;) - &amp;Scy;&amp;tcy;&amp;rcy;&amp;acy;&amp;ncy;&amp;icy;&amp;tscy;&amp;acy; 7"/>
          <p:cNvPicPr/>
          <p:nvPr/>
        </p:nvPicPr>
        <p:blipFill>
          <a:blip r:embed="rId1"/>
          <a:stretch/>
        </p:blipFill>
        <p:spPr>
          <a:xfrm>
            <a:off x="7450200" y="2340000"/>
            <a:ext cx="4587840" cy="384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6:44:29Z</dcterms:created>
  <dc:creator>Лариса</dc:creator>
  <dc:description/>
  <dc:language>en-US</dc:language>
  <cp:lastModifiedBy>063GaushkinaOS</cp:lastModifiedBy>
  <dcterms:modified xsi:type="dcterms:W3CDTF">2020-09-07T11:06:09Z</dcterms:modified>
  <cp:revision>97</cp:revision>
  <dc:subject/>
  <dc:title>Презентация PowerPoint</dc:title>
</cp:coreProperties>
</file>