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488-49EA-47AC-89C0-9373367B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A0E-E635-453C-A105-431F53B0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EAF-41B4-4786-8D61-5CA41AEE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9B1-9BC0-468B-92E9-94530FDA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B4B-A4F5-492E-8BBB-3405C4C1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7E1C-EC15-4178-AA36-3B18B380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0B55-9A67-4CBB-A4DF-CC734BA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3F3-380B-4F63-AB28-842C768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0DB-B986-45C5-8910-FAF98F6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645D-17A3-4A0E-A171-FD1FD5C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5207-CD66-43E3-82C4-C84116E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137-AD5F-4777-8BAB-4B4BBF25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B414-FFA4-46D3-A373-9D2A54C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25FD-3BDD-4117-B57B-39D95E9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11B3-CE3D-41C7-87AE-A006281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11B4-05C8-4F60-A8B6-457B92BE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7FA-0AB7-4429-AD23-4BB9BF0B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3983-D9D3-4270-A22A-46D71D27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A1A5-B341-4F7E-B8CE-72D0A020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00AA-7924-42DE-BEF9-6775447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2D95-C886-429F-9FC4-4712690B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EEEB-930D-43C4-9172-1D0EBA1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4FA-2425-4875-9A73-436F6DFE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CE23-6800-456F-8626-29F50CD5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E76D-557C-4DB9-9AEC-09B9FDD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CED4-D7A0-4B33-A8B8-3AA696B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5A08-1C42-43E5-A0A7-145F8629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E1B9-30AB-4DC1-91CC-C8EA906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2875-B489-4A42-AE74-E89018A5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3F48-443D-49BC-B101-43B9887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881D-3F01-44E4-997F-099F4C86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A4E8-BFFC-4C9C-8402-BCE8E33F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44049-CAFF-44D3-96CB-9146B16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DF2-9643-45D0-85F8-AB9DC019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64FF9-F36A-4C62-912A-9FD0410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9BE7-9248-4D75-A6A1-56B9EEA0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7816-23D9-423B-8B4D-43757791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118C-12EB-41C9-B6E8-4386617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01E2-9E9D-4C1F-9185-A316104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685A-E1BC-4B8A-BE42-ACDB2C6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964E-9580-43BC-86D9-75AF38D7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F3A2-1F2D-4A11-8C5C-5576B291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0421-2487-45D9-82B7-A3798247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8B1D9-342A-40C9-8378-8AE8ED7C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CB6-BDBC-45DB-ABAF-EFADC23D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FFCD7-82C5-4D89-9DFE-4AC30C8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259D-D6BF-469F-9529-F13D6BA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42AE9-2388-4266-9617-3B6F881F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D643-94E3-4963-A2FE-A1F63665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E869-064A-48EC-8631-2593567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138DC-3E17-4A0C-8E48-71AE3D6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8A8D-D4E1-4F1D-B4D3-6F029ED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3C5D-2109-4EDC-8069-6C6A499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9EA3-2139-410D-B189-79B2D044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C945C-997E-4A0E-AC46-CA5B15A3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EDA-C339-40B6-B71F-F4B833E9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47C8-CB5C-452B-9670-08DC7A65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C55EE-363B-4A5A-8206-100138AA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FBC4-5991-416E-8855-8A56B29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E7C8-87B2-461D-B0A2-C9151EB9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C28A-C993-473D-96DF-2317C4C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A3177-5FF6-48DE-9D7F-81A0115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3D29-EB2E-482F-943C-FDC5B81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9584-76E6-408A-B993-BB96A14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989E-A77D-4E40-A5D2-D3DEA2E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49BB-3468-4E11-BDEC-F0F72E3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FA4-1476-4753-BDE9-3858C4B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AB12-45A1-4CD2-8E31-C7DA23AC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657F-A4B1-471F-9F21-EFC83B71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F13B-1253-4300-A71D-91F6DA8C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B0A5-931D-44F8-AEB0-E752665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5D83-2F89-4E72-A05F-A21D91D5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8F30-E603-44F0-BB86-F8D0536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69F91-AC77-41D3-97D1-3BFE6D8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7866-99FF-4E1E-9640-1FE1EB6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03E0-903C-4F88-A159-72D3A82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BD235-FE0B-4490-9797-89D5EC6E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3F4-4E4C-4590-9F3F-3F5DD65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3D68-AA1E-43DF-B46C-F633CC1C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8405-716C-401E-9B86-94C374C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DEA05-08B1-4AEE-A15D-5CB7CE23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746D-4614-4131-A016-552FB4F7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D5E1-3C40-47EF-95C0-20290EDC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E86-FC9D-477D-BF93-B153852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5E653B25-3005-4A10-8D7A-4656B13867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684D7325-EFF3-458E-B7FF-59A0F19DB6EC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FCA3AC3E-0805-42E5-9329-1BCA711506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A093D5F0-2BC9-493F-B41E-93AAFFF83FD4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64E295A7-5DAD-475E-B627-FECBC3771D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6998E030-3A90-4768-9855-C6F21A68CA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16C1791E-AD6D-4C81-96AE-A474E453340C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D8534C26-FF30-474D-A633-40E1C00FCABE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DCD24B37-83B5-48CA-AEE9-7610DE9F0A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fld id="{951C0637-4EC2-4994-8CD9-73AD126E4E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appy-djungarik.ru/wp-content/uploads/2012/11/ZHemchuzhny-j-okras-dzhungarika-600x450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pitomecdoma.ru/homjak/homjak4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4"/>
          <p:cNvSpPr/>
          <p:nvPr/>
        </p:nvSpPr>
        <p:spPr>
          <a:xfrm>
            <a:off x="3289320" y="406080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6919920" y="3525840"/>
            <a:ext cx="18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6919920" y="3525840"/>
            <a:ext cx="184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919920" y="3422520"/>
            <a:ext cx="57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5106960" y="6396120"/>
            <a:ext cx="1978200" cy="459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Новг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1"/>
          <p:cNvSpPr/>
          <p:nvPr/>
        </p:nvSpPr>
        <p:spPr>
          <a:xfrm>
            <a:off x="1643040" y="369720"/>
            <a:ext cx="92026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езентация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ИДЫ ХОМЯК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ушкина Улья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«Д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1285920" y="347760"/>
            <a:ext cx="102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"Гимназия №4 имени Героя Советского Союза, Почетного гражданина Новгорода И. А. Каберова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Список литературы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1. «Мир живой природы» (энциклопедия, 2000 год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2. «Домашние питомцы» (энциклопедия, 2004 год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3.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itomecdoma.ru›homjak/homjak.shtm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u.wikipedia.or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8" name="Picture 2" descr="&amp;Scy;&amp;acy;&amp;mcy;&amp;ycy;&amp;jcy; &amp;bcy;&amp;ocy;&amp;lcy;&amp;softcy;&amp;shcy;&amp;ocy;&amp;jcy; &amp;khcy;&amp;ocy;&amp;mcy;&amp;yacy;&amp;kcy; &amp;vcy; &amp;mcy;&amp;icy;&amp;rcy;&amp;iecy; &amp;ocy;&amp;bcy;&amp;ocy;&amp;icy;, &amp;fcy;&amp;ocy;&amp;tcy;&amp;ocy;, &amp;kcy;&amp;acy;&amp;rcy;&amp;tcy;&amp;icy;&amp;ncy;&amp;kcy;&amp;icy; &amp;ncy;&amp;acy; &amp;rcy;&amp;acy;&amp;bcy;&amp;ocy;&amp;chcy;&amp;icy;&amp;jcy; &amp;scy;&amp;tcy;&amp;ocy;&amp;lcy;. &amp;mcy;&amp;icy;&amp;lcy;&amp;ycy;&amp;jcy; &amp;khcy;&amp;ocy;&amp;mcy;&amp;yacy;&amp;kcy; &amp;ncy;&amp;acy; &amp;vcy;&amp;iecy;&amp;rcy;&amp;iecy;&amp;vcy;&amp;kcy;&amp;iecy;"/>
          <p:cNvPicPr/>
          <p:nvPr/>
        </p:nvPicPr>
        <p:blipFill>
          <a:blip r:embed="rId1"/>
          <a:stretch/>
        </p:blipFill>
        <p:spPr>
          <a:xfrm>
            <a:off x="6772320" y="2581200"/>
            <a:ext cx="499248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1643040" y="369720"/>
            <a:ext cx="92026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Узнать  чем  различаются условия содержания различных видов хомяков в домашних услов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Изучение видов домашних хомяков и их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ловий содерж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2" descr="&amp;shcy;&amp;ocy;&amp;kcy;&amp;ocy;&amp;lcy;&amp;acy;&amp;dcy;&amp;ncy;&amp;ycy;&amp;jcy;"/>
          <p:cNvPicPr/>
          <p:nvPr/>
        </p:nvPicPr>
        <p:blipFill>
          <a:blip r:embed="rId1"/>
          <a:stretch/>
        </p:blipFill>
        <p:spPr>
          <a:xfrm>
            <a:off x="784080" y="3600360"/>
            <a:ext cx="2527560" cy="2027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&amp;Pcy;&amp;rcy;&amp;icy;&amp;kcy;&amp;ocy;&amp;lcy;&amp;softcy;&amp;ncy;&amp;ycy;&amp;iecy; &amp;kcy;&amp;acy;&amp;rcy;&amp;tcy;&amp;icy;&amp;ncy;&amp;kcy;&amp;icy; &amp;ncy;&amp;acy; &amp;kcy;&amp;acy;&amp;zhcy;&amp;dcy;&amp;ycy;&amp;jcy; &amp;dcy;&amp;iecy;&amp;ncy;&amp;softcy; Korefun.net - Part 37"/>
          <p:cNvPicPr/>
          <p:nvPr/>
        </p:nvPicPr>
        <p:blipFill>
          <a:blip r:embed="rId2"/>
          <a:stretch/>
        </p:blipFill>
        <p:spPr>
          <a:xfrm>
            <a:off x="4573440" y="2954160"/>
            <a:ext cx="2799000" cy="3110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&amp;Scy;&amp;lcy;&amp;acy;&amp;vcy;&amp;yacy;&amp;ncy;&amp;scy;&amp;kcy;&amp;icy;&amp;jcy; &amp;Zcy;&amp;vcy;&amp;iecy;&amp;rcy;&amp;icy;&amp;ncy;&amp;ycy;&amp;jcy; &amp;Gcy;&amp;ocy;&amp;rcy;&amp;ocy;&amp;scy;&amp;kcy;&amp;ocy;&amp;pcy;.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7950240" y="3459240"/>
            <a:ext cx="2895480" cy="21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233520" y="988560"/>
            <a:ext cx="5180040" cy="25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К 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семейству хомяков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относятся небольшие, плотно сложенные 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Calibri"/>
              </a:rPr>
              <a:t>грызуны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с короткими конечностями, маленькими ушами и короткими хвостами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лина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тела от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до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34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 с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Окраска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густого меха на спине от светло-серой до тёмно- коричневой; на животе — чёрная, белая или серая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ногда вдоль спины проходит чёрная полос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меются очень развитые защечные мешк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57280" y="194760"/>
            <a:ext cx="752328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Arial Black"/>
                <a:ea typeface="Adobe Gothic Std B"/>
              </a:rPr>
              <a:t>КТО ТАКИЕ ХОМЯКИ?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3313080" y="3370320"/>
            <a:ext cx="5100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ч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условно делятс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две груп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дикие хомя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роживающие в естественных условиях в природ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декоратив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домаш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хомяки, которых содержат в домашних услов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Виды домашних хомя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ычно дома заводят хомячко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яти вид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джунгарский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хомя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чок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эмпбелл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чок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боровског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итайски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SzPct val="62000"/>
              <a:buFont typeface="Symbol" charset="2"/>
              <a:buChar char="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рийски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я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Рисунок 6" descr="http://filjaiko.ru/images/1.jpg"/>
          <p:cNvPicPr/>
          <p:nvPr/>
        </p:nvPicPr>
        <p:blipFill>
          <a:blip r:embed="rId1"/>
          <a:srcRect l="0" t="0" r="0" b="13990"/>
          <a:stretch/>
        </p:blipFill>
        <p:spPr>
          <a:xfrm>
            <a:off x="8567640" y="1036800"/>
            <a:ext cx="3262320" cy="2409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&amp;ZHcy;&amp;icy;&amp;vcy;&amp;ocy;&amp;tcy;&amp;ncy;&amp;ycy;&amp;iecy; www.krasfun.ru"/>
          <p:cNvPicPr/>
          <p:nvPr/>
        </p:nvPicPr>
        <p:blipFill>
          <a:blip r:embed="rId2"/>
          <a:stretch/>
        </p:blipFill>
        <p:spPr>
          <a:xfrm>
            <a:off x="196920" y="1036800"/>
            <a:ext cx="2825640" cy="25034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0" descr="&amp;khcy;&amp;ocy;&amp;mcy;&amp;yacy;&amp;kcy; &amp;kcy;&amp;ecy;&amp;mcy;&amp;pcy;&amp;bcy;&amp;iecy;&amp;lcy;&amp;lcy;&amp;acy;"/>
          <p:cNvPicPr/>
          <p:nvPr/>
        </p:nvPicPr>
        <p:blipFill>
          <a:blip r:embed="rId3"/>
          <a:stretch/>
        </p:blipFill>
        <p:spPr>
          <a:xfrm>
            <a:off x="196920" y="3849840"/>
            <a:ext cx="2825640" cy="207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&amp;Fcy;&amp;ocy;&amp;tcy;&amp;ocy;&amp;gcy;&amp;rcy;&amp;acy;&amp;fcy;&amp;icy;&amp;yacy; &amp;khcy;&amp;ocy;&amp;mcy;&amp;yacy;&amp;kcy; - &amp;fcy;&amp;ocy;&amp;tcy;&amp;ocy;&amp;bcy;&amp;acy;&amp;ncy;&amp;kcy; &amp;Fcy;&amp;ocy;&amp;tcy;&amp;ocy;&amp;tcy;&amp;acy;&amp;jcy;&amp;mcy;&amp;scy;"/>
          <p:cNvPicPr/>
          <p:nvPr/>
        </p:nvPicPr>
        <p:blipFill>
          <a:blip r:embed="rId4"/>
          <a:stretch/>
        </p:blipFill>
        <p:spPr>
          <a:xfrm>
            <a:off x="8844120" y="3610080"/>
            <a:ext cx="25779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6320" y="136440"/>
            <a:ext cx="53704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ДЖУНГАРСКИЙ ХОМЯК</a:t>
            </a:r>
            <a:r>
              <a:rPr b="0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290680" y="892080"/>
            <a:ext cx="3500640" cy="23385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Джунгарский хомяк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является одним из самых популярных видов. Он относится к карликовым хомякам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Вырастает всего д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10 с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, а вес окол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45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граммов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На спинке у зверька вдоль позво-ночника проходит полоска шерсти черного цвета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997240" y="90360"/>
            <a:ext cx="5357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ХОМЯЧОК КЭМПБЕЛЛА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699400" y="1050840"/>
            <a:ext cx="3276720" cy="165600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Хомячок Кэмпбелла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очень схож с джунгарским хомяком и по разме-рам и по весу, но отличается окрасо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Размер д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10 с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, а вес д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40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граммов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169920" y="3557520"/>
            <a:ext cx="2784240" cy="228852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рд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жунгарски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хомячков заостренная, а ушки небольшого разме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часть «джунгари-ков» имеет природный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кра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темно-серый, со светлым животи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Рисунок 9" descr="&amp;dcy;&amp;zhcy;&amp;ucy;&amp;ncy;&amp;gcy;&amp;acy;&amp;rcy;&amp;scy;&amp;kcy;&amp;icy;&amp;jcy; &amp;khcy;&amp;ocy;&amp;mcy;&amp;yacy;&amp;kcy;"/>
          <p:cNvPicPr/>
          <p:nvPr/>
        </p:nvPicPr>
        <p:blipFill>
          <a:blip r:embed="rId1"/>
          <a:stretch/>
        </p:blipFill>
        <p:spPr>
          <a:xfrm>
            <a:off x="285840" y="882720"/>
            <a:ext cx="1855800" cy="164628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10"/>
          <p:cNvSpPr/>
          <p:nvPr/>
        </p:nvSpPr>
        <p:spPr>
          <a:xfrm>
            <a:off x="181080" y="2581200"/>
            <a:ext cx="210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  <a:ea typeface="Calibri"/>
              </a:rPr>
              <a:t>Сапфировый джунгар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Рисунок 11" descr="Фото джунгарика жемчужного окрас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4720" y="3927600"/>
            <a:ext cx="2546280" cy="208440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12"/>
          <p:cNvSpPr/>
          <p:nvPr/>
        </p:nvSpPr>
        <p:spPr>
          <a:xfrm>
            <a:off x="3313080" y="60120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Белый джунгар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6230880" y="3857760"/>
            <a:ext cx="2494080" cy="155412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мячка Кэмпбелл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ерстка менее серая, с золотисто-коричневым оттенк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они имеют темную полоску на спин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Рисунок 16" descr="Фото Хомяк Кэмпбелла"/>
          <p:cNvPicPr/>
          <p:nvPr/>
        </p:nvPicPr>
        <p:blipFill>
          <a:blip r:embed="rId4"/>
          <a:stretch/>
        </p:blipFill>
        <p:spPr>
          <a:xfrm>
            <a:off x="5997600" y="720720"/>
            <a:ext cx="2511360" cy="23176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7" descr="Хомячок Кэмпбелл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66240" y="3927600"/>
            <a:ext cx="2909880" cy="191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ая соединительная линия 21"/>
          <p:cNvSpPr/>
          <p:nvPr/>
        </p:nvSpPr>
        <p:spPr>
          <a:xfrm>
            <a:off x="5861160" y="0"/>
            <a:ext cx="29880" cy="6411960"/>
          </a:xfrm>
          <a:prstGeom prst="line">
            <a:avLst/>
          </a:prstGeom>
          <a:ln w="3168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82160" y="140760"/>
            <a:ext cx="5815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ХОМЯЧОК </a:t>
            </a:r>
            <a:r>
              <a:rPr b="1" lang="ru-RU" sz="22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РОБОРОВСКОГО</a:t>
            </a:r>
            <a:r>
              <a:rPr b="1" lang="ru-RU" sz="17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793600" y="638280"/>
            <a:ext cx="3273480" cy="54561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Хомячки Роборовского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считаются самыми маленькими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х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размер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достигает всего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4-5 </a:t>
            </a:r>
            <a:r>
              <a:rPr b="1" i="1" lang="ru-RU" sz="1800" spc="-1" strike="noStrike">
                <a:solidFill>
                  <a:srgbClr val="404040"/>
                </a:solidFill>
                <a:latin typeface="Calibri"/>
              </a:rPr>
              <a:t>с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ес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около 30 граммов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Это очень мелкий зверек с коротким хвостиком, который практически незаметен под пушистой шерсткой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Мордочка у хомячка курносая, ушки сравнительно большие, округлой формы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Окраска спинки розово-палевая, брюшка и лапок чисто белая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Над глазами имеются небольшие белые пятна. Черные ушки имеют белую кайму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Вид назван в честь русского натуралиста В. И. Роборовского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72200" y="66600"/>
            <a:ext cx="5781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КИТАЙСКИЙ ХОМЯК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878680" y="638280"/>
            <a:ext cx="3157560" cy="35337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Calibri"/>
              </a:rPr>
              <a:t>Китайский карликовый хомяк 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- это маленький грызун, похожий на мышь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</a:rPr>
              <a:t>Длина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его тела </a:t>
            </a:r>
            <a:r>
              <a:rPr b="1" lang="ru-RU" sz="1500" spc="-1" strike="noStrike">
                <a:solidFill>
                  <a:srgbClr val="404040"/>
                </a:solidFill>
                <a:latin typeface="Calibri"/>
              </a:rPr>
              <a:t>10-12 см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, самцы крупнее самок.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</a:rPr>
              <a:t>Вес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Calibri"/>
              </a:rPr>
              <a:t>38-46</a:t>
            </a: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граммов.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Природная окраска темно-бурого цвета.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Вдоль хребта идет темная линия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Брюшко кремовое, глаза черные, уши серые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У них обычно более длинный хвост и более длинное тело, чем у других хомяков.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Рисунок 9" descr="породы домашних хомячков"/>
          <p:cNvPicPr/>
          <p:nvPr/>
        </p:nvPicPr>
        <p:blipFill>
          <a:blip r:embed="rId1"/>
          <a:stretch/>
        </p:blipFill>
        <p:spPr>
          <a:xfrm>
            <a:off x="82440" y="638280"/>
            <a:ext cx="2748240" cy="20858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0" descr=""/>
          <p:cNvPicPr/>
          <p:nvPr/>
        </p:nvPicPr>
        <p:blipFill>
          <a:blip r:embed="rId2"/>
          <a:stretch/>
        </p:blipFill>
        <p:spPr>
          <a:xfrm>
            <a:off x="130320" y="4113360"/>
            <a:ext cx="2593800" cy="19810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2"/>
          <p:cNvSpPr/>
          <p:nvPr/>
        </p:nvSpPr>
        <p:spPr>
          <a:xfrm>
            <a:off x="6183360" y="3154320"/>
            <a:ext cx="2554200" cy="252756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итается, что эта порода была получе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 скрещиван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вух типов хомяков: джунгарского и роборовского.                                        Китайские хомячки приспособлены для домашнего содержания, даются в руки, дружелюб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Рисунок 14" descr="3720816_kitaiskii_homyachok (350x292, 35Kb)"/>
          <p:cNvPicPr/>
          <p:nvPr/>
        </p:nvPicPr>
        <p:blipFill>
          <a:blip r:embed="rId3"/>
          <a:stretch/>
        </p:blipFill>
        <p:spPr>
          <a:xfrm>
            <a:off x="6172200" y="696960"/>
            <a:ext cx="2268360" cy="202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5" descr="3720816_kit1 (300x197, 19Kb)"/>
          <p:cNvPicPr/>
          <p:nvPr/>
        </p:nvPicPr>
        <p:blipFill>
          <a:blip r:embed="rId4"/>
          <a:stretch/>
        </p:blipFill>
        <p:spPr>
          <a:xfrm>
            <a:off x="9093240" y="4430880"/>
            <a:ext cx="2860560" cy="187452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ая соединительная линия 17"/>
          <p:cNvSpPr/>
          <p:nvPr/>
        </p:nvSpPr>
        <p:spPr>
          <a:xfrm>
            <a:off x="6124680" y="0"/>
            <a:ext cx="0" cy="6305400"/>
          </a:xfrm>
          <a:prstGeom prst="line">
            <a:avLst/>
          </a:prstGeom>
          <a:ln w="3168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1051560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Сирийский хомяк 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730600" y="744120"/>
            <a:ext cx="6138720" cy="231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10000"/>
              </a:lnSpc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Сирийский хомяк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размером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около 18 см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с золотисто-желтой или коричневатой шерсткой, которая бывает как короткой, так и довольно длинной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Масса 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этих хомяков — 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от 110 до 220 граммов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и иногда даже больше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Зверек очень покладистый и безобидный, милейшее создание с забавными повадками. Поэтому сирийские также являются одним из наиболее предпочтительных видов домашних хомячков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016080" y="3182760"/>
            <a:ext cx="913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рийские хомяки отличаются наиболее разнообразным количеством окрасов, рисунков и типов шер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150840" y="2033640"/>
            <a:ext cx="2495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рийский короткошерстный хомя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6" descr="3720816_sir (564x452, 180Kb)"/>
          <p:cNvPicPr/>
          <p:nvPr/>
        </p:nvPicPr>
        <p:blipFill>
          <a:blip r:embed="rId1"/>
          <a:stretch/>
        </p:blipFill>
        <p:spPr>
          <a:xfrm>
            <a:off x="150840" y="160200"/>
            <a:ext cx="2579760" cy="1873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7"/>
          <p:cNvSpPr/>
          <p:nvPr/>
        </p:nvSpPr>
        <p:spPr>
          <a:xfrm>
            <a:off x="9101160" y="2316240"/>
            <a:ext cx="28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рийский длинношерстный (или ангорский) хомя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Рисунок 8" descr="3720816_homo1 (640x438, 222Kb)"/>
          <p:cNvPicPr/>
          <p:nvPr/>
        </p:nvPicPr>
        <p:blipFill>
          <a:blip r:embed="rId2"/>
          <a:stretch/>
        </p:blipFill>
        <p:spPr>
          <a:xfrm>
            <a:off x="9101160" y="160200"/>
            <a:ext cx="2806560" cy="20336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9" descr="3720816_chyornii (640x344, 99Kb)"/>
          <p:cNvPicPr/>
          <p:nvPr/>
        </p:nvPicPr>
        <p:blipFill>
          <a:blip r:embed="rId3"/>
          <a:stretch/>
        </p:blipFill>
        <p:spPr>
          <a:xfrm>
            <a:off x="150840" y="2705040"/>
            <a:ext cx="2579760" cy="19051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0"/>
          <p:cNvSpPr/>
          <p:nvPr/>
        </p:nvSpPr>
        <p:spPr>
          <a:xfrm>
            <a:off x="150840" y="4797360"/>
            <a:ext cx="3720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ерный хомяк</a:t>
            </a: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итается особым, такой окрас присущ только одному виду хомяков - сирийскому. У черного хомячка на брюшке могут быть белые пятна, остальная шерсть черная целиком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Рисунок 12" descr="&amp;kcy;&amp;rcy;&amp;iecy;&amp;mcy;&amp;ocy;&amp;vcy;&amp;ycy;&amp;jcy;"/>
          <p:cNvPicPr/>
          <p:nvPr/>
        </p:nvPicPr>
        <p:blipFill>
          <a:blip r:embed="rId4"/>
          <a:stretch/>
        </p:blipFill>
        <p:spPr>
          <a:xfrm>
            <a:off x="8874000" y="3986280"/>
            <a:ext cx="2498760" cy="2103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&amp;Acy;&amp;bcy;&amp;icy;&amp;tcy;&amp;ucy;&amp;rcy;&amp;icy;&amp;iecy;&amp;ncy;&amp;tcy;&amp;ycy; &amp;Tcy;&amp;ocy;&amp;mcy;&amp;scy;&amp;kcy;&amp;ocy;&amp;gcy;&amp;ocy; &amp;pcy;&amp;ocy;&amp;lcy;&amp;icy;&amp;tcy;&amp;iecy;&amp;khcy;&amp;acy; &amp;scy;&amp;ncy;&amp;acy;&amp;bcy;&amp;zhcy;&amp;acy;&amp;yucy;&amp;tcy; &amp;zcy;&amp;acy;&amp;yacy;&amp;vcy;&amp;kcy;&amp;icy; &amp;ncy;&amp;acy; &amp;pcy;&amp;ocy;&amp;scy;&amp;tcy;&amp;ucy;&amp;pcy;&amp;lcy;&amp;iecy;&amp;ncy;&amp;icy;&amp;iecy;…"/>
          <p:cNvPicPr/>
          <p:nvPr/>
        </p:nvPicPr>
        <p:blipFill>
          <a:blip r:embed="rId5"/>
          <a:stretch/>
        </p:blipFill>
        <p:spPr>
          <a:xfrm>
            <a:off x="4575240" y="3986280"/>
            <a:ext cx="322416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250920" y="74520"/>
          <a:ext cx="9042480" cy="5991480"/>
        </p:xfrm>
        <a:graphic>
          <a:graphicData uri="http://schemas.openxmlformats.org/drawingml/2006/table">
            <a:tbl>
              <a:tblPr/>
              <a:tblGrid>
                <a:gridCol w="1627200"/>
                <a:gridCol w="741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хомя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в условиях содержания хомя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жунгарский 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джунгарских хомячков ярко выражена тяга к движен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и хомяки – животные общительные: уделять им внимание нужно ежедневно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жунгарики плохо переносят падение даже с небольшой выс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жунгарики могут прожить в домашних условиях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3 л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Хомячок Кэмпбе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ть хомячков Кэмпбелла лучше в клетке по одному, иначе зверьки передерутс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и  зверьки больше других любят кусаться. Поэтому необходимо одевать перчатки, когда захотите потискать хомя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 хомячков Кэмпбелла 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Хомячок Роборов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мяки Роборовского содержат ОДНОПОЛЫМИ ГРУППАМИ по 2 особи: самцы с самцами; самки с самк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гаются они с очень высокой скоростью и вообще отличаются повышенной нервозность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 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2 до 3 с половиной л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11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итайский 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 привыкают к рукам и легко уживаются с разнополыми особями, если их приучать друг к другу с юного возра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тличие от других карликовых хомячков, этот вид редко содержат в качестве домашнего животного, возможно потому, что китайские хомячки очень похожи на мыш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г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ирийский хом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лоть до раннего вечера зверек может мирно спать в своем домике-норке, а позже он начинает буквально без остановки крутиться в колесе и грызть прутья клетки на протяжении всей ночи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ночь хомячок способен «набегать» до 7 к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сирийским хомякам нельзя подселять сосед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продолжительность жизни 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оло 4 л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pic>
        <p:nvPicPr>
          <p:cNvPr id="357" name="Рисунок 4" descr="Клетка для хомяка"/>
          <p:cNvPicPr/>
          <p:nvPr/>
        </p:nvPicPr>
        <p:blipFill>
          <a:blip r:embed="rId1"/>
          <a:stretch/>
        </p:blipFill>
        <p:spPr>
          <a:xfrm>
            <a:off x="9325080" y="3451320"/>
            <a:ext cx="2484360" cy="26114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http://pitomecdoma.ru/homjak/homjak9.jpg"/>
          <p:cNvPicPr/>
          <p:nvPr/>
        </p:nvPicPr>
        <p:blipFill>
          <a:blip r:embed="rId2"/>
          <a:stretch/>
        </p:blipFill>
        <p:spPr>
          <a:xfrm>
            <a:off x="9448920" y="503280"/>
            <a:ext cx="27432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122640" y="192240"/>
          <a:ext cx="8921880" cy="3170160"/>
        </p:xfrm>
        <a:graphic>
          <a:graphicData uri="http://schemas.openxmlformats.org/drawingml/2006/table">
            <a:tbl>
              <a:tblPr/>
              <a:tblGrid>
                <a:gridCol w="2574720"/>
                <a:gridCol w="4329360"/>
                <a:gridCol w="896760"/>
                <a:gridCol w="1121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хомя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меры кл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мер кол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сти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джунгарский хом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риум из стекла, длиной 100 см и высотой 40 с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размером не меньше, чем 30 на 70 с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лоем в 3 с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хомячок Кэмпбе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30х70 с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ольшой аквариу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инимум 40*60 с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ли специальный на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хомячок Роборов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*30 см для одного хомя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70*40 для пар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омяков Роборовского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й песк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щи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 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китайский хом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для мышей, а также пластиковый или стеклянный аквариум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ем в 3 с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d60093"/>
                          </a:solidFill>
                          <a:latin typeface="Arial Black"/>
                        </a:rPr>
                        <a:t>сирийский хомя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ка размером 40 см х 60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8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лк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й фр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8" descr="HAMSTER.ru * Просмотр темы - Аквариум 2 /и не только аквариум"/>
          <p:cNvPicPr/>
          <p:nvPr/>
        </p:nvPicPr>
        <p:blipFill>
          <a:blip r:embed="rId1"/>
          <a:stretch/>
        </p:blipFill>
        <p:spPr>
          <a:xfrm>
            <a:off x="3782880" y="3484440"/>
            <a:ext cx="4635720" cy="2637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403200" y="411120"/>
            <a:ext cx="2216160" cy="2864520"/>
          </a:xfrm>
          <a:prstGeom prst="rect">
            <a:avLst/>
          </a:prstGeom>
          <a:gradFill rotWithShape="0">
            <a:gsLst>
              <a:gs pos="0">
                <a:srgbClr val="fef9f3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00b0f0"/>
                </a:solidFill>
                <a:latin typeface="Calibri"/>
              </a:rPr>
              <a:t>жилищ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у каждого хомячка должны присутст-вовать следующие вещ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ециальная </a:t>
            </a: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поил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Мис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для сухого и свежего кор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Специальный камен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грызунов - для стачивания зуб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Доми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Колес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Лесенки, труб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Наполнит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7" descr="Многоярусная клетка"/>
          <p:cNvPicPr/>
          <p:nvPr/>
        </p:nvPicPr>
        <p:blipFill>
          <a:blip r:embed="rId2"/>
          <a:stretch/>
        </p:blipFill>
        <p:spPr>
          <a:xfrm>
            <a:off x="0" y="3386160"/>
            <a:ext cx="2712960" cy="2754360"/>
          </a:xfrm>
          <a:prstGeom prst="rect">
            <a:avLst/>
          </a:prstGeom>
          <a:ln w="0">
            <a:noFill/>
          </a:ln>
        </p:spPr>
      </p:pic>
      <p:sp>
        <p:nvSpPr>
          <p:cNvPr id="363" name="Выгнутая влево стрелка 10"/>
          <p:cNvSpPr/>
          <p:nvPr/>
        </p:nvSpPr>
        <p:spPr>
          <a:xfrm>
            <a:off x="144360" y="2924280"/>
            <a:ext cx="354240" cy="1846080"/>
          </a:xfrm>
          <a:custGeom>
            <a:avLst/>
            <a:gdLst>
              <a:gd name="textAreaLeft" fmla="*/ 47160 w 354240"/>
              <a:gd name="textAreaRight" fmla="*/ 307080 w 354240"/>
              <a:gd name="textAreaTop" fmla="*/ 423360 h 1846080"/>
              <a:gd name="textAreaBottom" fmla="*/ 1295280 h 18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08" stAng="-5400000" swAng="-5400000"/>
                <a:lnTo>
                  <a:pt x="0" y="10201"/>
                </a:lnTo>
                <a:arcTo wR="21600" hR="9908" stAng="10800000" swAng="-3828144"/>
                <a:lnTo>
                  <a:pt x="16845" y="21357"/>
                </a:lnTo>
                <a:lnTo>
                  <a:pt x="21600" y="19962"/>
                </a:lnTo>
                <a:lnTo>
                  <a:pt x="16845" y="18080"/>
                </a:lnTo>
                <a:lnTo>
                  <a:pt x="16845" y="19572"/>
                </a:lnTo>
                <a:arcTo wR="21600" hR="9908" stAng="6971856" swAng="3804825"/>
                <a:lnTo>
                  <a:pt x="2" y="10054"/>
                </a:lnTo>
                <a:arcTo wR="21600" hR="9908" stAng="-10776682" swAng="5376682"/>
                <a:close/>
              </a:path>
              <a:path fill="darkenLess" w="21600" h="21600">
                <a:moveTo>
                  <a:pt x="21600" y="0"/>
                </a:moveTo>
                <a:arcTo wR="21600" hR="9908" stAng="-5400000" swAng="-5400000"/>
                <a:lnTo>
                  <a:pt x="0" y="9908"/>
                </a:lnTo>
                <a:arcTo wR="21600" hR="9908" stAng="10800000" swAng="-23318"/>
                <a:lnTo>
                  <a:pt x="2" y="10054"/>
                </a:lnTo>
                <a:arcTo wR="21600" hR="9908" stAng="-10776682" swAng="5376682"/>
                <a:close/>
              </a:path>
            </a:pathLst>
          </a:cu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Выгнутая влево стрелка 11"/>
          <p:cNvSpPr/>
          <p:nvPr/>
        </p:nvSpPr>
        <p:spPr>
          <a:xfrm rot="20886600">
            <a:off x="623520" y="2681280"/>
            <a:ext cx="279360" cy="1373040"/>
          </a:xfrm>
          <a:custGeom>
            <a:avLst/>
            <a:gdLst>
              <a:gd name="textAreaLeft" fmla="*/ 37440 w 279360"/>
              <a:gd name="textAreaRight" fmla="*/ 241920 w 279360"/>
              <a:gd name="textAreaTop" fmla="*/ 316800 h 1373040"/>
              <a:gd name="textAreaBottom" fmla="*/ 1021320 h 137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76" stAng="-5400000" swAng="-5400000"/>
                <a:lnTo>
                  <a:pt x="0" y="11075"/>
                </a:lnTo>
                <a:arcTo wR="21600" hR="9976" stAng="10800000" swAng="-3647554"/>
                <a:lnTo>
                  <a:pt x="16200" y="21283"/>
                </a:lnTo>
                <a:lnTo>
                  <a:pt x="21600" y="20502"/>
                </a:lnTo>
                <a:lnTo>
                  <a:pt x="16200" y="19086"/>
                </a:lnTo>
                <a:lnTo>
                  <a:pt x="16200" y="19635"/>
                </a:lnTo>
                <a:arcTo wR="21600" hR="9976" stAng="7152446" swAng="3559984"/>
                <a:lnTo>
                  <a:pt x="33" y="10526"/>
                </a:lnTo>
                <a:arcTo wR="21600" hR="9976" stAng="-10712430" swAng="5312430"/>
                <a:close/>
              </a:path>
              <a:path fill="darkenLess" w="21600" h="21600">
                <a:moveTo>
                  <a:pt x="21600" y="0"/>
                </a:moveTo>
                <a:arcTo wR="21600" hR="9976" stAng="-5400000" swAng="-5400000"/>
                <a:lnTo>
                  <a:pt x="0" y="9976"/>
                </a:lnTo>
                <a:arcTo wR="21600" hR="9976" stAng="10800000" swAng="-87570"/>
                <a:lnTo>
                  <a:pt x="33" y="10526"/>
                </a:lnTo>
                <a:arcTo wR="21600" hR="9976" stAng="-10712430" swAng="5312430"/>
                <a:close/>
              </a:path>
            </a:pathLst>
          </a:cu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Выгнутая вправо стрелка 12"/>
          <p:cNvGrpSpPr/>
          <p:nvPr/>
        </p:nvGrpSpPr>
        <p:grpSpPr>
          <a:xfrm>
            <a:off x="1474920" y="2431440"/>
            <a:ext cx="935640" cy="1745640"/>
            <a:chOff x="1474920" y="2431440"/>
            <a:chExt cx="935640" cy="1745640"/>
          </a:xfrm>
        </p:grpSpPr>
        <p:pic>
          <p:nvPicPr>
            <p:cNvPr id="366" name="Выгнутая вправо стрелка 12" descr=""/>
            <p:cNvPicPr/>
            <p:nvPr/>
          </p:nvPicPr>
          <p:blipFill>
            <a:blip r:embed="rId3"/>
            <a:stretch/>
          </p:blipFill>
          <p:spPr>
            <a:xfrm>
              <a:off x="1474920" y="2531880"/>
              <a:ext cx="774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0523000">
              <a:off x="1760040" y="2450880"/>
              <a:ext cx="397080" cy="17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31800"/>
                  <a:tab algn="l" pos="1263600"/>
                  <a:tab algn="l" pos="1895400"/>
                  <a:tab algn="l" pos="2527200"/>
                  <a:tab algn="l" pos="3159000"/>
                  <a:tab algn="l" pos="3790800"/>
                  <a:tab algn="l" pos="4422600"/>
                  <a:tab algn="l" pos="5054760"/>
                  <a:tab algn="l" pos="5686560"/>
                  <a:tab algn="l" pos="6318360"/>
                  <a:tab algn="l" pos="6950160"/>
                  <a:tab algn="l" pos="7581960"/>
                  <a:tab algn="l" pos="8213760"/>
                  <a:tab algn="l" pos="8845560"/>
                  <a:tab algn="l" pos="9477360"/>
                  <a:tab algn="l" pos="10109160"/>
                  <a:tab algn="l" pos="10740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8" name="Скругленная соединительная линия 15"/>
          <p:cNvCxnSpPr/>
          <p:nvPr/>
        </p:nvCxnSpPr>
        <p:spPr>
          <a:xfrm>
            <a:off x="1828440" y="3164040"/>
            <a:ext cx="4474440" cy="239760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cc00ff"/>
            </a:solidFill>
            <a:miter/>
            <a:tailEnd len="med" type="triangle" w="med"/>
          </a:ln>
        </p:spPr>
      </p:cxnSp>
      <p:cxnSp>
        <p:nvCxnSpPr>
          <p:cNvPr id="369" name="Соединительная линия уступом 22"/>
          <p:cNvCxnSpPr/>
          <p:nvPr/>
        </p:nvCxnSpPr>
        <p:spPr>
          <a:xfrm rot="5400000">
            <a:off x="-97200" y="2965320"/>
            <a:ext cx="3999600" cy="1043640"/>
          </a:xfrm>
          <a:prstGeom prst="bentConnector3">
            <a:avLst>
              <a:gd name="adj1" fmla="val 49995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70" name="Picture 2" descr="&amp;Scy;&amp;kcy;&amp;ocy;&amp;lcy;&amp;softcy;&amp;kcy;&amp;ocy; &amp;scy;&amp;tcy;&amp;ocy;&amp;icy;&amp;tcy; &amp;pcy;&amp;ocy;&amp;icy;&amp;lcy;&amp;kcy;&amp;acy; &amp;dcy;&amp;lcy;&amp;yacy; &amp;khcy;&amp;ocy;&amp;mcy;&amp;yacy;&amp;kcy;&amp;acy;?&amp;icy; &amp;kcy;&amp;acy;&amp;kcy;&amp;ucy;&amp;yucy; &amp;lcy;&amp;ucy;&amp;chcy;&amp;shcy;&amp;iecy; &amp;kcy;&amp;ucy;&amp;pcy;&amp;icy;&amp;tcy;&amp;softcy;? . - &amp;Vcy;&amp;ocy;&amp;pcy;&amp;rcy;&amp;ocy;&amp;scy;&amp;ycy; &amp;ocy; &amp;mcy;&amp;iecy;&amp;bcy;&amp;iecy;&amp;lcy;&amp;icy; &amp;icy; &amp;icy;&amp;ncy;&amp;tcy;&amp;iecy;&amp;rcy;&amp;softcy;&amp;iecy;&amp;rcy;&amp;iecy;"/>
          <p:cNvPicPr/>
          <p:nvPr/>
        </p:nvPicPr>
        <p:blipFill>
          <a:blip r:embed="rId4"/>
          <a:stretch/>
        </p:blipFill>
        <p:spPr>
          <a:xfrm>
            <a:off x="2509920" y="915840"/>
            <a:ext cx="503280" cy="7858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7"/>
          <p:cNvSpPr/>
          <p:nvPr/>
        </p:nvSpPr>
        <p:spPr>
          <a:xfrm>
            <a:off x="8798040" y="3938760"/>
            <a:ext cx="2949480" cy="1768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9da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Место обитания хомя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лжно быть просторным, чтобы он мог бега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лет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лжна находиться на хорошо освещенном месте, вдали от прямых солнечных лучей, источников тепла и сквозняков.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4" descr="&amp;Ocy;&amp;tcy;&amp;zcy;&amp;ycy;&amp;vcy; &amp;ocy; &amp;Mcy;&amp;icy;&amp;ncy;&amp;iecy;&amp;rcy;&amp;acy;&amp;lcy;&amp;softcy;&amp;ncy;&amp;ocy;-&amp;scy;&amp;ocy;&amp;lcy;&amp;iecy;&amp;vcy;&amp;ocy;&amp;jcy; &amp;kcy;&amp;acy;&amp;mcy;&amp;iecy;&amp;ncy;&amp;softcy; &amp;dcy;&amp;lcy;&amp;yacy; &amp;gcy;&amp;rcy;&amp;ycy;&amp;zcy;&amp;ucy;&amp;ncy;&amp;ocy;&amp;vcy; &amp;Kcy;&amp;rcy;&amp;icy;&amp;tscy; &quot;&amp;CHcy;&amp;icy;&amp;kcy;&amp;acy;&quot; &amp;Vcy;&amp;ycy;&amp;zcy;&amp;vcy;&amp;acy;&amp;lcy; &amp;ocy;&amp;gcy;&amp;rcy;&amp;ocy;&amp;mcy;&amp;ncy;&amp;ycy;&amp;jcy; &amp;vcy;&amp;ocy;&amp;scy;&amp;tcy;&amp;ocy;&amp;rcy;&amp;gcy; &amp;ucy; &amp;mcy;&amp;ocy;&amp;iecy;&amp;gcy;&amp;ocy; &amp;khcy;&amp;ocy;&amp;mcy;&amp;yacy;&amp;kcy;&amp;acy;"/>
          <p:cNvPicPr/>
          <p:nvPr/>
        </p:nvPicPr>
        <p:blipFill>
          <a:blip r:embed="rId5"/>
          <a:stretch/>
        </p:blipFill>
        <p:spPr>
          <a:xfrm>
            <a:off x="2470320" y="1897200"/>
            <a:ext cx="58572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Black"/>
              </a:rPr>
              <a:t>ВЫВОДЫ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96920" y="1846440"/>
            <a:ext cx="59212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Изучая, виды домашних хомяков я пришла к выводу, что существует 5 видов хомяков, приспособленных к содержанию в домашних условиях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Я также узнала какие условия необходимы для содержания каждого вида хомяк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5" name="Picture 2" descr="&amp;Ocy;&amp;scy;&amp;acy;&amp;dcy;&amp;acy; 15.12.13 (2-3 &amp;gcy;&amp;lcy;&amp;ucy;&amp;pcy;&amp;ycy;&amp;khcy; &amp;scy;&amp;lcy;&amp;ocy;&amp;vcy;&amp;acy;, &amp;ncy;&amp;iecy;&amp;pcy;&amp;rcy;&amp;icy;&amp;chcy;&amp;acy;&amp;scy;&amp;tcy;&amp;ncy;&amp;ycy;&amp;iecy; &amp;kcy; &amp;tcy;&amp;iecy;&amp;mcy;&amp;iecy;) - &amp;Scy;&amp;tcy;&amp;rcy;&amp;acy;&amp;ncy;&amp;icy;&amp;tscy;&amp;acy; 7"/>
          <p:cNvPicPr/>
          <p:nvPr/>
        </p:nvPicPr>
        <p:blipFill>
          <a:blip r:embed="rId1"/>
          <a:stretch/>
        </p:blipFill>
        <p:spPr>
          <a:xfrm>
            <a:off x="7450200" y="2340000"/>
            <a:ext cx="4587840" cy="384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6:44:29Z</dcterms:created>
  <dc:creator>Лариса</dc:creator>
  <dc:description/>
  <dc:language>en-US</dc:language>
  <cp:lastModifiedBy>063GaushkinaOS</cp:lastModifiedBy>
  <dcterms:modified xsi:type="dcterms:W3CDTF">2020-09-07T11:06:09Z</dcterms:modified>
  <cp:revision>97</cp:revision>
  <dc:subject/>
  <dc:title>Презентация PowerPoint</dc:title>
</cp:coreProperties>
</file>