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592-E02C-4925-9996-82F16467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4AC-EF59-45E8-954F-38CFA600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A51-5A3C-49F5-BF25-672B4BAC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A876-AFB6-4F04-A4C7-E56E9842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3B0C-6D42-42CB-BC1D-2C836E17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239D-907F-4E73-938F-7B08898C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92AB-9183-4211-9594-2A467F45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1B9F-58D2-419C-A99F-5B443111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099C-9ED1-4960-B424-0674C88C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C26C-929B-4B9D-8D37-47FCC8F6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50F4-0DC9-449D-90A9-D12C5C68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7A0-0BD9-4BC9-90F4-15D16A59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8EF1-1E90-4303-BF52-F8B3E72B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A43C-43D3-48CC-985C-D7BCEC22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92D4-3E30-467F-8AAD-494AE8E9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1DD2-3F41-4132-8557-EA4FDB31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C178-29C6-49D3-9FD9-708A4475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A6F-C504-4D1C-9543-D52363A3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C7C-E625-4FFE-B54E-B6AF73C6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601-5203-4BB9-9048-58636D5F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345-B35B-465C-95A0-F9D4256A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EFC-00A6-4CA5-B9E7-F4C5A768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A7E-D7D4-46C1-AB5E-B17FC783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B06-42B3-46BE-A483-D33DBB73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286C-5F26-49B0-822B-72FC3A8C2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CA4D-0112-494F-9BEA-4CF110ADC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о-познавательный проек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лияние гормона корнеобразования на укоренение черенков бугенвилли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4149720"/>
            <a:ext cx="69980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проект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ов Илья Александрович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ающийся 9 В 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вник проект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сева Оксана Витальев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би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352728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3756240" cy="365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Список источнико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http://givoyles.ru/articles/nauka/fitogormony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http://allrefs.net/c45/1e11h/p3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ход за комнатными растениями. Практические советы любителям цветов. - М.: ЗАО «Фитон+», 2011.-184 с., 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о-познавательный проек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лияние гормона корнеобразования на укоренение черенков бугенвилли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47280" y="4149720"/>
            <a:ext cx="69980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проект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ов Илья Александрович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ающийся 9 В 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вник проект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сева Оксана Витальев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би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00748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вной целью моей работы является исследование влияния гормона корнеобразования «Корневина» на укоренение черенков бугенвилл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учить особенности укоренения черенков бугенвиллий с использованием гормона корнеобразования «Корневин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ить эффективность влияния «Корневина» на образование корн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яснить через какой промежуток времени произойдет корнеобразование с момента укоренения черенков без обработки гормоном и с обработко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Укоренени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коренение это процесс образования корней из тканей вторичного происхождения какой-либо части, отделенной от материнского растения или не отделенной от не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эпоху развития технологий, агротехника взращивания цветов, овощных и плодовых культур не стоит на месте. Чтобы быстрее размножить редкие экземпляры растений мы часто прибегаем к методу черенк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данный момент в мире существует множество способов укоренения черенков растений. Но выделяют два способа укоренения черенков, это укоренение в воде и зем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Укоренение в вод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5300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о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95880" y="522936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угенвил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290844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3387960" cy="331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3024360" cy="3313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28200" y="542124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им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3168720" cy="3186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20000" y="5516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иног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Укоренение в субстрар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19280" y="5373720"/>
            <a:ext cx="144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ино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3240000" cy="345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3024360" cy="3384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283440" y="534996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угенви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Корневин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неви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это гормональный препарат, который используют для того, чтобы укоренить саженцы. Использование этого препарата позволяет ускорить образование корней при черенковании, а также в разы повышает приживаемость рассады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3529080" cy="3889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542040" cy="388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Бугенвиля- «бумажный цветок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угенвилл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– вечнозеленый кустарник или древесная лиана с необычной формой прицветников, которые словно яркие лепестки окружают небольшие цветочк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д назван в честь Луи Антуана де Бугенви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ранцузского путешественника, руководителя первой французской кругосветной экспедиции, члена Парижской Академии на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4T13:04:46Z</dcterms:created>
  <dc:creator>User</dc:creator>
  <dc:description/>
  <dc:language>en-US</dc:language>
  <cp:lastModifiedBy>User</cp:lastModifiedBy>
  <dcterms:modified xsi:type="dcterms:W3CDTF">2020-09-15T15:52:52Z</dcterms:modified>
  <cp:revision>7</cp:revision>
  <dc:subject/>
  <dc:title>Слайд 1</dc:title>
</cp:coreProperties>
</file>