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013-9A3B-43CC-B1B0-8B5F6869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470-AEB9-4C62-80E9-6AB58BF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72C-3BAB-4471-9884-78C52A42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F65-0E6D-4428-AD5C-AC173C8A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CA1-0735-4935-8331-85DA0C17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FDFB-4CEA-4C8F-B648-743A59BF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21A-5707-421C-856B-DCD236EC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01D-03CD-45E2-BB99-0C3CE55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42B3-D679-4758-9AB0-18EDB81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E59-D7F0-46CC-BEEA-0B46A40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C99C-FF3A-48C8-82C4-D1B430C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B0B-2A1C-4FDF-BAD1-20452A1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E4A9-6B37-4A2E-BAD7-E370076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A3D-4FF0-4FD5-AC72-A3B5FFE5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663-7ED7-42F9-80DE-069E51B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37E4-33D2-4DFE-BF55-623DFA48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F45-D9E4-4B15-99C0-60BC793A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8B5-6AC1-4142-8F37-67B49E5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75C-6754-45BE-A514-8C735DA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A1C-6DEB-4956-84FA-75671B6A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C3F-8C37-46C8-AFF4-8302C3A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C5D-3981-4745-83E5-936C1C1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C08-C3B5-4B9D-9719-5F9392B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513-30C9-46BE-AC8A-007E432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65D-70CA-4FE6-96EB-8A4AF5C0E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F74-F89F-4B18-91B1-A79BC9016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-познавательный проек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ияние гормона корнеобразования на укоренение черенков бугенвилли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980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 Илья Александрови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ающийся 9 В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к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ева Оксана Виталь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би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52728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756240" cy="365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Список источник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givoyles.ru/articles/nauka/fitogormon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allrefs.net/c45/1e11h/p3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ход за комнатными растениями. Практические советы любителям цветов. - М.: ЗАО «Фитон+», 2011.-184 с., 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-познавательный проек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ияние гормона корнеобразования на укоренение черенков бугенвилли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980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 Илья Александрови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ающийся 9 В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к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ева Оксана Виталь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би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00748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й целью моей работы является исследование влияния гормона корнеобразования «Корневина» на укоренение черенков бугенвилл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ить особенности укоренения черенков бугенвиллий с использованием гормона корнеобразования «Корневин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ить эффективность влияния «Корневина» на образование кор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снить через какой промежуток времени произойдет корнеобразование с момента укоренения черенков без обработки гормоном и с обработко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Укоренени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коренение это процесс образования корней из тканей вторичного происхождения какой-либо части, отделенной от материнского растения или не отделенной от н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поху развития технологий, агротехника взращивания цветов, овощных и плодовых культур не стоит на месте. Чтобы быстрее размножить редкие экземпляры растений мы часто прибегаем к методу черенк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анный момент в мире существует множество способов укоренения черенков растений. Но выделяют два способа укоренения черенков, это укоренение в воде и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Укоренение в вод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530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о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95880" y="52293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генви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290844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38796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302436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28200" y="542124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и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168720" cy="318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20000" y="5516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ин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Укоренение в субстрар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9280" y="5373720"/>
            <a:ext cx="14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но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240000" cy="345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83440" y="53499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генв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Корневи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нев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то гормональный препарат, который используют для того, чтобы укоренить саженцы. Использование этого препарата позволяет ускорить образование корней при черенковании, а также в разы повышает приживаемость рассад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529080" cy="3889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4204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Бугенвиля- «бумажный цветок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генвилл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вечнозеленый кустарник или древесная лиана с необычной формой прицветников, которые словно яркие лепестки окружают небольшие цветочк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д назван в честь Луи Антуана де Бугенви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ского путешественника, руководителя первой французской кругосветной экспедиции, члена Парижской Академии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4T13:04:46Z</dcterms:created>
  <dc:creator>User</dc:creator>
  <dc:description/>
  <dc:language>en-US</dc:language>
  <cp:lastModifiedBy>User</cp:lastModifiedBy>
  <dcterms:modified xsi:type="dcterms:W3CDTF">2020-09-15T15:52:52Z</dcterms:modified>
  <cp:revision>7</cp:revision>
  <dc:subject/>
  <dc:title>Слайд 1</dc:title>
</cp:coreProperties>
</file>