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83A-D4A2-45F3-8B90-C4795EFE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964-D8BA-44FE-807C-2F6DE6A4E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8915-4817-472E-9AD1-ED2491F05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4BBF-F066-4E75-A2DC-EE580F0A2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0A8A-E0AB-4B1B-B07C-A0714AAD7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C4C-13EA-4E6D-B33C-D3386ABB6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A1E-8A6C-4749-8A63-B424C284D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54E-D0CD-4BAF-A9DB-9CCDF77C2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810-982B-4DE8-B3D6-18F637A20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F03-D4B9-492F-AFC6-398085699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4E0-BCA0-4245-ABA7-4093FE2D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0E8-D917-45C5-95BD-EDF2149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762-9511-4187-A325-1DF57E33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561-F938-406E-BBFD-29C4A924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2D84-56E8-447C-B2DD-05DDEFC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3D15-42CE-4F20-990B-3D6A2BB3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E32-CCC7-42BD-93F0-33F791E3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7271-5043-46B0-8654-0044AECF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B2A-A006-4496-A3BD-F163095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FDF-3AFE-4981-A777-47C5278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98C-2911-40AF-9588-098B93A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FAF-8C34-4AB0-9E97-86676D8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422D-EEAD-48FA-9173-E13FD32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D9AA-AB27-4898-8192-72F31D11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361-720A-4C5A-9A39-D7830433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639-8713-4D85-B18D-76FD4044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BC96-EF38-476A-814A-067255A7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4A0-1233-4BC4-9F1E-BBEF42C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255-D890-4DFE-B0BF-BC34D077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364-31A1-4CFF-997B-2E04CA6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9B9-926E-4516-91BF-6B32B1E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204-7B00-45F9-9A2B-72D95A6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443-4FE6-43DD-B218-35360F6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4E9-DB32-4D46-B3D2-A89894D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56D-2DC4-4BE4-80ED-F7190915813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86BF-BEF9-47D2-A59F-9E77A94C25B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067280" y="2924280"/>
            <a:ext cx="4752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й про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ера-преподавателя МБОУ ДО «Знаменская детско-юношеская спортивная школ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китина С.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5280" y="189000"/>
            <a:ext cx="854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Использование здоровьесберегающих технологий в образовательном процессе при обучении воспитанников отделения «Лыжные гонки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0" descr="P1010673"/>
          <p:cNvPicPr/>
          <p:nvPr/>
        </p:nvPicPr>
        <p:blipFill>
          <a:blip r:embed="rId1"/>
          <a:stretch/>
        </p:blipFill>
        <p:spPr>
          <a:xfrm>
            <a:off x="395280" y="292428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Monotype Corsiva"/>
              </a:rPr>
              <a:t>Критерии здоровьесбережения на тренировке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обстановка и гигиенические условия в группе,2.количество видов образовательной деятельности, 3.средняя продолжительность и частота чередования видов деятельности, способствующих активизации,  4.наличие, место, содержание и продолжительность на тренировке моментов оздоровления, 5.наличие мотивации деятельности воспитанника на тренировке, 6.психологический климат на тренировке, 7.эмоциональные разрядки на трениров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2"/>
          <p:cNvSpPr/>
          <p:nvPr/>
        </p:nvSpPr>
        <p:spPr>
          <a:xfrm>
            <a:off x="395280" y="620640"/>
            <a:ext cx="85010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спользование средств и методов здоровьесберегающих технологий при обучении воспитанников отделения «Лыжные гон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кетирование воспитанни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робация     современных  здоровьесберегающих технологий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 контрольных  нормативов, мониторинга физической подготовленности и физического развития, обработка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веденного  педагогического  исследования. сравнительный анализ полученных дан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    эффективности   работы  с воспитанниками на тренировках, проведенных   по  разработанной  систе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дрение    разработанной   технологии   в практику, обобщение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ы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1476360" y="333360"/>
            <a:ext cx="51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99"/>
                </a:solidFill>
                <a:latin typeface="Times New Roman"/>
              </a:rPr>
              <a:t>Анкета для воспитанников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сегда ли в спортивной школе вы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нимаетесь в благоприятных условиях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Устаете ли вы от однообразной работы на тренировк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Проводятся ли теоретические минутки, минутки отдых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Чувствуете ли вы доброжелательное отношение тренера-преподавател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Чувствуете ли утомление уже в середине тренировк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Здоровьесберегающие </a:t>
            </a: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хнологии, используемые в образовательном процесс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хательные упражн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самомасс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оциональные разря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акс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ие мину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Разработка рекоменда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765000"/>
            <a:ext cx="8209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тимальное распределение нагрузки во время трениров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хема анализа тренировки с позиции здоровьесберегающих технолог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Участие в  районных семинарах, методических объединениях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Эффективное применение здоровьесберегающих технологий при обучении лыжным гонка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сновные направления модернизации дополнительного образования в системе «Лыжные гонки»: состояние, проблемы, пути решен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189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бобщение и распространение опыта работы в рамках педагогического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268360" y="3141360"/>
            <a:ext cx="65390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утина Т.В., Дубровский В.И, Зайцев Г.К, Щукина Г.И., Менчинская Е.А., Смирнов Н. К.,  Бабанский Ю. К., Митяева А.М. и др., которые рассматривали данную проблему в разных аспектах: медицинских, философских, психологических, педагогичес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21420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тражение проблем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в психолого-педагогической литерату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250920" y="1628640"/>
            <a:ext cx="71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ой использования здоровьесберегающих технологий в образовательном пространстве  в отечественной и зарубежной психологии и педагогике занимались известные уче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484280"/>
            <a:ext cx="87501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 состояния здоровья воспитанника спортивной школы имеет не только социальную значимость, но и педагогическую.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критерием здорового общества является здоровье населения, особенно детей и подрост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ниторинг обеспечения уровня состояния здоровья школьников показывает,   что  в начале 2000   годов, послекризисные   годы,   наряду   со   значительным ухудшением социально-экономических условий жизни, тенденция ухудшения здоровья детей и подростков увеличилась, что в значительной степени обусловлено действием комплекса стрессовых факторов, изменением реактивности организма, снижением функциональных возможностей деятельности систем защиты. Сохранению здоровья детей и подростков способствует применение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71760" y="5716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2080" y="304920"/>
            <a:ext cx="76485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Tahoma"/>
              </a:rPr>
              <a:t>Основное противореч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  здоровьесберегающими средствами и метод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ением учебной нагрузки , в следствии чего наблюдается утом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630684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99"/>
                </a:solidFill>
                <a:uFillTx/>
                <a:latin typeface="Tahoma"/>
              </a:rPr>
              <a:t>Предмет исследования –</a:t>
            </a:r>
            <a:br>
              <a:rPr sz="3200"/>
            </a:br>
            <a:r>
              <a:rPr b="0" lang="ru-RU" sz="3200" spc="-1" strike="noStrike">
                <a:solidFill>
                  <a:srgbClr val="742b0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ктивизация возможностей воспитанников  в процессе использования здоровьесберегающих технологи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43080" y="642600"/>
            <a:ext cx="67500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Tahoma"/>
              </a:rPr>
              <a:t>Объект исследования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использования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сберегающих 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268280"/>
            <a:ext cx="8572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путей эффективного  образовательного процесса, способствующего активизации возможностей воспитанников отделения «Лыжные гон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28840" y="189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Цель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100_0137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836640"/>
            <a:ext cx="864396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использование здоровьесберегающих технологий при  обучении лыжным гонкам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ить результативность усвоения материала воспитанниками и обосновать комплекс здоровьесберегающих методов преподавания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ерить эффективность использованных методов в процессе обуч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ить здоровьесберегающие технологии в процесс подготовки юных лыжник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03280" y="692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</a:rPr>
              <a:t>Задачи исследования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840" y="1071360"/>
            <a:ext cx="84628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использовать приемы  и методы преподавания, направленные на активизацию возможностей воспитанника и сохранение его здоровья, проводить регулярную корректировку образовательного процесса на основе учета здоровьесберегающих технологий, то э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ствует повышению  уровня подготовки спортсмен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332000" y="765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imes New Roman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100_0133"/>
          <p:cNvPicPr/>
          <p:nvPr/>
        </p:nvPicPr>
        <p:blipFill>
          <a:blip r:embed="rId1"/>
          <a:stretch/>
        </p:blipFill>
        <p:spPr>
          <a:xfrm>
            <a:off x="313200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216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</a:rPr>
              <a:t>Основные этапы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нятия «Здоровьесберегающие  технологи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 методов здоровьесберегающих технологий при обучении воспитанников отделения «Лыжные гон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аналитическая работа по теме и разработка  методическ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оменд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пределение понятия «здоровьесберегающие педагогические</a:t>
            </a:r>
            <a:r>
              <a:rPr b="1" lang="ru-RU" sz="39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технологии»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(ЗОТ)– это качественная характеристика любой образовательной технологии, совокупность принципов, приемов и методов педагогической работы, которые дополняют традиционные технологии обучения, воспитания, развития задачами здоровьесбереж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8:31:52Z</dcterms:created>
  <dc:creator>Home</dc:creator>
  <dc:description/>
  <dc:language>en-US</dc:language>
  <cp:lastModifiedBy>Школа</cp:lastModifiedBy>
  <dcterms:modified xsi:type="dcterms:W3CDTF">2020-09-15T11:41:09Z</dcterms:modified>
  <cp:revision>106</cp:revision>
  <dc:subject/>
  <dc:title>Слайд 1</dc:title>
</cp:coreProperties>
</file>