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AC69-CF50-4117-A084-7273A6999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B586-A42F-4586-8714-7434E60646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B972-2C34-4F12-8746-FC584B743E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F0EB-F07C-4C0B-AB7B-229019525C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210B-F4E0-4F75-A54D-87085C6960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C353-A3EE-402D-A683-6BFA196BA2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F87A-13FA-47E2-A550-347C39BF71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0940-9C56-4A6D-A589-229411DCF4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8CBA-B5C6-445D-95CA-9529D68D3D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2EC6-8804-4CC2-AB17-6C50A53590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3649-9A0D-404A-BBF5-0785908EB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4CC7-F873-4B93-97F8-52FE0014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0E6D-1D5D-4195-BD57-EEBBDB45D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1623-44E3-49C0-B5F3-86E271F01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A5CA9-FBF3-4E62-9469-7AD5DF8F5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554B-254E-42C2-A81F-66351A46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1F7F-B1CD-4D37-AD10-19E193CE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440B-6278-4CDC-B520-292DC831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71F5A-4B12-4717-82C1-4AFA45FF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D4EF-E5E6-43B5-A20A-11D7113F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FB82-1F00-41E9-A7D8-4FD2EB06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C19B-A5FB-4691-A532-58117083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39E5-0FC1-4150-ACD5-CDFBAF4C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D571-E880-465B-8735-8526ADD8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09F1-E523-48FA-9ACC-B7A5B519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E94F-9848-4998-AC16-68F43FD6E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28D6-EB65-4CDF-A870-63F3140C6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EA87-92BF-4995-A75C-F0B5E788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DAAB-A0EC-4D5B-8DE8-8EB2BD08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1332-DE32-4940-9B87-BB3F447EE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2DD0-04F1-48DF-9DD1-C39EC88A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59DE-ED2F-4DE9-A6D8-82742E82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F06E-D213-49E2-98FD-196AA493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E028-C8E5-4C9E-94C8-F3758F14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E0D2-5E70-4904-9F81-6A52F4E5FB0E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049E-A517-40E5-86DC-655BC825B61B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067280" y="2924280"/>
            <a:ext cx="47527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47560" indent="-547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едагогический проек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47560" indent="-547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енера-преподавателя МБОУ ДО «Знаменская детско-юношеская спортивная школа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47560" indent="-547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икитина С.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395280" y="189000"/>
            <a:ext cx="8547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Times New Roman"/>
              </a:rPr>
              <a:t>Использование здоровьесберегающих технологий в образовательном процессе при обучении воспитанников отделения «Лыжные гонки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10" descr="P1010673"/>
          <p:cNvPicPr/>
          <p:nvPr/>
        </p:nvPicPr>
        <p:blipFill>
          <a:blip r:embed="rId1"/>
          <a:stretch/>
        </p:blipFill>
        <p:spPr>
          <a:xfrm>
            <a:off x="395280" y="2924280"/>
            <a:ext cx="3803760" cy="2852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792920" cy="14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990099"/>
                </a:solidFill>
                <a:latin typeface="Monotype Corsiva"/>
              </a:rPr>
              <a:t>Критерии здоровьесбережения на тренировке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1. обстановка и гигиенические условия в группе,2.количество видов образовательной деятельности, 3.средняя продолжительность и частота чередования видов деятельности, способствующих активизации,  4.наличие, место, содержание и продолжительность на тренировке моментов оздоровления, 5.наличие мотивации деятельности воспитанника на тренировке, 6.психологический климат на тренировке, 7.эмоциональные разрядки на тренировк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2"/>
          <p:cNvSpPr/>
          <p:nvPr/>
        </p:nvSpPr>
        <p:spPr>
          <a:xfrm>
            <a:off x="395280" y="620640"/>
            <a:ext cx="8501040" cy="54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              </a:t>
            </a: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Использование средств и методов здоровьесберегающих технологий при обучении воспитанников отделения «Лыжные гонки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buClr>
                <a:srgbClr val="99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нкетирование воспитанник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пробация     современных  здоровьесберегающих технологий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ведение  контрольных  нормативов, мониторинга физической подготовленности и физического развития, обработка результатов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проведенного  педагогического  исследования. сравнительный анализ полученных данных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пределение     эффективности   работы  с воспитанниками на тренировках, проведенных   по  разработанной  системе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недрение    разработанной   технологии   в практику, обобщение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пыт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2"/>
          <p:cNvSpPr/>
          <p:nvPr/>
        </p:nvSpPr>
        <p:spPr>
          <a:xfrm>
            <a:off x="1476360" y="333360"/>
            <a:ext cx="5111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990099"/>
                </a:solidFill>
                <a:latin typeface="Times New Roman"/>
              </a:rPr>
              <a:t>Анкета для воспитанников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Всегда ли в спортивной школе вы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нимаетесь в благоприятных условиях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Устаете ли вы от однообразной работы на тренировке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Проводятся ли теоретические минутки, минутки отдыха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 Чувствуете ли вы доброжелательное отношение тренера-преподавателя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6. Чувствуете ли утомление уже в середине тренировки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Tahoma"/>
              </a:rPr>
              <a:t>Здоровьесберегающие </a:t>
            </a:r>
            <a:br>
              <a:rPr sz="3200"/>
            </a:br>
            <a:r>
              <a:rPr b="0" lang="ru-RU" sz="3200" spc="-1" strike="noStrike">
                <a:solidFill>
                  <a:srgbClr val="990099"/>
                </a:solidFill>
                <a:latin typeface="Tahoma"/>
              </a:rPr>
              <a:t>технологии, используемые в образовательном процессе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ыхательные упражнени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лементы самомассаж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узыкотерап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сихологические тренинг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моциональные разряд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лаксац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оретические минут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5"/>
          <p:cNvSpPr/>
          <p:nvPr/>
        </p:nvSpPr>
        <p:spPr>
          <a:xfrm>
            <a:off x="0" y="33336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Times New Roman"/>
              </a:rPr>
              <a:t>Разработка рекомендац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395280" y="765000"/>
            <a:ext cx="8209080" cy="59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птимальное распределение нагрузки во время трениров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хема анализа тренировки с позиции здоровьесберегающих технолог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Участие в  районных семинарах, методических объединениях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Эффективное применение здоровьесберегающих технологий при обучении лыжным гонкам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Основные направления модернизации дополнительного образования в системе «Лыжные гонки»: состояние, проблемы, пути решения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0" y="18900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Times New Roman"/>
              </a:rPr>
              <a:t>Обобщение и распространение опыта работы в рамках педагогического проек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2268360" y="3141360"/>
            <a:ext cx="65390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хутина Т.В., Дубровский В.И, Зайцев Г.К, Щукина Г.И., Менчинская Е.А., Смирнов Н. К.,  Бабанский Ю. К., Митяева А.М. и др., которые рассматривали данную проблему в разных аспектах: медицинских, философских, психологических, педагогически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0" y="214200"/>
            <a:ext cx="70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Times New Roman"/>
              </a:rPr>
              <a:t>Отражение проблемы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Times New Roman"/>
              </a:rPr>
              <a:t>в психолого-педагогической литератур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250920" y="1628640"/>
            <a:ext cx="719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блемой использования здоровьесберегающих технологий в образовательном пространстве  в отечественной и зарубежной психологии и педагогике занимались известные учены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0" y="1484280"/>
            <a:ext cx="8750160" cy="50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блема состояния здоровья воспитанника спортивной школы имеет не только социальную значимость, но и педагогическую.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м критерием здорового общества является здоровье населения, особенно детей и подростк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ниторинг обеспечения уровня состояния здоровья школьников показывает,   что  в начале 2000   годов, послекризисные   годы,   наряду   со   значительным ухудшением социально-экономических условий жизни, тенденция ухудшения здоровья детей и подростков увеличилась, что в значительной степени обусловлено действием комплекса стрессовых факторов, изменением реактивности организма, снижением функциональных возможностей деятельности систем защиты. Сохранению здоровья детей и подростков способствует применение здоровьесберегающих технолог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571760" y="571680"/>
            <a:ext cx="61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Times New Roman"/>
              </a:rPr>
              <a:t>Актуальность проект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62080" y="304920"/>
            <a:ext cx="7648560" cy="94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990099"/>
                </a:solidFill>
                <a:latin typeface="Tahoma"/>
              </a:rPr>
              <a:t>Основное противоречи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жду  здоровьесберегающими средствами и методам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величением учебной нагрузки , в следствии чего наблюдается утомляем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3640" y="3573360"/>
            <a:ext cx="6306840" cy="18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0099"/>
                </a:solidFill>
                <a:uFillTx/>
                <a:latin typeface="Tahoma"/>
              </a:rPr>
              <a:t>Предмет исследования –</a:t>
            </a:r>
            <a:br>
              <a:rPr sz="3200"/>
            </a:br>
            <a:r>
              <a:rPr b="0" lang="ru-RU" sz="3200" spc="-1" strike="noStrike">
                <a:solidFill>
                  <a:srgbClr val="742b06"/>
                </a:solidFill>
                <a:latin typeface="Tahoma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активизация возможностей воспитанников  в процессе использования здоровьесберегающих технологий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143080" y="642600"/>
            <a:ext cx="67500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Tahoma"/>
              </a:rPr>
              <a:t>   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Tahoma"/>
              </a:rPr>
              <a:t>Объект исследования –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цесс использования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доровьесберегающих педагогических технолог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24000" y="1268280"/>
            <a:ext cx="85723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иск путей эффективного  образовательного процесса, способствующего активизации возможностей воспитанников отделения «Лыжные гонки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428840" y="189000"/>
            <a:ext cx="54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Times New Roman"/>
              </a:rPr>
              <a:t>Цель исследовани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8" descr="100_0137"/>
          <p:cNvPicPr/>
          <p:nvPr/>
        </p:nvPicPr>
        <p:blipFill>
          <a:blip r:embed="rId1"/>
          <a:stretch/>
        </p:blipFill>
        <p:spPr>
          <a:xfrm>
            <a:off x="4572000" y="3357720"/>
            <a:ext cx="3840120" cy="2950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8920" y="836640"/>
            <a:ext cx="8643960" cy="58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оанализировать использование здоровьесберегающих технологий при  обучении лыжным гонкам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учить результативность усвоения материала воспитанниками и обосновать комплекс здоровьесберегающих методов преподавания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оверить эффективность использованных методов в процессе обучения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недрить здоровьесберегающие технологии в процесс подготовки юных лыжников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403280" y="692280"/>
            <a:ext cx="61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Times New Roman"/>
              </a:rPr>
              <a:t>Задачи исследования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85840" y="1071360"/>
            <a:ext cx="8462880" cy="54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сли использовать приемы  и методы преподавания, направленные на активизацию возможностей воспитанника и сохранение его здоровья, проводить регулярную корректировку образовательного процесса на основе учета здоровьесберегающих технологий, то это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пособствует повышению  уровня подготовки спортсмен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800"/>
            </a:b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1332000" y="765000"/>
            <a:ext cx="67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99"/>
                </a:solidFill>
                <a:latin typeface="Times New Roman"/>
              </a:rPr>
              <a:t>Гипотеза исследовани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8" descr="100_0133"/>
          <p:cNvPicPr/>
          <p:nvPr/>
        </p:nvPicPr>
        <p:blipFill>
          <a:blip r:embed="rId1"/>
          <a:stretch/>
        </p:blipFill>
        <p:spPr>
          <a:xfrm>
            <a:off x="3132000" y="4149720"/>
            <a:ext cx="3357720" cy="25178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92360" y="188640"/>
            <a:ext cx="721656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99"/>
                </a:solidFill>
                <a:latin typeface="Tahoma"/>
              </a:rPr>
              <a:t>Основные этапы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ределение понятия «Здоровьесберегающие  технологии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ование средств и методов здоровьесберегающих технологий при обучении воспитанников отделения «Лыжные гонки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формационно-аналитическая работа по теме и разработка  методических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комендац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87280" y="76500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990099"/>
                </a:solidFill>
                <a:latin typeface="Times New Roman"/>
              </a:rPr>
              <a:t>Определение понятия «здоровьесберегающие педагогические</a:t>
            </a:r>
            <a:r>
              <a:rPr b="1" lang="ru-RU" sz="3900" spc="-1" strike="noStrike">
                <a:solidFill>
                  <a:srgbClr val="990099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990099"/>
                </a:solidFill>
                <a:latin typeface="Times New Roman"/>
              </a:rPr>
              <a:t>технологии»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доровьесберегающие образовательные технологии (ЗОТ)– это качественная характеристика любой образовательной технологии, совокупность принципов, приемов и методов педагогической работы, которые дополняют традиционные технологии обучения, воспитания, развития задачами здоровьесбережения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8:31:52Z</dcterms:created>
  <dc:creator>Home</dc:creator>
  <dc:description/>
  <dc:language>en-US</dc:language>
  <cp:lastModifiedBy>Школа</cp:lastModifiedBy>
  <dcterms:modified xsi:type="dcterms:W3CDTF">2020-09-15T11:41:09Z</dcterms:modified>
  <cp:revision>106</cp:revision>
  <dc:subject/>
  <dc:title>Слайд 1</dc:title>
</cp:coreProperties>
</file>