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8915-0F15-402D-B2FD-12ADD1526C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24B6-399C-4E7E-B61A-DA9756BBD5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CCDC-6EF1-4803-961D-14B3B511E1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B3CF-F7C6-4F47-B0DF-C9D54AD464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CCBD-6442-4703-9D23-6BD9F8E266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B56A-9BD3-4D61-9678-393F45B5FA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5CDB-3EE0-4273-ADFF-E23AFAEA51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FA14-EB76-4AA6-8470-F715650DFB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4BED-5DA8-4DB3-903E-8F74E82C79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D676-6C40-41F5-AD7B-007AC07744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45CB-08D7-4EF6-92AB-0539676D50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846D-E7E7-423F-AD90-0F96651C0D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F56A-5BDF-48C4-B4C7-120C1548D0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2135-7C69-4B3A-BF71-F957FE05DF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956B-1118-4920-B229-55B245E7C5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75E9-3426-424C-A0FF-D4CBD6BE32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10FD-6D94-4877-B7E5-77A590C68C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2B86-0F53-4295-B60C-499CED18AE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2BB9-C18C-4AF4-B99F-055D43F318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24B0-7287-47D7-8168-6DFE40761F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92F3-B5F5-4E58-9EC2-24E3F38782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0914-D552-493D-B746-C69661683E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9C9E-FD44-42A5-99F5-D154A6BD12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7809-61C3-4514-9D62-CC67BFBB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3289-37CF-4F58-8D4B-CD3C7E88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2F58-1586-4112-859B-00861B8D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FD0B-836A-471F-B2C2-3D77653F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4073-E8D1-40BA-8ADA-694FD767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0E4B-C9E1-4093-BABB-E4B5A547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D10C-B39F-4F37-AE19-BE6A56C0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470D-5EF9-4F71-BE25-F4A95CCB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811E-1268-4A2E-B5F2-4074E611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312B-5AF8-4CD4-A011-48C10FC2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E195-9D69-4B7A-96B6-AD77F577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B6BB-5668-4FB3-B1EE-F113F4F9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AFFD-6929-4C9E-9ACF-471F3750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4F08-ABD7-4335-99F1-24FEFC92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7AE6-67D2-4676-9331-592279E8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FA2A-033D-497B-AD04-0726FE8A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C9F0-7CFD-4B9E-ACF2-01A20EBC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926E-917C-465B-B2DA-07AEC5DA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C1B4-D31D-49C1-B304-B37667B8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9998-7397-4C0A-B378-C9524203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01B6-990A-449E-B555-92C508D2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973D-2257-4C35-BEF5-A0C73609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37AB-7EC4-450B-8039-49F31104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9D61-ECFC-4A83-AFC2-16778349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A2C4-1C00-452C-8727-EF786287B299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B268-B527-4E7C-BC4E-569DC0BE81D6}" type="slidenum"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7280" y="1447920"/>
            <a:ext cx="8101080" cy="30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Метод проектов как технология формирования ключевых компетенций обучающихся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 rot="10800000">
            <a:off x="533520" y="3682080"/>
            <a:ext cx="8076960" cy="39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6840" y="1557360"/>
            <a:ext cx="80773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4c6a"/>
                </a:solidFill>
                <a:latin typeface="Trebuchet MS"/>
              </a:rPr>
              <a:t>Тема</a:t>
            </a:r>
            <a:r>
              <a:rPr b="1" i="1" lang="ru-RU" sz="3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ru-RU" sz="3600" spc="-1" strike="noStrike">
                <a:solidFill>
                  <a:srgbClr val="284c6a"/>
                </a:solidFill>
                <a:latin typeface="Trebuchet MS"/>
              </a:rPr>
              <a:t>проекта</a:t>
            </a:r>
            <a:r>
              <a:rPr b="0" lang="ru-RU" sz="3600" spc="-1" strike="noStrike">
                <a:solidFill>
                  <a:srgbClr val="284c6a"/>
                </a:solidFill>
                <a:latin typeface="Trebuchet MS"/>
              </a:rPr>
              <a:t>  </a:t>
            </a: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формулируется таким образом, чтобы  в ней нашла отражение проблема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84c6a"/>
                </a:solidFill>
                <a:latin typeface="Trebuchet MS"/>
              </a:rPr>
              <a:t>Например: : </a:t>
            </a: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«</a:t>
            </a:r>
            <a:r>
              <a:rPr b="0" i="1" lang="ru-RU" sz="3200" spc="-1" strike="noStrike">
                <a:solidFill>
                  <a:srgbClr val="284c6a"/>
                </a:solidFill>
                <a:latin typeface="Trebuchet MS"/>
              </a:rPr>
              <a:t>Эффективная разработка рекламного образа товара»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91440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Структура исследовательского проекта: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79280" y="907560"/>
            <a:ext cx="8785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Объект исследования: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45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84c6a"/>
                </a:solidFill>
                <a:latin typeface="Trebuchet MS"/>
              </a:rPr>
              <a:t>- </a:t>
            </a:r>
            <a:r>
              <a:rPr b="1" lang="ru-RU" sz="1800" spc="-1" strike="noStrike">
                <a:solidFill>
                  <a:srgbClr val="284c6a"/>
                </a:solidFill>
                <a:latin typeface="Trebuchet MS"/>
              </a:rPr>
              <a:t>сфера внимания </a:t>
            </a:r>
            <a:r>
              <a:rPr b="0" i="1" lang="ru-RU" sz="1800" spc="-1" strike="noStrike">
                <a:solidFill>
                  <a:srgbClr val="284c6a"/>
                </a:solidFill>
                <a:latin typeface="Trebuchet MS"/>
              </a:rPr>
              <a:t>исследователя,  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45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84c6a"/>
                </a:solidFill>
                <a:latin typeface="Trebuchet MS"/>
              </a:rPr>
              <a:t>-</a:t>
            </a:r>
            <a:r>
              <a:rPr b="1" lang="ru-RU" sz="1800" spc="-1" strike="noStrike">
                <a:solidFill>
                  <a:srgbClr val="284c6a"/>
                </a:solidFill>
                <a:latin typeface="Trebuchet MS"/>
              </a:rPr>
              <a:t>процесс или явление</a:t>
            </a: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, порождающие проблемную ситуацию и избранные для изучения,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45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- </a:t>
            </a:r>
            <a:r>
              <a:rPr b="1" i="1" lang="ru-RU" sz="1800" spc="-1" strike="noStrike">
                <a:solidFill>
                  <a:srgbClr val="284c6a"/>
                </a:solidFill>
                <a:latin typeface="Trebuchet MS"/>
              </a:rPr>
              <a:t>поле научных поисков</a:t>
            </a: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, а </a:t>
            </a:r>
            <a:r>
              <a:rPr b="0" i="1" lang="ru-RU" sz="1800" spc="-1" strike="noStrike">
                <a:solidFill>
                  <a:srgbClr val="284c6a"/>
                </a:solidFill>
                <a:latin typeface="Trebuchet MS"/>
              </a:rPr>
              <a:t>предмет - точка в этом поле</a:t>
            </a: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; 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45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- это то, </a:t>
            </a:r>
            <a:r>
              <a:rPr b="1" i="1" lang="ru-RU" sz="1800" spc="-1" strike="noStrike">
                <a:solidFill>
                  <a:srgbClr val="284c6a"/>
                </a:solidFill>
                <a:latin typeface="Trebuchet MS"/>
              </a:rPr>
              <a:t>где мы ищем</a:t>
            </a: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, а предмет - </a:t>
            </a:r>
            <a:r>
              <a:rPr b="1" i="1" lang="ru-RU" sz="1800" spc="-1" strike="noStrike">
                <a:solidFill>
                  <a:srgbClr val="284c6a"/>
                </a:solidFill>
                <a:latin typeface="Trebuchet MS"/>
              </a:rPr>
              <a:t>что</a:t>
            </a: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 мы ищем»…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45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-</a:t>
            </a:r>
            <a:r>
              <a:rPr b="1" i="1" lang="ru-RU" sz="1800" spc="-1" strike="noStrike">
                <a:solidFill>
                  <a:srgbClr val="284c6a"/>
                </a:solidFill>
                <a:latin typeface="Trebuchet MS"/>
              </a:rPr>
              <a:t>рассматривается весь, целостно</a:t>
            </a: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, а предмет – как аспект его рассмотрения - объект как…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45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84c6a"/>
                </a:solidFill>
                <a:latin typeface="Trebuchet MS"/>
              </a:rPr>
              <a:t>- объективен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45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84c6a"/>
                </a:solidFill>
                <a:latin typeface="Trebuchet MS"/>
              </a:rPr>
              <a:t>Например: Объект исследования «</a:t>
            </a:r>
            <a:r>
              <a:rPr b="0" i="1" lang="ru-RU" sz="1800" spc="-1" strike="noStrike">
                <a:solidFill>
                  <a:srgbClr val="284c6a"/>
                </a:solidFill>
                <a:latin typeface="Trebuchet MS"/>
              </a:rPr>
              <a:t>Проектная деятельность</a:t>
            </a: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, направленная на создание творческой стратегии рекламной кампании, основанной на сочетании научного планирования и художественного вдохновения, ограниченного жесткими условиями коммерческих задач и спецификой массовой коммуникации».</a:t>
            </a: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ИЛИ</a:t>
            </a: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 «Проектная деятельность по созданию рекламы»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77320" cy="69840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Структура исследовательского проекта: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1052280"/>
            <a:ext cx="8686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Предмет исследования: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-</a:t>
            </a:r>
            <a:r>
              <a:rPr b="1" i="1" lang="ru-RU" sz="2000" spc="-1" strike="noStrike">
                <a:solidFill>
                  <a:srgbClr val="284c6a"/>
                </a:solidFill>
                <a:latin typeface="Trebuchet MS"/>
              </a:rPr>
              <a:t>элемент, сторона, свойство, аспекты, функции, отношения объекта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,  выделяемые исследователем для изучения, 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84c6a"/>
                </a:solidFill>
                <a:latin typeface="Trebuchet MS"/>
              </a:rPr>
              <a:t>-то новое знание, которое исследователь намеревается получить. 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(субъективно или объективно новое знание)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-все то, что находится </a:t>
            </a:r>
            <a:r>
              <a:rPr b="1" i="1" lang="ru-RU" sz="2000" spc="-1" strike="noStrike">
                <a:solidFill>
                  <a:srgbClr val="284c6a"/>
                </a:solidFill>
                <a:latin typeface="Trebuchet MS"/>
              </a:rPr>
              <a:t>в границах объекта исследования 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в определенном  аспекте рассмотрения,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-</a:t>
            </a:r>
            <a:r>
              <a:rPr b="1" i="1" lang="ru-RU" sz="2000" spc="-1" strike="noStrike">
                <a:solidFill>
                  <a:srgbClr val="284c6a"/>
                </a:solidFill>
                <a:latin typeface="Trebuchet MS"/>
              </a:rPr>
              <a:t>субъективен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84c6a"/>
                </a:solidFill>
                <a:latin typeface="Trebuchet MS"/>
              </a:rPr>
              <a:t>Например: </a:t>
            </a:r>
            <a:r>
              <a:rPr b="0" i="1" lang="ru-RU" sz="2400" spc="-1" strike="noStrike">
                <a:solidFill>
                  <a:srgbClr val="284c6a"/>
                </a:solidFill>
                <a:latin typeface="Trebuchet MS"/>
              </a:rPr>
              <a:t>приемы создания</a:t>
            </a: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 эффективной рекламы и </a:t>
            </a:r>
            <a:r>
              <a:rPr b="0" i="1" lang="ru-RU" sz="2400" spc="-1" strike="noStrike">
                <a:solidFill>
                  <a:srgbClr val="284c6a"/>
                </a:solidFill>
                <a:latin typeface="Trebuchet MS"/>
              </a:rPr>
              <a:t>воздействия</a:t>
            </a: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 на потенциального потребителя.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077320" cy="91440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4c6a"/>
                </a:solidFill>
                <a:latin typeface="Trebuchet MS"/>
              </a:rPr>
              <a:t>Структура исследовательского проекта</a:t>
            </a: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68000" y="112500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Цель исследования: </a:t>
            </a: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это конечный планируемый результат, конкретно охарактеризованный качественно, а где необходимо и количественно, который реально может быть  достигнут.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25800" indent="-32580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Формулировка цели </a:t>
            </a: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предполагает использование </a:t>
            </a:r>
            <a:r>
              <a:rPr b="1" i="1" lang="ru-RU" sz="2400" spc="-1" strike="noStrike">
                <a:solidFill>
                  <a:srgbClr val="284c6a"/>
                </a:solidFill>
                <a:latin typeface="Trebuchet MS"/>
              </a:rPr>
              <a:t>глаголов, как обосновать, выявить, разработать</a:t>
            </a: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.…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25800" indent="-32580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Например</a:t>
            </a: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:  «Выявить </a:t>
            </a:r>
            <a:r>
              <a:rPr b="0" i="1" lang="ru-RU" sz="2400" spc="-1" strike="noStrike">
                <a:solidFill>
                  <a:srgbClr val="284c6a"/>
                </a:solidFill>
                <a:latin typeface="Trebuchet MS"/>
              </a:rPr>
              <a:t>приемы</a:t>
            </a: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0" i="1" lang="ru-RU" sz="2400" spc="-1" strike="noStrike">
                <a:solidFill>
                  <a:srgbClr val="284c6a"/>
                </a:solidFill>
                <a:latin typeface="Trebuchet MS"/>
              </a:rPr>
              <a:t>создания и позиционирования</a:t>
            </a: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  эффективной  рекламы, с целью превзойти своих конкурентов»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77320" cy="91440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4c6a"/>
                </a:solidFill>
                <a:latin typeface="Trebuchet MS"/>
              </a:rPr>
              <a:t>Структура исследовательского проекта</a:t>
            </a: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50560" y="620280"/>
            <a:ext cx="889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Гипотеза исследовательского проекта: 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это предположение о существовании какого-либо процесса или явления, свойств, связей между ними, необходимых для достижения поставленной цели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Гипотеза должна касаться  объекта исследования. 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c6a"/>
                </a:solidFill>
                <a:latin typeface="Trebuchet MS"/>
              </a:rPr>
              <a:t>В состав гипотезы входят следующие компоненты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c6a"/>
                </a:solidFill>
                <a:latin typeface="Trebuchet MS"/>
              </a:rPr>
              <a:t>- </a:t>
            </a:r>
            <a:r>
              <a:rPr b="0" lang="ru-RU" sz="2000" spc="-1" strike="noStrike" u="sng">
                <a:solidFill>
                  <a:srgbClr val="284c6a"/>
                </a:solidFill>
                <a:uFillTx/>
                <a:latin typeface="Trebuchet MS"/>
              </a:rPr>
              <a:t>положение;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- </a:t>
            </a:r>
            <a:r>
              <a:rPr b="0" lang="ru-RU" sz="2000" spc="-1" strike="noStrike" u="sng">
                <a:solidFill>
                  <a:srgbClr val="284c6a"/>
                </a:solidFill>
                <a:uFillTx/>
                <a:latin typeface="Trebuchet MS"/>
              </a:rPr>
              <a:t>предположения 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с объяснением или без  него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84c6a"/>
                </a:solidFill>
                <a:latin typeface="Trebuchet MS"/>
              </a:rPr>
              <a:t>Например: </a:t>
            </a:r>
            <a:r>
              <a:rPr b="1" i="1" lang="ru-RU" sz="1600" spc="-1" strike="noStrike">
                <a:solidFill>
                  <a:srgbClr val="284c6a"/>
                </a:solidFill>
                <a:latin typeface="Trebuchet MS"/>
              </a:rPr>
              <a:t>Гипотеза исследования</a:t>
            </a:r>
            <a:r>
              <a:rPr b="1" lang="ru-RU" sz="1600" spc="-1" strike="noStrike">
                <a:solidFill>
                  <a:srgbClr val="284c6a"/>
                </a:solidFill>
                <a:latin typeface="Trebuchet MS"/>
              </a:rPr>
              <a:t>:</a:t>
            </a:r>
            <a:r>
              <a:rPr b="1" i="1" lang="ru-RU" sz="1600" spc="-1" strike="noStrike">
                <a:solidFill>
                  <a:srgbClr val="284c6a"/>
                </a:solidFill>
                <a:latin typeface="Trebuchet MS"/>
              </a:rPr>
              <a:t> «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Воздействие рекламы на потребителя будет более эффективным, если при ее  проектировании будут использованы </a:t>
            </a:r>
            <a:r>
              <a:rPr b="0" i="1" lang="ru-RU" sz="1600" spc="-1" strike="noStrike">
                <a:solidFill>
                  <a:srgbClr val="284c6a"/>
                </a:solidFill>
                <a:latin typeface="Trebuchet MS"/>
              </a:rPr>
              <a:t>следующие приемы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: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- качества товара, его функциональные свойства,  будут соответствовать  ожиданиям потребителя;  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84c6a"/>
                </a:solidFill>
                <a:latin typeface="Trebuchet MS"/>
              </a:rPr>
              <a:t>-  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 качества товара  могут быть представлены как уникальные;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84c6a"/>
                </a:solidFill>
                <a:latin typeface="Trebuchet MS"/>
              </a:rPr>
              <a:t>-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 при позиционировании  будут выделены функциональные свойства товара, ценовые параметры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и др.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077320" cy="47628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4c6a"/>
                </a:solidFill>
                <a:latin typeface="Trebuchet MS"/>
              </a:rPr>
              <a:t>Структура исследовательского проекта: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6840" y="836640"/>
            <a:ext cx="80773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c6a"/>
                </a:solidFill>
                <a:latin typeface="Trebuchet MS"/>
              </a:rPr>
              <a:t>Задачи</a:t>
            </a:r>
            <a:r>
              <a:rPr b="1" i="1" lang="ru-RU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ru-RU" sz="2000" spc="-1" strike="noStrike">
                <a:solidFill>
                  <a:srgbClr val="284c6a"/>
                </a:solidFill>
                <a:latin typeface="Trebuchet MS"/>
              </a:rPr>
              <a:t>исследовательского проекта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35880" indent="-3358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это  ряд шагов, которые  необходимо предпринять  для достижения цели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35880" indent="-3358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ряд промежуточных целей, выполнение которых необходимо для реализации общей цели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35880" indent="-3358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В формулировке задач  используются следующие глаголы: определить,  раскрыть, разработать, экспериментально проверить, изучить, выявить,   и т.д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35880" indent="-3358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c6a"/>
                </a:solidFill>
                <a:latin typeface="Trebuchet MS"/>
              </a:rPr>
              <a:t>Например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35880" indent="-3358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c6a"/>
                </a:solidFill>
                <a:latin typeface="Trebuchet MS"/>
              </a:rPr>
              <a:t>-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  выявить и изучить приемы создания рекламы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35880" indent="-3358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c6a"/>
                </a:solidFill>
                <a:latin typeface="Trebuchet MS"/>
              </a:rPr>
              <a:t>- 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выявить  наиболее значимые,  с точки зрения потребителя, преимущества, особенности рекламируемой продукции;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35880" indent="-3358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- среди приемов создания рекламы выбрать наиболее эффективные с учетом преимуществ товара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35880" indent="-3358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077320" cy="61920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4c6a"/>
                </a:solidFill>
                <a:latin typeface="Trebuchet MS"/>
              </a:rPr>
              <a:t>Структура исследовательского проекта: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77320" cy="93492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Методы  научного исследования и их сущность</a:t>
            </a:r>
            <a:br>
              <a:rPr sz="2800"/>
            </a:b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1341360"/>
            <a:ext cx="8497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284c6a"/>
                </a:solidFill>
                <a:latin typeface="Trebuchet MS"/>
              </a:rPr>
              <a:t>методы эмпирического исследования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 (наблюдение, сравнение, измерение, эксперимент, мониторинг);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- </a:t>
            </a:r>
            <a:r>
              <a:rPr b="1" lang="ru-RU" sz="1600" spc="-1" strike="noStrike">
                <a:solidFill>
                  <a:srgbClr val="284c6a"/>
                </a:solidFill>
                <a:latin typeface="Trebuchet MS"/>
              </a:rPr>
              <a:t>методы теоретического исследования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  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84c6a"/>
                </a:solidFill>
                <a:latin typeface="Trebuchet MS"/>
              </a:rPr>
              <a:t>      </a:t>
            </a:r>
            <a:r>
              <a:rPr b="1" lang="ru-RU" sz="1600" spc="-1" strike="noStrike">
                <a:solidFill>
                  <a:srgbClr val="284c6a"/>
                </a:solidFill>
                <a:latin typeface="Trebuchet MS"/>
              </a:rPr>
              <a:t>1.аксиоматический метод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 - научная теория строится в виде аксиом и правил вывода. 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84c6a"/>
                </a:solidFill>
                <a:latin typeface="Trebuchet MS"/>
              </a:rPr>
              <a:t>       </a:t>
            </a:r>
            <a:r>
              <a:rPr b="1" lang="ru-RU" sz="1600" spc="-1" strike="noStrike">
                <a:solidFill>
                  <a:srgbClr val="284c6a"/>
                </a:solidFill>
                <a:latin typeface="Trebuchet MS"/>
              </a:rPr>
              <a:t>2. гипотетико-дедуктивный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 метод. Вместо аксиом ставятся гипотезы; гипотеза - знание, которое может быть опровергнуто сопоставлением с экспериментальными фактами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        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3.</a:t>
            </a:r>
            <a:r>
              <a:rPr b="1" lang="ru-RU" sz="1600" spc="-1" strike="noStrike">
                <a:solidFill>
                  <a:srgbClr val="284c6a"/>
                </a:solidFill>
                <a:latin typeface="Trebuchet MS"/>
              </a:rPr>
              <a:t>описательные методы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 - словесные, графические, схематические.  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- </a:t>
            </a:r>
            <a:r>
              <a:rPr b="1" lang="ru-RU" sz="1600" spc="-1" strike="noStrike">
                <a:solidFill>
                  <a:srgbClr val="284c6a"/>
                </a:solidFill>
                <a:latin typeface="Trebuchet MS"/>
              </a:rPr>
              <a:t>общие методы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, используемые как на эмпирическом, так и на теоретическом уровне исследования (абстрагирование и конкретизация, анализ, синтез, индукция, дедукция, абдукция, моделирование, аналогия, исторический  метод).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  </a:t>
            </a:r>
            <a:r>
              <a:rPr b="1" i="1" lang="ru-RU" sz="1600" spc="-1" strike="noStrike">
                <a:solidFill>
                  <a:srgbClr val="284c6a"/>
                </a:solidFill>
                <a:latin typeface="Trebuchet MS"/>
              </a:rPr>
              <a:t>К специальным методам относят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: беседу, анкетирование, интервьюирование, тестирование, социометрический метод, мониторинг (отслеживание динамики развития определенного, формируемого качества), </a:t>
            </a:r>
            <a:r>
              <a:rPr b="0" i="1" lang="ru-RU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рейтинг (оценка экспертов).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 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84c6a"/>
                </a:solidFill>
                <a:latin typeface="Trebuchet MS"/>
              </a:rPr>
              <a:t>Этапы выполнения исследовательского проекта: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23623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I</a:t>
            </a:r>
            <a:r>
              <a:rPr b="1" lang="ru-RU" sz="2400" spc="-1" strike="noStrike">
                <a:solidFill>
                  <a:srgbClr val="284c6a"/>
                </a:solidFill>
                <a:latin typeface="Trebuchet MS"/>
              </a:rPr>
              <a:t> этап: </a:t>
            </a: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изучении истории и теории вопроса, построение гипотезы;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II</a:t>
            </a:r>
            <a:r>
              <a:rPr b="1" lang="ru-RU" sz="2400" spc="-1" strike="noStrike">
                <a:solidFill>
                  <a:srgbClr val="284c6a"/>
                </a:solidFill>
                <a:latin typeface="Trebuchet MS"/>
              </a:rPr>
              <a:t> этап:  </a:t>
            </a: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проверка гипотезы на основе сбора фактов, знаний по исследуемой проблеме;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III</a:t>
            </a:r>
            <a:r>
              <a:rPr b="1" lang="ru-RU" sz="2400" spc="-1" strike="noStrike">
                <a:solidFill>
                  <a:srgbClr val="284c6a"/>
                </a:solidFill>
                <a:latin typeface="Trebuchet MS"/>
              </a:rPr>
              <a:t> этап:  </a:t>
            </a: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теоретические выводы на основе рефлексии полученных фактов и новых знаний;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IV</a:t>
            </a:r>
            <a:r>
              <a:rPr b="1" lang="ru-RU" sz="2400" spc="-1" strike="noStrike">
                <a:solidFill>
                  <a:srgbClr val="284c6a"/>
                </a:solidFill>
                <a:latin typeface="Trebuchet MS"/>
              </a:rPr>
              <a:t> этап:  </a:t>
            </a: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оформление результатов исследования.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627120"/>
          </a:xfrm>
          <a:prstGeom prst="rect">
            <a:avLst/>
          </a:prstGeom>
          <a:solidFill>
            <a:srgbClr val="dddb81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Исследовательский проект ? (русский язык)   </a:t>
            </a: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Задание слушателям: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 произвести анализ темы, проблемы, цели проекта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4000" y="549000"/>
            <a:ext cx="82929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Проект «Интересная фразеология» (взят готовый проект)(</a:t>
            </a:r>
            <a:r>
              <a:rPr b="1" i="1" lang="ru-RU" sz="1400" spc="-1" strike="noStrike">
                <a:solidFill>
                  <a:srgbClr val="ff0000"/>
                </a:solidFill>
                <a:latin typeface="Trebuchet MS"/>
              </a:rPr>
              <a:t>в названии проекта должна звучать проблема</a:t>
            </a: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)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Тип проекта: </a:t>
            </a:r>
            <a:r>
              <a:rPr b="1" i="1" lang="ru-RU" sz="1400" spc="-1" strike="noStrike">
                <a:solidFill>
                  <a:srgbClr val="ff0000"/>
                </a:solidFill>
                <a:latin typeface="Trebuchet MS"/>
              </a:rPr>
              <a:t>информационно</a:t>
            </a: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-исследовательский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Категория учащихся: учащиеся 6-го класса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Основополагающие вопросы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:</a:t>
            </a:r>
            <a:r>
              <a:rPr b="0" lang="ru-RU" sz="1400" spc="-1" strike="noStrike">
                <a:solidFill>
                  <a:srgbClr val="ff0000"/>
                </a:solidFill>
                <a:latin typeface="Trebuchet MS"/>
              </a:rPr>
              <a:t> (это проблема поиска) 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 </a:t>
            </a:r>
            <a:br>
              <a:rPr sz="1400"/>
            </a:br>
            <a:r>
              <a:rPr b="0" lang="ru-RU" sz="1400" spc="-1" strike="noStrike">
                <a:solidFill>
                  <a:srgbClr val="ff0000"/>
                </a:solidFill>
                <a:latin typeface="Trebuchet MS"/>
              </a:rPr>
              <a:t>1)Что такое фразеология? </a:t>
            </a:r>
            <a:br>
              <a:rPr sz="1400"/>
            </a:br>
            <a:r>
              <a:rPr b="0" lang="ru-RU" sz="1400" spc="-1" strike="noStrike">
                <a:solidFill>
                  <a:srgbClr val="ff0000"/>
                </a:solidFill>
                <a:latin typeface="Trebuchet MS"/>
              </a:rPr>
              <a:t>2) Каковы источники фразеологии? </a:t>
            </a:r>
            <a:br>
              <a:rPr sz="1400"/>
            </a:br>
            <a:r>
              <a:rPr b="0" lang="ru-RU" sz="1400" spc="-1" strike="noStrike">
                <a:solidFill>
                  <a:srgbClr val="ff0000"/>
                </a:solidFill>
                <a:latin typeface="Trebuchet MS"/>
              </a:rPr>
              <a:t>3)Каково значение и этимология фразеологизмов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?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Дидактические цели проекта: </a:t>
            </a:r>
            <a:br>
              <a:rPr sz="1400"/>
            </a:b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-формирование компетентности в сфере самостоятельной познавательной деятельности; </a:t>
            </a:r>
            <a:br>
              <a:rPr sz="1400"/>
            </a:b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-совершенствование навыков исследовательской деятельности; </a:t>
            </a:r>
            <a:r>
              <a:rPr b="0" lang="ru-RU" sz="1400" spc="-1" strike="noStrike">
                <a:solidFill>
                  <a:srgbClr val="ff0000"/>
                </a:solidFill>
                <a:latin typeface="Trebuchet MS"/>
              </a:rPr>
              <a:t>(?)</a:t>
            </a:r>
            <a:br>
              <a:rPr sz="1400"/>
            </a:b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-формирование навыков работы в команде; </a:t>
            </a:r>
            <a:br>
              <a:rPr sz="1400"/>
            </a:b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-приобретение навыков самостоятельной работы с небольшим объёмом информации. </a:t>
            </a:r>
            <a:br>
              <a:rPr sz="1400"/>
            </a:br>
            <a:r>
              <a:rPr b="0" lang="ru-RU" sz="1400" spc="-1" strike="noStrike">
                <a:solidFill>
                  <a:srgbClr val="ff0000"/>
                </a:solidFill>
                <a:latin typeface="Trebuchet MS"/>
              </a:rPr>
              <a:t>Методические задачи проекта: </a:t>
            </a:r>
            <a:br>
              <a:rPr sz="1400"/>
            </a:b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-закрепить знания по фразеологии; </a:t>
            </a:r>
            <a:br>
              <a:rPr sz="1400"/>
            </a:b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-</a:t>
            </a:r>
            <a:r>
              <a:rPr b="1" i="1" lang="ru-RU" sz="1400" spc="-1" strike="noStrike">
                <a:solidFill>
                  <a:srgbClr val="404040"/>
                </a:solidFill>
                <a:latin typeface="Trebuchet MS"/>
              </a:rPr>
              <a:t>формировать умение правильно использовать в речи фразеологизмы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.(</a:t>
            </a:r>
            <a:r>
              <a:rPr b="0" i="1" lang="ru-RU" sz="1400" spc="-1" strike="noStrike">
                <a:solidFill>
                  <a:srgbClr val="ff0000"/>
                </a:solidFill>
                <a:latin typeface="Trebuchet MS"/>
              </a:rPr>
              <a:t>в соответствии с этой задачей можно сформулировать цель исследовательского проекта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)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Проблемы самостоятельных исследований: </a:t>
            </a:r>
            <a:br>
              <a:rPr sz="1400"/>
            </a:b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-Откуда в речи появились фразеологизмы? </a:t>
            </a:r>
            <a:r>
              <a:rPr b="0" lang="ru-RU" sz="1400" spc="-1" strike="noStrike">
                <a:solidFill>
                  <a:srgbClr val="ff0000"/>
                </a:solidFill>
                <a:latin typeface="Trebuchet MS"/>
              </a:rPr>
              <a:t>(это проблема поиска)</a:t>
            </a:r>
            <a:br>
              <a:rPr sz="1400"/>
            </a:b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-Что произойдёт с нашей речью, если не использовать фразеологизмы? (</a:t>
            </a:r>
            <a:r>
              <a:rPr b="0" lang="ru-RU" sz="1400" spc="-1" strike="noStrike">
                <a:solidFill>
                  <a:srgbClr val="ff0000"/>
                </a:solidFill>
                <a:latin typeface="Trebuchet MS"/>
              </a:rPr>
              <a:t>проблемный вопрос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)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4920" y="14842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84c6a"/>
                </a:solidFill>
                <a:latin typeface="Trebuchet MS"/>
              </a:rPr>
              <a:t>КЛАССИФИКАЦИЯ ПРОЕКТОВ</a:t>
            </a:r>
            <a:br>
              <a:rPr sz="4000"/>
            </a:br>
            <a:r>
              <a:rPr b="1" lang="ru-RU" sz="4000" spc="-1" strike="noStrike">
                <a:solidFill>
                  <a:srgbClr val="284c6a"/>
                </a:solidFill>
                <a:latin typeface="Trebuchet MS"/>
              </a:rPr>
              <a:t>по комплексности и характеру контактов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3499920"/>
            <a:ext cx="80773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4c6a"/>
                </a:solidFill>
                <a:latin typeface="Trebuchet MS"/>
              </a:rPr>
              <a:t>Монопроекты</a:t>
            </a: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4c6a"/>
                </a:solidFill>
                <a:latin typeface="Trebuchet MS"/>
              </a:rPr>
              <a:t>Межпредметные проекты</a:t>
            </a: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07552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84c6a"/>
                </a:solidFill>
                <a:latin typeface="Trebuchet MS"/>
              </a:rPr>
              <a:t>Слово </a:t>
            </a:r>
            <a:r>
              <a:rPr b="1" lang="ru-RU" sz="4000" spc="-1" strike="noStrike">
                <a:solidFill>
                  <a:srgbClr val="284c6a"/>
                </a:solidFill>
                <a:latin typeface="Trebuchet MS"/>
              </a:rPr>
              <a:t>Проект </a:t>
            </a:r>
            <a:r>
              <a:rPr b="0" lang="ru-RU" sz="4000" spc="-1" strike="noStrike">
                <a:solidFill>
                  <a:srgbClr val="284c6a"/>
                </a:solidFill>
                <a:latin typeface="Trebuchet MS"/>
              </a:rPr>
              <a:t> (от лат. </a:t>
            </a: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projectus</a:t>
            </a:r>
            <a:r>
              <a:rPr b="0" lang="ru-RU" sz="4000" spc="-1" strike="noStrike">
                <a:solidFill>
                  <a:srgbClr val="284c6a"/>
                </a:solidFill>
                <a:latin typeface="Trebuchet MS"/>
              </a:rPr>
              <a:t>) в буквальном переводе - брошенный вперед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755640" y="2276640"/>
            <a:ext cx="712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empus Sans ITC"/>
              </a:rPr>
              <a:t>Слово «проектирование» происходит от слова «проект» и обозначает деятельность, </a:t>
            </a:r>
            <a:r>
              <a:rPr b="1" lang="ru-RU" sz="3200" spc="-1" strike="noStrike">
                <a:solidFill>
                  <a:srgbClr val="ff0000"/>
                </a:solidFill>
                <a:latin typeface="Tempus Sans ITC"/>
              </a:rPr>
              <a:t>инициируемую проблемой</a:t>
            </a:r>
            <a:r>
              <a:rPr b="1" lang="ru-RU" sz="3200" spc="-1" strike="noStrike">
                <a:solidFill>
                  <a:srgbClr val="000000"/>
                </a:solidFill>
                <a:latin typeface="Tempus Sans ITC"/>
              </a:rPr>
              <a:t>, включающую строго упорядоченную последовательность действий, приводящую к реальному результату</a:t>
            </a:r>
            <a:r>
              <a:rPr b="1" lang="ru-RU" sz="2800" spc="-1" strike="noStrike">
                <a:solidFill>
                  <a:srgbClr val="000000"/>
                </a:solidFill>
                <a:latin typeface="Tempus Sans IT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84c6a"/>
                </a:solidFill>
                <a:latin typeface="Trebuchet MS"/>
              </a:rPr>
              <a:t>Проекты могут различаться и по характеру контактов между участниками:</a:t>
            </a:r>
            <a:r>
              <a:rPr b="0" lang="ru-RU" sz="4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2637000"/>
            <a:ext cx="80773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внутриклассные;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внутришкольные;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региональные;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межрегиональными (в рамках одного государства);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международными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84c6a"/>
                </a:solidFill>
                <a:latin typeface="Trebuchet MS"/>
              </a:rPr>
              <a:t>КЛАССИФИКАЦИЯ ПРОЕКТОВ</a:t>
            </a:r>
            <a:br>
              <a:rPr sz="4000"/>
            </a:br>
            <a:r>
              <a:rPr b="1" lang="ru-RU" sz="4000" spc="-1" strike="noStrike">
                <a:solidFill>
                  <a:srgbClr val="284c6a"/>
                </a:solidFill>
                <a:latin typeface="Trebuchet MS"/>
              </a:rPr>
              <a:t> по продолжительности: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0773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4c6a"/>
                </a:solidFill>
                <a:latin typeface="Trebuchet MS"/>
              </a:rPr>
              <a:t>Мини-проекты</a:t>
            </a: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(русский язык:  «Составление рекламного модуля с использование максимального количества эпитетов»)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4c6a"/>
                </a:solidFill>
                <a:latin typeface="Trebuchet MS"/>
              </a:rPr>
              <a:t>Краткосрочные проекты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4c6a"/>
                </a:solidFill>
                <a:latin typeface="Trebuchet MS"/>
              </a:rPr>
              <a:t>Недельные проекты</a:t>
            </a: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(русский язык: «Репертуар прецедентных феноменов в речи различных социальных групп»)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4c6a"/>
                </a:solidFill>
                <a:latin typeface="Trebuchet MS"/>
              </a:rPr>
              <a:t>Годичные проекты</a:t>
            </a: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 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84c6a"/>
                </a:solidFill>
                <a:latin typeface="Trebuchet MS"/>
              </a:rPr>
              <a:t>ПАСПОРТ ПРОЕКТНОЙ РАБОТЫ: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Название проекта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-609480">
              <a:lnSpc>
                <a:spcPct val="10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Руководитель проекта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-609480">
              <a:lnSpc>
                <a:spcPct val="10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Консультант(ы) проекта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-609480">
              <a:lnSpc>
                <a:spcPct val="10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Учебный предмет, в рамках которого проводится работа по проекту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-609480">
              <a:lnSpc>
                <a:spcPct val="10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Учебные дисциплины, близкие к теме проекта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-609480">
              <a:lnSpc>
                <a:spcPct val="10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Возраст учащихся, на который рассчитан проект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-609480">
              <a:lnSpc>
                <a:spcPct val="10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Состав проектной группы (Ф.И. учащихся, класс)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-609480">
              <a:lnSpc>
                <a:spcPct val="10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Тип проекта (реферативный, информационный, исследова­тельский, творческий, практико-ориентированный, ролевой)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-609480">
              <a:lnSpc>
                <a:spcPct val="10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Заказчик проекта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Проектирование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24000" y="119664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-процесс создания проекта - </a:t>
            </a:r>
            <a:r>
              <a:rPr b="1" i="1" lang="ru-RU" sz="1600" spc="-1" strike="noStrike">
                <a:solidFill>
                  <a:srgbClr val="284c6a"/>
                </a:solidFill>
                <a:latin typeface="Trebuchet MS"/>
              </a:rPr>
              <a:t>прототипа, прообраза предполагаемого или возможного объекта;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 выполнение заданий на воспроизведение по образцу, включая: поисковые задания, связанные, как правило, </a:t>
            </a:r>
            <a:r>
              <a:rPr b="1" i="1" lang="ru-RU" sz="1600" spc="-1" strike="noStrike">
                <a:solidFill>
                  <a:srgbClr val="284c6a"/>
                </a:solidFill>
                <a:latin typeface="Trebuchet MS"/>
              </a:rPr>
              <a:t>с усовершенствованием конструкции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 уже известных объектов; </a:t>
            </a:r>
            <a:r>
              <a:rPr b="1" i="1" lang="ru-RU" sz="1600" spc="-1" strike="noStrike">
                <a:solidFill>
                  <a:srgbClr val="284c6a"/>
                </a:solidFill>
                <a:latin typeface="Trebuchet MS"/>
              </a:rPr>
              <a:t>творческие задания, направленные на создание новых объектов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» (В.А. Кальней);  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-содержательное, организационно-методическое, материально-техническое и социально-психологическое </a:t>
            </a:r>
            <a:r>
              <a:rPr b="1" i="1" lang="ru-RU" sz="1600" spc="-1" strike="noStrike">
                <a:solidFill>
                  <a:srgbClr val="284c6a"/>
                </a:solidFill>
                <a:latin typeface="Trebuchet MS"/>
              </a:rPr>
              <a:t>оформление замысла и реализации 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целостного решения педагогической </a:t>
            </a:r>
            <a:r>
              <a:rPr b="1" i="1" lang="ru-RU" sz="1600" spc="-1" strike="noStrike">
                <a:solidFill>
                  <a:srgbClr val="284c6a"/>
                </a:solidFill>
                <a:latin typeface="Trebuchet MS"/>
              </a:rPr>
              <a:t>задачи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, осуществляемой на эмпирико-интуитивном, опытно-логическом и научном уровнях (В.А. Сластенин);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  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специфический вид деятельности, направленный на создание проекта как особого вида продукта;  научно-практический метод </a:t>
            </a:r>
            <a:r>
              <a:rPr b="1" i="1" lang="ru-RU" sz="1600" spc="-1" strike="noStrike">
                <a:solidFill>
                  <a:srgbClr val="284c6a"/>
                </a:solidFill>
                <a:latin typeface="Trebuchet MS"/>
              </a:rPr>
              <a:t>изучения и преобразования действительности 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(метод практико-ориентированной науки);</a:t>
            </a:r>
            <a:r>
              <a:rPr b="1" i="1" lang="ru-RU" sz="1600" spc="-1" strike="noStrike">
                <a:solidFill>
                  <a:srgbClr val="284c6a"/>
                </a:solidFill>
                <a:latin typeface="Trebuchet MS"/>
              </a:rPr>
              <a:t> форму порождения инноваций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, характерную для техно­логической культуры; управленческую процедуру (М.П. Горчакова-Сибирская);   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процесс, который дает начало </a:t>
            </a:r>
            <a:r>
              <a:rPr b="1" i="1" lang="ru-RU" sz="1600" spc="-1" strike="noStrike">
                <a:solidFill>
                  <a:srgbClr val="284c6a"/>
                </a:solidFill>
                <a:latin typeface="Trebuchet MS"/>
              </a:rPr>
              <a:t>изменениям в искусственной среде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07696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Характеристики проекта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836280"/>
            <a:ext cx="80773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- наличие исходной </a:t>
            </a: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проблемы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, 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-сформулированная </a:t>
            </a: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цель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-умозрительный </a:t>
            </a: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образ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 проектного продукта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- предварительное планирование работы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путь решения проблемы 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до реализации цели проекта </a:t>
            </a: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разбивают  на отдельные этапы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 со своими промежуточными задачами для каждого из них; 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определяют способы решения задачи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, проблемы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находят ресурсы для решения задачи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, проблемы; 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разрабатывают подробный график работы 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с указанием сроков реализации каждого этапа. 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  </a:t>
            </a: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изучают литературу 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и других источники информации, отбирают информацию;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возможно проведение различных опытов, экспериментов, наблюдений, исследований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, опросов; с анализом и обобщением полученных данных; с формулированием выводов и формированием на этой основе собственной точки зрения на исходную проблему проекта и способы её решения. 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проектный продукт должен обладать </a:t>
            </a: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определенными потребительскими свойствами,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 то есть удовлетворять потребности любого человека, столкнувшегося с проблемой, на решение которой и был направлен данный проект.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Проект обязательно должен иметь </a:t>
            </a: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письменную часть 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– отчёт о ходе работы, ее итоги, выводы, перспективы проекта.  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публичная защита, презентация результата работы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283520" cy="10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284c6a"/>
                </a:solidFill>
                <a:latin typeface="Trebuchet MS"/>
              </a:rPr>
              <a:t>Проектирование понимают как постоянный процесс выбора, принятия решения, решения задач и проблем.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0" name="Rectangle 43"/>
          <p:cNvSpPr/>
          <p:nvPr/>
        </p:nvSpPr>
        <p:spPr>
          <a:xfrm>
            <a:off x="0" y="18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0" y="50022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72"/>
          <p:cNvGrpSpPr/>
          <p:nvPr/>
        </p:nvGrpSpPr>
        <p:grpSpPr>
          <a:xfrm>
            <a:off x="1116000" y="3500280"/>
            <a:ext cx="6477120" cy="2819520"/>
            <a:chOff x="1116000" y="3500280"/>
            <a:chExt cx="6477120" cy="2819520"/>
          </a:xfrm>
        </p:grpSpPr>
        <p:sp>
          <p:nvSpPr>
            <p:cNvPr id="103" name="AutoShape 83"/>
            <p:cNvSpPr/>
            <p:nvPr/>
          </p:nvSpPr>
          <p:spPr>
            <a:xfrm>
              <a:off x="1116000" y="3500280"/>
              <a:ext cx="647712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82"/>
            <p:cNvSpPr/>
            <p:nvPr/>
          </p:nvSpPr>
          <p:spPr>
            <a:xfrm>
              <a:off x="3249000" y="4414680"/>
              <a:ext cx="1752840" cy="610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ЕК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81"/>
            <p:cNvSpPr/>
            <p:nvPr/>
          </p:nvSpPr>
          <p:spPr>
            <a:xfrm>
              <a:off x="5077440" y="3652200"/>
              <a:ext cx="182916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НИР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0"/>
            <p:cNvSpPr/>
            <p:nvPr/>
          </p:nvSpPr>
          <p:spPr>
            <a:xfrm>
              <a:off x="5458320" y="4795920"/>
              <a:ext cx="21348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СТРУИР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9"/>
            <p:cNvSpPr/>
            <p:nvPr/>
          </p:nvSpPr>
          <p:spPr>
            <a:xfrm>
              <a:off x="3553200" y="5634360"/>
              <a:ext cx="21348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БОТА С ИДЕЯ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78"/>
            <p:cNvSpPr/>
            <p:nvPr/>
          </p:nvSpPr>
          <p:spPr>
            <a:xfrm>
              <a:off x="2563200" y="3957480"/>
              <a:ext cx="106632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77"/>
            <p:cNvSpPr/>
            <p:nvPr/>
          </p:nvSpPr>
          <p:spPr>
            <a:xfrm flipH="1">
              <a:off x="4620600" y="4109400"/>
              <a:ext cx="9136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76"/>
            <p:cNvSpPr/>
            <p:nvPr/>
          </p:nvSpPr>
          <p:spPr>
            <a:xfrm flipV="1">
              <a:off x="2258640" y="4947840"/>
              <a:ext cx="129456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75"/>
            <p:cNvSpPr/>
            <p:nvPr/>
          </p:nvSpPr>
          <p:spPr>
            <a:xfrm flipV="1">
              <a:off x="4163400" y="5023800"/>
              <a:ext cx="0" cy="61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74"/>
            <p:cNvSpPr/>
            <p:nvPr/>
          </p:nvSpPr>
          <p:spPr>
            <a:xfrm flipH="1" flipV="1">
              <a:off x="4848840" y="4871520"/>
              <a:ext cx="609840" cy="22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73"/>
            <p:cNvSpPr/>
            <p:nvPr/>
          </p:nvSpPr>
          <p:spPr>
            <a:xfrm>
              <a:off x="1389960" y="3668760"/>
              <a:ext cx="2134800" cy="456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ГНОЗИР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84"/>
          <p:cNvSpPr/>
          <p:nvPr/>
        </p:nvSpPr>
        <p:spPr>
          <a:xfrm>
            <a:off x="755640" y="5157720"/>
            <a:ext cx="21337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5"/>
          <p:cNvSpPr/>
          <p:nvPr/>
        </p:nvSpPr>
        <p:spPr>
          <a:xfrm>
            <a:off x="3816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6"/>
          <p:cNvSpPr/>
          <p:nvPr/>
        </p:nvSpPr>
        <p:spPr>
          <a:xfrm>
            <a:off x="3816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2"/>
          <p:cNvSpPr/>
          <p:nvPr/>
        </p:nvSpPr>
        <p:spPr>
          <a:xfrm>
            <a:off x="38160" y="483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ru-RU" sz="4000" spc="-1" strike="noStrike">
                <a:solidFill>
                  <a:srgbClr val="284c6a"/>
                </a:solidFill>
                <a:latin typeface="Trebuchet MS"/>
              </a:rPr>
              <a:t>ОСНОВНЫЕ ТРЕБОВАНИЯ К            ПРОЕКТУ: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539640" y="2170800"/>
            <a:ext cx="860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Необходим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личие социально значимой задачи (пробле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Выполнение проекта начинается с планирования действ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разрешению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ждый проект обязательно требует исследовательской работы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ультатом работы над проектом  является проду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готовленный продукт должен быть представлен заказчику и (или) представителям общественности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284c6a"/>
                </a:solidFill>
                <a:latin typeface="Trebuchet MS"/>
              </a:rPr>
              <a:t>КЛАССИФИКАЦИЯ ПРОЕКТОВ</a:t>
            </a:r>
            <a:br>
              <a:rPr sz="3200"/>
            </a:br>
            <a:r>
              <a:rPr b="1" i="1" lang="ru-RU" sz="2400" spc="-1" strike="noStrike">
                <a:solidFill>
                  <a:srgbClr val="284c6a"/>
                </a:solidFill>
                <a:latin typeface="Trebuchet MS"/>
              </a:rPr>
              <a:t>по доминирующей деятельности учащихся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496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5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rebuchet MS"/>
              </a:rPr>
              <a:t>Практико-ориентированный проект </a:t>
            </a:r>
            <a:r>
              <a:rPr b="1" lang="ru-RU" sz="1400" spc="-1" strike="noStrike">
                <a:solidFill>
                  <a:srgbClr val="284c6a"/>
                </a:solidFill>
                <a:latin typeface="Trebuchet MS"/>
              </a:rPr>
              <a:t>(</a:t>
            </a:r>
            <a:r>
              <a:rPr b="0" i="1" lang="ru-RU" sz="1400" spc="-1" strike="noStrike">
                <a:solidFill>
                  <a:srgbClr val="284c6a"/>
                </a:solidFill>
                <a:latin typeface="Trebuchet MS"/>
              </a:rPr>
              <a:t>русский язык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: результатом разработки темы «Причины появления неологизмов в русском языке» может быть подборка материалов «Неологизмы двадцатого столетия» или «Составление словаря неологизмов». </a:t>
            </a:r>
            <a:r>
              <a:rPr b="1" lang="ru-RU" sz="1400" spc="-1" strike="noStrike">
                <a:solidFill>
                  <a:srgbClr val="284c6a"/>
                </a:solidFill>
                <a:latin typeface="Trebuchet MS"/>
              </a:rPr>
              <a:t>)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22200" indent="-322200">
              <a:lnSpc>
                <a:spcPct val="125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rebuchet MS"/>
              </a:rPr>
              <a:t>Исследовательский проект </a:t>
            </a:r>
            <a:r>
              <a:rPr b="1" lang="ru-RU" sz="1400" spc="-1" strike="noStrike">
                <a:solidFill>
                  <a:srgbClr val="284c6a"/>
                </a:solidFill>
                <a:latin typeface="Trebuchet MS"/>
              </a:rPr>
              <a:t>( </a:t>
            </a: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русский язык</a:t>
            </a:r>
            <a:r>
              <a:rPr b="1" lang="ru-RU" sz="1400" spc="-1" strike="noStrike">
                <a:solidFill>
                  <a:srgbClr val="284c6a"/>
                </a:solidFill>
                <a:latin typeface="Trebuchet MS"/>
              </a:rPr>
              <a:t>: 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«Диалектизмы Кемеровской области в словаре В.И.Даля», «Путешествие слова шпаргалка из одного языка в другой», «Роль дискурсивных слов да и нет в организации диалога». </a:t>
            </a:r>
            <a:r>
              <a:rPr b="1" lang="ru-RU" sz="1400" spc="-1" strike="noStrike">
                <a:solidFill>
                  <a:srgbClr val="284c6a"/>
                </a:solidFill>
                <a:latin typeface="Trebuchet MS"/>
              </a:rPr>
              <a:t>)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22200" indent="-322200">
              <a:lnSpc>
                <a:spcPct val="125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rebuchet MS"/>
              </a:rPr>
              <a:t>Информационный проект 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(</a:t>
            </a:r>
            <a:r>
              <a:rPr b="0" i="1" lang="ru-RU" sz="1400" spc="-1" strike="noStrike">
                <a:solidFill>
                  <a:srgbClr val="284c6a"/>
                </a:solidFill>
                <a:latin typeface="Trebuchet MS"/>
              </a:rPr>
              <a:t>русский язык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: с целью её анализа, обобщения и представления для широкой аудитории: «Речевой портрет школьника», «Русские семейные имена и прозвища: история и современность», «SMS как новый речевой жанр», «Особенности высказываний в непосредственном молодежном общении», «Язык развлекательных передач»</a:t>
            </a:r>
            <a:r>
              <a:rPr b="1" lang="ru-RU" sz="1400" spc="-1" strike="noStrike">
                <a:solidFill>
                  <a:srgbClr val="284c6a"/>
                </a:solidFill>
                <a:latin typeface="Trebuchet MS"/>
              </a:rPr>
              <a:t>)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22200" indent="-322200">
              <a:lnSpc>
                <a:spcPct val="125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rebuchet MS"/>
              </a:rPr>
              <a:t>Творческий проект</a:t>
            </a:r>
            <a:r>
              <a:rPr b="0" lang="ru-RU" sz="2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(</a:t>
            </a:r>
            <a:r>
              <a:rPr b="0" i="1" lang="ru-RU" sz="1400" spc="-1" strike="noStrike">
                <a:solidFill>
                  <a:srgbClr val="284c6a"/>
                </a:solidFill>
                <a:latin typeface="Trebuchet MS"/>
              </a:rPr>
              <a:t>русский язык: 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альманахи, театрализованные представления произведений изобразительного или декоративно-прикладного искусства, видеофильмы. Например, проект «О современной стихотворной рекламе и русской поэзии» можно представить в виде постановки. )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22200" indent="-322200">
              <a:lnSpc>
                <a:spcPct val="125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rebuchet MS"/>
              </a:rPr>
              <a:t>Ролевой проект</a:t>
            </a:r>
            <a:r>
              <a:rPr b="0" lang="ru-RU" sz="2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(</a:t>
            </a:r>
            <a:r>
              <a:rPr b="0" i="1" lang="ru-RU" sz="1400" spc="-1" strike="noStrike">
                <a:solidFill>
                  <a:srgbClr val="284c6a"/>
                </a:solidFill>
                <a:latin typeface="Trebuchet MS"/>
              </a:rPr>
              <a:t>русский язык: 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В виде ролевой игры можно представить анализ басен И.А.Крылова, например по теме «Языковая выразительность басни И.А.Крылова и притчи «О сверчке и муравье»)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077320" cy="107928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4c6a"/>
                </a:solidFill>
                <a:latin typeface="Trebuchet MS"/>
              </a:rPr>
              <a:t>Структура исследовательского проекта</a:t>
            </a: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07696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Тема</a:t>
            </a:r>
            <a:r>
              <a:rPr b="1" i="1" lang="ru-RU" sz="2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исследования</a:t>
            </a:r>
            <a:r>
              <a:rPr b="0" lang="ru-RU" sz="2800" spc="-1" strike="noStrike">
                <a:solidFill>
                  <a:srgbClr val="284c6a"/>
                </a:solidFill>
                <a:latin typeface="Trebuchet MS"/>
              </a:rPr>
              <a:t>  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(</a:t>
            </a:r>
            <a:r>
              <a:rPr b="0" i="1" lang="ru-RU" sz="2000" spc="-1" strike="noStrike">
                <a:solidFill>
                  <a:srgbClr val="284c6a"/>
                </a:solidFill>
                <a:latin typeface="Trebuchet MS"/>
              </a:rPr>
              <a:t>выявление проблемы, формулирование темы, обоснование  актуальности темы исследования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)  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Объект исследования </a:t>
            </a:r>
            <a:r>
              <a:rPr b="0" lang="ru-RU" sz="2800" spc="-1" strike="noStrike">
                <a:solidFill>
                  <a:srgbClr val="284c6a"/>
                </a:solidFill>
                <a:latin typeface="Trebuchet MS"/>
              </a:rPr>
              <a:t>   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Предмет исследования 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Цель исследования</a:t>
            </a:r>
            <a:r>
              <a:rPr b="0" lang="ru-RU" sz="2800" spc="-1" strike="noStrike">
                <a:solidFill>
                  <a:srgbClr val="284c6a"/>
                </a:solidFill>
                <a:latin typeface="Trebuchet MS"/>
              </a:rPr>
              <a:t> – </a:t>
            </a: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   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Гипотеза исследования</a:t>
            </a:r>
            <a:r>
              <a:rPr b="0" lang="ru-RU" sz="2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(</a:t>
            </a:r>
            <a:r>
              <a:rPr b="0" i="1" lang="ru-RU" sz="2800" spc="-1" strike="noStrike">
                <a:solidFill>
                  <a:srgbClr val="284c6a"/>
                </a:solidFill>
                <a:latin typeface="Trebuchet MS"/>
              </a:rPr>
              <a:t>положение; предположения</a:t>
            </a: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Задачи исследования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Методы исследования</a:t>
            </a:r>
            <a:r>
              <a:rPr b="0" lang="ru-RU" sz="2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077320" cy="57636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Структура исследовательского проекта: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920" y="907560"/>
            <a:ext cx="8353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25000"/>
              </a:lnSpc>
              <a:spcBef>
                <a:spcPts val="3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Проблема проекта:</a:t>
            </a:r>
            <a:r>
              <a:rPr b="0" lang="ru-RU" sz="2800" spc="-1" strike="noStrike">
                <a:solidFill>
                  <a:srgbClr val="284c6a"/>
                </a:solidFill>
                <a:latin typeface="Trebuchet MS"/>
              </a:rPr>
              <a:t>истинная проблема всегда содержит внутреннее  противоречие.</a:t>
            </a:r>
            <a:r>
              <a:rPr b="0" lang="ru-RU" sz="1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284c6a"/>
              </a:solidFill>
              <a:latin typeface="Trebuchet MS"/>
            </a:endParaRPr>
          </a:p>
          <a:p>
            <a:pPr marL="325800" indent="-32580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В российском Законе о рек­ламе имеется  статья о недопустимости недостоверной рекламы. Искушение предста­вить ложную рекламу через характеристики, которыми  не обладает рекламируемый объект, с целью получения прибыли влечет уголовную ответственность   в соответствии  с законодательством Российской Федерации.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25800" indent="-32580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С другой стороны, в современных условиях, когда за внимание потре­бителя конкурируют десятки, сотни и тысячи рекламных обращений, реклам­ная «честность» может оказаться просто «убий­ственной» для рекламируемого товара. 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25800" indent="-32580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Возникает проблемная ситуация, то есть  вопрос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:  </a:t>
            </a:r>
            <a:r>
              <a:rPr b="0" i="1" lang="ru-RU" sz="1600" spc="-1" strike="noStrike">
                <a:solidFill>
                  <a:srgbClr val="284c6a"/>
                </a:solidFill>
                <a:latin typeface="Trebuchet MS"/>
              </a:rPr>
              <a:t>Как из множества имеющихся возможностей представления товара выбрать наиболее значимые, наиболее убедительные, наиболее эффективные для достиже­ния поставленных целей рекламной коммуникации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.  </a:t>
            </a:r>
            <a:r>
              <a:rPr b="0" lang="ru-RU" sz="1600" spc="-1" strike="noStrike">
                <a:solidFill>
                  <a:srgbClr val="ff0000"/>
                </a:solidFill>
                <a:latin typeface="Trebuchet MS"/>
              </a:rPr>
              <a:t>ИЛИ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ак разработать эффективную рекламу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25800" indent="-32580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0:10:49Z</dcterms:created>
  <dc:creator>Дом</dc:creator>
  <dc:description/>
  <cp:keywords/>
  <dc:language>en-US</dc:language>
  <cp:lastModifiedBy>Пользователь Windows</cp:lastModifiedBy>
  <dcterms:modified xsi:type="dcterms:W3CDTF">2020-09-14T21:56:05Z</dcterms:modified>
  <cp:revision>129</cp:revision>
  <dc:subject/>
  <dc:title>Презентация учебного курс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1681049</vt:lpwstr>
  </property>
</Properties>
</file>