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A296-0BCE-4511-B70F-1771C56A0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28FA-C4FF-4342-89FB-B344FF78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0DDB-C2E5-4F62-89B3-F1E028B68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9B29-1B1D-4D6C-B6EA-AD1F791BA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8F17-454A-4DE5-BA7B-5D7C3D05F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636E-A66A-41BF-B369-52ED8763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4A93-D869-4A63-84FC-FF5F7939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25F1-214C-4A94-B0B4-C1FA952F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985B6-B966-415E-A0D3-F22A46F0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5402-DC14-42F9-BE01-103FA907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4D99-887F-48D9-94CF-A0ADD9C4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D263-8663-49DE-BE0E-3CDF907E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617D-8C42-45D7-825C-AD4B89A2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EC8D-7C5D-4A9B-83C7-C94CC1FB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5F4F-B33C-4A22-BE23-9558AE3D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0448-AE37-4805-BB35-EB5426290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D4A3F-7AC4-44B2-9495-4AB7AA9DC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AF83-7445-4CD7-911A-32332B9C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E5C8-03A0-4D20-AADA-44C74863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AE57-7FFA-4406-AEA6-C107FEBF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666A-D0A8-41DA-9EBE-D2B979DF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ADA1-FB0D-48D9-869C-F460F13B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85CB-2B87-4A07-AB45-AC8A797D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354A-5B76-4CFB-9A48-42D117FA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6FB0-7287-4EE0-9B0A-AA07ADD79DB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4A3A-FF52-4E58-B006-8EA72F0DB29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1042920" y="5799240"/>
            <a:ext cx="74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«Ромео и Джульетта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Рисунок 3" descr=""/>
          <p:cNvPicPr/>
          <p:nvPr/>
        </p:nvPicPr>
        <p:blipFill>
          <a:blip r:embed="rId1"/>
          <a:stretch/>
        </p:blipFill>
        <p:spPr>
          <a:xfrm>
            <a:off x="2816280" y="1036800"/>
            <a:ext cx="3944880" cy="4698720"/>
          </a:xfrm>
          <a:prstGeom prst="rect">
            <a:avLst/>
          </a:prstGeom>
          <a:ln w="0">
            <a:noFill/>
          </a:ln>
        </p:spPr>
      </p:pic>
      <p:sp>
        <p:nvSpPr>
          <p:cNvPr id="90" name="TextBox 4"/>
          <p:cNvSpPr/>
          <p:nvPr/>
        </p:nvSpPr>
        <p:spPr>
          <a:xfrm>
            <a:off x="1042920" y="0"/>
            <a:ext cx="78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Уильям Шекспи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( 1564 – 1616 гг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3" descr=""/>
          <p:cNvPicPr/>
          <p:nvPr/>
        </p:nvPicPr>
        <p:blipFill>
          <a:blip r:embed="rId1"/>
          <a:stretch/>
        </p:blipFill>
        <p:spPr>
          <a:xfrm>
            <a:off x="5130720" y="41400"/>
            <a:ext cx="3811680" cy="308772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5603760" y="1216080"/>
            <a:ext cx="3313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0" y="1585800"/>
            <a:ext cx="928836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Джульетта. Привет тебе, духовный мой отец!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Брат Лоренцо. Благодари, Ромео, за обоих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Ромео. Скажи, Джульетта, так же ль у тебя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От счастья бьётся сердце? Если так же,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Найди слова, которых я лишён,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Чтоб выразить, что нас переполняет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Пропой хоть звук из хора голосов,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Которые бушуют в нашей встрече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Джульетта. Богатство чувств чуждается прикрас,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Лишь внутренняя бедность многословна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Любовь моя так страшно разрослась,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Что мне не охватить и половины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Брат Лоренцо. Пойдём и поскорей всё обрядим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Не повенчав, с такою речью страстной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Вас оставлять одних небезопасно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Уходят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5"/>
          <p:cNvSpPr/>
          <p:nvPr/>
        </p:nvSpPr>
        <p:spPr>
          <a:xfrm>
            <a:off x="179280" y="15840"/>
            <a:ext cx="7056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апулетт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Монтекки, руку дай тебе пожм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ишь этим возмести мне вдовью дол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жульетт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онтекк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За неё я больше да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Я памятник ей в золоте воздвигн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ка Вероной город наш зовут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оять в нём будет лучшая из стату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жульетты, верность сохранившей свят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апулетт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А рядом изваяньем золоты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омео по достоинству почти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нязь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Сближенье ваше сумраком объят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квозь толщу туч не кажет солнце глаз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йдем, обсудим сообща утра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обвиним иль оправдаем ва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о повесть о Ромео и Джульетт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танется печальнейшей на свете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ходя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Рисунок 6" descr=""/>
          <p:cNvPicPr/>
          <p:nvPr/>
        </p:nvPicPr>
        <p:blipFill>
          <a:blip r:embed="rId1"/>
          <a:stretch/>
        </p:blipFill>
        <p:spPr>
          <a:xfrm>
            <a:off x="5670720" y="209520"/>
            <a:ext cx="3130560" cy="441504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7" descr=""/>
          <p:cNvPicPr/>
          <p:nvPr/>
        </p:nvPicPr>
        <p:blipFill>
          <a:blip r:embed="rId2"/>
          <a:stretch/>
        </p:blipFill>
        <p:spPr>
          <a:xfrm>
            <a:off x="2484360" y="4657680"/>
            <a:ext cx="285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3"/>
          <p:cNvSpPr/>
          <p:nvPr/>
        </p:nvSpPr>
        <p:spPr>
          <a:xfrm>
            <a:off x="-108000" y="-3240"/>
            <a:ext cx="914400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СКАЛ (1*) , князь веронск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АРИС, молодой человек, родственник герцог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ОНТЕККИ, КАПУЛЕТТИ, главы двух враждующих дом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ЯДЯ Капулет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ОМЕО, сын Монтек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ЕРКУЦИО, родственник князя, друг Роме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ЕНВОЛИО, племянник Монтекки, друг Роме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ТИБАЛЬТ, племянник леди Капулет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РАТ ЛОРЕНЦО, БРАТ ДЖОВАННИ, францисканские монах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АЛТАЗАР, слуга Роме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АМСОН, ГРЕГОРИО, слуги Капулет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ЁТР, слуга кормилиц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БРАМ, слуга Монтек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ПТЕКАР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И МУЗЫКАНТ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АЖ Парис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ВЫЙ ГОРОЖАНИ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ЕДИ МОНТЕККИ, жена Монтек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ЕДИ  КАПУЛЕТТИ, жена Капулет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ЖУЛЬЕТТА, дочь Капулет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РМИЛИЦА ДЖУЛЬЕТТ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ОРОЖАНЕ ВЕРОНЫ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УЖСКАЯ И ЖЕНСКАЯ РОДНЯ ОБОИХ ДОМОВ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ЯЖЕНЫЕ, СТРАЖА, СЛУГИ.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Хо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3"/>
          <p:cNvSpPr/>
          <p:nvPr/>
        </p:nvSpPr>
        <p:spPr>
          <a:xfrm>
            <a:off x="826920" y="476280"/>
            <a:ext cx="7417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ор. Две равно уважаемых семь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Вероне, где встречают нас событь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дут междоусобные бо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не хотят унять кровопролить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руг друга любят дети главаре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 им судьба подстраивает козн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гибель их у гробовых двер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ладёт конец непримиримой роз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х жизнь, любовь и смерть и, сверх того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ир их родителей на их могил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два часа составят сущес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ыгрываемой пред вами был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милостивей к слабостям пера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х сгладить постарается иг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Уходит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3"/>
          <p:cNvSpPr/>
          <p:nvPr/>
        </p:nvSpPr>
        <p:spPr>
          <a:xfrm>
            <a:off x="611280" y="333360"/>
            <a:ext cx="6840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мео. Как сразу, несмотря на слепоту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ходит уязвимую пяту!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де мы обедать будем? - Сколько крови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 говори о свалке. Я слыха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ненависть мучительна и нежн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ненависть и нежность - тот же пы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лепых, из ничего возникших сил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устая тягость,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тяжкая забав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стройное собранье стройных форм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олодный жар,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мертельное здоровь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Бессонный сон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который глубже с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т какова, и хуже льда и камн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я любовь, которая тяжка мн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ы не смеешься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енволио. Нет, скорее плач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95280" y="33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ксюморон – контрастное сочетание слов,  противоположных по смысл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 Мёртвые души, живой труп, грустная радость и т. п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Рисунок 3" descr=""/>
          <p:cNvPicPr/>
          <p:nvPr/>
        </p:nvPicPr>
        <p:blipFill>
          <a:blip r:embed="rId1"/>
          <a:stretch/>
        </p:blipFill>
        <p:spPr>
          <a:xfrm>
            <a:off x="3564000" y="2276640"/>
            <a:ext cx="4680000" cy="42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3"/>
          <p:cNvSpPr/>
          <p:nvPr/>
        </p:nvSpPr>
        <p:spPr>
          <a:xfrm>
            <a:off x="395280" y="189000"/>
            <a:ext cx="7129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омео. О чём, дружок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енволио. В ответ слезам твои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омео. Какое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ло мы добротой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ворим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 меня и собственной тоски довольно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 ты участьем делаешь мне больн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ботами своими обо мн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ю печаль ты растравил вдвойн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 есть любовь? Безумье от угар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гра огнём, ведущая к пожар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спламенившееся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оре слёз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здумье - необдуманности рад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мешенье яда и противоядь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щай, дружок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Рисунок 4" descr=""/>
          <p:cNvPicPr/>
          <p:nvPr/>
        </p:nvPicPr>
        <p:blipFill>
          <a:blip r:embed="rId1"/>
          <a:stretch/>
        </p:blipFill>
        <p:spPr>
          <a:xfrm>
            <a:off x="3348000" y="3573360"/>
            <a:ext cx="5181480" cy="3035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8" name="Рисунок 5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44800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3"/>
          <p:cNvSpPr/>
          <p:nvPr/>
        </p:nvSpPr>
        <p:spPr>
          <a:xfrm>
            <a:off x="684360" y="66600"/>
            <a:ext cx="5256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еди Капулетт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 скажешь? По сердцу ли он тебе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егодня на балу его изучиш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чти, как в книге, на его лиц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мёки ласки и очаровань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ичи его черты, как письмен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змерь, какая в каждой глубин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 если что останется в туман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щи всему в глазах истолковань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еди Капулетт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у, как, займёшься ль ты его особой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жульетта. Ещё не знаю. Надо сделать проб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о это лишь единственно для ва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Я только исполняю ваш приказ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Рисунок 4" descr=""/>
          <p:cNvPicPr/>
          <p:nvPr/>
        </p:nvPicPr>
        <p:blipFill>
          <a:blip r:embed="rId1"/>
          <a:stretch/>
        </p:blipFill>
        <p:spPr>
          <a:xfrm>
            <a:off x="6084720" y="692280"/>
            <a:ext cx="2895840" cy="38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3"/>
          <p:cNvSpPr/>
          <p:nvPr/>
        </p:nvSpPr>
        <p:spPr>
          <a:xfrm>
            <a:off x="3995640" y="0"/>
            <a:ext cx="590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мео. А кто он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рмилица. Да вы-то сами гд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на глава семьи, хозяйка до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 в мамках тут и выходила доч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 с ней сейчас стояли. Помянит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то женится на ней, тот заберё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ороший куш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мео. Так это Капулетт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 у врага в руках и пойман в сети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Рисунок 4" descr=""/>
          <p:cNvPicPr/>
          <p:nvPr/>
        </p:nvPicPr>
        <p:blipFill>
          <a:blip r:embed="rId1"/>
          <a:stretch/>
        </p:blipFill>
        <p:spPr>
          <a:xfrm>
            <a:off x="0" y="1916280"/>
            <a:ext cx="3995640" cy="4797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3" descr=""/>
          <p:cNvPicPr/>
          <p:nvPr/>
        </p:nvPicPr>
        <p:blipFill>
          <a:blip r:embed="rId1"/>
          <a:stretch/>
        </p:blipFill>
        <p:spPr>
          <a:xfrm>
            <a:off x="1558800" y="2276640"/>
            <a:ext cx="6186600" cy="43210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4"/>
          <p:cNvSpPr/>
          <p:nvPr/>
        </p:nvSpPr>
        <p:spPr>
          <a:xfrm>
            <a:off x="1558800" y="0"/>
            <a:ext cx="633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мео. Им по незнанью эта боль смеш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 что за блеск я вижу на балкон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м брезжит свет. Джульетта, ты как день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ань у окна, убей луну соседство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на и так от зависти больн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 ты её затмила белизною…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5:38:47Z</dcterms:created>
  <dc:creator>Nadia</dc:creator>
  <dc:description/>
  <dc:language>en-US</dc:language>
  <cp:lastModifiedBy>User</cp:lastModifiedBy>
  <dcterms:modified xsi:type="dcterms:W3CDTF">2016-05-12T19:51:52Z</dcterms:modified>
  <cp:revision>29</cp:revision>
  <dc:subject/>
  <dc:title>Слайд 1</dc:title>
</cp:coreProperties>
</file>