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B61-1F73-4EA1-A4D6-EB683934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C46-BD21-4C96-9FDB-BBCFC364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F63-86D4-4DD4-B6D1-0E54CA0F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329-C303-4834-BCC2-6C2055CE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1B1E-A3C7-4F02-87E6-0581271D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CD25-D6BB-4E0A-B8E7-52045160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013B-24A1-45D3-87BB-E3BDBAB3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8940-4B13-4B52-83B4-E98D9C70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97BA-CA02-4E89-AC8C-3F07ECE1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658E-9FC2-4199-BBE5-93B55489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D2B5-FCE9-4958-8FB2-CC31AFF2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D4C-F227-4296-9313-6BBF50F2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35A0-37B7-4E14-9D56-63463824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50B5-2A5E-46D5-8202-E90FA347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5D49-22FE-4080-BF27-95A3AE8F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148B-D68F-4A07-9AAF-8153A83D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3587-D3B9-4034-9C46-E4B465CF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2AC-CCA0-4204-A438-110CFF98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AF3-35A9-4DCE-9FF8-F1120CCC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B42-60B4-487B-8095-B9A4B9A0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3BE-432C-4DA3-9E23-DA75B77E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767-1818-44CF-A29D-00ED2EDA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05B-70BA-4654-92D7-E2E23C8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F81-208D-44F1-960F-5B0C9B09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227C-F890-44B2-AF20-28813F530B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5FC3-E635-4A85-9EA0-4FA5FA3FBD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042920" y="579924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Ромео и Джульетт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2816280" y="1036800"/>
            <a:ext cx="3944880" cy="4698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1042920" y="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ильям Шекспи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( 1564 – 1616 гг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5130720" y="41400"/>
            <a:ext cx="3811680" cy="30877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5603760" y="1216080"/>
            <a:ext cx="331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0" y="1585800"/>
            <a:ext cx="92883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жульетта. Привет тебе, духовный мой отец!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рат Лоренцо. Благодари, Ромео, за обоих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мео. Скажи, Джульетта, так же ль у теб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От счастья бьётся сердце? Если так же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Найди слова, которых я лишён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Чтоб выразить, что нас переполняет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ропой хоть звук из хора голосов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Которые бушуют в нашей встрече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жульетта. Богатство чувств чуждается прикрас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Лишь внутренняя бедность многословн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Любовь моя так страшно разрослась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Что мне не охватить и половины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рат Лоренцо. Пойдём и поскорей всё обрядим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Не повенчав, с такою речью страстной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ас оставлять одних небезопасно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ходят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/>
          <p:cNvSpPr/>
          <p:nvPr/>
        </p:nvSpPr>
        <p:spPr>
          <a:xfrm>
            <a:off x="179280" y="15840"/>
            <a:ext cx="7056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пулет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Монтекки, руку дай тебе пож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шь этим возмести мне вдовью дол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жульет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нтек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За неё я больше д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памятник ей в золоте воздвиг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а Вероной город наш зову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ять в нём будет лучшая из стату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жульетты, верность сохранившей свя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пулет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А рядом изваяньем золот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мео по достоинству почт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няз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ближенье ваше сумраком объя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возь толщу туч не кажет солнце гл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йдем, обсудим сообща утр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обвиним иль оправдаем ва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повесть о Ромео и Джульет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нется печальнейшей на свете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ходя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Рисунок 6" descr=""/>
          <p:cNvPicPr/>
          <p:nvPr/>
        </p:nvPicPr>
        <p:blipFill>
          <a:blip r:embed="rId1"/>
          <a:stretch/>
        </p:blipFill>
        <p:spPr>
          <a:xfrm>
            <a:off x="5670720" y="209520"/>
            <a:ext cx="3130560" cy="4415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"/>
          <p:cNvPicPr/>
          <p:nvPr/>
        </p:nvPicPr>
        <p:blipFill>
          <a:blip r:embed="rId2"/>
          <a:stretch/>
        </p:blipFill>
        <p:spPr>
          <a:xfrm>
            <a:off x="2484360" y="46576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-108000" y="-324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СКАЛ (1*) , князь веронск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РИС, молодой человек, родственник герцо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НТЕККИ, КАПУЛЕТТИ, главы двух враждующих дом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ЯДЯ Капулет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МЕО, сын Монтек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РКУЦИО, родственник князя, друг Роме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НВОЛИО, племянник Монтекки, друг Роме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ИБАЛЬТ, племянник леди Капулет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АТ ЛОРЕНЦО, БРАТ ДЖОВАННИ, францисканские монах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ЛТАЗАР, слуга Роме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СОН, ГРЕГОРИО, слуги Капулет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ЁТР, слуга кормилиц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БРАМ, слуга Монтек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ПТЕКАР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И МУЗЫКА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Ж Пари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ЫЙ ГОРОЖАН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ДИ МОНТЕККИ, жена Монтек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ДИ  КАПУЛЕТТИ, жена Капулет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ЖУЛЬЕТТА, дочь Капулет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МИЛИЦА ДЖУЛЬЕТ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ОЖАНЕ ВЕРОН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ЖСКАЯ И ЖЕНСКАЯ РОДНЯ ОБОИХ ДОМОВ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ЯЖЕНЫЕ, СТРАЖА, СЛУГИ.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826920" y="47628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. Две равно уважаемых семь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Вероне, где встречают нас событь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ут междоусобные бо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не хотят унять кровопролит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 друга любят дети главаре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им судьба подстраивает козн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гибель их у гробовых двер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дёт конец непримиримой ро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х жизнь, любовь и смерть и, сверх тог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 их родителей на их могил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два часа составят сущ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ыгрываемой пред вами бы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милостивей к слабостям пера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х сгладить постарается иг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Уходит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611280" y="333360"/>
            <a:ext cx="68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мео. Как сразу, несмотря на слепот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ходит уязвимую пяту!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мы обедать будем? - Сколько кров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говори о свалке. Я слых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ненависть мучительна и н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ненависть и нежность - тот же пы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епых, из ничего возникших си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устая тягость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яжкая заба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стройное собранье стройных фор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одный жар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мертельное здоровь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ссонный со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й глубже с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т какова, и хуже льда и камн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я любовь, которая тяжка м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не смеешь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нволио. Нет, скорее плач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сюморон – контрастное сочетание слов,  противоположных по смысл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 Мёртвые души, живой труп, грустная радость и т. 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4680000" cy="42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395280" y="189000"/>
            <a:ext cx="712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мео. О чём, дружок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нволио. В ответ слезам тво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мео. Како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ло мы добротой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орим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меня и собственной тоски довольн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ты участьем делаешь мне боль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ботами своими обо м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ю печаль ты растравил вдвой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есть любовь? Безумье от уга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ра огнём, ведущая к пожар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ламенившее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ре слёз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думье - необдуманности рад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мешенье яда и противояд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щай, друж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3348000" y="3573360"/>
            <a:ext cx="5181480" cy="303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Рисунок 5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448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684360" y="66600"/>
            <a:ext cx="52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ди Капулет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скажешь? По сердцу ли он теб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годня на балу его изучиш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чти, как в книге, на его 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мёки ласки и очаровань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ичи его черты, как письме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рь, какая в каждой глуб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если что останется в туман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щи всему в глазах истолковань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ди Капулет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у, как, займёшься ль ты его особой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жульетта. Ещё не знаю. Надо сделать проб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это лишь единственно для ва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только исполняю ваш прик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895840" cy="38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3995640" y="0"/>
            <a:ext cx="590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мео. А кто о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милица. Да вы-то сами г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а глава семьи, хозяйка до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в мамках тут и выходила до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 с ней сейчас стояли. Помяни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женится на ней, тот заберё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оший куш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мео. Так это Капулет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у врага в руках и пойман в сет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Рисунок 4" descr=""/>
          <p:cNvPicPr/>
          <p:nvPr/>
        </p:nvPicPr>
        <p:blipFill>
          <a:blip r:embed="rId1"/>
          <a:stretch/>
        </p:blipFill>
        <p:spPr>
          <a:xfrm>
            <a:off x="0" y="1916280"/>
            <a:ext cx="3995640" cy="479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1558800" y="2276640"/>
            <a:ext cx="6186600" cy="43210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1558800" y="0"/>
            <a:ext cx="63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мео. Им по незнанью эта боль смеш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что за блеск я вижу на балко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 брезжит свет. Джульетта, ты как ден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нь у окна, убей луну соседств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а и так от зависти боль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ы её затмила белизною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38:47Z</dcterms:created>
  <dc:creator>Nadia</dc:creator>
  <dc:description/>
  <dc:language>en-US</dc:language>
  <cp:lastModifiedBy>User</cp:lastModifiedBy>
  <dcterms:modified xsi:type="dcterms:W3CDTF">2016-05-12T19:51:52Z</dcterms:modified>
  <cp:revision>29</cp:revision>
  <dc:subject/>
  <dc:title>Слайд 1</dc:title>
</cp:coreProperties>
</file>