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7.jpeg" ContentType="image/jpe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14.png" ContentType="image/png"/>
  <Override PartName="/ppt/media/image2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jpeg" ContentType="image/jpeg"/>
  <Override PartName="/ppt/media/image3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9A50-346E-4DA0-87B0-189222F4C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0B29-D86B-46D5-B2AA-921A472B7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08D-62CB-46B3-AD74-1BBFED03D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8E27-36F7-4605-B9BC-AC1F828BC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B8BF-9B7D-47C8-AA70-0AE97288D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52A1-0750-4712-B092-3D2B83AD4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3150-BD0F-41F0-9B66-F2D50CA29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1A3-9131-4AFB-A2D2-FBDD4C275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43A1-1FEB-4CAC-B061-60EB0145B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EC1D-7386-43A1-AF82-2A8BDC851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4978-A3D4-4CD2-9526-F8FACF854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D924-B140-46C6-9712-1FBA75B94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1E8-4442-4B95-AC84-27DC61030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9C46-7C02-41DA-8CB3-E03D89C4E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BC7-A4E1-4964-B887-8A99616E2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0041-A275-47F0-95B9-B1E66F482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4E6-AC89-4AAD-984F-A6A8C4C87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F39-3608-44DD-A0C1-DD0283707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4C7-409E-449B-9354-A2B3C025C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1D41-0FA0-49D4-81EE-9954E9107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D3D7-107F-448C-87DC-BDD97139F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D36-28C2-4DA0-BF07-2683D501F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833-15B3-4B06-8A39-55CD43D23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FB5-B56C-4BE4-A0D2-6560046FB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3C2-2E28-4330-AD33-14B77B798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A6A6-9CC4-4B52-961D-E29FDF3E7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72E2-0B7F-4DF3-B210-17E08721E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0D6-7DA8-4C22-87F8-5ECB1BE89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985-2EF1-4491-A3F8-F7F18D7E1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4F4-CB56-4A04-96AD-EC86437A0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709B-27EF-4E75-8E78-8BE0357F2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A66-A0BF-4912-8A06-EB08419F2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DB6-6F25-4A6E-9999-DE567C08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AFF-1135-4A39-89F8-C2666C1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13870-D9D0-43DF-814A-28BBF2E4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AD61-B8F1-4E81-A2DB-C7893048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057B-67D4-400C-90FD-55F7FBC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B86A-2C91-48EF-888D-3A331BE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F7824-45E6-4FDE-A26C-9557375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E2329-A0AE-46BA-B9E5-47BF4D6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A8310-FD96-4231-B66E-2ECFE89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2CE27-EF5B-45E3-9114-D664811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CED00-0F21-4BF9-974F-DE1CFB41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CA1-F5AE-4404-9C67-52F66B7A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A4F-EB79-4636-86C5-B073FC72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214-A83E-4A79-88FD-6E4A878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0DA-A33E-4A46-A90C-E962DE4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8F0-FDDB-4883-AE69-BDD2CF9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FB3-D49E-4B45-9098-965F84DC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EB41-1958-4A51-AD1A-8795EB0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2C5-D690-4ED5-927A-C24B9B90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591-7096-4031-8C08-BD041EB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6EA-66D7-4573-B539-12C037E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C943-AE56-4C8B-A061-D24B2C9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5EEA-B108-43F8-8DB3-666442B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26D8-D722-4A30-B3A2-56D133E4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161A-3243-43D2-9454-C14E724C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AFB2-BB01-4946-8135-53C19C27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1A42-32B4-4D54-BEFF-8FC7B993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0111-893D-48F0-9003-E3F1E00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7694-1EDD-4ADA-9AD5-7EC11C8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7F03-1366-4A9B-AF7A-D1761990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773C-FD85-4C7D-B46E-B89DCEE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86F-5898-4236-A738-D1AE761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C9B3-8BB1-4E2B-8A96-84FD180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B8D7-7A68-4BD6-9970-BC6A017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BDAF-6A36-4B23-8776-2FC9D56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6F7E-1821-48F8-A3B5-3E0377E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5D6B-ACEB-45CB-A5ED-A13902A2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35D0-1C82-428E-BEFC-9F4D7203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B8E5-7564-4E9D-A79C-156C9B0A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A474-AA18-4F25-BBC4-FDBBF951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8E36-F569-404C-8B63-99BC3AC7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F907-7DF8-4ABE-B6B0-8498694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744-4D75-4E9B-8701-B802F3B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4B50-E35E-4C81-99A2-2E4888D2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7DBF-B0DF-4D08-AF1B-846EA6F2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D3E4-57F8-4E57-847E-A17312B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82F5-90AF-4D7D-BC18-E7D4674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058A-3063-4875-BA64-097FD8E4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B3BB-7340-4993-B0C1-EFA6C09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7A88-4CF6-4456-A578-4A6273C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6649-C83A-4782-9507-87C4388F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AA0F-A282-439F-B86D-B687214B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6384-4C50-48ED-A256-4D7B3AF4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CEC-A008-452B-B631-CBCE113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BA8D-08D3-4820-AD91-32F54F0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9C37-E3F9-4A7E-8F28-0500265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AB73-07F5-4A96-9144-F17D2E1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8D1D-0B34-4D03-A777-8CD82A37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7988-3D8F-4788-91C8-E0643880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7210-B95A-496F-9D12-59D6779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0A52-9226-4946-B04D-7057F84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07D9-DCF0-49B4-954C-DDF9FCE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87EE-9130-4100-B249-3AEEC87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A6CE-293D-4EEE-A0FA-763F4381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C2A-B09F-4E9B-8726-6920CF2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020A0-E22A-441E-BDA5-07A703D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005A-157E-4EE7-89C6-72F369A3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36FA-3A97-45F6-8624-48BBA2B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5695-DC1C-4034-87AF-1742EA6E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7C5B-B97E-4C95-9C0B-BEF5C69C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1117-6281-440E-8AE2-6AF04CD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C0EF-1516-4C3D-8A42-0C9EA84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71B1-4137-475D-AFD4-B6D8FE7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189A-CCA8-4837-B06E-850415B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BB07-880E-4906-8FCA-4725DA7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EB1-7E4A-41D0-B81C-76907D5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3857-285A-4725-B54F-B3B028B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FEB2-CE7C-4C26-B6CC-3965CE4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9263F-194F-4A16-AE09-851E4A3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70CA-B61D-49AB-8F23-EC427D3E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0799-76FD-4565-9762-8EB1786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3FB3-6E14-4E5B-9D04-4E80D03C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885F-1708-4DD3-A7DB-71E0336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2916-E311-4C40-ADA4-9D49F639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0319-B2AC-46A9-AC19-63876F8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D8E5-6119-4543-899C-AD28609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1BD-6D8A-4406-8CA5-B553E15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9A62-2D75-4365-B147-B1B9775D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3FFF-401B-486E-BFC6-C33DB57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FD1CA-FAF4-40C6-9CB7-AB3EE15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4208-8B19-4744-B5FC-E6FE564A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CBCD-65B8-4C7E-8B2B-02A4FCEE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C86A-A1FB-4244-B0F7-2CD19D76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96A3-F7A0-4FF6-9A78-5AA73B5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05C5E-F956-4750-A095-02212B0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951A1-C28C-46DB-B54A-6BFBF0F0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EA4E4-C4D8-4475-AAFE-5A577529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CBB-A141-4B7B-846B-65F33CC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8564-DDA7-43C8-8EBC-F232EE0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B9D5A-F17E-4EF7-B9DC-DA3848D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B99A-AF55-4A8D-AB71-951DBDD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D3641-B582-4D0E-A0E1-CCCEA4D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5A13-98D6-42CB-A4E3-5803929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6A64-7189-4021-B54C-AF1DD04E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D08B-DD4B-48B0-9E0D-F3F308F8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8DAB3-0963-481D-9E52-37EC6E36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864B2-3420-43CC-8BF6-122DF55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B2144-0714-4C74-8D5A-5D7E2C1C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EF0-1EF9-43EE-877F-BB2217A197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486-4AE8-4EB9-9669-D0E0355354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CBC6-B1A3-4125-8B1B-339FF5E8C3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644-C782-46F3-92B1-A8C217BC18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9DA2-AFFF-4BEC-B232-590BBDD9A5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5A27-E330-4149-82B6-040426ABE4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EF5-D79D-45A5-B848-0ABEC2F3CA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4BA-9271-4BAE-AD96-B4A53B3CD9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7F2-4D34-4418-95E9-38EF9B4056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tesymbol.ru/russymbols/symbols/20050407/39593461.html" TargetMode="External"/><Relationship Id="rId2" Type="http://schemas.openxmlformats.org/officeDocument/2006/relationships/hyperlink" Target="http://www.statesymbol.ru/russymbols/symbols/20050407/39593461.html" TargetMode="External"/><Relationship Id="rId3" Type="http://schemas.openxmlformats.org/officeDocument/2006/relationships/hyperlink" Target="http://www.statesymbol.ru/russymbols/symbols/20050407/39593461.html" TargetMode="External"/><Relationship Id="rId4" Type="http://schemas.openxmlformats.org/officeDocument/2006/relationships/hyperlink" Target="http://www.statesymbol.ru/russymbols/symbols/20050407/39593461.html" TargetMode="External"/><Relationship Id="rId5" Type="http://schemas.openxmlformats.org/officeDocument/2006/relationships/hyperlink" Target="http://www.statesymbol.ru/russymbols/symbols/20050407/39593461.html" TargetMode="External"/><Relationship Id="rId6" Type="http://schemas.openxmlformats.org/officeDocument/2006/relationships/hyperlink" Target="http://www.statesymbol.ru/russymbols/symbols/20050407/39593461.html" TargetMode="External"/><Relationship Id="rId7" Type="http://schemas.openxmlformats.org/officeDocument/2006/relationships/hyperlink" Target="http://www.statesymbol.ru/russymbols/symbols/20050407/39593461.html" TargetMode="External"/><Relationship Id="rId8" Type="http://schemas.openxmlformats.org/officeDocument/2006/relationships/hyperlink" Target="http://www.statesymbol.ru/russymbols/symbols/20050407/39593461.html" TargetMode="External"/><Relationship Id="rId9" Type="http://schemas.openxmlformats.org/officeDocument/2006/relationships/hyperlink" Target="http://www.statesymbol.ru/russymbols/symbols/20050407/39593461.html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hyperlink" Target="http://vs.milrf.ru/warrior/znak.htm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ldenkorona.ru/fg_20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311200"/>
            <a:ext cx="7924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Franklin Gothic Medium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609480" y="1371600"/>
            <a:ext cx="74678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ика Вооруженных Си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йской Федер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34" name="img13384" descr="Флаг Ракетных войск стратегического назначения"/>
          <p:cNvPicPr/>
          <p:nvPr/>
        </p:nvPicPr>
        <p:blipFill>
          <a:blip r:embed="rId2"/>
          <a:stretch/>
        </p:blipFill>
        <p:spPr>
          <a:xfrm>
            <a:off x="3124080" y="1447920"/>
            <a:ext cx="2876760" cy="1923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04920" y="46479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Ракетных войск стратегического назначения представляет собой двухстороннее полотнище темно-синего цвета с красной полосой в нижней части. В центре полотнища – изображение золотых круглого щита и меча на золотых перекрещенных стре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37" name="img13385" descr="Флаг Воздушно-десантных войск"/>
          <p:cNvPicPr/>
          <p:nvPr/>
        </p:nvPicPr>
        <p:blipFill>
          <a:blip r:embed="rId2"/>
          <a:stretch/>
        </p:blipFill>
        <p:spPr>
          <a:xfrm>
            <a:off x="2971800" y="14479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228600" y="393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Воздушно-десантных войск представляет собой прямоугольное двухстороннее полотнище голубого цвета с зеленой полосой в нижней части. В центре полотнища – изображение золотого раскрытого парашюта с фигурой парашютиста и двух самолетов с обеих сторон парашю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40" name="img13386" descr="Флаг Космических войск"/>
          <p:cNvPicPr/>
          <p:nvPr/>
        </p:nvPicPr>
        <p:blipFill>
          <a:blip r:embed="rId2"/>
          <a:stretch/>
        </p:blipFill>
        <p:spPr>
          <a:xfrm>
            <a:off x="3200400" y="14479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5"/>
          <p:cNvSpPr/>
          <p:nvPr/>
        </p:nvSpPr>
        <p:spPr>
          <a:xfrm>
            <a:off x="457200" y="46634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Космических войск представляет собой прямоугольное двухстороннее полотнище голуб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43" name="img13387" descr="Флаг Тыла Вооружен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2895480" y="16002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304920" y="4666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Тыла Вооруженных Сил Российской Федерации представляет собой прямоугольное двух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225360" y="60480"/>
            <a:ext cx="8826480" cy="1682640"/>
          </a:xfrm>
          <a:prstGeom prst="rect">
            <a:avLst/>
          </a:prstGeom>
          <a:ln w="0">
            <a:noFill/>
          </a:ln>
        </p:spPr>
      </p:pic>
      <p:pic>
        <p:nvPicPr>
          <p:cNvPr id="446" name="img13388" descr="Флаг войск радиационной, химической и биологической защиты"/>
          <p:cNvPicPr/>
          <p:nvPr/>
        </p:nvPicPr>
        <p:blipFill>
          <a:blip r:embed="rId2"/>
          <a:stretch/>
        </p:blipFill>
        <p:spPr>
          <a:xfrm>
            <a:off x="2971800" y="1676520"/>
            <a:ext cx="2876400" cy="19238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457200" y="47732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войск радиационной, химической и биологической защиты представляет собой прямоугольное дву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826480" cy="1036800"/>
          </a:xfrm>
          <a:prstGeom prst="rect">
            <a:avLst/>
          </a:prstGeom>
          <a:ln w="0">
            <a:noFill/>
          </a:ln>
        </p:spPr>
      </p:pic>
      <p:pic>
        <p:nvPicPr>
          <p:cNvPr id="449" name="img13389" descr="Флаг инженерных войск"/>
          <p:cNvPicPr/>
          <p:nvPr/>
        </p:nvPicPr>
        <p:blipFill>
          <a:blip r:embed="rId2"/>
          <a:stretch/>
        </p:blipFill>
        <p:spPr>
          <a:xfrm>
            <a:off x="3124080" y="129528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380880" y="43887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Флаг инженерных войск представляет собой прямоугольное двустороннее полотн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Franklin Gothic Book"/>
              </a:rPr>
              <a:t>К знакам различия относятс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а)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знаки различия по принадлежност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к Министерству обороны Российской Федерации, Генеральному штабу Вооруженных Сил Российской Федерации, видам и родам войск Вооруженных Сил Российской Федерации, Тылу Вооруженных Сил Российской Федерации, Железнодорожным войскам, войскам, не входящим в виды и рода войск Вооруженных Сил Российской Федерац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к конкретным воинским формированиям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б) 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знаки различия по функциональному предназначению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1f1f"/>
                </a:solidFill>
                <a:latin typeface="Franklin Gothic Book"/>
              </a:rPr>
              <a:t>в) 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персонифицированные знаки различ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766360" cy="1280880"/>
          </a:xfrm>
          <a:prstGeom prst="rect">
            <a:avLst/>
          </a:prstGeom>
          <a:ln w="0">
            <a:noFill/>
          </a:ln>
        </p:spPr>
      </p:pic>
      <p:pic>
        <p:nvPicPr>
          <p:cNvPr id="454" name="img13770" descr="img13770"/>
          <p:cNvPicPr/>
          <p:nvPr/>
        </p:nvPicPr>
        <p:blipFill>
          <a:blip r:embed="rId2"/>
          <a:stretch/>
        </p:blipFill>
        <p:spPr>
          <a:xfrm>
            <a:off x="1828800" y="1752480"/>
            <a:ext cx="5105520" cy="28958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457200" y="48769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Эмблема Вооруженных Сил Российской Федерации – изображение золотого (серебряного) двуглавого орла с распростертыми крыльями, держащего в правой лапе меч, а в левой – лавровый венок. На груди орла расположен щит, увенчанный короной. На щите на красном поле – всадник, поражающий копь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542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Учреждена Указом Президента Российской Федерации от 21 июля 2003 г. № 821 «О военном геральдическом знаке – эмблеме и флаге Министерства обороны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Положение утверждено приказом Министра обороны Российской Федерации дт 14 ноября 2003 г. № 399 «Об утверждении Положения о военн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Franklin Gothic Book"/>
              </a:rPr>
              <a:t>геральдической знаке – эмблеме и флаге Министерства обороны Российской Федерации и Положения о флагах войск и воинских формирований Вооруженных Сил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Эмблема Министерства Обороны РФ"/>
          <p:cNvPicPr/>
          <p:nvPr/>
        </p:nvPicPr>
        <p:blipFill>
          <a:blip r:embed="rId2"/>
          <a:stretch/>
        </p:blipFill>
        <p:spPr>
          <a:xfrm>
            <a:off x="2666880" y="114300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5"/>
          <p:cNvSpPr/>
          <p:nvPr/>
        </p:nvSpPr>
        <p:spPr>
          <a:xfrm>
            <a:off x="457200" y="3809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Эмблема Министерства обороны Российской Федерации – изображение серебряного, увенчанного короной двуглавого орла с распростертыми крыльями. В правой лапе орла – меч, в левой – дубовый венок. На груди орла – красный, треугольный, вытянутый книзу щит со штоком, восходящим к короне. В поле щита – всадник, поражающий копьем драк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Государственный флаг РФ</a:t>
            </a:r>
            <a:r>
              <a:rPr b="0" lang="ru-RU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Государственный флаг РФ представляет собой прямоугольное полотнище из трех равновелики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 горизонтальных полос: верхней - белого, средней - синего и нижней - красного цве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В настоящее время чаще всего используется следующая трактовка значений цветов флага Росси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белый цвет означает мир, чистоту, непорочность, совершенство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синий - цвет веры и верности, постоянства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красный цвет символизирует энергию, силу, кровь, пролитую за Отечество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8" descr="Флаг Российской Федерации. Фото: © РИА Новости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71800" y="4572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оенная форма одежды- это общее название всех  предметов военного обмундирования, снаряжение  и  знаков  различия, принятых для  личного  состава арми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тношение  к  военному  мундиру  в  России  всегда  было  заинтересованным  и  даже  любовным.  Мундир  служил  напоминанием  о  боевой  доблести,  чести  и  высоком   чувстве  воинского  товарищ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Единая  форма  одежды  в  русской  армии была  введена  еще  при  Петре I,  в  дальнейшем неоднократно   менялась  и  совершенствовалас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  настоящие  время  в  Российской  Армии  введена  форма  одежды  приказом    МО   РФ  №210  от  28. 03. 97 г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оенная  форма  одежда  подразделяется  на  парадную,  повседневную и  полевую,  из  этих  форм  кроме  того  на  летнюю  и  зимню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808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Picture 53" descr="http://vs.milrf.ru/warrior/images/1--1.gif"/>
          <p:cNvPicPr/>
          <p:nvPr/>
        </p:nvPicPr>
        <p:blipFill>
          <a:blip r:embed="rId2"/>
          <a:stretch/>
        </p:blipFill>
        <p:spPr>
          <a:xfrm>
            <a:off x="714240" y="1752480"/>
            <a:ext cx="581040" cy="2048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2" descr="http://vs.milrf.ru/warrior/images/1-2.gif"/>
          <p:cNvPicPr/>
          <p:nvPr/>
        </p:nvPicPr>
        <p:blipFill>
          <a:blip r:embed="rId3"/>
          <a:stretch/>
        </p:blipFill>
        <p:spPr>
          <a:xfrm>
            <a:off x="1371600" y="1752480"/>
            <a:ext cx="514440" cy="2048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1" descr="http://vs.milrf.ru/warrior/images/1-3.gif"/>
          <p:cNvPicPr/>
          <p:nvPr/>
        </p:nvPicPr>
        <p:blipFill>
          <a:blip r:embed="rId4"/>
          <a:stretch/>
        </p:blipFill>
        <p:spPr>
          <a:xfrm>
            <a:off x="1981080" y="1752480"/>
            <a:ext cx="628920" cy="20383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5" descr="1-4"/>
          <p:cNvPicPr/>
          <p:nvPr/>
        </p:nvPicPr>
        <p:blipFill>
          <a:blip r:embed="rId5"/>
          <a:stretch/>
        </p:blipFill>
        <p:spPr>
          <a:xfrm>
            <a:off x="3733920" y="1752480"/>
            <a:ext cx="520560" cy="2032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8" descr="http://vs.milrf.ru/warrior/images/1-5.gif"/>
          <p:cNvPicPr/>
          <p:nvPr/>
        </p:nvPicPr>
        <p:blipFill>
          <a:blip r:embed="rId6"/>
          <a:stretch/>
        </p:blipFill>
        <p:spPr>
          <a:xfrm>
            <a:off x="4952880" y="1828800"/>
            <a:ext cx="571680" cy="20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7" descr="http://vs.milrf.ru/warrior/images/1-6.gif"/>
          <p:cNvPicPr/>
          <p:nvPr/>
        </p:nvPicPr>
        <p:blipFill>
          <a:blip r:embed="rId7"/>
          <a:stretch/>
        </p:blipFill>
        <p:spPr>
          <a:xfrm>
            <a:off x="5715000" y="1828800"/>
            <a:ext cx="552600" cy="203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6" descr="http://vs.milrf.ru/warrior/images/1-7.gif"/>
          <p:cNvPicPr/>
          <p:nvPr/>
        </p:nvPicPr>
        <p:blipFill>
          <a:blip r:embed="rId8"/>
          <a:stretch/>
        </p:blipFill>
        <p:spPr>
          <a:xfrm>
            <a:off x="6400800" y="1905120"/>
            <a:ext cx="533520" cy="201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9"/>
          <p:cNvSpPr/>
          <p:nvPr/>
        </p:nvSpPr>
        <p:spPr>
          <a:xfrm>
            <a:off x="0" y="3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0"/>
          <p:cNvSpPr/>
          <p:nvPr/>
        </p:nvSpPr>
        <p:spPr>
          <a:xfrm>
            <a:off x="376920" y="4190040"/>
            <a:ext cx="26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ер, прапорщик арм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1"/>
          <p:cNvSpPr/>
          <p:nvPr/>
        </p:nvSpPr>
        <p:spPr>
          <a:xfrm>
            <a:off x="2971440" y="419004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а-в/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 арм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2"/>
          <p:cNvSpPr/>
          <p:nvPr/>
        </p:nvSpPr>
        <p:spPr>
          <a:xfrm>
            <a:off x="5029200" y="41140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е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мичман фл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2-4"/>
          <p:cNvPicPr/>
          <p:nvPr/>
        </p:nvPicPr>
        <p:blipFill>
          <a:blip r:embed="rId2"/>
          <a:stretch/>
        </p:blipFill>
        <p:spPr>
          <a:xfrm>
            <a:off x="4038480" y="2438280"/>
            <a:ext cx="581040" cy="20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http://vs.milrf.ru/warrior/images/2-1.gif"/>
          <p:cNvPicPr/>
          <p:nvPr/>
        </p:nvPicPr>
        <p:blipFill>
          <a:blip r:embed="rId3"/>
          <a:stretch/>
        </p:blipFill>
        <p:spPr>
          <a:xfrm>
            <a:off x="838080" y="2362320"/>
            <a:ext cx="590760" cy="20095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http://vs.milrf.ru/warrior/images/2-2.gif"/>
          <p:cNvPicPr/>
          <p:nvPr/>
        </p:nvPicPr>
        <p:blipFill>
          <a:blip r:embed="rId4"/>
          <a:stretch/>
        </p:blipFill>
        <p:spPr>
          <a:xfrm>
            <a:off x="1523880" y="2362320"/>
            <a:ext cx="628920" cy="20192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vs.milrf.ru/warrior/images/2-3.gif"/>
          <p:cNvPicPr/>
          <p:nvPr/>
        </p:nvPicPr>
        <p:blipFill>
          <a:blip r:embed="rId5"/>
          <a:stretch/>
        </p:blipFill>
        <p:spPr>
          <a:xfrm>
            <a:off x="2362320" y="2438280"/>
            <a:ext cx="600120" cy="201960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1" descr="http://vs.milrf.ru/warrior/images/2-5.gif"/>
          <p:cNvPicPr/>
          <p:nvPr/>
        </p:nvPicPr>
        <p:blipFill>
          <a:blip r:embed="rId6"/>
          <a:stretch/>
        </p:blipFill>
        <p:spPr>
          <a:xfrm>
            <a:off x="5486400" y="2438280"/>
            <a:ext cx="571680" cy="2019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http://vs.milrf.ru/warrior/images/2-6.gif"/>
          <p:cNvPicPr/>
          <p:nvPr/>
        </p:nvPicPr>
        <p:blipFill>
          <a:blip r:embed="rId7"/>
          <a:stretch/>
        </p:blipFill>
        <p:spPr>
          <a:xfrm>
            <a:off x="6477120" y="2514600"/>
            <a:ext cx="542880" cy="2009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http://vs.milrf.ru/warrior/images/2-7.gif"/>
          <p:cNvPicPr/>
          <p:nvPr/>
        </p:nvPicPr>
        <p:blipFill>
          <a:blip r:embed="rId8"/>
          <a:stretch/>
        </p:blipFill>
        <p:spPr>
          <a:xfrm>
            <a:off x="7467480" y="2590920"/>
            <a:ext cx="638280" cy="20192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2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302040" y="464724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жант, солдат ар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2892600" y="464724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а-в/с  фл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5483880" y="4677120"/>
            <a:ext cx="23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жант, матрос фл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8600" y="5029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Существующие военная форма и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9"/>
              </a:rPr>
              <a:t>знаки различия</a:t>
            </a: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 утверждены Указом Президента РФ "О военной форме одежды и знаках различия по воинским званиям" от 23 мая 1994 г. N 1010. Правила ношения военной формы одежды военнослужащими Вооруженных Сил утверждены приказом министра обороны РФ от 28 марта 1997 г. N 2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znak_r"/>
          <p:cNvPicPr/>
          <p:nvPr/>
        </p:nvPicPr>
        <p:blipFill>
          <a:blip r:embed="rId2"/>
          <a:stretch/>
        </p:blipFill>
        <p:spPr>
          <a:xfrm>
            <a:off x="2971800" y="137160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6"/>
          <p:cNvSpPr/>
          <p:nvPr/>
        </p:nvSpPr>
        <p:spPr>
          <a:xfrm>
            <a:off x="457200" y="5105880"/>
            <a:ext cx="8001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арукавная эмблема Вооруженных Сил</a:t>
            </a:r>
            <a:br>
              <a:rPr sz="20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Эмблема указывает на принадлежность к Вооруженным Силам и носится на левом рукаве у плеча все военнослужащих на всех видах одежды (кроме рубаше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87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znak-v"/>
          <p:cNvPicPr/>
          <p:nvPr/>
        </p:nvPicPr>
        <p:blipFill>
          <a:blip r:embed="rId2"/>
          <a:stretch/>
        </p:blipFill>
        <p:spPr>
          <a:xfrm>
            <a:off x="533520" y="1828800"/>
            <a:ext cx="2876400" cy="38289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5"/>
          <p:cNvSpPr/>
          <p:nvPr/>
        </p:nvSpPr>
        <p:spPr>
          <a:xfrm>
            <a:off x="3505320" y="1930320"/>
            <a:ext cx="5105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Эмблема крепятся на правый рукав всех видов одежды (кроме рубашек) всех военнослужащих. Вместо нарукавных знаков по родам войск может использоваться эмблема конкретного военного округа, соединения, части, эмблема принадлежности к элитным частям и подразделениям (Спецназ, Осназ, Спецназ ГРУ, Войсковая разведка и тд. и т.п.)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На рисунке приведены  эмблемы видов Вооруженных сил и родов войск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.Центральный аппарат Министерства оборон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2.Ракетные войска стратегического назначения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3.Сухопутные войс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4.Войска противовоздушной обороны стран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5.Военно-воздушные сил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6.Военно-морской флот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7.Военно-космические сил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8.Авиация сухопутных войск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9.Воздушно-десантные войс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0.Авиация войск противовоздушной об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Каждому   военнослужащему   присваивается  воинское  звание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  в  порядке,  установленном   соответствую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щ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им   положением  о  прохождении  службы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Воинское  звание  военнослужащим  присваивают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высшие  воинские  звания – Президент  РФ 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полковника (капитан 1го ранга) и  первое  офицерское  воинское звание – Министр   обороны  РФ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подполковника (капитан 2го ранга) – заместители министра   обороны  РФ, главнокомандующие   видами  ВС  РФ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майора (капитан 3го ранга) – командующие войсками  военных округов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до  старшего  прапорщика (старшего мичмана)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– командующими  объединениям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старшины (главного  корабельного  старшины) – командирами соединений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 старшего  сержанта (главного  старшины) – командирами  воинских  частей (полков, кораблей 1 го  ранга  им равным)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до ефрейтора  (старшего  матроса)  или  курсанта– командиры  воинских  частей.</a:t>
            </a:r>
            <a:r>
              <a:rPr b="0" lang="tt-RU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01600" y="457200"/>
            <a:ext cx="8790120" cy="84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pag-s"/>
          <p:cNvPicPr/>
          <p:nvPr/>
        </p:nvPicPr>
        <p:blipFill>
          <a:blip r:embed="rId2"/>
          <a:stretch/>
        </p:blipFill>
        <p:spPr>
          <a:xfrm>
            <a:off x="1447920" y="1295280"/>
            <a:ext cx="5715000" cy="22100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"/>
          <p:cNvSpPr/>
          <p:nvPr/>
        </p:nvSpPr>
        <p:spPr>
          <a:xfrm>
            <a:off x="694800" y="4191120"/>
            <a:ext cx="822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 Старшина (парадный мундир или шинель сухопутных  войск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Старший сержант (парадный мундир или шинель ВДВ или авиация)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Сержант (парадный мундир или шинель сухопутных войск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Младший сержант (белая блузка женщины-военнослужащей)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 Ефрейтор (бежевое платье женищины-военнослужащей)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6.Рядовой (зеленая рубаш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1000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pag-k"/>
          <p:cNvPicPr/>
          <p:nvPr/>
        </p:nvPicPr>
        <p:blipFill>
          <a:blip r:embed="rId2"/>
          <a:stretch/>
        </p:blipFill>
        <p:spPr>
          <a:xfrm>
            <a:off x="1143000" y="1447920"/>
            <a:ext cx="6858000" cy="2286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5"/>
          <p:cNvSpPr/>
          <p:nvPr/>
        </p:nvSpPr>
        <p:spPr>
          <a:xfrm>
            <a:off x="1225080" y="4038840"/>
            <a:ext cx="712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Курсант в звании старшина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Курсант в звании старший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 Курсант училища ВВС в звании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Курсант в звании младший серж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Курсант училища ВВС в звании ефрейтор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6.Курсант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7.Муфточка на погон к "афганке"курсанта в звании старш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201600" y="237960"/>
            <a:ext cx="8790120" cy="1060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pag-p"/>
          <p:cNvPicPr/>
          <p:nvPr/>
        </p:nvPicPr>
        <p:blipFill>
          <a:blip r:embed="rId2"/>
          <a:stretch/>
        </p:blipFill>
        <p:spPr>
          <a:xfrm>
            <a:off x="1523880" y="1143000"/>
            <a:ext cx="6629400" cy="2666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5"/>
          <p:cNvSpPr/>
          <p:nvPr/>
        </p:nvSpPr>
        <p:spPr>
          <a:xfrm>
            <a:off x="38088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Слева направо: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1.Старший прапорщик сухопутных войск.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2.Прапорщик военно-воздушных сил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3.Прапорщик воздушно-десантных или военно-космических войск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4.Погон к зеленой рубашке прапорщика с эмблемой военно-космических войск. </a:t>
            </a:r>
            <a:br>
              <a:rPr sz="1800"/>
            </a:b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5.Погон к белой рубашке старшего прапорщика с эмблемой</a:t>
            </a: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 мотострелковых вой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201600" y="49320"/>
            <a:ext cx="8790120" cy="1249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pag-o"/>
          <p:cNvPicPr/>
          <p:nvPr/>
        </p:nvPicPr>
        <p:blipFill>
          <a:blip r:embed="rId2"/>
          <a:stretch/>
        </p:blipFill>
        <p:spPr>
          <a:xfrm>
            <a:off x="1447920" y="457200"/>
            <a:ext cx="6476760" cy="32004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5"/>
          <p:cNvSpPr/>
          <p:nvPr/>
        </p:nvSpPr>
        <p:spPr>
          <a:xfrm>
            <a:off x="1157040" y="3587040"/>
            <a:ext cx="725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Слева направо сверху вниз: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.Парадный погон капитана сухопутных войск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2.Парадный погон майора ВВС,ВКС,ВДВ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3.Парадный погон полковника сухопутных вой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4.Повседневный погон полковника сухопутных войск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5.Повседневный погон майора ВВС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6.Повседневный погон ст.лейтенанта ВДВ, ВКС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7.Погон лейтенанта к белой рубашке с общевойсковой эмблемой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8.Полевой погон подполковник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9.Полевой погон лейтенант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0.Полевой погон капитана. </a:t>
            </a:r>
            <a:br>
              <a:rPr sz="1600"/>
            </a:br>
            <a:r>
              <a:rPr b="1" lang="ru-RU" sz="1600" spc="-1" strike="noStrike">
                <a:solidFill>
                  <a:srgbClr val="ad1f1f"/>
                </a:solidFill>
                <a:latin typeface="Arial"/>
              </a:rPr>
              <a:t>11.Погон лейтенанта к зеленой рубашке с общевойсковой эмблемо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Picture 7" descr="Герб Р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-228600"/>
            <a:ext cx="3429000" cy="3276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304920" y="2989800"/>
            <a:ext cx="830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осударственный герб Российской Федерации является официальным государственным символом Российской Федерации. 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Орел увенчан двумя малыми коронами и - над ними - одной большой короной, соединенными лентой. В правой лапе орла - скипетр, в левой - держава. На груди орла, в красном щите, - серебряный всадник в синем плаще на серебряном коне, поражающий серебряным копьем черного опрокинутого навзничь и попранного конем дра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pag-g"/>
          <p:cNvPicPr/>
          <p:nvPr/>
        </p:nvPicPr>
        <p:blipFill>
          <a:blip r:embed="rId2"/>
          <a:stretch/>
        </p:blipFill>
        <p:spPr>
          <a:xfrm>
            <a:off x="1828800" y="1295280"/>
            <a:ext cx="5715000" cy="2667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1815120" y="3959280"/>
            <a:ext cx="6487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Слева направо сверху вниз: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-Парадный погон маршала РФ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2.Парадный погон генерала арм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3.Парадный погон генерал-полковника авиации, ВДВ, ВКС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4.Парадный погон генерал-лейтенанта сухопутных войск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5.Повседневный погон маршала РФ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6.Повседневный погон генерала армии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7.Повседневный погон генерал-полковника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8.Повседневный погон генерал-майора авиац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9.Погон к зеленой рубашке генерал-лейтенанта медицинской службы. 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0.Погон к белой рубашке генерал-лейтенанта юстиции.</a:t>
            </a:r>
            <a:br>
              <a:rPr sz="1400"/>
            </a:b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11.Полевой погон генерала ар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326440" cy="736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emlbem22s"/>
          <p:cNvPicPr/>
          <p:nvPr/>
        </p:nvPicPr>
        <p:blipFill>
          <a:blip r:embed="rId2"/>
          <a:stretch/>
        </p:blipFill>
        <p:spPr>
          <a:xfrm>
            <a:off x="2590920" y="914400"/>
            <a:ext cx="4572000" cy="25146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609480" y="3429000"/>
            <a:ext cx="815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.Ракетные войска стратегического назначения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2.Общевойсковая эмблема. Предназначена для военнослужащи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для которых не определены эмблемы рода войск, службы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(тыловые службы, финансисты, административные органы,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военные комиссариаты, военные представительства и т.п.)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3.Войска противовоздушной обороны. 4.Военно-воздушные силы. 5.Воздушно-десантные войска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6.Военно-космические силы. 7.Мотострелковые войска. 8.Танковые войска. 9.Ракетные войска и артиллерия. 10.Инженерные войска. 11.Войска радиационной, биологической и химической защиты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2.Войска связи. 13.Автомобильные войска. 14.Дорожные войска. 15.Топографическая служба.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6.Юридическая служба. 17.Служба военных сообщений (эмблема также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 применяется  в железнодорожных войсках)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18.Служба горючего и смазочных материалов.  19.Медицинская служба. 20.Ветеринарно-санитарная служба. 21.Военно-оркестровая служба </a:t>
            </a:r>
            <a:br>
              <a:rPr sz="1200"/>
            </a:br>
            <a:r>
              <a:rPr b="1" lang="ru-RU" sz="1200" spc="-1" strike="noStrike">
                <a:solidFill>
                  <a:srgbClr val="ad1f1f"/>
                </a:solidFill>
                <a:latin typeface="Arial"/>
              </a:rPr>
              <a:t>Эмблемы родов войск располагаются в углах воротников, а на ряде предметов военной одежды на погонах (рубашки, шинели, пальто и куртки демисезонные с меховым воротником, летний плащ, шерстяная курт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9440" y="-23760"/>
            <a:ext cx="8937720" cy="1792080"/>
          </a:xfrm>
          <a:prstGeom prst="rect">
            <a:avLst/>
          </a:prstGeom>
          <a:ln w="0">
            <a:noFill/>
          </a:ln>
        </p:spPr>
      </p:pic>
      <p:pic>
        <p:nvPicPr>
          <p:cNvPr id="415" name="img13400" descr="Знамя Вооруженных Сил Российской Федерации - (лицевая сторона)"/>
          <p:cNvPicPr/>
          <p:nvPr/>
        </p:nvPicPr>
        <p:blipFill>
          <a:blip r:embed="rId2"/>
          <a:stretch/>
        </p:blipFill>
        <p:spPr>
          <a:xfrm>
            <a:off x="538200" y="2286000"/>
            <a:ext cx="3035160" cy="3433680"/>
          </a:xfrm>
          <a:prstGeom prst="rect">
            <a:avLst/>
          </a:prstGeom>
          <a:ln w="0">
            <a:noFill/>
          </a:ln>
        </p:spPr>
      </p:pic>
      <p:pic>
        <p:nvPicPr>
          <p:cNvPr id="416" name="img13401" descr="Знамя Вооруженных Сил Российской Федерации - (оборотная сторона)"/>
          <p:cNvPicPr/>
          <p:nvPr/>
        </p:nvPicPr>
        <p:blipFill>
          <a:blip r:embed="rId3"/>
          <a:stretch/>
        </p:blipFill>
        <p:spPr>
          <a:xfrm>
            <a:off x="4800600" y="2362320"/>
            <a:ext cx="2806560" cy="34416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374480" y="510480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Лицевая сто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955760" y="51807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d1f1f"/>
                </a:solidFill>
                <a:latin typeface="Arial"/>
              </a:rPr>
              <a:t>Оборотная сто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324000"/>
            <a:ext cx="8881920" cy="1438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Фла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Флаги Вооруженных Сил Российской Федера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Флаг Министерства обороны Российской Федерац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Franklin Gothic Book"/>
              </a:rPr>
              <a:t>Учрежден Указом Президента Российской Федерации от 21 июля 2003 г. № 821 «О военном геральдическом знаке – эмблеме и флаге Министерства обороны Российской Федера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img13379" descr="Флаг Министерства обороны Российской Федерации"/>
          <p:cNvPicPr/>
          <p:nvPr/>
        </p:nvPicPr>
        <p:blipFill>
          <a:blip r:embed="rId1"/>
          <a:stretch/>
        </p:blipFill>
        <p:spPr>
          <a:xfrm>
            <a:off x="2362320" y="114300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Franklin Gothic Book"/>
              </a:rPr>
              <a:t>Флаг представляет собой прямоугольное двухстороннее полотнище. Рисунок лицевой и оборотной сторон полотнища одинаков и представляет собой четырехконечный крест белого цвета с расширяющимися концами и с равноразделенными красно-синими углами (между концами креста). Красные половины углов примыкают к вертикальным концам кре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Franklin Gothic Book"/>
              </a:rPr>
              <a:t>В центре полотнища изображен военный геральдический знак – эмблема Министерства обороны Российской Федера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993240" y="380880"/>
            <a:ext cx="75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лаг Вооруженных Сил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766360" cy="1189080"/>
          </a:xfrm>
          <a:prstGeom prst="rect">
            <a:avLst/>
          </a:prstGeom>
          <a:ln w="0">
            <a:noFill/>
          </a:ln>
        </p:spPr>
      </p:pic>
      <p:pic>
        <p:nvPicPr>
          <p:cNvPr id="425" name="img13380" descr="Флаг Сухопутных войск"/>
          <p:cNvPicPr/>
          <p:nvPr/>
        </p:nvPicPr>
        <p:blipFill>
          <a:blip r:embed="rId2"/>
          <a:stretch/>
        </p:blipFill>
        <p:spPr>
          <a:xfrm>
            <a:off x="2209680" y="1143000"/>
            <a:ext cx="4572000" cy="26668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457200" y="411984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Флаг Сухопутных войск представляет собой двухстороннее полотнище красного цвета. В центре полотнища – изображение малой эмблемы Сухопутных войск (золотая пылающая гренада на фоне двух перекрещенных меч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Отношение ширины флага к его длине 2:3. Отношение ширины эмблемы Сухопутных войск к длине флага 4: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25360" y="384120"/>
            <a:ext cx="8766360" cy="1036800"/>
          </a:xfrm>
          <a:prstGeom prst="rect">
            <a:avLst/>
          </a:prstGeom>
          <a:ln w="0">
            <a:noFill/>
          </a:ln>
        </p:spPr>
      </p:pic>
      <p:pic>
        <p:nvPicPr>
          <p:cNvPr id="428" name="img13381" descr="Флаг Военно-воздушных сил"/>
          <p:cNvPicPr/>
          <p:nvPr/>
        </p:nvPicPr>
        <p:blipFill>
          <a:blip r:embed="rId2"/>
          <a:stretch/>
        </p:blipFill>
        <p:spPr>
          <a:xfrm>
            <a:off x="2666880" y="1600200"/>
            <a:ext cx="2876760" cy="1924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380880" y="4827600"/>
            <a:ext cx="8458200" cy="946440"/>
          </a:xfrm>
          <a:prstGeom prst="rect">
            <a:avLst/>
          </a:prstGeom>
          <a:solidFill>
            <a:srgbClr val="f2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d1f1f"/>
                </a:solidFill>
                <a:latin typeface="Arial"/>
              </a:rPr>
              <a:t>Флаг Военно-воздушных сил представляет собой прямоугольное двухстороннее полотнище голубого цвета. В центре полотнища – изображение перекрещенных серебряных пропеллера и зенитной пушки на серебряных парящих крыль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378000" y="122400"/>
            <a:ext cx="8327880" cy="1523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Знамя Военно-Морского Флота"/>
          <p:cNvPicPr/>
          <p:nvPr/>
        </p:nvPicPr>
        <p:blipFill>
          <a:blip r:embed="rId2"/>
          <a:stretch/>
        </p:blipFill>
        <p:spPr>
          <a:xfrm>
            <a:off x="2743200" y="16765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304920" y="502884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Военно-морской флаг представляет собой белое полотнище с двумя диагональными полосами голуб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Размеры флага: отношение ширины флага к его длине 1:1,5; ширина синей полосы равна 1/10 длины ф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9-15T08:48:3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