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7.jpeg" ContentType="image/jpeg"/>
  <Override PartName="/ppt/media/image26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14.png" ContentType="image/png"/>
  <Override PartName="/ppt/media/image2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jpeg" ContentType="image/jpeg"/>
  <Override PartName="/ppt/media/image34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13CC-63CF-4189-A001-2CBC108A0B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519F-6F5F-49BB-B177-904E1110F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A131-8EBC-4297-A540-4EE5ACFC3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7A1E-E1C5-4F4A-B7FE-8110576F6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92CF-4C23-4408-AE70-F0249C070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B32-48F3-45D4-8969-A95BBEFE9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1561-4465-4891-B9EC-4B4A9F664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8860-FB8D-482C-8AEA-594C18BAC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4046-ABFF-4835-96D6-0E2421A05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944B-3C68-4CD1-848F-72DCA89EB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9843-EE3A-482A-AA8C-6C635D829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FE2-203E-470E-BEC9-046C5CD79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09CB-0706-4CB4-9498-7D93B835C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79C-A6BE-4AF7-A72A-F614E1C86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4CE-22FF-4451-8AE3-2E9F7E2FD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13A6-45C8-45FA-A29F-DD6B43CBE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BC81-BD34-4B8F-A44A-50F3B12C4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0BD0-48E5-4689-A7CD-0D0114927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78D-6740-4BC6-8FB1-6D31C13B2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49A7-F84F-4F51-B442-A25A3BD77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0256-573C-4E2C-AABC-6CCC4C946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BC81-B9A3-4415-9503-D3C9255D9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233-C0F4-4A8B-9FAB-A0DDB49D7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54F4-B3E0-457D-A8E2-6BDE9E841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04E-0187-4512-848E-FE6FF6596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E1EB-2EAD-4239-8FC1-431AC4DA8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742-EF7D-46E3-8A5B-A980F40D0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DAFC-AD6C-4F0F-9BDF-68D7DE626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8B9-E9C0-476C-A58C-CF64EA0AB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A94B-C603-46A4-909A-467655498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F58F-4398-44DF-80B3-41DF1EA02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0C77-CECF-4B63-9786-7C90580E5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AA4-1726-4C97-85DC-D7041F82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CCF-4600-4F0C-987B-B8C3F8E2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6A756-82B7-4BB7-B478-E61D1081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FB34F-A38F-414E-978C-167CFB06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0E8A1-BEE9-4E65-9AAB-5DAED47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ED41D-2DC3-4321-9C87-4B073B2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82A84-5FF3-4AF6-81AC-C619BB5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35078-A0B6-466A-9419-C5BB2CB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B83ED-2AE2-4002-831A-E8FCFF7F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54511-3401-41A5-B01E-5E8FBEA8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6BCAB-3F23-46B7-B609-FF5CAE8C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F34-78EB-48FF-A046-A42B8D56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55D-D1F9-4344-B294-951673DA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8E2-CC47-4F75-9175-A6B1D20F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B11C-E0DD-4EDE-8BB5-8DB6BA1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99DC-A34D-4E19-B960-10852EB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AEBE-9F59-486F-A61F-7A035B97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D553-B873-4DA7-B1DF-B6B5DF4A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0C0C-77D8-4F22-AB32-D7B8400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8C6E-F816-4D69-8B76-AF62C132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EBA-117F-49E0-B7EE-7B544DFB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ED1E-68F9-42D2-B17E-15F481E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3D33-2F66-4AB1-ABB7-E4D1353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2EFA-A51D-47B3-BABF-B8052CA4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5C09-78BD-478F-A1B7-5F89E9BC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D437-8E76-4DA8-984E-F9C5BEB9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624E-82AC-4CC1-97CA-8606B7ED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2C1B-2808-4046-90FA-489A3ED5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13F1-E4D9-4E27-B44B-4967999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C873-B879-4761-8F38-F8FD589F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A86A-5D90-4D74-A98A-14CDD8A1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3D0-2684-4367-841B-853169FC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4911-6282-4389-BA6A-21A043F1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B69D-8CBB-428B-B387-A0699E7F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FE9F-A1D6-4EF7-8BB9-04582BE3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0CC0-4613-460E-899F-1A613A20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7C33-0302-44AF-937F-A0996692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B279-2D34-41B9-9B14-63A120DE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F28E-2FF7-4012-92FE-F1C7CB0B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7698-C502-4441-988C-23143E47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DF0A-FC35-47CE-8FC5-8A806EE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8644-7059-4F98-B8FC-0592515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31F-3A9E-4FE8-A7D4-C271610B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9AA9-6BDF-4F9D-ADAA-3C3F5706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D202B-963F-475F-A4DF-4F2B37F7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F714-D40A-4CBA-B399-FAFC2D55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E7E88-8282-44AE-AE8C-4F4F893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95DB-AD5F-4B2D-9818-91051BB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176F-BB8B-4100-ACE0-AF5A631D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37BE-D3BC-4AEE-99C9-61E5D37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0F9A7-07BF-494A-8E8F-6D5F9747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B64DF-7231-4B1E-87F7-E6BA7B30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E6D87-4B2A-4DDD-8932-F48808C7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7CA-FFEB-47B2-919E-B7E6B8FA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6690-B0BF-4A44-AE09-FAF4E3E0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9BFC-C1BB-46F2-977B-D194079C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F66E-8E4D-496E-9B5F-1DC938DC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3F5E-7036-4EFA-9212-9A2659CB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7A24B-7B38-4E65-B9D0-7C89BD3F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66F3-6FCA-40BC-8A98-FF48797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ED1F-549E-4FCD-A0EC-559C8F50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0C40A-6C57-4096-8273-FCC533F4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27AE-7E0C-4BAE-8C09-2950DAAD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A55D-3FA0-4FEE-B6EE-3F0FC0AF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F79-F4C7-48EE-9454-8BF15851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ED38-FBC6-41ED-9D9D-A19E5B72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BBDE-C6E4-458F-AEF9-FA10615A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087F-2628-46EE-AAF8-FE0B333A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9728B-A2B4-42CF-9367-A78F359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461B-EB17-4707-9101-23C4FD22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39592-7D50-4B6E-A714-C6100266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8E864-8E30-4821-9E72-DBA022C5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DD59-0D60-476B-96A2-3F601361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320E8-B950-49B1-A1B1-B7613A1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B9F6B-3C94-436D-A4EB-24AA7525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AFF-A9BC-49A7-B5E0-5FBD832E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2CAA8-B965-4D25-A007-29953EF6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92142-A968-40C0-B239-7323A3C4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BA804-B098-4596-8DF4-B19955B5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9EA9C-D5B8-410B-AAF9-E5EF893E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BD80-4A5C-4391-9C94-3FFED19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1D40-FD5D-484E-938B-27CD4C27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6B5B1-1EE7-48A3-A488-A9AAEB8B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13A73-32A9-4332-A7F8-925A89A2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14714-454E-46B8-9097-9FFB7D01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9B7A-D715-4B0F-910F-73CDD0E3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013-B8B2-4C08-B6B6-1FE320E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0BEB-7BDB-4740-86CC-57D87E9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BAB39-291B-45B9-9BA1-8665AB1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22DA3-E611-4AFA-B280-7C8C6EC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E2C68-AD07-4A35-9563-883FE506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3FF12-0079-4407-9634-110A0853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7E75A-793B-4005-B5E1-6B0F03B9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9F82-9E32-4FE5-8109-3150138A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CCE54-ED75-44B4-BAD5-0A15D2A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6C097-C555-432E-AB37-743FFAC4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B2E49-C196-4714-A4AE-7CF99C9F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FF7-62DC-421B-9F07-F5008B00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BBDFF-E9C1-469A-AE69-AF66DFF1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31F9D-D7E6-4AB0-88DD-F28CBFDE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BD4D-6FC6-4FE8-9BD0-17DBBDC9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57FB1-8EAC-45DE-8453-30BF9A9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75FF4-9F49-41E0-8BD9-AA211739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E161-0249-4005-B57C-5448478C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6386B-7F62-44E1-9519-56E9A250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342C5-8F51-49DC-BFF9-2559DF78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D974-5DF5-4F31-BFF4-AF2A2B86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EC497-035A-4334-BF70-2233C1D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4E1C-A0DA-4192-8A43-C7625CA0FF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4155-3BE8-40F3-A696-2E7F5544EC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E293-B091-43E3-91EC-756F73933D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58AB-235E-4095-B04B-9F520C7103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CBD2-633E-48C7-991B-3683B3D12D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265-F445-4612-BEA8-989E11258C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DE76-D7F2-467A-94A3-6488937B57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0D60-49E3-4299-A779-33A40746A5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8CD0-BECC-4155-8B71-3E2D976409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esymbol.ru/russymbols/symbols/20050407/39593461.html" TargetMode="External"/><Relationship Id="rId2" Type="http://schemas.openxmlformats.org/officeDocument/2006/relationships/hyperlink" Target="http://www.statesymbol.ru/russymbols/symbols/20050407/39593461.html" TargetMode="External"/><Relationship Id="rId3" Type="http://schemas.openxmlformats.org/officeDocument/2006/relationships/hyperlink" Target="http://www.statesymbol.ru/russymbols/symbols/20050407/39593461.html" TargetMode="External"/><Relationship Id="rId4" Type="http://schemas.openxmlformats.org/officeDocument/2006/relationships/hyperlink" Target="http://www.statesymbol.ru/russymbols/symbols/20050407/39593461.html" TargetMode="External"/><Relationship Id="rId5" Type="http://schemas.openxmlformats.org/officeDocument/2006/relationships/hyperlink" Target="http://www.statesymbol.ru/russymbols/symbols/20050407/39593461.html" TargetMode="External"/><Relationship Id="rId6" Type="http://schemas.openxmlformats.org/officeDocument/2006/relationships/hyperlink" Target="http://www.statesymbol.ru/russymbols/symbols/20050407/39593461.html" TargetMode="External"/><Relationship Id="rId7" Type="http://schemas.openxmlformats.org/officeDocument/2006/relationships/hyperlink" Target="http://www.statesymbol.ru/russymbols/symbols/20050407/39593461.html" TargetMode="External"/><Relationship Id="rId8" Type="http://schemas.openxmlformats.org/officeDocument/2006/relationships/hyperlink" Target="http://www.statesymbol.ru/russymbols/symbols/20050407/39593461.html" TargetMode="External"/><Relationship Id="rId9" Type="http://schemas.openxmlformats.org/officeDocument/2006/relationships/hyperlink" Target="http://www.statesymbol.ru/russymbols/symbols/20050407/39593461.html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hyperlink" Target="http://vs.milrf.ru/warrior/znak.htm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ldenkorona.ru/fg_20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311200"/>
            <a:ext cx="79246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Franklin Gothic Medium"/>
            </a:endParaRPr>
          </a:p>
        </p:txBody>
      </p:sp>
      <p:sp>
        <p:nvSpPr>
          <p:cNvPr id="407" name="WordArt 4"/>
          <p:cNvSpPr txBox="1"/>
          <p:nvPr/>
        </p:nvSpPr>
        <p:spPr>
          <a:xfrm>
            <a:off x="609480" y="1371600"/>
            <a:ext cx="74678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волика Вооруженных Си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йской Федер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34" name="img13384" descr="Флаг Ракетных войск стратегического назначения"/>
          <p:cNvPicPr/>
          <p:nvPr/>
        </p:nvPicPr>
        <p:blipFill>
          <a:blip r:embed="rId2"/>
          <a:stretch/>
        </p:blipFill>
        <p:spPr>
          <a:xfrm>
            <a:off x="3124080" y="1447920"/>
            <a:ext cx="2876760" cy="1923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04920" y="464796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Ракетных войск стратегического назначения представляет собой двухстороннее полотнище темно-синего цвета с красной полосой в нижней части. В центре полотнища – изображение золотых круглого щита и меча на золотых перекрещенных стре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37" name="img13385" descr="Флаг Воздушно-десантных войск"/>
          <p:cNvPicPr/>
          <p:nvPr/>
        </p:nvPicPr>
        <p:blipFill>
          <a:blip r:embed="rId2"/>
          <a:stretch/>
        </p:blipFill>
        <p:spPr>
          <a:xfrm>
            <a:off x="2971800" y="1447920"/>
            <a:ext cx="2876400" cy="19238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228600" y="3932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Воздушно-десантных войск представляет собой прямоугольное двухстороннее полотнище голубого цвета с зеленой полосой в нижней части. В центре полотнища – изображение золотого раскрытого парашюта с фигурой парашютиста и двух самолетов с обеих сторон парашю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40" name="img13386" descr="Флаг Космических войск"/>
          <p:cNvPicPr/>
          <p:nvPr/>
        </p:nvPicPr>
        <p:blipFill>
          <a:blip r:embed="rId2"/>
          <a:stretch/>
        </p:blipFill>
        <p:spPr>
          <a:xfrm>
            <a:off x="3200400" y="1447920"/>
            <a:ext cx="2876400" cy="1923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5"/>
          <p:cNvSpPr/>
          <p:nvPr/>
        </p:nvSpPr>
        <p:spPr>
          <a:xfrm>
            <a:off x="457200" y="46634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Космических войск представляет собой прямоугольное двухстороннее полотнище голуб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43" name="img13387" descr="Флаг Тыла Вооруженных Сил Российской Федерации"/>
          <p:cNvPicPr/>
          <p:nvPr/>
        </p:nvPicPr>
        <p:blipFill>
          <a:blip r:embed="rId2"/>
          <a:stretch/>
        </p:blipFill>
        <p:spPr>
          <a:xfrm>
            <a:off x="2895480" y="160020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304920" y="46666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Тыла Вооруженных Сил Российской Федерации представляет собой прямоугольное двухстороннее полотнищ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225360" y="60480"/>
            <a:ext cx="8826480" cy="1682640"/>
          </a:xfrm>
          <a:prstGeom prst="rect">
            <a:avLst/>
          </a:prstGeom>
          <a:ln w="0">
            <a:noFill/>
          </a:ln>
        </p:spPr>
      </p:pic>
      <p:pic>
        <p:nvPicPr>
          <p:cNvPr id="446" name="img13388" descr="Флаг войск радиационной, химической и биологической защиты"/>
          <p:cNvPicPr/>
          <p:nvPr/>
        </p:nvPicPr>
        <p:blipFill>
          <a:blip r:embed="rId2"/>
          <a:stretch/>
        </p:blipFill>
        <p:spPr>
          <a:xfrm>
            <a:off x="2971800" y="1676520"/>
            <a:ext cx="2876400" cy="19238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5"/>
          <p:cNvSpPr/>
          <p:nvPr/>
        </p:nvSpPr>
        <p:spPr>
          <a:xfrm>
            <a:off x="457200" y="47732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войск радиационной, химической и биологической защиты представляет собой прямоугольное двустороннее полотнищ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826480" cy="1036800"/>
          </a:xfrm>
          <a:prstGeom prst="rect">
            <a:avLst/>
          </a:prstGeom>
          <a:ln w="0">
            <a:noFill/>
          </a:ln>
        </p:spPr>
      </p:pic>
      <p:pic>
        <p:nvPicPr>
          <p:cNvPr id="449" name="img13389" descr="Флаг инженерных войск"/>
          <p:cNvPicPr/>
          <p:nvPr/>
        </p:nvPicPr>
        <p:blipFill>
          <a:blip r:embed="rId2"/>
          <a:stretch/>
        </p:blipFill>
        <p:spPr>
          <a:xfrm>
            <a:off x="3124080" y="1295280"/>
            <a:ext cx="2857680" cy="19144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380880" y="43887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инженерных войск представляет собой прямоугольное двустороннее полотнищ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Franklin Gothic Book"/>
              </a:rPr>
              <a:t>К знакам различия относятс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d1f1f"/>
                </a:solidFill>
                <a:latin typeface="Franklin Gothic Book"/>
              </a:rPr>
              <a:t>а)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 знаки различия по принадлежност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к Министерству обороны Российской Федерации, Генеральному штабу Вооруженных Сил Российской Федерации, видам и родам войск Вооруженных Сил Российской Федерации, Тылу Вооруженных Сил Российской Федерации, Железнодорожным войскам, войскам, не входящим в виды и рода войск Вооруженных Сил Российской Федераци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к конкретным воинским формированиям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d1f1f"/>
                </a:solidFill>
                <a:latin typeface="Franklin Gothic Book"/>
              </a:rPr>
              <a:t>б) 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знаки различия по функциональному предназначению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d1f1f"/>
                </a:solidFill>
                <a:latin typeface="Franklin Gothic Book"/>
              </a:rPr>
              <a:t>в) 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персонифицированные знаки различ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766360" cy="1280880"/>
          </a:xfrm>
          <a:prstGeom prst="rect">
            <a:avLst/>
          </a:prstGeom>
          <a:ln w="0">
            <a:noFill/>
          </a:ln>
        </p:spPr>
      </p:pic>
      <p:pic>
        <p:nvPicPr>
          <p:cNvPr id="454" name="img13770" descr="img13770"/>
          <p:cNvPicPr/>
          <p:nvPr/>
        </p:nvPicPr>
        <p:blipFill>
          <a:blip r:embed="rId2"/>
          <a:stretch/>
        </p:blipFill>
        <p:spPr>
          <a:xfrm>
            <a:off x="1828800" y="1752480"/>
            <a:ext cx="5105520" cy="28958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5"/>
          <p:cNvSpPr/>
          <p:nvPr/>
        </p:nvSpPr>
        <p:spPr>
          <a:xfrm>
            <a:off x="457200" y="487692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Эмблема Вооруженных Сил Российской Федерации – изображение золотого (серебряного) двуглавого орла с распростертыми крыльями, держащего в правой лапе меч, а в левой – лавровый венок. На груди орла расположен щит, увенчанный короной. На щите на красном поле – всадник, поражающий копьем др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Franklin Gothic Book"/>
              </a:rPr>
              <a:t>Учреждена Указом Президента Российской Федерации от 21 июля 2003 г. № 821 «О военном геральдическом знаке – эмблеме и флаге Министерства обороны Российской Федераци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Franklin Gothic Book"/>
              </a:rPr>
              <a:t>Положение утверждено приказом Министра обороны Российской Федерации дт 14 ноября 2003 г. № 399 «Об утверждении Положения о военн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Franklin Gothic Book"/>
              </a:rPr>
              <a:t>геральдической знаке – эмблеме и флаге Министерства обороны Российской Федерации и Положения о флагах войск и воинских формирований Вооруженных Сил Российской Федераци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Эмблема Министерства Обороны РФ"/>
          <p:cNvPicPr/>
          <p:nvPr/>
        </p:nvPicPr>
        <p:blipFill>
          <a:blip r:embed="rId2"/>
          <a:stretch/>
        </p:blipFill>
        <p:spPr>
          <a:xfrm>
            <a:off x="2666880" y="114300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5"/>
          <p:cNvSpPr/>
          <p:nvPr/>
        </p:nvSpPr>
        <p:spPr>
          <a:xfrm>
            <a:off x="457200" y="38098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Эмблема Министерства обороны Российской Федерации – изображение серебряного, увенчанного короной двуглавого орла с распростертыми крыльями. В правой лапе орла – меч, в левой – дубовый венок. На груди орла – красный, треугольный, вытянутый книзу щит со штоком, восходящим к короне. В поле щита – всадник, поражающий копьем др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Государственный флаг РФ</a:t>
            </a:r>
            <a:r>
              <a:rPr b="0" lang="ru-RU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Государственный флаг РФ представляет собой прямоугольное полотнище из трех равновеликих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 горизонтальных полос: верхней - белого, средней - синего и нижней - красного цвет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В настоящее время чаще всего используется следующая трактовка значений цветов флага России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белый цвет означает мир, чистоту, непорочность, совершенство;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синий - цвет веры и верности, постоянства;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красный цвет символизирует энергию, силу, кровь, пролитую за Отечество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8" descr="Флаг Российской Федерации. Фото: © РИА Новости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71800" y="4572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оенная форма одежды- это общее название всех  предметов военного обмундирования, снаряжение  и  знаков  различия, принятых для  личного  состава арми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тношение  к  военному  мундиру  в  России  всегда  было  заинтересованным  и  даже  любовным.  Мундир  служил  напоминанием  о  боевой  доблести,  чести  и  высоком   чувстве  воинского  товарищест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Единая  форма  одежды  в  русской  армии была  введена  еще  при  Петре I,  в  дальнейшем неоднократно   менялась  и  совершенствовалас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  настоящие  время  в  Российской  Армии  введена  форма  одежды  приказом    МО   РФ  №210  от  28. 03. 97 г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оенная  форма  одежда  подразделяется  на  парадную,  повседневную и  полевую,  из  этих  форм  кроме  того  на  летнюю  и  зимню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8088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5" name="Picture 53" descr="http://vs.milrf.ru/warrior/images/1--1.gif"/>
          <p:cNvPicPr/>
          <p:nvPr/>
        </p:nvPicPr>
        <p:blipFill>
          <a:blip r:embed="rId2"/>
          <a:stretch/>
        </p:blipFill>
        <p:spPr>
          <a:xfrm>
            <a:off x="714240" y="1752480"/>
            <a:ext cx="581040" cy="2048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2" descr="http://vs.milrf.ru/warrior/images/1-2.gif"/>
          <p:cNvPicPr/>
          <p:nvPr/>
        </p:nvPicPr>
        <p:blipFill>
          <a:blip r:embed="rId3"/>
          <a:stretch/>
        </p:blipFill>
        <p:spPr>
          <a:xfrm>
            <a:off x="1371600" y="1752480"/>
            <a:ext cx="514440" cy="2048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1" descr="http://vs.milrf.ru/warrior/images/1-3.gif"/>
          <p:cNvPicPr/>
          <p:nvPr/>
        </p:nvPicPr>
        <p:blipFill>
          <a:blip r:embed="rId4"/>
          <a:stretch/>
        </p:blipFill>
        <p:spPr>
          <a:xfrm>
            <a:off x="1981080" y="1752480"/>
            <a:ext cx="628920" cy="20383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5" descr="1-4"/>
          <p:cNvPicPr/>
          <p:nvPr/>
        </p:nvPicPr>
        <p:blipFill>
          <a:blip r:embed="rId5"/>
          <a:stretch/>
        </p:blipFill>
        <p:spPr>
          <a:xfrm>
            <a:off x="3733920" y="1752480"/>
            <a:ext cx="520560" cy="2032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8" descr="http://vs.milrf.ru/warrior/images/1-5.gif"/>
          <p:cNvPicPr/>
          <p:nvPr/>
        </p:nvPicPr>
        <p:blipFill>
          <a:blip r:embed="rId6"/>
          <a:stretch/>
        </p:blipFill>
        <p:spPr>
          <a:xfrm>
            <a:off x="4952880" y="1828800"/>
            <a:ext cx="571680" cy="2009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7" descr="http://vs.milrf.ru/warrior/images/1-6.gif"/>
          <p:cNvPicPr/>
          <p:nvPr/>
        </p:nvPicPr>
        <p:blipFill>
          <a:blip r:embed="rId7"/>
          <a:stretch/>
        </p:blipFill>
        <p:spPr>
          <a:xfrm>
            <a:off x="5715000" y="1828800"/>
            <a:ext cx="552600" cy="203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6" descr="http://vs.milrf.ru/warrior/images/1-7.gif"/>
          <p:cNvPicPr/>
          <p:nvPr/>
        </p:nvPicPr>
        <p:blipFill>
          <a:blip r:embed="rId8"/>
          <a:stretch/>
        </p:blipFill>
        <p:spPr>
          <a:xfrm>
            <a:off x="6400800" y="1905120"/>
            <a:ext cx="533520" cy="201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9"/>
          <p:cNvSpPr/>
          <p:nvPr/>
        </p:nvSpPr>
        <p:spPr>
          <a:xfrm>
            <a:off x="0" y="3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0"/>
          <p:cNvSpPr/>
          <p:nvPr/>
        </p:nvSpPr>
        <p:spPr>
          <a:xfrm>
            <a:off x="376920" y="4190040"/>
            <a:ext cx="26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ер, прапорщик арм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1"/>
          <p:cNvSpPr/>
          <p:nvPr/>
        </p:nvSpPr>
        <p:spPr>
          <a:xfrm>
            <a:off x="2971440" y="419004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нщина-в/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 арм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2"/>
          <p:cNvSpPr/>
          <p:nvPr/>
        </p:nvSpPr>
        <p:spPr>
          <a:xfrm>
            <a:off x="5029200" y="41140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е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мичман фл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2-4"/>
          <p:cNvPicPr/>
          <p:nvPr/>
        </p:nvPicPr>
        <p:blipFill>
          <a:blip r:embed="rId2"/>
          <a:stretch/>
        </p:blipFill>
        <p:spPr>
          <a:xfrm>
            <a:off x="4038480" y="2438280"/>
            <a:ext cx="581040" cy="20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http://vs.milrf.ru/warrior/images/2-1.gif"/>
          <p:cNvPicPr/>
          <p:nvPr/>
        </p:nvPicPr>
        <p:blipFill>
          <a:blip r:embed="rId3"/>
          <a:stretch/>
        </p:blipFill>
        <p:spPr>
          <a:xfrm>
            <a:off x="838080" y="2362320"/>
            <a:ext cx="590760" cy="20095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http://vs.milrf.ru/warrior/images/2-2.gif"/>
          <p:cNvPicPr/>
          <p:nvPr/>
        </p:nvPicPr>
        <p:blipFill>
          <a:blip r:embed="rId4"/>
          <a:stretch/>
        </p:blipFill>
        <p:spPr>
          <a:xfrm>
            <a:off x="1523880" y="2362320"/>
            <a:ext cx="628920" cy="20192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http://vs.milrf.ru/warrior/images/2-3.gif"/>
          <p:cNvPicPr/>
          <p:nvPr/>
        </p:nvPicPr>
        <p:blipFill>
          <a:blip r:embed="rId5"/>
          <a:stretch/>
        </p:blipFill>
        <p:spPr>
          <a:xfrm>
            <a:off x="2362320" y="2438280"/>
            <a:ext cx="600120" cy="201960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1" descr="http://vs.milrf.ru/warrior/images/2-5.gif"/>
          <p:cNvPicPr/>
          <p:nvPr/>
        </p:nvPicPr>
        <p:blipFill>
          <a:blip r:embed="rId6"/>
          <a:stretch/>
        </p:blipFill>
        <p:spPr>
          <a:xfrm>
            <a:off x="5486400" y="2438280"/>
            <a:ext cx="571680" cy="2019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http://vs.milrf.ru/warrior/images/2-6.gif"/>
          <p:cNvPicPr/>
          <p:nvPr/>
        </p:nvPicPr>
        <p:blipFill>
          <a:blip r:embed="rId7"/>
          <a:stretch/>
        </p:blipFill>
        <p:spPr>
          <a:xfrm>
            <a:off x="6477120" y="2514600"/>
            <a:ext cx="542880" cy="2009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http://vs.milrf.ru/warrior/images/2-7.gif"/>
          <p:cNvPicPr/>
          <p:nvPr/>
        </p:nvPicPr>
        <p:blipFill>
          <a:blip r:embed="rId8"/>
          <a:stretch/>
        </p:blipFill>
        <p:spPr>
          <a:xfrm>
            <a:off x="7467480" y="2590920"/>
            <a:ext cx="638280" cy="20192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2"/>
          <p:cNvSpPr/>
          <p:nvPr/>
        </p:nvSpPr>
        <p:spPr>
          <a:xfrm>
            <a:off x="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302040" y="464724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жант, солдат арм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2892600" y="464724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нщина-в/с  фло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5483880" y="4677120"/>
            <a:ext cx="23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жант, матрос фло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228600" y="50292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Существующие военная форма и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9"/>
              </a:rPr>
              <a:t>знаки различия</a:t>
            </a: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 утверждены Указом Президента РФ "О военной форме одежды и знаках различия по воинским званиям" от 23 мая 1994 г. N 1010. Правила ношения военной формы одежды военнослужащими Вооруженных Сил утверждены приказом министра обороны РФ от 28 марта 1997 г. N 2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znak_r"/>
          <p:cNvPicPr/>
          <p:nvPr/>
        </p:nvPicPr>
        <p:blipFill>
          <a:blip r:embed="rId2"/>
          <a:stretch/>
        </p:blipFill>
        <p:spPr>
          <a:xfrm>
            <a:off x="2971800" y="137160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6"/>
          <p:cNvSpPr/>
          <p:nvPr/>
        </p:nvSpPr>
        <p:spPr>
          <a:xfrm>
            <a:off x="457200" y="5105880"/>
            <a:ext cx="80010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арукавная эмблема Вооруженных Сил</a:t>
            </a:r>
            <a:br>
              <a:rPr sz="20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Эмблема указывает на принадлежность к Вооруженным Силам и носится на левом рукаве у плеча все военнослужащих на всех видах одежды (кроме рубаше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877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znak-v"/>
          <p:cNvPicPr/>
          <p:nvPr/>
        </p:nvPicPr>
        <p:blipFill>
          <a:blip r:embed="rId2"/>
          <a:stretch/>
        </p:blipFill>
        <p:spPr>
          <a:xfrm>
            <a:off x="533520" y="1828800"/>
            <a:ext cx="2876400" cy="38289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5"/>
          <p:cNvSpPr/>
          <p:nvPr/>
        </p:nvSpPr>
        <p:spPr>
          <a:xfrm>
            <a:off x="3505320" y="1930320"/>
            <a:ext cx="51051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Эмблема крепятся на правый рукав всех видов одежды (кроме рубашек) всех военнослужащих. Вместо нарукавных знаков по родам войск может использоваться эмблема конкретного военного округа, соединения, части, эмблема принадлежности к элитным частям и подразделениям (Спецназ, Осназ, Спецназ ГРУ, Войсковая разведка и тд. и т.п.)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На рисунке приведены  эмблемы видов Вооруженных сил и родов войск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.Центральный аппарат Министерства оборон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2.Ракетные войска стратегического назначения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3.Сухопутные войска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4.Войска противовоздушной обороны стран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5.Военно-воздушные сил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6.Военно-морской флот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7.Военно-космические сил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8.Авиация сухопутных войск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9.Воздушно-десантные войска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0.Авиация войск противовоздушной об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Каждому   военнослужащему   присваивается  воинское  звание</a:t>
            </a:r>
            <a:r>
              <a:rPr b="0" lang="tt-RU" sz="1600" spc="-1" strike="noStrike">
                <a:solidFill>
                  <a:srgbClr val="0000cc"/>
                </a:solidFill>
                <a:latin typeface="Times New Roman"/>
              </a:rPr>
              <a:t>  в  порядке,  установленном   соответствую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щ</a:t>
            </a:r>
            <a:r>
              <a:rPr b="0" lang="tt-RU" sz="1600" spc="-1" strike="noStrike">
                <a:solidFill>
                  <a:srgbClr val="0000cc"/>
                </a:solidFill>
                <a:latin typeface="Times New Roman"/>
              </a:rPr>
              <a:t>им   положением  о  прохождении  службы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Воинское  звание  военнослужащим  присваивают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высшие  воинские  звания – Президент  РФ 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полковника (капитан 1го ранга) и  первое  офицерское  воинское звание – Министр   обороны  РФ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 подполковника (капитан 2го ранга) – заместители министра   обороны  РФ, главнокомандующие   видами  ВС  РФ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майора (капитан 3го ранга) – командующие войсками  военных округов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cc"/>
                </a:solidFill>
                <a:latin typeface="Times New Roman"/>
              </a:rPr>
              <a:t>до  старшего  прапорщика (старшего мичмана)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 – командующими  объединениями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 старшины (главного  корабельного  старшины) – командирами соединений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 старшего  сержанта (главного  старшины) – командирами  воинских  частей (полков, кораблей 1 го  ранга  им равным)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ефрейтора  (старшего  матроса)  или  курсанта– командиры  воинских  частей.</a:t>
            </a:r>
            <a:r>
              <a:rPr b="0" lang="tt-RU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01600" y="457200"/>
            <a:ext cx="8790120" cy="841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pag-s"/>
          <p:cNvPicPr/>
          <p:nvPr/>
        </p:nvPicPr>
        <p:blipFill>
          <a:blip r:embed="rId2"/>
          <a:stretch/>
        </p:blipFill>
        <p:spPr>
          <a:xfrm>
            <a:off x="1447920" y="1295280"/>
            <a:ext cx="5715000" cy="221004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5"/>
          <p:cNvSpPr/>
          <p:nvPr/>
        </p:nvSpPr>
        <p:spPr>
          <a:xfrm>
            <a:off x="694800" y="4191120"/>
            <a:ext cx="822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Слева направо: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1. Старшина (парадный мундир или шинель сухопутных  войск)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2.Старший сержант (парадный мундир или шинель ВДВ или авиация).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3.Сержант (парадный мундир или шинель сухопутных войск)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4.Младший сержант (белая блузка женщины-военнослужащей).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5. Ефрейтор (бежевое платье женищины-военнослужащей)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6.Рядовой (зеленая рубашк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1000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pag-k"/>
          <p:cNvPicPr/>
          <p:nvPr/>
        </p:nvPicPr>
        <p:blipFill>
          <a:blip r:embed="rId2"/>
          <a:stretch/>
        </p:blipFill>
        <p:spPr>
          <a:xfrm>
            <a:off x="1143000" y="1447920"/>
            <a:ext cx="6858000" cy="2286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5"/>
          <p:cNvSpPr/>
          <p:nvPr/>
        </p:nvSpPr>
        <p:spPr>
          <a:xfrm>
            <a:off x="1225080" y="4038840"/>
            <a:ext cx="712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Слева направо: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1.Курсант в звании старшина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2.Курсант в звании старший сержант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3. Курсант училища ВВС в звании сержант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4.Курсант в звании младший сержант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5.Курсант училища ВВС в звании ефрейтор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6.Курсант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7.Муфточка на погон к "афганке"курсанта в звании старш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201600" y="237960"/>
            <a:ext cx="8790120" cy="1060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pag-p"/>
          <p:cNvPicPr/>
          <p:nvPr/>
        </p:nvPicPr>
        <p:blipFill>
          <a:blip r:embed="rId2"/>
          <a:stretch/>
        </p:blipFill>
        <p:spPr>
          <a:xfrm>
            <a:off x="1523880" y="1143000"/>
            <a:ext cx="6629400" cy="2666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5"/>
          <p:cNvSpPr/>
          <p:nvPr/>
        </p:nvSpPr>
        <p:spPr>
          <a:xfrm>
            <a:off x="380880" y="41911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Слева направо: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1.Старший прапорщик сухопутных войск.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2.Прапорщик военно-воздушных сил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3.Прапорщик воздушно-десантных или военно-космических войск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4.Погон к зеленой рубашке прапорщика с эмблемой военно-космических войск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5.Погон к белой рубашке старшего прапорщика с эмблемой</a:t>
            </a: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 мотострелковых вой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201600" y="49320"/>
            <a:ext cx="8790120" cy="1249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pag-o"/>
          <p:cNvPicPr/>
          <p:nvPr/>
        </p:nvPicPr>
        <p:blipFill>
          <a:blip r:embed="rId2"/>
          <a:stretch/>
        </p:blipFill>
        <p:spPr>
          <a:xfrm>
            <a:off x="1447920" y="457200"/>
            <a:ext cx="6476760" cy="32004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5"/>
          <p:cNvSpPr/>
          <p:nvPr/>
        </p:nvSpPr>
        <p:spPr>
          <a:xfrm>
            <a:off x="1157040" y="3587040"/>
            <a:ext cx="725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Слева направо сверху вниз: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1.Парадный погон капитана сухопутных войск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2.Парадный погон майора ВВС,ВКС,ВДВ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3.Парадный погон полковника сухопутных вой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4.Повседневный погон полковника сухопутных войск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5.Повседневный погон майора ВВС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6.Повседневный погон ст.лейтенанта ВДВ, ВКС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7.Погон лейтенанта к белой рубашке с общевойсковой эмблемой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8.Полевой погон подполковника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9.Полевой погон лейтенанта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10.Полевой погон капитана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11.Погон лейтенанта к зеленой рубашке с общевойсковой эмблемо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2" name="Picture 7" descr="Герб Р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-228600"/>
            <a:ext cx="3429000" cy="32767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304920" y="2989800"/>
            <a:ext cx="8305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герб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осударственный герб Российской Федерации является официальным государственным символом Российской Федерации. Государственный герб Российской Федерац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 Орел увенчан двумя малыми коронами и - над ними - одной большой короной, соединенными лентой. В правой лапе орла - скипетр, в левой - держава. На груди орла, в красном щите, - серебряный всадник в синем плаще на серебряном коне, поражающий серебряным копьем черного опрокинутого навзничь и попранного конем драк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pag-g"/>
          <p:cNvPicPr/>
          <p:nvPr/>
        </p:nvPicPr>
        <p:blipFill>
          <a:blip r:embed="rId2"/>
          <a:stretch/>
        </p:blipFill>
        <p:spPr>
          <a:xfrm>
            <a:off x="1828800" y="1295280"/>
            <a:ext cx="5715000" cy="26672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1815120" y="3959280"/>
            <a:ext cx="6487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Слева направо сверху вниз: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-Парадный погон маршала РФ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2.Парадный погон генерала армии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3.Парадный погон генерал-полковника авиации, ВДВ, ВКС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4.Парадный погон генерал-лейтенанта сухопутных войск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5.Повседневный погон маршала РФ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6.Повседневный погон генерала армии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7.Повседневный погон генерал-полковника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8.Повседневный погон генерал-майора авиации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9.Погон к зеленой рубашке генерал-лейтенанта медицинской служб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0.Погон к белой рубашке генерал-лейтенанта юстиции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1.Полевой погон генерала ар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8326440" cy="736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emlbem22s"/>
          <p:cNvPicPr/>
          <p:nvPr/>
        </p:nvPicPr>
        <p:blipFill>
          <a:blip r:embed="rId2"/>
          <a:stretch/>
        </p:blipFill>
        <p:spPr>
          <a:xfrm>
            <a:off x="2590920" y="914400"/>
            <a:ext cx="4572000" cy="25146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609480" y="3429000"/>
            <a:ext cx="815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1.Ракетные войска стратегического назначения.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2.Общевойсковая эмблема. Предназначена для военнослужащи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для которых не определены эмблемы рода войск, службы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(тыловые службы, финансисты, административные органы,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военные комиссариаты, военные представительства и т.п.)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3.Войска противовоздушной обороны. 4.Военно-воздушные силы. 5.Воздушно-десантные войска.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6.Военно-космические силы. 7.Мотострелковые войска. 8.Танковые войска. 9.Ракетные войска и артиллерия. 10.Инженерные войска. 11.Войска радиационной, биологической и химической защиты.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12.Войска связи. 13.Автомобильные войска. 14.Дорожные войска. 15.Топографическая служба.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16.Юридическая служба. 17.Служба военных сообщений (эмблема также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 применяется  в железнодорожных войсках)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18.Служба горючего и смазочных материалов.  19.Медицинская служба. 20.Ветеринарно-санитарная служба. 21.Военно-оркестровая служба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Эмблемы родов войск располагаются в углах воротников, а на ряде предметов военной одежды на погонах (рубашки, шинели, пальто и куртки демисезонные с меховым воротником, летний плащ, шерстяная курт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9440" y="-23760"/>
            <a:ext cx="8937720" cy="1792080"/>
          </a:xfrm>
          <a:prstGeom prst="rect">
            <a:avLst/>
          </a:prstGeom>
          <a:ln w="0">
            <a:noFill/>
          </a:ln>
        </p:spPr>
      </p:pic>
      <p:pic>
        <p:nvPicPr>
          <p:cNvPr id="415" name="img13400" descr="Знамя Вооруженных Сил Российской Федерации - (лицевая сторона)"/>
          <p:cNvPicPr/>
          <p:nvPr/>
        </p:nvPicPr>
        <p:blipFill>
          <a:blip r:embed="rId2"/>
          <a:stretch/>
        </p:blipFill>
        <p:spPr>
          <a:xfrm>
            <a:off x="538200" y="2286000"/>
            <a:ext cx="3035160" cy="3433680"/>
          </a:xfrm>
          <a:prstGeom prst="rect">
            <a:avLst/>
          </a:prstGeom>
          <a:ln w="0">
            <a:noFill/>
          </a:ln>
        </p:spPr>
      </p:pic>
      <p:pic>
        <p:nvPicPr>
          <p:cNvPr id="416" name="img13401" descr="Знамя Вооруженных Сил Российской Федерации - (оборотная сторона)"/>
          <p:cNvPicPr/>
          <p:nvPr/>
        </p:nvPicPr>
        <p:blipFill>
          <a:blip r:embed="rId3"/>
          <a:stretch/>
        </p:blipFill>
        <p:spPr>
          <a:xfrm>
            <a:off x="4800600" y="2362320"/>
            <a:ext cx="2806560" cy="34416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374480" y="510480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Лицевая стор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955760" y="51807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Оборотная стор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324000"/>
            <a:ext cx="8881920" cy="1438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Флаг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Franklin Gothic Book"/>
              </a:rPr>
              <a:t>Флаги Вооруженных Сил Российской Федераци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Franklin Gothic Book"/>
              </a:rPr>
              <a:t>Флаг Министерства обороны Российской Федераци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Franklin Gothic Book"/>
              </a:rPr>
              <a:t>Учрежден Указом Президента Российской Федерации от 21 июля 2003 г. № 821 «О военном геральдическом знаке – эмблеме и флаге Министерства обороны Российской Федераци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img13379" descr="Флаг Министерства обороны Российской Федерации"/>
          <p:cNvPicPr/>
          <p:nvPr/>
        </p:nvPicPr>
        <p:blipFill>
          <a:blip r:embed="rId1"/>
          <a:stretch/>
        </p:blipFill>
        <p:spPr>
          <a:xfrm>
            <a:off x="2362320" y="114300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Franklin Gothic Book"/>
              </a:rPr>
              <a:t>Флаг представляет собой прямоугольное двухстороннее полотнище. Рисунок лицевой и оборотной сторон полотнища одинаков и представляет собой четырехконечный крест белого цвета с расширяющимися концами и с равноразделенными красно-синими углами (между концами креста). Красные половины углов примыкают к вертикальным концам крес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Franklin Gothic Book"/>
              </a:rPr>
              <a:t>В центре полотнища изображен военный геральдический знак – эмблема Министерства обороны Российской Федерац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993240" y="380880"/>
            <a:ext cx="75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лаг Вооруженных Сил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766360" cy="1189080"/>
          </a:xfrm>
          <a:prstGeom prst="rect">
            <a:avLst/>
          </a:prstGeom>
          <a:ln w="0">
            <a:noFill/>
          </a:ln>
        </p:spPr>
      </p:pic>
      <p:pic>
        <p:nvPicPr>
          <p:cNvPr id="425" name="img13380" descr="Флаг Сухопутных войск"/>
          <p:cNvPicPr/>
          <p:nvPr/>
        </p:nvPicPr>
        <p:blipFill>
          <a:blip r:embed="rId2"/>
          <a:stretch/>
        </p:blipFill>
        <p:spPr>
          <a:xfrm>
            <a:off x="2209680" y="1143000"/>
            <a:ext cx="4572000" cy="26668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457200" y="4119840"/>
            <a:ext cx="7772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Флаг Сухопутных войск представляет собой двухстороннее полотнище красного цвета. В центре полотнища – изображение малой эмблемы Сухопутных войск (золотая пылающая гренада на фоне двух перекрещенных меч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Отношение ширины флага к его длине 2:3. Отношение ширины эмблемы Сухопутных войск к длине флага 4: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28" name="img13381" descr="Флаг Военно-воздушных сил"/>
          <p:cNvPicPr/>
          <p:nvPr/>
        </p:nvPicPr>
        <p:blipFill>
          <a:blip r:embed="rId2"/>
          <a:stretch/>
        </p:blipFill>
        <p:spPr>
          <a:xfrm>
            <a:off x="2666880" y="1600200"/>
            <a:ext cx="2876760" cy="19242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5"/>
          <p:cNvSpPr/>
          <p:nvPr/>
        </p:nvSpPr>
        <p:spPr>
          <a:xfrm>
            <a:off x="380880" y="4827600"/>
            <a:ext cx="8458200" cy="946440"/>
          </a:xfrm>
          <a:prstGeom prst="rect">
            <a:avLst/>
          </a:prstGeom>
          <a:solidFill>
            <a:srgbClr val="f2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Флаг Военно-воздушных сил представляет собой прямоугольное двухстороннее полотнище голубого цвета. В центре полотнища – изображение перекрещенных серебряных пропеллера и зенитной пушки на серебряных парящих крыль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378000" y="122400"/>
            <a:ext cx="8327880" cy="1523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Знамя Военно-Морского Флота"/>
          <p:cNvPicPr/>
          <p:nvPr/>
        </p:nvPicPr>
        <p:blipFill>
          <a:blip r:embed="rId2"/>
          <a:stretch/>
        </p:blipFill>
        <p:spPr>
          <a:xfrm>
            <a:off x="2743200" y="167652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304920" y="502884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Военно-морской флаг представляет собой белое полотнище с двумя диагональными полосами голуб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Размеры флага: отношение ширины флага к его длине 1:1,5; ширина синей полосы равна 1/10 длины ф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9-15T08:48:3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