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20.png" ContentType="image/png"/>
  <Override PartName="/ppt/media/image36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431-2D83-458C-80ED-E0AE2216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68C-515E-4CFA-A592-B9064FCC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243-EE69-4C57-BE61-0ECB32E6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A44-691F-427C-9F4F-68C0E416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7BF-2007-4A21-9713-92C3714F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E14-AF3E-43A0-85C8-A62648EC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659-E3F2-43FD-8EA5-AB938D44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F3A-9EEC-4094-BA19-DFCEC1B1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B07-5B4E-4C65-9553-1D9D50A6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9E4-3A39-49E8-B282-F6E2596A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CD7-0C72-46FC-9802-B31EF091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ADF-A17B-437C-9DE6-D0498870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e"/>
            </a:gs>
            <a:gs pos="50000">
              <a:srgbClr val="ebf6f7"/>
            </a:gs>
            <a:gs pos="100000">
              <a:srgbClr val="fc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9F0D-1EE5-43AA-92F3-833124FD5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audio" Target="file:///tmp/home/.config/libreoffice/4/user/gallery/&#1050;&#1088;&#1072;&#1089;&#1085;&#1072;&#1103;%20&#1089;&#1090;&#1088;&#1072;&#1085;&#1080;&#1094;&#1072;.wav" TargetMode="External"/><Relationship Id="rId6" Type="http://schemas.microsoft.com/office/2007/relationships/media" Target="file:///tmp/home/.config/libreoffice/4/user/gallery/&#1050;&#1088;&#1072;&#1089;&#1085;&#1072;&#1103;%20&#1089;&#1090;&#1088;&#1072;&#1085;&#1080;&#1094;&#1072;.wav" TargetMode="External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audio" Target="file:///tmp/home/.config/libreoffice/4/user/gallery/22.wav" TargetMode="External"/><Relationship Id="rId5" Type="http://schemas.microsoft.com/office/2007/relationships/media" Target="file:///tmp/home/.config/libreoffice/4/user/gallery/22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audio" Target="file:///tmp/home/.config/libreoffice/4/user/gallery/144.wav" TargetMode="External"/><Relationship Id="rId4" Type="http://schemas.microsoft.com/office/2007/relationships/media" Target="file:///tmp/home/.config/libreoffice/4/user/gallery/144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file:///tmp/home/.config/libreoffice/4/user/gallery/2.wav" TargetMode="External"/><Relationship Id="rId4" Type="http://schemas.microsoft.com/office/2007/relationships/media" Target="file:///tmp/home/.config/libreoffice/4/user/gallery/2.wav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audio" Target="file:///tmp/home/.config/libreoffice/4/user/gallery/3.wav" TargetMode="External"/><Relationship Id="rId6" Type="http://schemas.microsoft.com/office/2007/relationships/media" Target="file:///tmp/home/.config/libreoffice/4/user/gallery/3.wav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file:///tmp/home/.config/libreoffice/4/user/gallery/4.wav" TargetMode="External"/><Relationship Id="rId5" Type="http://schemas.microsoft.com/office/2007/relationships/media" Target="file:///tmp/home/.config/libreoffice/4/user/gallery/4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audio" Target="file:///tmp/home/.config/libreoffice/4/user/gallery/5.wav" TargetMode="External"/><Relationship Id="rId4" Type="http://schemas.microsoft.com/office/2007/relationships/media" Target="file:///tmp/home/.config/libreoffice/4/user/gallery/5.wav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file:///tmp/home/.config/libreoffice/4/user/gallery/6.wav" TargetMode="External"/><Relationship Id="rId4" Type="http://schemas.microsoft.com/office/2007/relationships/media" Target="file:///tmp/home/.config/libreoffice/4/user/gallery/6.wav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audio" Target="file:///tmp/home/.config/libreoffice/4/user/gallery/7.wav" TargetMode="External"/><Relationship Id="rId4" Type="http://schemas.microsoft.com/office/2007/relationships/media" Target="file:///tmp/home/.config/libreoffice/4/user/gallery/7.wav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audio" Target="file:///tmp/home/.config/libreoffice/4/user/gallery/12.wav" TargetMode="External"/><Relationship Id="rId6" Type="http://schemas.microsoft.com/office/2007/relationships/media" Target="file:///tmp/home/.config/libreoffice/4/user/gallery/12.wav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audio" Target="file:///tmp/home/.config/libreoffice/4/user/gallery/14.wav" TargetMode="External"/><Relationship Id="rId4" Type="http://schemas.microsoft.com/office/2007/relationships/media" Target="file:///tmp/home/.config/libreoffice/4/user/gallery/14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2920" y="1557000"/>
            <a:ext cx="55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Ц</a:t>
            </a: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1" lang="en-US" sz="9600" spc="-1" strike="noStrike">
                <a:solidFill>
                  <a:srgbClr val="66ccff"/>
                </a:solidFill>
                <a:latin typeface="Arial"/>
              </a:rPr>
              <a:t>Е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Т</a:t>
            </a:r>
            <a:r>
              <a:rPr b="1" lang="en-US" sz="9600" spc="-1" strike="noStrike">
                <a:solidFill>
                  <a:srgbClr val="00ff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933720"/>
            <a:ext cx="180000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4076640"/>
            <a:ext cx="2089080" cy="158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4292640"/>
            <a:ext cx="208908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4581360"/>
            <a:ext cx="2089080" cy="1584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4221000"/>
            <a:ext cx="2089080" cy="1584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3645000"/>
            <a:ext cx="2089080" cy="158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1803240" cy="1798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00360" y="3860640"/>
            <a:ext cx="2089080" cy="158436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86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ЕЛ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нег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1628640" cy="218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32000" y="4365720"/>
            <a:ext cx="2089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443640" y="1700280"/>
            <a:ext cx="2144880" cy="2187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0360" y="4437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851280" y="3789360"/>
            <a:ext cx="2389320" cy="134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10108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66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666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079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9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КОРИЧНЕ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Коричне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Коричне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Коричнев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шляпка у белого гри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2911320" cy="2186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32000" y="4365720"/>
            <a:ext cx="2089080" cy="158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372360" y="4508640"/>
            <a:ext cx="2458800" cy="1844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211640" y="3716280"/>
            <a:ext cx="2592360" cy="1865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75640" y="645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63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7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СЕР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Сер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ж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Сер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2849400" cy="2881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5640" y="3429000"/>
            <a:ext cx="2089080" cy="158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19640" y="4149720"/>
            <a:ext cx="2392200" cy="2187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53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КРАС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ми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ас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жарная ма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раб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300720" y="3500280"/>
            <a:ext cx="2349720" cy="218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4076640"/>
            <a:ext cx="180036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419640" y="3933720"/>
            <a:ext cx="2665080" cy="1995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9567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572000" y="1268280"/>
            <a:ext cx="4038480" cy="2113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8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185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53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РАНЖЕ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Оранже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пель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Оранже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анда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Рыж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Рыж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67640" y="1197000"/>
            <a:ext cx="981000" cy="102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71640" y="4797360"/>
            <a:ext cx="2089080" cy="158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08360" y="1700280"/>
            <a:ext cx="3960720" cy="2568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732720" y="4724280"/>
            <a:ext cx="1904760" cy="1648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635280" y="458136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544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708360" y="2997360"/>
            <a:ext cx="2524320" cy="2517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ЖЕЛ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им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вет лам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елт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148360" y="1125360"/>
            <a:ext cx="3571920" cy="218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42920" y="4365720"/>
            <a:ext cx="208908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372360" y="3860640"/>
            <a:ext cx="2195280" cy="2187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17236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31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315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65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ЗЕЛЕ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Зеле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гу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Зелен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код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Зеле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яг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Зеле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и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24360" y="3429000"/>
            <a:ext cx="1244520" cy="218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87280" y="4508640"/>
            <a:ext cx="2089440" cy="1584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292720" y="3500280"/>
            <a:ext cx="3363840" cy="2546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9567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7093080" y="1773360"/>
            <a:ext cx="1380960" cy="1019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643280" y="1484280"/>
            <a:ext cx="2372040" cy="175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23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235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062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0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ГОЛУБ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Голубо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Голуб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ета 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Голубо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льто у дев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80000" y="1557360"/>
            <a:ext cx="2772000" cy="2000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03280" y="4724280"/>
            <a:ext cx="2089080" cy="1584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51280" y="3645000"/>
            <a:ext cx="1962000" cy="2014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12000" y="4149720"/>
            <a:ext cx="2695320" cy="18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97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9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СИ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Сине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Сине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е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25960" y="1600200"/>
            <a:ext cx="3282840" cy="2185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4221000"/>
            <a:ext cx="2089440" cy="158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84720" y="40053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10108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27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275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748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6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c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ФИОЛЕТО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Фиолетов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в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Фиолетов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л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Фиолетов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Фиолето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аклаж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1944720" cy="133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4221000"/>
            <a:ext cx="2089440" cy="158436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564000" y="3357720"/>
            <a:ext cx="3066840" cy="1990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08720" y="4508640"/>
            <a:ext cx="3019320" cy="2028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6000" y="2492280"/>
            <a:ext cx="285732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99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Р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ное ночное не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ный роя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32000" y="4365720"/>
            <a:ext cx="2089080" cy="158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27640" y="4005360"/>
            <a:ext cx="2628720" cy="218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79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7:15:42Z</dcterms:created>
  <dc:creator>Ambrosovsky</dc:creator>
  <dc:description/>
  <dc:language>en-US</dc:language>
  <cp:lastModifiedBy>Ambrosovsky</cp:lastModifiedBy>
  <dcterms:modified xsi:type="dcterms:W3CDTF">2006-02-26T12:59:30Z</dcterms:modified>
  <cp:revision>84</cp:revision>
  <dc:subject/>
  <dc:title>ЦВЕТА</dc:title>
</cp:coreProperties>
</file>