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2.jpeg" ContentType="image/jpeg"/>
  <Override PartName="/ppt/media/image7.png" ContentType="image/png"/>
  <Override PartName="/ppt/media/image34.jpeg" ContentType="image/jpeg"/>
  <Override PartName="/ppt/media/image18.png" ContentType="image/png"/>
  <Override PartName="/ppt/media/image28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6.png" ContentType="image/png"/>
  <Override PartName="/ppt/media/image5.png" ContentType="image/png"/>
  <Override PartName="/ppt/media/image35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.png" ContentType="image/png"/>
  <Override PartName="/ppt/media/image11.png" ContentType="image/png"/>
  <Override PartName="/ppt/media/image9.jpeg" ContentType="image/jpeg"/>
  <Override PartName="/ppt/media/image20.png" ContentType="image/png"/>
  <Override PartName="/ppt/media/image36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6.png" ContentType="image/pn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CBE0-6A32-4221-A4FC-0F47CCA61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C68E-3DEC-46E0-A824-EF3AE415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20FB-36E8-4F27-8A89-42551D067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68F0-2B41-4465-BE54-5EE9209A7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7DD7-EF44-4DAF-8CDB-DCB5BFBC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E560-BB17-492B-9C96-F4DE6A9B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4E5F-318A-4E42-A8A2-D63C7963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4D51-115A-4FA0-8BF2-6529A140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84DF-A7AC-4184-B719-3555CBAA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1255-9E6E-47DC-BB41-7BD124E8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D3B9-61E9-417E-8E47-921915A3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22EE-D30E-4CFA-B8B5-571F565C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fe"/>
            </a:gs>
            <a:gs pos="50000">
              <a:srgbClr val="ebf6f7"/>
            </a:gs>
            <a:gs pos="100000">
              <a:srgbClr val="fc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D2A1-6E4A-42B3-9B15-F374AC860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audio" Target="file:///tmp/home/.config/libreoffice/4/user/gallery/&#1050;&#1088;&#1072;&#1089;&#1085;&#1072;&#1103;%20&#1089;&#1090;&#1088;&#1072;&#1085;&#1080;&#1094;&#1072;.wav" TargetMode="External"/><Relationship Id="rId6" Type="http://schemas.microsoft.com/office/2007/relationships/media" Target="file:///tmp/home/.config/libreoffice/4/user/gallery/&#1050;&#1088;&#1072;&#1089;&#1085;&#1072;&#1103;%20&#1089;&#1090;&#1088;&#1072;&#1085;&#1080;&#1094;&#1072;.wav" TargetMode="External"/><Relationship Id="rId7" Type="http://schemas.openxmlformats.org/officeDocument/2006/relationships/image" Target="../media/image5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audio" Target="file:///tmp/home/.config/libreoffice/4/user/gallery/22.wav" TargetMode="External"/><Relationship Id="rId5" Type="http://schemas.microsoft.com/office/2007/relationships/media" Target="file:///tmp/home/.config/libreoffice/4/user/gallery/22.wav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audio" Target="file:///tmp/home/.config/libreoffice/4/user/gallery/144.wav" TargetMode="External"/><Relationship Id="rId4" Type="http://schemas.microsoft.com/office/2007/relationships/media" Target="file:///tmp/home/.config/libreoffice/4/user/gallery/144.wav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audio" Target="file:///tmp/home/.config/libreoffice/4/user/gallery/2.wav" TargetMode="External"/><Relationship Id="rId4" Type="http://schemas.microsoft.com/office/2007/relationships/media" Target="file:///tmp/home/.config/libreoffice/4/user/gallery/2.wav" TargetMode="External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audio" Target="file:///tmp/home/.config/libreoffice/4/user/gallery/3.wav" TargetMode="External"/><Relationship Id="rId6" Type="http://schemas.microsoft.com/office/2007/relationships/media" Target="file:///tmp/home/.config/libreoffice/4/user/gallery/3.wav" TargetMode="External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audio" Target="file:///tmp/home/.config/libreoffice/4/user/gallery/4.wav" TargetMode="External"/><Relationship Id="rId5" Type="http://schemas.microsoft.com/office/2007/relationships/media" Target="file:///tmp/home/.config/libreoffice/4/user/gallery/4.wav" TargetMode="External"/><Relationship Id="rId6" Type="http://schemas.openxmlformats.org/officeDocument/2006/relationships/image" Target="../media/image5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audio" Target="file:///tmp/home/.config/libreoffice/4/user/gallery/5.wav" TargetMode="External"/><Relationship Id="rId4" Type="http://schemas.microsoft.com/office/2007/relationships/media" Target="file:///tmp/home/.config/libreoffice/4/user/gallery/5.wav" TargetMode="External"/><Relationship Id="rId5" Type="http://schemas.openxmlformats.org/officeDocument/2006/relationships/image" Target="../media/image5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audio" Target="file:///tmp/home/.config/libreoffice/4/user/gallery/6.wav" TargetMode="External"/><Relationship Id="rId4" Type="http://schemas.microsoft.com/office/2007/relationships/media" Target="file:///tmp/home/.config/libreoffice/4/user/gallery/6.wav" TargetMode="External"/><Relationship Id="rId5" Type="http://schemas.openxmlformats.org/officeDocument/2006/relationships/image" Target="../media/image5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audio" Target="file:///tmp/home/.config/libreoffice/4/user/gallery/7.wav" TargetMode="External"/><Relationship Id="rId4" Type="http://schemas.microsoft.com/office/2007/relationships/media" Target="file:///tmp/home/.config/libreoffice/4/user/gallery/7.wav" TargetMode="External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audio" Target="file:///tmp/home/.config/libreoffice/4/user/gallery/12.wav" TargetMode="External"/><Relationship Id="rId6" Type="http://schemas.microsoft.com/office/2007/relationships/media" Target="file:///tmp/home/.config/libreoffice/4/user/gallery/12.wav" TargetMode="External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audio" Target="file:///tmp/home/.config/libreoffice/4/user/gallery/14.wav" TargetMode="External"/><Relationship Id="rId4" Type="http://schemas.microsoft.com/office/2007/relationships/media" Target="file:///tmp/home/.config/libreoffice/4/user/gallery/14.wav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02920" y="1557000"/>
            <a:ext cx="5542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Ц</a:t>
            </a: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В</a:t>
            </a:r>
            <a:r>
              <a:rPr b="1" lang="en-US" sz="9600" spc="-1" strike="noStrike">
                <a:solidFill>
                  <a:srgbClr val="66ccff"/>
                </a:solidFill>
                <a:latin typeface="Arial"/>
              </a:rPr>
              <a:t>Е</a:t>
            </a:r>
            <a:r>
              <a:rPr b="1" lang="en-US" sz="9600" spc="-1" strike="noStrike">
                <a:solidFill>
                  <a:srgbClr val="3333ff"/>
                </a:solidFill>
                <a:latin typeface="Arial"/>
              </a:rPr>
              <a:t>Т</a:t>
            </a:r>
            <a:r>
              <a:rPr b="1" lang="en-US" sz="9600" spc="-1" strike="noStrike">
                <a:solidFill>
                  <a:srgbClr val="00ff00"/>
                </a:solidFill>
                <a:latin typeface="Arial"/>
              </a:rPr>
              <a:t>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3933720"/>
            <a:ext cx="1800000" cy="1368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4076640"/>
            <a:ext cx="2089080" cy="1584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4292640"/>
            <a:ext cx="2089080" cy="158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4581360"/>
            <a:ext cx="2089080" cy="1584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35280" y="4221000"/>
            <a:ext cx="2089080" cy="158436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3645000"/>
            <a:ext cx="2089080" cy="15843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77080" y="260280"/>
            <a:ext cx="1803240" cy="1798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00360" y="3860640"/>
            <a:ext cx="2089080" cy="1584360"/>
          </a:xfrm>
          <a:prstGeom prst="rect">
            <a:avLst/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865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БЕЛ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л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не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л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негов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л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м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л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едве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0" y="1125360"/>
            <a:ext cx="1628640" cy="2186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332000" y="4365720"/>
            <a:ext cx="208908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443640" y="1700280"/>
            <a:ext cx="2144880" cy="2187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940360" y="443700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3851280" y="3789360"/>
            <a:ext cx="2389320" cy="1349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101080" y="638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666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666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0795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9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a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КОРИЧНЕВ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Коричнев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ло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Коричнев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медве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Коричнева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шляпка у белого гри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651640" y="1268280"/>
            <a:ext cx="2911320" cy="2186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332000" y="4365720"/>
            <a:ext cx="2089080" cy="1584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372360" y="4508640"/>
            <a:ext cx="2458800" cy="1844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211640" y="3716280"/>
            <a:ext cx="2592360" cy="1865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675640" y="6453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1636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7"/>
                </p:tgtEl>
              </p:cMediaNode>
            </p:audio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СЕР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Серы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ж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Сер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л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651640" y="1484280"/>
            <a:ext cx="2849400" cy="2881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55640" y="3429000"/>
            <a:ext cx="2089080" cy="1584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419640" y="4149720"/>
            <a:ext cx="2392200" cy="2187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53272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537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3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7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КРАС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Красн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омид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Красна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ожарная маш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Красн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корабл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300720" y="3500280"/>
            <a:ext cx="2349720" cy="2186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55640" y="4076640"/>
            <a:ext cx="1800360" cy="1368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419640" y="3933720"/>
            <a:ext cx="2665080" cy="1995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7956720" y="6237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4572000" y="1268280"/>
            <a:ext cx="4038480" cy="2113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185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185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453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6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ОРАНЖЕВ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Оранжев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апельс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Оранжев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мандар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Рыжа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Рыжа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або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67640" y="1197000"/>
            <a:ext cx="981000" cy="1028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71640" y="4797360"/>
            <a:ext cx="2089080" cy="1584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708360" y="1700280"/>
            <a:ext cx="3960720" cy="2568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732720" y="4724280"/>
            <a:ext cx="1904760" cy="1648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3635280" y="458136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2544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6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708360" y="2997360"/>
            <a:ext cx="2524320" cy="25174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ЖЕЛТ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Желт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лим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Желт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вет ламп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Желт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лн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Желт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е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148360" y="1125360"/>
            <a:ext cx="3571920" cy="2186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042920" y="4365720"/>
            <a:ext cx="2089080" cy="158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6372360" y="3860640"/>
            <a:ext cx="2195280" cy="2187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17236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2315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315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1654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3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ЗЕЛЕ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Зелен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гур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Зелены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окод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Зелена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лягу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Зелен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лист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924360" y="3429000"/>
            <a:ext cx="1244520" cy="2187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187280" y="4508640"/>
            <a:ext cx="2089440" cy="1584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292720" y="3500280"/>
            <a:ext cx="3363840" cy="2546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7956720" y="638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7093080" y="1773360"/>
            <a:ext cx="1380960" cy="10191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4643280" y="1484280"/>
            <a:ext cx="2372040" cy="1752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>
            <a:off x="853272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235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235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0626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0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ГОЛУБ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Arial"/>
              </a:rPr>
              <a:t>Голубо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б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Arial"/>
              </a:rPr>
              <a:t>Голуба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ланета Зем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Arial"/>
              </a:rPr>
              <a:t>Голубо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льто у дев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580000" y="1557360"/>
            <a:ext cx="2772000" cy="20001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403280" y="4724280"/>
            <a:ext cx="2089080" cy="158436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851280" y="3645000"/>
            <a:ext cx="1962000" cy="2014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6012000" y="4149720"/>
            <a:ext cx="2695320" cy="186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976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9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СИ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Сине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мо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Сине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еб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025960" y="1600200"/>
            <a:ext cx="3282840" cy="2185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00000" y="4221000"/>
            <a:ext cx="2089440" cy="15843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284720" y="400536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10108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2275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275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7483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6"/>
                </p:tgtEl>
              </p:cMediaNode>
            </p:audio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c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ФИОЛЕТОВ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Фиолетова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век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Фиолетова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л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Фиолетова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ас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Фиолетов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баклаж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03640" y="1341360"/>
            <a:ext cx="1944720" cy="1332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9640" y="4221000"/>
            <a:ext cx="2089440" cy="1584360"/>
          </a:xfrm>
          <a:prstGeom prst="rect">
            <a:avLst/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564000" y="3357720"/>
            <a:ext cx="3066840" cy="1990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508720" y="4508640"/>
            <a:ext cx="3019320" cy="2028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796000" y="2492280"/>
            <a:ext cx="2857320" cy="1447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995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5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Р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рное ночное неб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рный роя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651640" y="1341360"/>
            <a:ext cx="2914560" cy="2185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332000" y="4365720"/>
            <a:ext cx="2089080" cy="158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427640" y="4005360"/>
            <a:ext cx="2628720" cy="2187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796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7:15:42Z</dcterms:created>
  <dc:creator>Ambrosovsky</dc:creator>
  <dc:description/>
  <dc:language>en-US</dc:language>
  <cp:lastModifiedBy>Ambrosovsky</cp:lastModifiedBy>
  <dcterms:modified xsi:type="dcterms:W3CDTF">2006-02-26T12:59:30Z</dcterms:modified>
  <cp:revision>84</cp:revision>
  <dc:subject/>
  <dc:title>ЦВЕТА</dc:title>
</cp:coreProperties>
</file>