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C02-2A11-462A-B5C7-FF86EDB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690-FC9C-41ED-AECC-A9899EE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0AB-7B18-4D9A-B08A-F11F1022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B2A-7EA1-45F8-8DA4-6719CB4C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399-83B1-4F51-A199-2E26363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5E4-DEB1-415C-BB96-FA102736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0CC-9E6E-4525-973A-DAB8BFD8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FAC-7C71-47EA-9D59-3462F20B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735-FF7B-4B9E-A90B-201824F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D49-7CF1-4994-B855-74753D7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7D1-E8EA-42B8-B663-CB5F0028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033-C1A7-4B55-9E6C-C1F8E02E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97C9-08E2-451B-A8C1-E01D13313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ilac06"/>
          <p:cNvPicPr/>
          <p:nvPr/>
        </p:nvPicPr>
        <p:blipFill>
          <a:blip r:embed="rId1"/>
          <a:stretch/>
        </p:blipFill>
        <p:spPr>
          <a:xfrm>
            <a:off x="39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632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Согласные звуки,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твердые и мягк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1640" y="458100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Урок русского языка в 5«б»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Учитель: Бадмаев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МОБУ «Троицкая СОШ им. Г.К. Жу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1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роза, ромашка, ландыш, астра, нарцис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2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ирень, лил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3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цикорий, настурция, шиповник, колокольчик, жимолость, лю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ilac06"/>
          <p:cNvPicPr/>
          <p:nvPr/>
        </p:nvPicPr>
        <p:blipFill>
          <a:blip r:embed="rId1"/>
          <a:stretch/>
        </p:blipFill>
        <p:spPr>
          <a:xfrm>
            <a:off x="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§ 53, упр. 280 + фонетический разбор двух слов на выбор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. 2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ите свою работу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ездочка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вадратик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еугольник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5-конечная звезда 1"/>
          <p:cNvSpPr/>
          <p:nvPr/>
        </p:nvSpPr>
        <p:spPr>
          <a:xfrm>
            <a:off x="1979640" y="3957480"/>
            <a:ext cx="914400" cy="695520"/>
          </a:xfrm>
          <a:custGeom>
            <a:avLst/>
            <a:gdLst/>
            <a:ahLst/>
            <a:rect l="l" t="t" r="r" b="b"/>
            <a:pathLst>
              <a:path w="914400" h="695325">
                <a:moveTo>
                  <a:pt x="1" y="265590"/>
                </a:moveTo>
                <a:lnTo>
                  <a:pt x="349272" y="265592"/>
                </a:lnTo>
                <a:lnTo>
                  <a:pt x="457200" y="0"/>
                </a:lnTo>
                <a:lnTo>
                  <a:pt x="565128" y="265592"/>
                </a:lnTo>
                <a:lnTo>
                  <a:pt x="914399" y="265590"/>
                </a:lnTo>
                <a:lnTo>
                  <a:pt x="631832" y="429733"/>
                </a:lnTo>
                <a:lnTo>
                  <a:pt x="739765" y="695323"/>
                </a:lnTo>
                <a:lnTo>
                  <a:pt x="457200" y="531177"/>
                </a:lnTo>
                <a:lnTo>
                  <a:pt x="174635" y="695323"/>
                </a:lnTo>
                <a:lnTo>
                  <a:pt x="282568" y="429733"/>
                </a:lnTo>
                <a:lnTo>
                  <a:pt x="1" y="26559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184480" y="4797360"/>
            <a:ext cx="504720" cy="45720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внобедренный треугольник 3"/>
          <p:cNvSpPr/>
          <p:nvPr/>
        </p:nvSpPr>
        <p:spPr>
          <a:xfrm>
            <a:off x="2014560" y="5419800"/>
            <a:ext cx="711000" cy="6285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258920" y="836640"/>
            <a:ext cx="676908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1390680"/>
            <a:ext cx="9064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0600" y="83664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одчеркни слова, которые начинаются непарным твердым согласным зв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вартал, жюри, магазин, шофер, планер, 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жюри, шофер, 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ставь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0720" y="144936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Шапоч…ка, ден…ки, печ…ка, пис…мо, поч…ки, бор…ба, мал…чик, белен…кий, клеточ…ка, июн…ский, точ…ка, птен…чик, прос…ба, реч…ка, июл…ский, туч…ка, печ…ник, ден…ги, соч…ный, гор…кий, погон…щик, пал…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Клубни…ное варенье, сро…ная работа, солне…ный день, кроше...ный сын, весëлая страни…ка, зелëная ëло…ка, красное ябло…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859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 различии твердых и мягких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б обозначении мягкости согласного при фонетической запис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 парных и непарных по мягкости – твердости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Различать твердые и мягкие согл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бозначать мягкость согласных при фонетической запис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Соблюдать нормы произношения согласных в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гласные звуки,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ердые и мяг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а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а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сегда тверд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сегда мяг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б]   [б']          [н] [н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в]   [в']          [п] [п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г]   [г‘]          [р] [р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д]   [д‘]          [с] [с']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з]   [з']           [т] [т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к]  [к']          [ф] [ф']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л]  [ л']         [х] [х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м]  [м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ж]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ш]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ц] 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[й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 [ч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 [щ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одумаем вмес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311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Целый день лежит тюлен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И лежать ему не л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Жаль, тюленье прилежанье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Не пример для подража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5148360" y="2205000"/>
            <a:ext cx="11880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4356000" y="3789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693720" y="4649760"/>
            <a:ext cx="863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лова, в которых согласные звуки имеют пары по твердости-мяг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нь, тюлень, пример,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лова, в которых есть согласные звуки,  не име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ары по твердости-мяг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ый, лежит, лежать, ему, жаль, тюленье, прилежанье, подража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93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звуков [ш] в предложени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тот хорош, кто лицом пригож, а тот хорош, кто для дела гож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четы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колько звуков [ц] в предложени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а ученица Куницына собирается отправиться в Братс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я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 каком слове все согласные звуки твёрд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) родной   Б) шесть   В) широко   Г)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ирок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Решите фонетическую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Незнайка не умел писать слова правильно. Он писал их так, как слышал. Какие из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счастье, 2)пощ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3) помощник, 4) рассч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– 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он напишет с буквой </a:t>
            </a:r>
            <a:r>
              <a:rPr b="1" lang="ru-RU" sz="2400" spc="-1" strike="noStrike">
                <a:solidFill>
                  <a:srgbClr val="00b050"/>
                </a:solidFill>
                <a:latin typeface="Georgia"/>
              </a:rPr>
              <a:t>щ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А) 1, 2,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Б) 1, 2,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В) 2,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Г) 1,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Д)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твет: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Найди лишнее сло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1) тишина, песня, у ре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2) дар, дети, доро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ишина,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- Объясните, почему они лиш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игналы мягкости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ь, е, ё, я, ю, 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2133360"/>
            <a:ext cx="73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Сигналы мягкости показывают нам, что стоящие перед ними буквы над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как мягк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53560" y="1022040"/>
            <a:ext cx="7859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1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только тверды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только мягк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3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и твердые, и мягк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Цикорий, роза, ромашка, сирень, ландыш, астра, нарцисс, настурция, шиповник, лилия, колокольчик, жимолость, лю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126440" y="8748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Соберите букет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7:26:37Z</dcterms:created>
  <dc:creator>User</dc:creator>
  <dc:description/>
  <dc:language>en-US</dc:language>
  <cp:lastModifiedBy>Пользователь</cp:lastModifiedBy>
  <dcterms:modified xsi:type="dcterms:W3CDTF">2015-11-26T22:39:19Z</dcterms:modified>
  <cp:revision>13</cp:revision>
  <dc:subject/>
  <dc:title>Согласные твердые и мягкие</dc:title>
</cp:coreProperties>
</file>