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526-8680-43A4-B68B-AE00CFA0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B89-3EFD-475C-86AF-D6F7BF50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F02-6070-4206-A8D7-0480C2BC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7F5-D86B-4AD5-9A9A-79AC06BD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2AA-9946-422A-BEA9-CDFA9CAA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811-5144-4C6E-9C5B-75C76165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F98-66B1-47C8-9AB6-3A6932CC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C42-9426-488F-B207-389F018E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130-BD75-4A7C-A544-0E8538BB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3C0-F69F-4490-ACBE-7360ED16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E94-4CC0-4C89-BA4E-C8D8792C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865-5D2D-42D6-AB7E-5C99E886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7106-5237-45DE-86A5-73F9932791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lilac06"/>
          <p:cNvPicPr/>
          <p:nvPr/>
        </p:nvPicPr>
        <p:blipFill>
          <a:blip r:embed="rId1"/>
          <a:stretch/>
        </p:blipFill>
        <p:spPr>
          <a:xfrm>
            <a:off x="39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763272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Georgia"/>
              </a:rPr>
              <a:t>Согласные звуки, 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Georgia"/>
              </a:rPr>
              <a:t>твердые и мягкие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1640" y="4581000"/>
            <a:ext cx="7127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Урок русского языка в 5«б»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Учитель: Бадмаева Л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МОБУ «Троицкая СОШ им. Г.К. Жу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Georgia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1 ряд: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роза, ромашка, ландыш, астра, нарцисс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2 ряд: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сирень, лил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3 ряд: </a:t>
            </a: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цикорий, настурция, шиповник, колокольчик, жимолость, лю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7"/>
          <p:cNvSpPr txBox="1"/>
          <p:nvPr/>
        </p:nvSpPr>
        <p:spPr>
          <a:xfrm>
            <a:off x="4716360" y="1341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9" name="WordArt 8"/>
          <p:cNvSpPr txBox="1"/>
          <p:nvPr/>
        </p:nvSpPr>
        <p:spPr>
          <a:xfrm>
            <a:off x="4500720" y="278136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WordArt 9"/>
          <p:cNvSpPr txBox="1"/>
          <p:nvPr/>
        </p:nvSpPr>
        <p:spPr>
          <a:xfrm>
            <a:off x="3780000" y="429264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1" name="WordArt 10"/>
          <p:cNvSpPr txBox="1"/>
          <p:nvPr/>
        </p:nvSpPr>
        <p:spPr>
          <a:xfrm>
            <a:off x="3780000" y="573408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2" name="WordArt 11"/>
          <p:cNvSpPr txBox="1"/>
          <p:nvPr/>
        </p:nvSpPr>
        <p:spPr>
          <a:xfrm rot="5400000">
            <a:off x="5004000" y="2925000"/>
            <a:ext cx="482436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lilac06"/>
          <p:cNvPicPr/>
          <p:nvPr/>
        </p:nvPicPr>
        <p:blipFill>
          <a:blip r:embed="rId1"/>
          <a:stretch/>
        </p:blipFill>
        <p:spPr>
          <a:xfrm>
            <a:off x="475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Georgia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§ 53, упр. 280 + фонетический разбор двух слов на выбор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. 2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цените свою работу на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вездочка –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вадратик –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4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еугольник –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3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4716360" y="1341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7" name="WordArt 8"/>
          <p:cNvSpPr txBox="1"/>
          <p:nvPr/>
        </p:nvSpPr>
        <p:spPr>
          <a:xfrm>
            <a:off x="4500720" y="278136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8" name="WordArt 9"/>
          <p:cNvSpPr txBox="1"/>
          <p:nvPr/>
        </p:nvSpPr>
        <p:spPr>
          <a:xfrm>
            <a:off x="3780000" y="429264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9" name="WordArt 10"/>
          <p:cNvSpPr txBox="1"/>
          <p:nvPr/>
        </p:nvSpPr>
        <p:spPr>
          <a:xfrm>
            <a:off x="3780000" y="573408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0" name="WordArt 11"/>
          <p:cNvSpPr txBox="1"/>
          <p:nvPr/>
        </p:nvSpPr>
        <p:spPr>
          <a:xfrm rot="5400000">
            <a:off x="5004000" y="2925000"/>
            <a:ext cx="482436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5-конечная звезда 1"/>
          <p:cNvSpPr/>
          <p:nvPr/>
        </p:nvSpPr>
        <p:spPr>
          <a:xfrm>
            <a:off x="1979640" y="3957480"/>
            <a:ext cx="914400" cy="695520"/>
          </a:xfrm>
          <a:custGeom>
            <a:avLst/>
            <a:gdLst/>
            <a:ahLst/>
            <a:rect l="l" t="t" r="r" b="b"/>
            <a:pathLst>
              <a:path w="914400" h="695325">
                <a:moveTo>
                  <a:pt x="1" y="265590"/>
                </a:moveTo>
                <a:lnTo>
                  <a:pt x="349272" y="265592"/>
                </a:lnTo>
                <a:lnTo>
                  <a:pt x="457200" y="0"/>
                </a:lnTo>
                <a:lnTo>
                  <a:pt x="565128" y="265592"/>
                </a:lnTo>
                <a:lnTo>
                  <a:pt x="914399" y="265590"/>
                </a:lnTo>
                <a:lnTo>
                  <a:pt x="631832" y="429733"/>
                </a:lnTo>
                <a:lnTo>
                  <a:pt x="739765" y="695323"/>
                </a:lnTo>
                <a:lnTo>
                  <a:pt x="457200" y="531177"/>
                </a:lnTo>
                <a:lnTo>
                  <a:pt x="174635" y="695323"/>
                </a:lnTo>
                <a:lnTo>
                  <a:pt x="282568" y="429733"/>
                </a:lnTo>
                <a:lnTo>
                  <a:pt x="1" y="26559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2184480" y="4797360"/>
            <a:ext cx="504720" cy="457200"/>
          </a:xfrm>
          <a:prstGeom prst="rect">
            <a:avLst/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Равнобедренный треугольник 3"/>
          <p:cNvSpPr/>
          <p:nvPr/>
        </p:nvSpPr>
        <p:spPr>
          <a:xfrm>
            <a:off x="2014560" y="5419800"/>
            <a:ext cx="711000" cy="628560"/>
          </a:xfrm>
          <a:prstGeom prst="triangle">
            <a:avLst>
              <a:gd name="adj" fmla="val 5000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1258920" y="836640"/>
            <a:ext cx="676908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42840" y="1390680"/>
            <a:ext cx="9064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0600" y="836640"/>
            <a:ext cx="7931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Подчеркни слова, которые начинаются непарным твердым согласным зву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Квартал, жюри, магазин, шофер, планер, цыпл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жюри, шофер, цыпл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4716360" y="1341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4500720" y="278136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1" name="WordArt 9"/>
          <p:cNvSpPr txBox="1"/>
          <p:nvPr/>
        </p:nvSpPr>
        <p:spPr>
          <a:xfrm>
            <a:off x="3780000" y="429264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2" name="WordArt 10"/>
          <p:cNvSpPr txBox="1"/>
          <p:nvPr/>
        </p:nvSpPr>
        <p:spPr>
          <a:xfrm>
            <a:off x="3780000" y="573408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3" name="WordArt 11"/>
          <p:cNvSpPr txBox="1"/>
          <p:nvPr/>
        </p:nvSpPr>
        <p:spPr>
          <a:xfrm rot="5400000">
            <a:off x="5004000" y="2925000"/>
            <a:ext cx="482436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Вставь пропущенные бук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10720" y="1449360"/>
            <a:ext cx="7931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Шапоч…ка, ден…ки, печ…ка, пис…мо, поч…ки, бор…ба, мал…чик, белен…кий, клеточ…ка, июн…ский, точ…ка, птен…чик, прос…ба, реч…ка, июл…ский, туч…ка, печ…ник, ден…ги, соч…ный, гор…кий, погон…щик, пал…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 Клубни…ное варенье, сро…ная работа, солне…ный день, кроше...ный сын, весëлая страни…ка, зелëная ëло…ка, красное ябло…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4716360" y="1341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4500720" y="278136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9" name="WordArt 9"/>
          <p:cNvSpPr txBox="1"/>
          <p:nvPr/>
        </p:nvSpPr>
        <p:spPr>
          <a:xfrm>
            <a:off x="3780000" y="429264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3780000" y="573408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 rot="5400000">
            <a:off x="5004000" y="2925000"/>
            <a:ext cx="482436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Georgia"/>
              </a:rPr>
              <a:t>Це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1125360"/>
            <a:ext cx="78598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aramond"/>
              </a:rPr>
              <a:t>Зн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О различии твердых и мягких соглас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Об обозначении мягкости согласного при фонетической запис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О парных и непарных по мягкости – твердости соглас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Garamond"/>
              </a:rPr>
              <a:t>Уме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Различать твердые и мягкие согла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Обозначать мягкость согласных при фонетической запис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Garamond"/>
              </a:rPr>
              <a:t>Соблюдать нормы произношения согласных в сло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гласные звуки, 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вердые и мяг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ар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епарны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сегда тверд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сегда мяг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6cd"/>
                    </a:solidFill>
                  </a:tcPr>
                </a:tc>
              </a:tr>
              <a:tr h="557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б]   [б']          [н] [н']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в]   [в']          [п] [п']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г]   [г‘]          [р] [р']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д]   [д‘]          [с] [с']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з]   [з']           [т] [т']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к]  [к']          [ф] [ф']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л]  [ л']         [х] [х']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м]  [м'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ж]  [ -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ш]  [ -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ц]   [ - 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 - ]  [й'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 - ]   [ч'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[ - ]   [щ'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Подумаем вмес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9311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Целый день лежит тюлен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И лежать ему не л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Жаль, тюленье прилежанье 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Georgia"/>
              </a:rPr>
              <a:t>Не пример для подражан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5148360" y="2205000"/>
            <a:ext cx="11880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WordArt 11"/>
          <p:cNvSpPr txBox="1"/>
          <p:nvPr/>
        </p:nvSpPr>
        <p:spPr>
          <a:xfrm>
            <a:off x="4356000" y="3789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693720" y="4649760"/>
            <a:ext cx="8631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лова, в которых согласные звуки имеют пары по твердости-мягк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нь, тюлень, пример,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лова, в которых есть согласные звуки,  не име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пары по твердости-мягк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ый, лежит, лежать, ему, жаль, тюленье, прилежанье, подража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eorgia"/>
              </a:rPr>
              <a:t>Ответьте на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931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лько звуков [ш] в предложении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 тот хорош, кто лицом пригож, а тот хорош, кто для дела гож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четыр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колько звуков [ц] в предложении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ша ученица Куницына собирается отправиться в Братск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я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В каком слове все согласные звуки твёрд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) родной   Б) шесть   В) широко   Г)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широк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93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Решите фонетическую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Незнайка не умел писать слова правильно. Он писал их так, как слышал. Какие из с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Georgia"/>
              </a:rPr>
              <a:t>счастье, 2)поща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Georgia"/>
              </a:rPr>
              <a:t>3) помощник, 4) рассчит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– </a:t>
            </a: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он напишет с буквой </a:t>
            </a:r>
            <a:r>
              <a:rPr b="1" lang="ru-RU" sz="2400" spc="-1" strike="noStrike">
                <a:solidFill>
                  <a:srgbClr val="00b050"/>
                </a:solidFill>
                <a:latin typeface="Georgia"/>
              </a:rPr>
              <a:t>щ</a:t>
            </a: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А) 1, 2,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Б) 1, 2,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В) 2,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Г) 1,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eorgia"/>
              </a:rPr>
              <a:t>Д) в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Ответ: 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Georgia"/>
              </a:rPr>
              <a:t>Найди лишнее сло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280" y="1197000"/>
            <a:ext cx="7931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1) тишина, песня, у реч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2) дар, дети, дорог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тишина, д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- Объясните, почему они лишни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Georgia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7"/>
          <p:cNvSpPr txBox="1"/>
          <p:nvPr/>
        </p:nvSpPr>
        <p:spPr>
          <a:xfrm>
            <a:off x="4716360" y="1341360"/>
            <a:ext cx="119160" cy="1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4500720" y="278136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3780000" y="429264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780000" y="5734080"/>
            <a:ext cx="118800" cy="12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8" name="WordArt 11"/>
          <p:cNvSpPr txBox="1"/>
          <p:nvPr/>
        </p:nvSpPr>
        <p:spPr>
          <a:xfrm rot="5400000">
            <a:off x="5004000" y="2925000"/>
            <a:ext cx="4824360" cy="180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Сигналы мягкости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 ь, е, ё, я, ю, 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2133360"/>
            <a:ext cx="73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Georgia"/>
              </a:rPr>
              <a:t>Сигналы мягкости показывают нам, что стоящие перед ними буквы надо чит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Georgia"/>
              </a:rPr>
              <a:t>как мягки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lilac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53560" y="1022040"/>
            <a:ext cx="7859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1 ряд. </a:t>
            </a: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Соберите в букет цветы, в названии которых встречаются только твердые зв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2 ряд. </a:t>
            </a: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Соберите в букет цветы, в названии которых встречаются только мягкие зв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3 ряд. </a:t>
            </a:r>
            <a:r>
              <a:rPr b="1" lang="ru-RU" sz="2400" spc="-1" strike="noStrike">
                <a:solidFill>
                  <a:srgbClr val="333399"/>
                </a:solidFill>
                <a:latin typeface="Georgia"/>
              </a:rPr>
              <a:t>Соберите в букет цветы, в названии которых встречаются и твердые, и мягкие зв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Georgia"/>
              </a:rPr>
              <a:t>Цикорий, роза, ромашка, сирень, ландыш, астра, нарцисс, настурция, шиповник, лилия, колокольчик, жимолость, лю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1126440" y="8748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Соберите букет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7:26:37Z</dcterms:created>
  <dc:creator>User</dc:creator>
  <dc:description/>
  <dc:language>en-US</dc:language>
  <cp:lastModifiedBy>Пользователь</cp:lastModifiedBy>
  <dcterms:modified xsi:type="dcterms:W3CDTF">2015-11-26T22:39:19Z</dcterms:modified>
  <cp:revision>13</cp:revision>
  <dc:subject/>
  <dc:title>Согласные твердые и мягкие</dc:title>
</cp:coreProperties>
</file>