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4FB6-B6BA-4D3F-B7DB-4829C6F39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A3F6-AD12-4FC0-83EB-2029A9AB2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3FAC-0F3B-460D-937E-F47C588C9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5D43-6D1A-4466-B73B-BED0B48A4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E27B-EE43-45E1-A454-E2ACF2B34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36C1-C155-4589-AB8E-C9E63598C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3C4C-A4E1-4E1B-9C56-EC5E4600E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0FE5-8530-4B62-A75E-C282D30BB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0878-8923-4AFC-839F-FC87AB8B3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D31A-2B19-40C5-85D9-EA671D9B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BB3F-0860-42EA-AAFB-3244FA21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F5FC-FAB5-4BBC-B4CF-7ED53C4E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EA035-3E62-4F9D-A9E7-A8EE283023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lilac06"/>
          <p:cNvPicPr/>
          <p:nvPr/>
        </p:nvPicPr>
        <p:blipFill>
          <a:blip r:embed="rId1"/>
          <a:stretch/>
        </p:blipFill>
        <p:spPr>
          <a:xfrm>
            <a:off x="396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7280" y="549000"/>
            <a:ext cx="7632720" cy="36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Georgia"/>
              </a:rPr>
              <a:t>Согласные звуки,  </a:t>
            </a:r>
            <a:br>
              <a:rPr sz="6000"/>
            </a:br>
            <a:r>
              <a:rPr b="1" lang="ru-RU" sz="6000" spc="-1" strike="noStrike">
                <a:solidFill>
                  <a:srgbClr val="c00000"/>
                </a:solidFill>
                <a:latin typeface="Georgia"/>
              </a:rPr>
              <a:t>твердые и мягкие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1640" y="4581000"/>
            <a:ext cx="71276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Georgia"/>
              </a:rPr>
              <a:t>Урок русского языка в 5«б»кла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Georgia"/>
              </a:rPr>
              <a:t>Учитель: Бадмаева Л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Georgia"/>
              </a:rPr>
              <a:t>МОБУ «Троицкая СОШ им. Г.К. Жуко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lilac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Georgia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79311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Georgia"/>
              </a:rPr>
              <a:t>1 ряд: </a:t>
            </a: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роза, ромашка, ландыш, астра, нарцисс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Georgia"/>
              </a:rPr>
              <a:t>2 ряд: </a:t>
            </a: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сирень, лилия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Georgia"/>
              </a:rPr>
              <a:t>3 ряд: </a:t>
            </a: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цикорий, настурция, шиповник, колокольчик, жимолость, лют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WordArt 7"/>
          <p:cNvSpPr txBox="1"/>
          <p:nvPr/>
        </p:nvSpPr>
        <p:spPr>
          <a:xfrm>
            <a:off x="4716360" y="1341360"/>
            <a:ext cx="119160" cy="12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79" name="WordArt 8"/>
          <p:cNvSpPr txBox="1"/>
          <p:nvPr/>
        </p:nvSpPr>
        <p:spPr>
          <a:xfrm>
            <a:off x="4500720" y="2781360"/>
            <a:ext cx="118800" cy="12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80" name="WordArt 9"/>
          <p:cNvSpPr txBox="1"/>
          <p:nvPr/>
        </p:nvSpPr>
        <p:spPr>
          <a:xfrm>
            <a:off x="3780000" y="4292640"/>
            <a:ext cx="118800" cy="12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81" name="WordArt 10"/>
          <p:cNvSpPr txBox="1"/>
          <p:nvPr/>
        </p:nvSpPr>
        <p:spPr>
          <a:xfrm>
            <a:off x="3780000" y="5734080"/>
            <a:ext cx="118800" cy="12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82" name="WordArt 11"/>
          <p:cNvSpPr txBox="1"/>
          <p:nvPr/>
        </p:nvSpPr>
        <p:spPr>
          <a:xfrm rot="5400000">
            <a:off x="5004000" y="2925000"/>
            <a:ext cx="4824360" cy="1800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lilac06"/>
          <p:cNvPicPr/>
          <p:nvPr/>
        </p:nvPicPr>
        <p:blipFill>
          <a:blip r:embed="rId1"/>
          <a:stretch/>
        </p:blipFill>
        <p:spPr>
          <a:xfrm>
            <a:off x="475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Georgia"/>
              </a:rPr>
              <a:t>Д/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79311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§ 53, упр. 280 + фонетический разбор двух слов на выбор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пр. 28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цените свою работу на уро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вездочка –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5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вадратик –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4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треугольник –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3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7"/>
          <p:cNvSpPr txBox="1"/>
          <p:nvPr/>
        </p:nvSpPr>
        <p:spPr>
          <a:xfrm>
            <a:off x="4716360" y="1341360"/>
            <a:ext cx="119160" cy="12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87" name="WordArt 8"/>
          <p:cNvSpPr txBox="1"/>
          <p:nvPr/>
        </p:nvSpPr>
        <p:spPr>
          <a:xfrm>
            <a:off x="4500720" y="2781360"/>
            <a:ext cx="118800" cy="12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88" name="WordArt 9"/>
          <p:cNvSpPr txBox="1"/>
          <p:nvPr/>
        </p:nvSpPr>
        <p:spPr>
          <a:xfrm>
            <a:off x="3780000" y="4292640"/>
            <a:ext cx="118800" cy="12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89" name="WordArt 10"/>
          <p:cNvSpPr txBox="1"/>
          <p:nvPr/>
        </p:nvSpPr>
        <p:spPr>
          <a:xfrm>
            <a:off x="3780000" y="5734080"/>
            <a:ext cx="118800" cy="12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90" name="WordArt 11"/>
          <p:cNvSpPr txBox="1"/>
          <p:nvPr/>
        </p:nvSpPr>
        <p:spPr>
          <a:xfrm rot="5400000">
            <a:off x="5004000" y="2925000"/>
            <a:ext cx="4824360" cy="1800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1" name="5-конечная звезда 1"/>
          <p:cNvSpPr/>
          <p:nvPr/>
        </p:nvSpPr>
        <p:spPr>
          <a:xfrm>
            <a:off x="1979640" y="3957480"/>
            <a:ext cx="914400" cy="695520"/>
          </a:xfrm>
          <a:custGeom>
            <a:avLst/>
            <a:gdLst/>
            <a:ahLst/>
            <a:rect l="l" t="t" r="r" b="b"/>
            <a:pathLst>
              <a:path w="914400" h="695325">
                <a:moveTo>
                  <a:pt x="1" y="265590"/>
                </a:moveTo>
                <a:lnTo>
                  <a:pt x="349272" y="265592"/>
                </a:lnTo>
                <a:lnTo>
                  <a:pt x="457200" y="0"/>
                </a:lnTo>
                <a:lnTo>
                  <a:pt x="565128" y="265592"/>
                </a:lnTo>
                <a:lnTo>
                  <a:pt x="914399" y="265590"/>
                </a:lnTo>
                <a:lnTo>
                  <a:pt x="631832" y="429733"/>
                </a:lnTo>
                <a:lnTo>
                  <a:pt x="739765" y="695323"/>
                </a:lnTo>
                <a:lnTo>
                  <a:pt x="457200" y="531177"/>
                </a:lnTo>
                <a:lnTo>
                  <a:pt x="174635" y="695323"/>
                </a:lnTo>
                <a:lnTo>
                  <a:pt x="282568" y="429733"/>
                </a:lnTo>
                <a:lnTo>
                  <a:pt x="1" y="26559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2"/>
          <p:cNvSpPr/>
          <p:nvPr/>
        </p:nvSpPr>
        <p:spPr>
          <a:xfrm>
            <a:off x="2184480" y="4797360"/>
            <a:ext cx="504720" cy="457200"/>
          </a:xfrm>
          <a:prstGeom prst="rect">
            <a:avLst/>
          </a:pr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Равнобедренный треугольник 3"/>
          <p:cNvSpPr/>
          <p:nvPr/>
        </p:nvSpPr>
        <p:spPr>
          <a:xfrm>
            <a:off x="2014560" y="5419800"/>
            <a:ext cx="711000" cy="628560"/>
          </a:xfrm>
          <a:prstGeom prst="triangle">
            <a:avLst>
              <a:gd name="adj" fmla="val 50000"/>
            </a:avLst>
          </a:pr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lilac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WordArt 5"/>
          <p:cNvSpPr txBox="1"/>
          <p:nvPr/>
        </p:nvSpPr>
        <p:spPr>
          <a:xfrm>
            <a:off x="1258920" y="836640"/>
            <a:ext cx="6769080" cy="53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6" name="Прямоугольник 1" descr=""/>
          <p:cNvPicPr/>
          <p:nvPr/>
        </p:nvPicPr>
        <p:blipFill>
          <a:blip r:embed="rId2"/>
          <a:stretch/>
        </p:blipFill>
        <p:spPr>
          <a:xfrm>
            <a:off x="42840" y="1390680"/>
            <a:ext cx="906480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lilac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750600" y="836640"/>
            <a:ext cx="79311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Подчеркни слова, которые начинаются непарным твердым согласным зву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Georgia"/>
              </a:rPr>
              <a:t>Квартал, жюри, магазин, шофер, планер, цыпле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жюри, шофер, цыпле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7"/>
          <p:cNvSpPr txBox="1"/>
          <p:nvPr/>
        </p:nvSpPr>
        <p:spPr>
          <a:xfrm>
            <a:off x="4716360" y="1341360"/>
            <a:ext cx="119160" cy="12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0" name="WordArt 8"/>
          <p:cNvSpPr txBox="1"/>
          <p:nvPr/>
        </p:nvSpPr>
        <p:spPr>
          <a:xfrm>
            <a:off x="4500720" y="2781360"/>
            <a:ext cx="118800" cy="12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1" name="WordArt 9"/>
          <p:cNvSpPr txBox="1"/>
          <p:nvPr/>
        </p:nvSpPr>
        <p:spPr>
          <a:xfrm>
            <a:off x="3780000" y="4292640"/>
            <a:ext cx="118800" cy="12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2" name="WordArt 10"/>
          <p:cNvSpPr txBox="1"/>
          <p:nvPr/>
        </p:nvSpPr>
        <p:spPr>
          <a:xfrm>
            <a:off x="3780000" y="5734080"/>
            <a:ext cx="118800" cy="12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3" name="WordArt 11"/>
          <p:cNvSpPr txBox="1"/>
          <p:nvPr/>
        </p:nvSpPr>
        <p:spPr>
          <a:xfrm rot="5400000">
            <a:off x="5004000" y="2925000"/>
            <a:ext cx="4824360" cy="1800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lilac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Вставь пропущенные букв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10720" y="1449360"/>
            <a:ext cx="79311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Шапоч…ка, ден…ки, печ…ка, пис…мо, поч…ки, бор…ба, мал…чик, белен…кий, клеточ…ка, июн…ский, точ…ка, птен…чик, прос…ба, реч…ка, июл…ский, туч…ка, печ…ник, ден…ги, соч…ный, гор…кий, погон…щик, пал…ч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2. Клубни…ное варенье, сро…ная работа, солне…ный день, кроше...ный сын, весëлая страни…ка, зелëная ëло…ка, красное ябло…к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7"/>
          <p:cNvSpPr txBox="1"/>
          <p:nvPr/>
        </p:nvSpPr>
        <p:spPr>
          <a:xfrm>
            <a:off x="4716360" y="1341360"/>
            <a:ext cx="119160" cy="12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8" name="WordArt 8"/>
          <p:cNvSpPr txBox="1"/>
          <p:nvPr/>
        </p:nvSpPr>
        <p:spPr>
          <a:xfrm>
            <a:off x="4500720" y="2781360"/>
            <a:ext cx="118800" cy="12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9" name="WordArt 9"/>
          <p:cNvSpPr txBox="1"/>
          <p:nvPr/>
        </p:nvSpPr>
        <p:spPr>
          <a:xfrm>
            <a:off x="3780000" y="4292640"/>
            <a:ext cx="118800" cy="12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0" name="WordArt 10"/>
          <p:cNvSpPr txBox="1"/>
          <p:nvPr/>
        </p:nvSpPr>
        <p:spPr>
          <a:xfrm>
            <a:off x="3780000" y="5734080"/>
            <a:ext cx="118800" cy="12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1" name="WordArt 11"/>
          <p:cNvSpPr txBox="1"/>
          <p:nvPr/>
        </p:nvSpPr>
        <p:spPr>
          <a:xfrm rot="5400000">
            <a:off x="5004000" y="2925000"/>
            <a:ext cx="4824360" cy="1800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lilac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Georgia"/>
              </a:rPr>
              <a:t>Цел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560" y="1125360"/>
            <a:ext cx="78598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Garamond"/>
              </a:rPr>
              <a:t>Зна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Garamond"/>
              </a:rPr>
              <a:t>О различии твердых и мягких соглас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Garamond"/>
              </a:rPr>
              <a:t>Об обозначении мягкости согласного при фонетической записи с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Garamond"/>
              </a:rPr>
              <a:t>О парных и непарных по мягкости – твердости соглас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Garamond"/>
              </a:rPr>
              <a:t>Уме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Garamond"/>
              </a:rPr>
              <a:t>Различать твердые и мягкие соглас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Garamond"/>
              </a:rPr>
              <a:t>Обозначать мягкость согласных при фонетической записи с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Garamond"/>
              </a:rPr>
              <a:t>Соблюдать нормы произношения согласных в слов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огласные звуки, </a:t>
            </a:r>
            <a:br>
              <a:rPr sz="4400"/>
            </a:b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вердые и мягк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600200"/>
          <a:ext cx="8229600" cy="4754520"/>
        </p:xfrm>
        <a:graphic>
          <a:graphicData uri="http://schemas.openxmlformats.org/drawingml/2006/table">
            <a:tbl>
              <a:tblPr/>
              <a:tblGrid>
                <a:gridCol w="4114800"/>
                <a:gridCol w="2057400"/>
                <a:gridCol w="2057400"/>
              </a:tblGrid>
              <a:tr h="64044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арны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Непарны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Всегда тверд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Всегда мяг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6cd"/>
                    </a:solidFill>
                  </a:tcPr>
                </a:tc>
              </a:tr>
              <a:tr h="5578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[б]   [б']          [н] [н']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[в]   [в']          [п] [п']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[г]   [г‘]          [р] [р']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[д]   [д‘]          [с] [с']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[з]   [з']           [т] [т']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[к]  [к']          [ф] [ф']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[л]  [ л']         [х] [х']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[м]  [м'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[ж]  [ - 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[ш]  [ - 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[ц]   [ - 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[ - ]  [й'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[ - ]   [ч'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[ - ]   [щ'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lilac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Подумаем вмест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6560" y="1628640"/>
            <a:ext cx="793116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Georgia"/>
              </a:rPr>
              <a:t>Целый день лежит тюлен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Georgia"/>
              </a:rPr>
              <a:t>И лежать ему не лен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Georgia"/>
              </a:rPr>
              <a:t>Жаль, тюленье прилежанье 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Georgia"/>
              </a:rPr>
              <a:t>Не пример для подражань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9"/>
          <p:cNvSpPr txBox="1"/>
          <p:nvPr/>
        </p:nvSpPr>
        <p:spPr>
          <a:xfrm>
            <a:off x="5148360" y="2205000"/>
            <a:ext cx="118800" cy="12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3" name="WordArt 11"/>
          <p:cNvSpPr txBox="1"/>
          <p:nvPr/>
        </p:nvSpPr>
        <p:spPr>
          <a:xfrm>
            <a:off x="4356000" y="3789360"/>
            <a:ext cx="119160" cy="12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4" name="TextBox 1"/>
          <p:cNvSpPr/>
          <p:nvPr/>
        </p:nvSpPr>
        <p:spPr>
          <a:xfrm>
            <a:off x="693720" y="4649760"/>
            <a:ext cx="8631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Слова, в которых согласные звуки имеют пары по твердости-мягк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нь, тюлень, пример, д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Слова, в которых есть согласные звуки,  не имею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пары по твердости-мягк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целый, лежит, лежать, ему, жаль, тюленье, прилежанье, подражан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lilac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931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Ответьте на 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55280" y="1341360"/>
            <a:ext cx="79311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колько звуков [ш] в предложении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е тот хорош, кто лицом пригож, а тот хорош, кто для дела гож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четыр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Сколько звуков [ц] в предложении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аша ученица Куницына собирается отправиться в Братск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пят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В каком слове все согласные звуки твёрды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) родной   Б) шесть   В) широко   Г) ч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широк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lilac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79311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Решите фонетическую задач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280" y="1699920"/>
            <a:ext cx="79311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Georgia"/>
              </a:rPr>
              <a:t>Незнайка не умел писать слова правильно. Он писал их так, как слышал. Какие из сл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Georgia"/>
              </a:rPr>
              <a:t>счастье, 2)пощад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Georgia"/>
              </a:rPr>
              <a:t>3) помощник, 4) рассчитыв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Georgia"/>
              </a:rPr>
              <a:t>– </a:t>
            </a:r>
            <a:r>
              <a:rPr b="1" lang="ru-RU" sz="2400" spc="-1" strike="noStrike">
                <a:solidFill>
                  <a:srgbClr val="0070c0"/>
                </a:solidFill>
                <a:latin typeface="Georgia"/>
              </a:rPr>
              <a:t>он напишет с буквой </a:t>
            </a:r>
            <a:r>
              <a:rPr b="1" lang="ru-RU" sz="2400" spc="-1" strike="noStrike">
                <a:solidFill>
                  <a:srgbClr val="00b050"/>
                </a:solidFill>
                <a:latin typeface="Georgia"/>
              </a:rPr>
              <a:t>щ</a:t>
            </a:r>
            <a:r>
              <a:rPr b="1" lang="ru-RU" sz="2400" spc="-1" strike="noStrike">
                <a:solidFill>
                  <a:srgbClr val="0070c0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Georgia"/>
              </a:rPr>
              <a:t>А) 1, 2, 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Georgia"/>
              </a:rPr>
              <a:t>Б) 1, 2, 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Georgia"/>
              </a:rPr>
              <a:t>В) 2, 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Georgia"/>
              </a:rPr>
              <a:t>Г) 1, 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Georgia"/>
              </a:rPr>
              <a:t>Д) в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Ответ: 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lilac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Georgia"/>
              </a:rPr>
              <a:t>Найди лишнее слов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79311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Georgia"/>
              </a:rPr>
              <a:t>1) тишина, песня, у реч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Georgia"/>
              </a:rPr>
              <a:t>2) дар, дети, дорог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тишина, де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Georgia"/>
              </a:rPr>
              <a:t>- Объясните, почему они лишни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Georgia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7"/>
          <p:cNvSpPr txBox="1"/>
          <p:nvPr/>
        </p:nvSpPr>
        <p:spPr>
          <a:xfrm>
            <a:off x="4716360" y="1341360"/>
            <a:ext cx="119160" cy="12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5" name="WordArt 8"/>
          <p:cNvSpPr txBox="1"/>
          <p:nvPr/>
        </p:nvSpPr>
        <p:spPr>
          <a:xfrm>
            <a:off x="4500720" y="2781360"/>
            <a:ext cx="118800" cy="12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6" name="WordArt 9"/>
          <p:cNvSpPr txBox="1"/>
          <p:nvPr/>
        </p:nvSpPr>
        <p:spPr>
          <a:xfrm>
            <a:off x="3780000" y="4292640"/>
            <a:ext cx="118800" cy="12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7" name="WordArt 10"/>
          <p:cNvSpPr txBox="1"/>
          <p:nvPr/>
        </p:nvSpPr>
        <p:spPr>
          <a:xfrm>
            <a:off x="3780000" y="5734080"/>
            <a:ext cx="118800" cy="12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8" name="WordArt 11"/>
          <p:cNvSpPr txBox="1"/>
          <p:nvPr/>
        </p:nvSpPr>
        <p:spPr>
          <a:xfrm rot="5400000">
            <a:off x="5004000" y="2925000"/>
            <a:ext cx="4824360" cy="1800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lilac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93116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Сигналы мягкости: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 ь, е, ё, я, ю, 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03280" y="2133360"/>
            <a:ext cx="7344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Georgia"/>
              </a:rPr>
              <a:t>Сигналы мягкости показывают нам, что стоящие перед ними буквы надо чит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Georgia"/>
              </a:rPr>
              <a:t>как мягкие зв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lilac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853560" y="1022040"/>
            <a:ext cx="785988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1 ряд. </a:t>
            </a:r>
            <a:r>
              <a:rPr b="1" lang="ru-RU" sz="2400" spc="-1" strike="noStrike">
                <a:solidFill>
                  <a:srgbClr val="333399"/>
                </a:solidFill>
                <a:latin typeface="Georgia"/>
              </a:rPr>
              <a:t>Соберите в букет цветы, в названии которых встречаются только твердые зву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2 ряд. </a:t>
            </a:r>
            <a:r>
              <a:rPr b="1" lang="ru-RU" sz="2400" spc="-1" strike="noStrike">
                <a:solidFill>
                  <a:srgbClr val="333399"/>
                </a:solidFill>
                <a:latin typeface="Georgia"/>
              </a:rPr>
              <a:t>Соберите в букет цветы, в названии которых встречаются только мягкие зву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3 ряд. </a:t>
            </a:r>
            <a:r>
              <a:rPr b="1" lang="ru-RU" sz="2400" spc="-1" strike="noStrike">
                <a:solidFill>
                  <a:srgbClr val="333399"/>
                </a:solidFill>
                <a:latin typeface="Georgia"/>
              </a:rPr>
              <a:t>Соберите в букет цветы, в названии которых встречаются и твердые, и мягкие зву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Georgia"/>
              </a:rPr>
              <a:t>Цикорий, роза, ромашка, сирень, ландыш, астра, нарцисс, настурция, шиповник, лилия, колокольчик, жимолость, люти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1126440" y="87480"/>
            <a:ext cx="75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гра «Соберите букет»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9T17:26:37Z</dcterms:created>
  <dc:creator>User</dc:creator>
  <dc:description/>
  <dc:language>en-US</dc:language>
  <cp:lastModifiedBy>Пользователь</cp:lastModifiedBy>
  <dcterms:modified xsi:type="dcterms:W3CDTF">2015-11-26T22:39:19Z</dcterms:modified>
  <cp:revision>13</cp:revision>
  <dc:subject/>
  <dc:title>Согласные твердые и мягкие</dc:title>
</cp:coreProperties>
</file>