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1A2-359D-4B75-B9E9-9ECE3A81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2A0-FDA2-4D7B-92DC-6465EE43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491-A389-4296-9871-7D5044C8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D4B-4B42-40A1-8DD8-2D74560B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CAE-4694-40A3-A5A5-FAF0ED1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97B-5844-46CA-8B29-4DE3293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7DD-951F-4144-BF1A-997506E2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5D6-A14F-46B0-9941-26E90088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51E-26FF-4DBF-9DE8-8EE1F781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6C7-A058-41E8-BCFF-A67B4B2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D43-47D8-4E55-80E5-89B7600D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E99-7380-4436-BF89-0F93AB7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003D-EEFF-4CC9-9C81-D533711F4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geometry-1044090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0040" y="6071760"/>
            <a:ext cx="514368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Аверьянова Виктория 7 «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1590840"/>
            <a:ext cx="635796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72000" y="-360"/>
            <a:ext cx="5472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ры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181440" y="189000"/>
            <a:ext cx="4969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рыв совершил российский математик Н. И. Лобачевский. Ему первому в мире удалось описать свойства реального пространства, доказав, что геометрия Евклида «работает» только в частном случае . Пытаясь доказать 5-й постулат, он не добился успеха. Тогда ученый отказался от евклидового представления, согласно которому сумма углов треугольника равна 180 градусам. Далее он стал доказывать это утверждение от противного и получил новую формулировку для пятого постулата. Теперь он допускал существование нескольких прямых, параллельных данной, и проходящих через точку, лежащую вне этой прям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абсолютная геометрия"/>
          <p:cNvPicPr/>
          <p:nvPr/>
        </p:nvPicPr>
        <p:blipFill>
          <a:blip r:embed="rId1"/>
          <a:stretch/>
        </p:blipFill>
        <p:spPr>
          <a:xfrm>
            <a:off x="5072040" y="121428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я в живопис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333360"/>
            <a:ext cx="4071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ется геометрия Лобачевского в живописи. В 2013 году в московском Музее современного искусства прошла выставка Маурица Корнелиса Эшера . Нидерландский художник-график известен благодаря своим работам , где он использует различные математические понятия , приемы и теори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елы , ленты Мебиуса , геометрию Лобачевского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koppel.pro/sites/default/files/images/photo/186937.jpg"/>
          <p:cNvPicPr/>
          <p:nvPr/>
        </p:nvPicPr>
        <p:blipFill>
          <a:blip r:embed="rId1"/>
          <a:stretch/>
        </p:blipFill>
        <p:spPr>
          <a:xfrm>
            <a:off x="3929040" y="1214280"/>
            <a:ext cx="3700440" cy="350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daypic.ru/wp-content/uploads/2011/01/526.jpg"/>
          <p:cNvPicPr/>
          <p:nvPr/>
        </p:nvPicPr>
        <p:blipFill>
          <a:blip r:embed="rId2"/>
          <a:stretch/>
        </p:blipFill>
        <p:spPr>
          <a:xfrm>
            <a:off x="4929120" y="3975120"/>
            <a:ext cx="4214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я в нау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85716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ши дни геометрия Лобачевского используется в космонавтике для прокладывания дальних маршрутов, вычисления траектории полета, в современной физике и во многих других естественных науках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еории относительности Эйнштейна, в которой пространство было уже четырехмерным и соответственно эта теория не могла существовать без геометрии Лобачевског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мощи теории относительности были объяснены законы движения небесных тел, явление гравитации, возникновение черных дыр, движение частиц и многое другое. И все это было бы невозможно без геометрии Лобачевск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http://www.kremlinrus.ru.opt-images.1c-bitrix-cdn.ru/upload/iblock/a06/2360.jpeg?151033302773237"/>
          <p:cNvPicPr/>
          <p:nvPr/>
        </p:nvPicPr>
        <p:blipFill>
          <a:blip r:embed="rId1"/>
          <a:stretch/>
        </p:blipFill>
        <p:spPr>
          <a:xfrm>
            <a:off x="4857840" y="928800"/>
            <a:ext cx="4125960" cy="2233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d1jqu7g1y74ds1.cloudfront.net/wp-content/uploads/2013/12/spacewalk1-580x408.jpg"/>
          <p:cNvPicPr/>
          <p:nvPr/>
        </p:nvPicPr>
        <p:blipFill>
          <a:blip r:embed="rId2"/>
          <a:stretch/>
        </p:blipFill>
        <p:spPr>
          <a:xfrm>
            <a:off x="4357800" y="3994200"/>
            <a:ext cx="40719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geometry-1044090_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еницы 8 Б класс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ней школ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мени А.Н. Радищев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ерьянова Виктор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ководитель: Г.А. Багр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6071760"/>
            <a:ext cx="514368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Аверьянова Виктория 7 «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p1.pichost.me/i/76/2005024.png"/>
          <p:cNvPicPr/>
          <p:nvPr/>
        </p:nvPicPr>
        <p:blipFill>
          <a:blip r:embed="rId1"/>
          <a:stretch/>
        </p:blipFill>
        <p:spPr>
          <a:xfrm>
            <a:off x="-127080" y="0"/>
            <a:ext cx="9271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2" descr=""/>
          <p:cNvPicPr/>
          <p:nvPr/>
        </p:nvPicPr>
        <p:blipFill>
          <a:blip r:embed="rId2"/>
          <a:stretch/>
        </p:blipFill>
        <p:spPr>
          <a:xfrm>
            <a:off x="285840" y="1494000"/>
            <a:ext cx="8400960" cy="46321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401760"/>
            <a:ext cx="77184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s://otvet.imgsmail.ru/download/65910526_0d272511248bdd2b46e19fbfe0521a06_800.jpg"/>
          <p:cNvPicPr/>
          <p:nvPr/>
        </p:nvPicPr>
        <p:blipFill>
          <a:blip r:embed="rId1"/>
          <a:stretch/>
        </p:blipFill>
        <p:spPr>
          <a:xfrm>
            <a:off x="219240" y="4786200"/>
            <a:ext cx="892476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она состои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ыми геометрическими фигурами на плоскости являютс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очка и прям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ямая — это самая простая геометрическая фигура, которая не имеет ни начала, ни конца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чка — это основная и самая простая геометрическая фигур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сиомы. Что это тако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геометрия основана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сиом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сиома – это утверждение, принимающееся как истинное без доказатель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сиомы нужно запоминать и учить. Аксиомы изучают в начале 7 класса. И применяют вплоть до 11 кла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5840280" y="609480"/>
            <a:ext cx="314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6967440" y="1066680"/>
            <a:ext cx="314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Аксиомы геометрии можно разбить на пять груп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Аксиомы принадлежност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Каковы бы ни были две точки, существует прямая, проходящая через эти точки, и притом только одн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Аксиомы расположе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ямая разбивает плоскость на две полуплоскости. </a:t>
            </a:r>
            <a:br>
              <a:rPr sz="1800"/>
            </a:b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Аксиомы измере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ждый отрезок имеет определенную длину, большую нуля. Длина отрезка равна сумме длин частей, на которые он разбивается любой его точкой. </a:t>
            </a:r>
            <a:br>
              <a:rPr sz="2200"/>
            </a:b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Аксиомы откладывания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любой полупрямой от ее начальной точки можно отложить отрезок заданной длинны и только один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2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Аксиома параллельност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Две прямые называются параллельными, если они не пересекаются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вклидова геомет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400" y="1214280"/>
            <a:ext cx="3500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м систематическим изложением геометрии , дошедшим до нашего времени являются «Начала»- сочинение александрийского математика Евкл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900igr.net/up/datas/92958/015.jpg"/>
          <p:cNvPicPr/>
          <p:nvPr/>
        </p:nvPicPr>
        <p:blipFill>
          <a:blip r:embed="rId1"/>
          <a:stretch/>
        </p:blipFill>
        <p:spPr>
          <a:xfrm>
            <a:off x="4932360" y="1052640"/>
            <a:ext cx="5291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сиомы и постул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ксиомы и первые 4 постулата Евкли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 определений автор «Начал» приводит предложения, которые принимаются без доказательства. Их он разделяет на аксиомы и постулаты. Первая группа состоит из 11 утверждений, которые человеку известны интуитивн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оме того, Евклид приводит 5 постулатов. Первые четыре глася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любой точки до всякой другой можно провести пряму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любого центра всяким радиусом возможно описать окружн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граниченная прямая может непрерывно продолжаться по прямо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прямые углы рав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89000"/>
            <a:ext cx="4286160" cy="75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вклид говорил, что аксиомы – это утверждения, не требующие доказательств, но при этом он понимал, что слепое принятие на веру этих утверждений не может использоваться в построении математических теорий и формул. Он осознавал, что даже аксиомы должны быть подкреплены неоспоримыми доказательствами. А потому учёный начал приводить логические заключения, подтверждавшие его геометрические аксиомы и теоремы. Для лучше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имания этих аксиом, он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делил их на две группы, которые назвал «постулатам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s://media.istockphoto.com/photos/three-legged-milking-stool-picture-id114399020?k=6&amp;m=114399020&amp;s=612x612&amp;w=0&amp;h=Z1-126vOB2p_9bNyjIyvWnRTwvAgnNz43-HbCrtmYEI="/>
          <p:cNvPicPr/>
          <p:nvPr/>
        </p:nvPicPr>
        <p:blipFill>
          <a:blip r:embed="rId1"/>
          <a:stretch/>
        </p:blipFill>
        <p:spPr>
          <a:xfrm>
            <a:off x="6292800" y="0"/>
            <a:ext cx="2851200" cy="42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s://putidorogi-nn.ru/images/stories/afrika/egipetskie_piramidy_6.jpg"/>
          <p:cNvPicPr/>
          <p:nvPr/>
        </p:nvPicPr>
        <p:blipFill>
          <a:blip r:embed="rId2"/>
          <a:stretch/>
        </p:blipFill>
        <p:spPr>
          <a:xfrm>
            <a:off x="4214880" y="3448080"/>
            <a:ext cx="4929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11:06:24Z</dcterms:created>
  <dc:creator>ВЛАД</dc:creator>
  <dc:description/>
  <dc:language>en-US</dc:language>
  <cp:lastModifiedBy>ПК</cp:lastModifiedBy>
  <dcterms:modified xsi:type="dcterms:W3CDTF">2020-09-16T13:13:03Z</dcterms:modified>
  <cp:revision>22</cp:revision>
  <dc:subject/>
  <dc:title>Слайд 1</dc:title>
</cp:coreProperties>
</file>