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5E1-E6B8-49B5-AABA-FA49296B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A0F-47EC-4F3B-9777-6C2FD23D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2EE-436E-4D79-B804-2E1A6028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721-C8A6-4BA5-AD43-627D3A6C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A40-1C70-4046-B3D1-536B7A85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F9C-44E6-4C51-8F9C-E680D762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884-3067-464C-B1A4-737C3511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49D-86ED-4948-95A0-61A8B69B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946-B4F4-4D9C-AD3D-D6E1219E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4A02-0E16-40C0-96D8-D446D123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C3B-5EB9-40C0-BA2E-F6379C9E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320F-10F6-4317-BF83-11E35124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29AA-6995-48F3-BED1-57EFC92B2F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4680" y="2276280"/>
            <a:ext cx="7200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осква  2020 г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260280"/>
            <a:ext cx="6400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БОУ школа №760 имени А.П.Маресьева города Моск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зучаем антонимы с детьми 5-6 лет в игровой форм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«Назови наоборо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                                                        </a:t>
            </a: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Учитель-логопед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                                        </a:t>
            </a:r>
            <a:r>
              <a:rPr b="1" i="1" lang="ru-RU" sz="2800" spc="-1" strike="noStrike">
                <a:solidFill>
                  <a:srgbClr val="0d0d0d"/>
                </a:solidFill>
                <a:latin typeface="Calibri"/>
              </a:rPr>
              <a:t>Сорокина О.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s://pp.vk.me/c627826/v627826293/27387/shLepRwflas.jpg"/>
          <p:cNvPicPr/>
          <p:nvPr/>
        </p:nvPicPr>
        <p:blipFill>
          <a:blip r:embed="rId1"/>
          <a:stretch/>
        </p:blipFill>
        <p:spPr>
          <a:xfrm>
            <a:off x="1581120" y="1600200"/>
            <a:ext cx="598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s://pp.vk.me/c627826/v627826293/27397/ON3DSebd9hQ.jpg"/>
          <p:cNvPicPr/>
          <p:nvPr/>
        </p:nvPicPr>
        <p:blipFill>
          <a:blip r:embed="rId1"/>
          <a:stretch/>
        </p:blipFill>
        <p:spPr>
          <a:xfrm>
            <a:off x="1581120" y="1600200"/>
            <a:ext cx="598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s://pp.vk.me/c627826/v627826293/2739f/_Wgsu8yuzyA.jpg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s://pp.vk.me/c627826/v627826293/273a7/l8dK28RcoGQ.jpg"/>
          <p:cNvPicPr/>
          <p:nvPr/>
        </p:nvPicPr>
        <p:blipFill>
          <a:blip r:embed="rId1"/>
          <a:stretch/>
        </p:blipFill>
        <p:spPr>
          <a:xfrm>
            <a:off x="1581120" y="1600200"/>
            <a:ext cx="598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s://pp.vk.me/c627826/v627826293/273af/9beF6WrFguM.jpg"/>
          <p:cNvPicPr/>
          <p:nvPr/>
        </p:nvPicPr>
        <p:blipFill>
          <a:blip r:embed="rId1"/>
          <a:stretch/>
        </p:blipFill>
        <p:spPr>
          <a:xfrm>
            <a:off x="1581120" y="1600200"/>
            <a:ext cx="598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гра: Закончи предложение и назови "слова с противоположным значением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22"/>
                </a:solidFill>
                <a:latin typeface="Georgia"/>
              </a:rPr>
              <a:t>Мы с тобой будем придумывать предложения: я придумаю начало, а ты - конец".( Без опоры на картинк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2268360" y="134136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Комар маленький, а сло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Пушинка легкая, а камень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Горчица горькая, а сахар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Куст низкий, а дерево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Компот холодный, а суп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Сметана густая, а молоко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Ручеек узкий, река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Ночью темно, а днем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Сахар сладкий, а лимон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Ходят ногами, а бросают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Детский сад близко, а школа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Лента узкая, а пояс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74"/>
              </a:spcBef>
              <a:spcAft>
                <a:spcPts val="10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ff0000"/>
                </a:solidFill>
                <a:latin typeface="Cambria"/>
                <a:ea typeface="Times New Roman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spcAft>
                <a:spcPts val="1074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ambri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Cambria"/>
                <a:ea typeface="Times New Roman"/>
              </a:rPr>
              <a:t>Закрепление в представлении и словаре ребёнка противоположных признаков предметов или слов-антоним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6012000" y="4300560"/>
            <a:ext cx="301788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"/>
          <p:cNvPicPr/>
          <p:nvPr/>
        </p:nvPicPr>
        <p:blipFill>
          <a:blip r:embed="rId2"/>
          <a:stretch/>
        </p:blipFill>
        <p:spPr>
          <a:xfrm>
            <a:off x="826920" y="1625760"/>
            <a:ext cx="59994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96760" y="2111040"/>
            <a:ext cx="822960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ОПЫТНЫЙ КАРАПУЗ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АЛ ПРОДУКТОВ ВКУС,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ВСЕХ ЗАПОМНИЛ ТОЛЬК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АДКИЙ ТОР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Ц ГОРЬ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412920" y="4257720"/>
            <a:ext cx="2054160" cy="226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https://go1.imgsmail.ru/imgpreview?key=332610910c1590b8&amp;mb=imgdb_preview_492"/>
          <p:cNvPicPr/>
          <p:nvPr/>
        </p:nvPicPr>
        <p:blipFill>
          <a:blip r:embed="rId2"/>
          <a:stretch/>
        </p:blipFill>
        <p:spPr>
          <a:xfrm>
            <a:off x="6764400" y="3357720"/>
            <a:ext cx="2340000" cy="3314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vseoteplicah.ru/wp-content/uploads/2014/05/perec-chili-500x300.jpg"/>
          <p:cNvPicPr/>
          <p:nvPr/>
        </p:nvPicPr>
        <p:blipFill>
          <a:blip r:embed="rId3"/>
          <a:stretch/>
        </p:blipFill>
        <p:spPr>
          <a:xfrm>
            <a:off x="103320" y="-67464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Georgia"/>
              </a:rPr>
              <a:t>«Назови наоборот» 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Рассмотрите картинки и поиграйте в игру  «Назови наоборо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Вы называете предмет изображенный справа на картинке. Ребенок потом  по картинке, изображенной слева, отвечает. Так  у ребенка в игровой форме закрепятся в речи слова- антони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431640" y="4437000"/>
            <a:ext cx="2691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s://pp.vk.me/c627826/v627826293/27367/JPiplxkNX9I.jpg"/>
          <p:cNvPicPr/>
          <p:nvPr/>
        </p:nvPicPr>
        <p:blipFill>
          <a:blip r:embed="rId1"/>
          <a:stretch/>
        </p:blipFill>
        <p:spPr>
          <a:xfrm>
            <a:off x="1436760" y="1600200"/>
            <a:ext cx="6270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s://pp.vk.me/c627826/v627826293/2736f/gT49NMTtP4M.jpg"/>
          <p:cNvPicPr/>
          <p:nvPr/>
        </p:nvPicPr>
        <p:blipFill>
          <a:blip r:embed="rId1"/>
          <a:stretch/>
        </p:blipFill>
        <p:spPr>
          <a:xfrm>
            <a:off x="1400040" y="1600200"/>
            <a:ext cx="634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s://pp.vk.me/c627826/v627826293/27377/16HlEsZTBhg.jpg"/>
          <p:cNvPicPr/>
          <p:nvPr/>
        </p:nvPicPr>
        <p:blipFill>
          <a:blip r:embed="rId1"/>
          <a:stretch/>
        </p:blipFill>
        <p:spPr>
          <a:xfrm>
            <a:off x="1473120" y="1600200"/>
            <a:ext cx="619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s://pp.vk.me/c627826/v627826293/2737f/urkoqdBv8WU.jpg"/>
          <p:cNvPicPr/>
          <p:nvPr/>
        </p:nvPicPr>
        <p:blipFill>
          <a:blip r:embed="rId1"/>
          <a:stretch/>
        </p:blipFill>
        <p:spPr>
          <a:xfrm>
            <a:off x="1581120" y="1600200"/>
            <a:ext cx="598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09:23:46Z</dcterms:created>
  <dc:creator>.</dc:creator>
  <dc:description/>
  <dc:language>en-US</dc:language>
  <cp:lastModifiedBy>Ольга</cp:lastModifiedBy>
  <dcterms:modified xsi:type="dcterms:W3CDTF">2020-04-28T09:25:20Z</dcterms:modified>
  <cp:revision>57</cp:revision>
  <dc:subject/>
  <dc:title>Система работы  школы с одаренными и талантливыми деть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190000000000010290110207f7000400038000</vt:lpwstr>
  </property>
</Properties>
</file>