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4AE-A4E4-4B1C-8C41-B5598732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B22-53CA-4EDF-8D45-3B27AB4D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69A-7ECC-40A0-93CE-BDF25EF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3DD-2D9E-40C3-BE7A-9E9368A7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0E0-AD01-4B75-AEDF-962B36D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C45-F6B1-414B-ACD7-0FA787B1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DC9-AE82-41AB-9014-5072609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A44-DCEB-44DE-AC45-D76A645F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2A5-A623-4607-9DBA-4A0D1BD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9CB-2DA9-4B86-B716-1AE850B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0B5-E18C-40F9-8D42-421D2EE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2E2-FE3F-4BE0-AD8A-189B50D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1525-C407-4556-BA85-188997A75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680" y="2276280"/>
            <a:ext cx="7200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 2020 г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260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БОУ школа №760 имени А.П.Маресьева города Мос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зучаем антонимы с детьми 5-6 лет в игров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Назови наоборо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Учитель-логопед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                                       </a:t>
            </a: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Сорокина О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pp.vk.me/c627826/v627826293/27387/shLepRwflas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pp.vk.me/c627826/v627826293/27397/ON3DSebd9hQ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pp.vk.me/c627826/v627826293/2739f/_Wgsu8yuzyA.jpg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pp.vk.me/c627826/v627826293/273a7/l8dK28RcoGQ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pp.vk.me/c627826/v627826293/273af/9beF6WrFguM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гра: Закончи предложение и назови "слова с противоположным значением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Georgia"/>
              </a:rPr>
              <a:t>Мы с тобой будем придумывать предложения: я придумаю начало, а ты - конец".( Без опоры на картин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268360" y="134136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омар маленький, а сл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Пушинка легкая, а камень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Горчица горькая, а сахар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уст низкий, а дерево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Компот холодный, а суп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Сметана густая, а молоко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Ручеек узкий, река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Ночью темно, а днем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Сахар сладкий, а лимон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Ходят ногами, а бросают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Детский сад близко, а школа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Georgia"/>
              </a:rPr>
              <a:t>Лента узкая, а пояс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74"/>
              </a:spcBef>
              <a:spcAft>
                <a:spcPts val="10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spcAft>
                <a:spcPts val="1074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mbr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Cambria"/>
                <a:ea typeface="Times New Roman"/>
              </a:rPr>
              <a:t>Закрепление в представлении и словаре ребёнка противоположных признаков предметов или слов-антони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012000" y="4300560"/>
            <a:ext cx="30178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826920" y="1625760"/>
            <a:ext cx="59994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96760" y="2111040"/>
            <a:ext cx="822960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ПЫТНЫЙ КАРАПУ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Л ПРОДУКТОВ ВКУС,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ВСЕХ ЗАПОМНИЛ ТОЛЬ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АДКИЙ ТОР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Ц ГОР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12920" y="4257720"/>
            <a:ext cx="2054160" cy="22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ttps://go1.imgsmail.ru/imgpreview?key=332610910c1590b8&amp;mb=imgdb_preview_492"/>
          <p:cNvPicPr/>
          <p:nvPr/>
        </p:nvPicPr>
        <p:blipFill>
          <a:blip r:embed="rId2"/>
          <a:stretch/>
        </p:blipFill>
        <p:spPr>
          <a:xfrm>
            <a:off x="6764400" y="3357720"/>
            <a:ext cx="2340000" cy="331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vseoteplicah.ru/wp-content/uploads/2014/05/perec-chili-500x300.jpg"/>
          <p:cNvPicPr/>
          <p:nvPr/>
        </p:nvPicPr>
        <p:blipFill>
          <a:blip r:embed="rId3"/>
          <a:stretch/>
        </p:blipFill>
        <p:spPr>
          <a:xfrm>
            <a:off x="103320" y="-6746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Georgia"/>
              </a:rPr>
              <a:t>«Назови наоборот» 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ассмотрите картинки и поиграйте в игру  «Назови наоборо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ы называете предмет изображенный справа на картинке. Ребенок потом  по картинке, изображенной слева, отвечает. Так  у ребенка в игровой форме закрепятся в речи слова- антони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431640" y="4437000"/>
            <a:ext cx="2691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s://pp.vk.me/c627826/v627826293/27367/JPiplxkNX9I.jpg"/>
          <p:cNvPicPr/>
          <p:nvPr/>
        </p:nvPicPr>
        <p:blipFill>
          <a:blip r:embed="rId1"/>
          <a:stretch/>
        </p:blipFill>
        <p:spPr>
          <a:xfrm>
            <a:off x="1436760" y="1600200"/>
            <a:ext cx="627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pp.vk.me/c627826/v627826293/2736f/gT49NMTtP4M.jpg"/>
          <p:cNvPicPr/>
          <p:nvPr/>
        </p:nvPicPr>
        <p:blipFill>
          <a:blip r:embed="rId1"/>
          <a:stretch/>
        </p:blipFill>
        <p:spPr>
          <a:xfrm>
            <a:off x="1400040" y="1600200"/>
            <a:ext cx="634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pp.vk.me/c627826/v627826293/27377/16HlEsZTBhg.jpg"/>
          <p:cNvPicPr/>
          <p:nvPr/>
        </p:nvPicPr>
        <p:blipFill>
          <a:blip r:embed="rId1"/>
          <a:stretch/>
        </p:blipFill>
        <p:spPr>
          <a:xfrm>
            <a:off x="1473120" y="1600200"/>
            <a:ext cx="619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азови наоборо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pp.vk.me/c627826/v627826293/2737f/urkoqdBv8WU.jpg"/>
          <p:cNvPicPr/>
          <p:nvPr/>
        </p:nvPicPr>
        <p:blipFill>
          <a:blip r:embed="rId1"/>
          <a:stretch/>
        </p:blipFill>
        <p:spPr>
          <a:xfrm>
            <a:off x="1581120" y="1600200"/>
            <a:ext cx="598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9:23:46Z</dcterms:created>
  <dc:creator>.</dc:creator>
  <dc:description/>
  <dc:language>en-US</dc:language>
  <cp:lastModifiedBy>Ольга</cp:lastModifiedBy>
  <dcterms:modified xsi:type="dcterms:W3CDTF">2020-04-28T09:25:20Z</dcterms:modified>
  <cp:revision>57</cp:revision>
  <dc:subject/>
  <dc:title>Система работы  школы с одаренными и талантливыми деть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90000000000010290110207f7000400038000</vt:lpwstr>
  </property>
</Properties>
</file>