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ADD-5963-4A3D-87D0-2224C479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380-EFF0-4CB6-878D-F7A65982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973-A9DE-4DB3-A365-771A7996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F33-AB54-42C5-B3FA-8A3E99A6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AA1-80F6-4C66-8ECF-B9B5B857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732-3F6D-4B61-85EA-29DD15F9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F8A-DD79-4E22-872C-296AC650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243-56FE-4DBD-9C54-C984C29D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E68-DE35-446A-89D9-3BD0A6B5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EB0-C893-48E9-9DBE-F1770DE2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3B0-3085-4A5A-B3E4-3B29C28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C39-8AFC-442F-8179-76680731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26DF-A1E6-4FC1-AAA6-CA90282D0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pp.userapi.com/c841433/v841433070/172f0/K0FpsLIyDVw.jpg"/>
          <p:cNvPicPr/>
          <p:nvPr/>
        </p:nvPicPr>
        <p:blipFill>
          <a:blip r:embed="rId1"/>
          <a:srcRect l="6936" t="4188" r="15732" b="4733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52280" y="1522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на потолок мне понадобится новая люст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мы выбрали в магазине «Мир света» по цене 18500 руб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4114440"/>
            <a:ext cx="807732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но мы выбрали в компании « Мир  окон» по цене 1850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952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мы выбрали в компании «7 дверей» по цене 5400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st25.stblizko.ru/images/product/119/344/025_big.jpg"/>
          <p:cNvPicPr/>
          <p:nvPr/>
        </p:nvPicPr>
        <p:blipFill>
          <a:blip r:embed="rId1"/>
          <a:srcRect l="22413" t="0" r="25352" b="0"/>
          <a:stretch/>
        </p:blipFill>
        <p:spPr>
          <a:xfrm>
            <a:off x="5715000" y="-22320"/>
            <a:ext cx="32958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м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чётом того, что ремонт мы будем производить своими сил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112 рублей 50 копеек + 3062 рубля 50 копеек + 3240 руб + 18500 руб + 5400 руб+ 5100 руб+ 350 руб = 39765 рублей. Таким образом на весь ремонт мне понадобится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976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067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ке математики мы решали много задач на нахождение площади, задачи с величинами цена, количество, стоимость. Но для меня они не имели смысла до данной работы. Теперь я знаю, что без них невозможно решить житей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pp.userapi.com/c840334/v840334204/6ec/B8JRJJBVBs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ект по математике на тему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Математика и Ремон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371600" y="5181480"/>
            <a:ext cx="7543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полнил ученик 5Б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доркин 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12 из 130068"/>
          <p:cNvPicPr/>
          <p:nvPr/>
        </p:nvPicPr>
        <p:blipFill>
          <a:blip r:embed="rId1"/>
          <a:stretch/>
        </p:blipFill>
        <p:spPr>
          <a:xfrm>
            <a:off x="4417920" y="0"/>
            <a:ext cx="4754520" cy="6858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114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емонте нужно посчитать количество материалов и его сто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т на помощь приходит мате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52280" y="227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будет рассчитываться для моей ком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Картинка 2 из 977109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4864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ая ч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ачал работу с изучения материалов и вспомнил формулу площади прямо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потребуется узнать площадь потолка, стен и по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у площадь ст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50 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50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5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2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+(2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50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=30000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у площадь ок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=150 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=14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21000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же найду площадь дв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=80 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=20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6000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бщей площади стен уберу площадь окна и двери, так как они не включаются в расчёты для оклейки обоев. И получим площадь, которую нужно оклеить обо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0000 -21000-16000=26300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263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 я пошел в магазин и выбрал обои для стен, линолеум для пола и натяжной потолок. Узнал их стоимость, фирму и материал, из которого они сделаны. Потом я рассчитал стоимость всего ремонта исходя из выбранн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артинка 8 из 40659"/>
          <p:cNvPicPr/>
          <p:nvPr/>
        </p:nvPicPr>
        <p:blipFill>
          <a:blip r:embed="rId1"/>
          <a:stretch/>
        </p:blipFill>
        <p:spPr>
          <a:xfrm>
            <a:off x="6988320" y="3809880"/>
            <a:ext cx="2155680" cy="304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_9b45_49b0a395_XL"/>
          <p:cNvPicPr/>
          <p:nvPr/>
        </p:nvPicPr>
        <p:blipFill>
          <a:blip r:embed="rId1"/>
          <a:stretch/>
        </p:blipFill>
        <p:spPr>
          <a:xfrm>
            <a:off x="2971800" y="3033720"/>
            <a:ext cx="6172200" cy="3824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0" y="0"/>
            <a:ext cx="914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и мы выбрали в магазине «Мой дом» по цене 1700 рублей за рулон. Размер рулона: ширина 102 см, а длина 1000 см , т.е. один рулон закроет стен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10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моей комна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торую необходимо поклеить равна 26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00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.е 26,3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аким образом разделив площадь стен на площадь обоев я выяснил, что мне понадобится 3 рул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посчитал, что на обои мне понадобится 5100 руб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505320"/>
            <a:ext cx="281952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для обоев мне нужен к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па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а 35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u743eb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выбрали линолеу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k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цене 470 рублей за 1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Я рассчитал, что для покупки линолеума мне на пол понадобится 8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75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 8,75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образом на линолеум мне понадоб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,75*470=4112 рублей 50 копе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20_b"/>
          <p:cNvPicPr/>
          <p:nvPr/>
        </p:nvPicPr>
        <p:blipFill>
          <a:blip r:embed="rId1"/>
          <a:stretch/>
        </p:blipFill>
        <p:spPr>
          <a:xfrm>
            <a:off x="-135000" y="0"/>
            <a:ext cx="9279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0" y="22860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яжной потолок мы выбрали в компании «Пан Потолок» по цене 350 рублей за 1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 на потолок мне понадоб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,75 *350=3062 рубля 50 копе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</dc:creator>
  <dc:description/>
  <dc:language>en-US</dc:language>
  <cp:lastModifiedBy>ПК</cp:lastModifiedBy>
  <dcterms:modified xsi:type="dcterms:W3CDTF">2018-04-23T14:03:5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