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28.jpeg" ContentType="image/jpeg"/>
  <Override PartName="/ppt/media/image23.wmf" ContentType="image/x-wmf"/>
  <Override PartName="/ppt/media/image13.png" ContentType="image/png"/>
  <Override PartName="/ppt/media/image29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5A1-C347-4199-BF8B-FEC3BFE5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BE6-3202-487E-8F22-FD876C89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496-8E32-47EF-8C46-3B1E5997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E32-3995-49DF-B95E-42C9249E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5800-193C-4D23-AFBE-EA321752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451-FF3B-4913-A78B-8D5E12B6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95B4-AC63-44F0-A0F5-97F3F1C0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F07-02E1-4F29-AD48-207AB0D2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1478-20CA-4D24-856B-53F5DF51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3E5-D569-4CEE-9137-514E877E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C646-00AB-4FBA-A55D-F59527C9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A05-294C-450C-8B32-62B3EB9A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30B0-251A-44E5-B854-D93DC9F9A4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e4924"/>
                </a:solidFill>
                <a:latin typeface="Times New Roman"/>
                <a:ea typeface="Times New Roman"/>
              </a:rPr>
              <a:t>Проект по технолог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3733560"/>
            <a:ext cx="5105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e1e20"/>
                </a:solidFill>
                <a:latin typeface="Times New Roman"/>
              </a:rPr>
              <a:t>Разработка схемы мотива для вязаного изделия «Мой друг хас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пряжи для издел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Объект 2" descr=""/>
          <p:cNvPicPr/>
          <p:nvPr/>
        </p:nvPicPr>
        <p:blipFill>
          <a:blip r:embed="rId1"/>
          <a:stretch/>
        </p:blipFill>
        <p:spPr>
          <a:xfrm>
            <a:off x="2133720" y="1527120"/>
            <a:ext cx="495288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хемы мотива вязания по рисун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rcRect l="0" t="0" r="76623" b="0"/>
          <a:stretch/>
        </p:blipFill>
        <p:spPr>
          <a:xfrm>
            <a:off x="4952880" y="190512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1219320" y="2590920"/>
            <a:ext cx="1987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хемы мотива вязания по рисун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F:\Некрасова Саша олимпиада 2017-18\D48aVzRNeG4.jpg"/>
          <p:cNvPicPr/>
          <p:nvPr/>
        </p:nvPicPr>
        <p:blipFill>
          <a:blip r:embed="rId1"/>
          <a:srcRect l="0" t="0" r="0" b="-259"/>
          <a:stretch/>
        </p:blipFill>
        <p:spPr>
          <a:xfrm>
            <a:off x="1066680" y="1676520"/>
            <a:ext cx="3040200" cy="4173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F:\Некрасова Саша олимпиада 2017-18\e3dN6yOKJ1Q.jpg"/>
          <p:cNvPicPr/>
          <p:nvPr/>
        </p:nvPicPr>
        <p:blipFill>
          <a:blip r:embed="rId2"/>
          <a:stretch/>
        </p:blipFill>
        <p:spPr>
          <a:xfrm>
            <a:off x="5100480" y="1676520"/>
            <a:ext cx="2989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хемы мотива вязания по рисун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F:\Некрасова Саша олимпиада 2017-18\nc1QwEdOpjs.jpg"/>
          <p:cNvPicPr/>
          <p:nvPr/>
        </p:nvPicPr>
        <p:blipFill>
          <a:blip r:embed="rId1"/>
          <a:srcRect l="0" t="0" r="-5139" b="0"/>
          <a:stretch/>
        </p:blipFill>
        <p:spPr>
          <a:xfrm>
            <a:off x="1143000" y="2133720"/>
            <a:ext cx="3179880" cy="3809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:\Некрасова Саша олимпиада 2017-18\EbfS4HmVdwY.jpg"/>
          <p:cNvPicPr/>
          <p:nvPr/>
        </p:nvPicPr>
        <p:blipFill>
          <a:blip r:embed="rId2"/>
          <a:stretch/>
        </p:blipFill>
        <p:spPr>
          <a:xfrm>
            <a:off x="5029200" y="2166840"/>
            <a:ext cx="30114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вязания жил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F:\для юли\lMqsVuJ9p8I.jpg"/>
          <p:cNvPicPr/>
          <p:nvPr/>
        </p:nvPicPr>
        <p:blipFill>
          <a:blip r:embed="rId1"/>
          <a:stretch/>
        </p:blipFill>
        <p:spPr>
          <a:xfrm>
            <a:off x="762120" y="1447920"/>
            <a:ext cx="4287600" cy="2819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495680" y="4038480"/>
            <a:ext cx="4319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вязания жил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F:\для юли\lMqsVuJ9p8I.jpg"/>
          <p:cNvPicPr/>
          <p:nvPr/>
        </p:nvPicPr>
        <p:blipFill>
          <a:blip r:embed="rId1"/>
          <a:stretch/>
        </p:blipFill>
        <p:spPr>
          <a:xfrm>
            <a:off x="457200" y="1219320"/>
            <a:ext cx="3514680" cy="5181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– 82 петли +2 кром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нка – 76 петель + 2 кром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вязания жил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F:\Некрасова Саша олимпиада 2017-18\n4p3cmv806w.jpg"/>
          <p:cNvPicPr/>
          <p:nvPr/>
        </p:nvPicPr>
        <p:blipFill>
          <a:blip r:embed="rId1"/>
          <a:stretch/>
        </p:blipFill>
        <p:spPr>
          <a:xfrm>
            <a:off x="2590920" y="1066680"/>
            <a:ext cx="4092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вязания жил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F:\Некрасова Саша олимпиада 2017-18\JvgBkEE07eY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2256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ое и экономическое обосн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4952880"/>
        </p:xfrm>
        <a:graphic>
          <a:graphicData uri="http://schemas.openxmlformats.org/drawingml/2006/table">
            <a:tbl>
              <a:tblPr/>
              <a:tblGrid>
                <a:gridCol w="488880"/>
                <a:gridCol w="2824200"/>
                <a:gridCol w="1638360"/>
                <a:gridCol w="1639800"/>
                <a:gridCol w="1638360"/>
              </a:tblGrid>
              <a:tr h="110016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, руб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ж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LGA W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отка по 100 г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9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тки пряжи светло-коричневого и темно-коричневого цв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ло 50 г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цы №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543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Реклам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елиям, сделанным своими руками модно давать названия, поэтому свой жилет я назвала «Мой друг ХАС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Documents and Settings\Pink\Рабочий стол\реклама хаски.jpg"/>
          <p:cNvPicPr/>
          <p:nvPr/>
        </p:nvPicPr>
        <p:blipFill>
          <a:blip r:embed="rId1"/>
          <a:stretch/>
        </p:blipFill>
        <p:spPr>
          <a:xfrm>
            <a:off x="4800600" y="1066680"/>
            <a:ext cx="3878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Автор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e1e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e1e20"/>
                </a:solidFill>
                <a:latin typeface="Times New Roman"/>
              </a:rPr>
              <a:t>Некрасова Александра Серг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1e2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e1e20"/>
                </a:solidFill>
                <a:latin typeface="Times New Roman"/>
              </a:rPr>
              <a:t>ученица 7Б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1e2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e1e20"/>
                </a:solidFill>
                <a:latin typeface="Times New Roman"/>
              </a:rPr>
              <a:t>МБОУ «СШ №9 с УИОП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AyupovaSA\Desktop\2017-2018 учебный год\олимпиада 2017-2018\Некрасова Саша олимпиада 2017-18\-t43uLbCgWU.jpg"/>
          <p:cNvPicPr/>
          <p:nvPr/>
        </p:nvPicPr>
        <p:blipFill>
          <a:blip r:embed="rId1"/>
          <a:stretch/>
        </p:blipFill>
        <p:spPr>
          <a:xfrm>
            <a:off x="4800600" y="1752480"/>
            <a:ext cx="3492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:\Некрасова Саша олимпиада 2017-18\wr8whNVXBEU.jpg"/>
          <p:cNvPicPr/>
          <p:nvPr/>
        </p:nvPicPr>
        <p:blipFill>
          <a:blip r:embed="rId1"/>
          <a:stretch/>
        </p:blipFill>
        <p:spPr>
          <a:xfrm>
            <a:off x="649440" y="450720"/>
            <a:ext cx="784512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Проблема и 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e1e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Скоро Новый 2018 год – год желтой земляной Соба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Users\AyupovaSA\Desktop\2017-2018 учебный год\олимпиада 2017-2018\Некрасова Саша олимпиада 2017-18\хаски фото\i.jpg"/>
          <p:cNvPicPr/>
          <p:nvPr/>
        </p:nvPicPr>
        <p:blipFill>
          <a:blip r:embed="rId1"/>
          <a:stretch/>
        </p:blipFill>
        <p:spPr>
          <a:xfrm>
            <a:off x="1219320" y="2514600"/>
            <a:ext cx="6773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17524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самостоятельно схему мотива для вязаного жилета и связать 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AyupovaSA\Desktop\2017-2018 учебный год\олимпиада 2017-2018\Некрасова Саша олимпиада 2017-18\uSXW73ZcO84.jpg"/>
          <p:cNvPicPr/>
          <p:nvPr/>
        </p:nvPicPr>
        <p:blipFill>
          <a:blip r:embed="rId1"/>
          <a:stretch/>
        </p:blipFill>
        <p:spPr>
          <a:xfrm>
            <a:off x="3975120" y="1828800"/>
            <a:ext cx="4759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модные прототипы издел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изделие и способ вязани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схему мотива вяз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модную цветовую гамм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пряжу для издели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ть издел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Исследование модных прототип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Users\AyupovaSA\Desktop\2017-2018 учебный год\олимпиада 2017-2018\Некрасова Саша олимпиада 2017-18\E2zsYMg5e0k.jpg"/>
          <p:cNvPicPr/>
          <p:nvPr/>
        </p:nvPicPr>
        <p:blipFill>
          <a:blip r:embed="rId1"/>
          <a:stretch/>
        </p:blipFill>
        <p:spPr>
          <a:xfrm>
            <a:off x="457200" y="1066680"/>
            <a:ext cx="3422520" cy="2567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AyupovaSA\Desktop\2017-2018 учебный год\олимпиада 2017-2018\Некрасова Саша олимпиада 2017-18\i35X1IBH7.jpg"/>
          <p:cNvPicPr/>
          <p:nvPr/>
        </p:nvPicPr>
        <p:blipFill>
          <a:blip r:embed="rId2"/>
          <a:stretch/>
        </p:blipFill>
        <p:spPr>
          <a:xfrm>
            <a:off x="457200" y="3809880"/>
            <a:ext cx="3402000" cy="255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:\Users\AyupovaSA\Desktop\2017-2018 учебный год\олимпиада 2017-2018\Некрасова Саша олимпиада 2017-18\i0L9A4JSV.jpg"/>
          <p:cNvPicPr/>
          <p:nvPr/>
        </p:nvPicPr>
        <p:blipFill>
          <a:blip r:embed="rId3"/>
          <a:stretch/>
        </p:blipFill>
        <p:spPr>
          <a:xfrm>
            <a:off x="4191120" y="1066680"/>
            <a:ext cx="2603520" cy="4267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AyupovaSA\Desktop\2017-2018 учебный год\олимпиада 2017-2018\Некрасова Саша олимпиада 2017-18\i0OQI7QUI.jpg"/>
          <p:cNvPicPr/>
          <p:nvPr/>
        </p:nvPicPr>
        <p:blipFill>
          <a:blip r:embed="rId4"/>
          <a:stretch/>
        </p:blipFill>
        <p:spPr>
          <a:xfrm>
            <a:off x="6400800" y="3429000"/>
            <a:ext cx="2395440" cy="2971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6"/>
          <p:cNvSpPr/>
          <p:nvPr/>
        </p:nvSpPr>
        <p:spPr>
          <a:xfrm>
            <a:off x="152280" y="1219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152280" y="4267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69368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6022440" y="617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изделия и способа вяз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F:\Некрасова Саша олимпиада 2017-18\7Di1-nUz6PY.jpg"/>
          <p:cNvPicPr/>
          <p:nvPr/>
        </p:nvPicPr>
        <p:blipFill>
          <a:blip r:embed="rId1"/>
          <a:stretch/>
        </p:blipFill>
        <p:spPr>
          <a:xfrm>
            <a:off x="685800" y="1371600"/>
            <a:ext cx="234468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380200" y="4051440"/>
            <a:ext cx="1750680" cy="219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3429000" y="1627200"/>
            <a:ext cx="2444760" cy="210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6553080" y="1447920"/>
            <a:ext cx="1555920" cy="198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1828800" y="4038480"/>
            <a:ext cx="2247840" cy="2210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7162920" y="4038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Выбор рисунка для схемы мотива вяз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Объект 1" descr=""/>
          <p:cNvPicPr/>
          <p:nvPr/>
        </p:nvPicPr>
        <p:blipFill>
          <a:blip r:embed="rId1"/>
          <a:stretch/>
        </p:blipFill>
        <p:spPr>
          <a:xfrm>
            <a:off x="838080" y="1509840"/>
            <a:ext cx="204480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Объект 4" descr=""/>
          <p:cNvPicPr/>
          <p:nvPr/>
        </p:nvPicPr>
        <p:blipFill>
          <a:blip r:embed="rId2"/>
          <a:stretch/>
        </p:blipFill>
        <p:spPr>
          <a:xfrm>
            <a:off x="3402000" y="1265400"/>
            <a:ext cx="2187720" cy="2187360"/>
          </a:xfrm>
          <a:prstGeom prst="rect">
            <a:avLst/>
          </a:prstGeom>
          <a:ln w="0">
            <a:noFill/>
          </a:ln>
        </p:spPr>
      </p:pic>
      <p:pic>
        <p:nvPicPr>
          <p:cNvPr id="73" name="Объект 7" descr=""/>
          <p:cNvPicPr/>
          <p:nvPr/>
        </p:nvPicPr>
        <p:blipFill>
          <a:blip r:embed="rId3"/>
          <a:stretch/>
        </p:blipFill>
        <p:spPr>
          <a:xfrm>
            <a:off x="2111400" y="4241880"/>
            <a:ext cx="154152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0" descr=""/>
          <p:cNvPicPr/>
          <p:nvPr/>
        </p:nvPicPr>
        <p:blipFill>
          <a:blip r:embed="rId4"/>
          <a:stretch/>
        </p:blipFill>
        <p:spPr>
          <a:xfrm>
            <a:off x="6248520" y="1525680"/>
            <a:ext cx="1600200" cy="2268360"/>
          </a:xfrm>
          <a:prstGeom prst="rect">
            <a:avLst/>
          </a:prstGeom>
          <a:ln w="0">
            <a:noFill/>
          </a:ln>
        </p:spPr>
      </p:pic>
      <p:pic>
        <p:nvPicPr>
          <p:cNvPr id="75" name="Объект 12" descr=""/>
          <p:cNvPicPr/>
          <p:nvPr/>
        </p:nvPicPr>
        <p:blipFill>
          <a:blip r:embed="rId5"/>
          <a:stretch/>
        </p:blipFill>
        <p:spPr>
          <a:xfrm>
            <a:off x="5114880" y="4240080"/>
            <a:ext cx="2266920" cy="2187720"/>
          </a:xfrm>
          <a:prstGeom prst="rect">
            <a:avLst/>
          </a:prstGeom>
          <a:ln w="0">
            <a:noFill/>
          </a:ln>
        </p:spPr>
      </p:pic>
      <p:sp>
        <p:nvSpPr>
          <p:cNvPr id="76" name="TextBox 13"/>
          <p:cNvSpPr/>
          <p:nvPr/>
        </p:nvSpPr>
        <p:spPr>
          <a:xfrm>
            <a:off x="457200" y="1752480"/>
            <a:ext cx="3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Объект 1" descr=""/>
          <p:cNvPicPr/>
          <p:nvPr/>
        </p:nvPicPr>
        <p:blipFill>
          <a:blip r:embed="rId6"/>
          <a:stretch/>
        </p:blipFill>
        <p:spPr>
          <a:xfrm>
            <a:off x="838080" y="1500120"/>
            <a:ext cx="2044800" cy="2185920"/>
          </a:xfrm>
          <a:prstGeom prst="rect">
            <a:avLst/>
          </a:prstGeom>
          <a:ln w="0">
            <a:noFill/>
          </a:ln>
        </p:spPr>
      </p:pic>
      <p:pic>
        <p:nvPicPr>
          <p:cNvPr id="78" name="Объект 1" descr=""/>
          <p:cNvPicPr/>
          <p:nvPr/>
        </p:nvPicPr>
        <p:blipFill>
          <a:blip r:embed="rId7"/>
          <a:stretch/>
        </p:blipFill>
        <p:spPr>
          <a:xfrm>
            <a:off x="838080" y="1509840"/>
            <a:ext cx="2044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модной цветовой г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Объект 2" descr=""/>
          <p:cNvPicPr/>
          <p:nvPr/>
        </p:nvPicPr>
        <p:blipFill>
          <a:blip r:embed="rId1"/>
          <a:srcRect l="32076" t="0" r="7550" b="-4345"/>
          <a:stretch/>
        </p:blipFill>
        <p:spPr>
          <a:xfrm>
            <a:off x="914400" y="4175280"/>
            <a:ext cx="718668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3581280" y="1612800"/>
            <a:ext cx="228600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20-09-16T05:04:12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