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13.png" ContentType="image/png"/>
  <Override PartName="/ppt/media/image29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C5F-564F-491C-8D57-0C94F18D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BD6-EDD6-4A8B-B453-CC1ECB2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28F-4B6E-4916-9886-262D8CC5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F2A-FFA4-4762-AA5D-0177A21E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E6C-999C-465D-96FA-6E134E0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3D2-E516-4439-8881-037238CD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B12-0F57-42DA-8462-B5B5A25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5AD-AFF8-4A96-84E7-F41107A2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58D-D067-4D17-9A90-F17C62C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D9F-558A-4AFF-BAEE-5569768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E99-551D-4685-8998-C618FFF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8DD-46A1-4291-B3D6-D4D6963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F0D-7F89-45B6-B7A4-09334775F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e4924"/>
                </a:solidFill>
                <a:latin typeface="Times New Roman"/>
                <a:ea typeface="Times New Roman"/>
              </a:rPr>
              <a:t>Проект по техн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5105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1e20"/>
                </a:solidFill>
                <a:latin typeface="Times New Roman"/>
              </a:rPr>
              <a:t>Разработка схемы мотива для вязаного изделия «Мой друг хас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ряжи для изде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2" descr=""/>
          <p:cNvPicPr/>
          <p:nvPr/>
        </p:nvPicPr>
        <p:blipFill>
          <a:blip r:embed="rId1"/>
          <a:stretch/>
        </p:blipFill>
        <p:spPr>
          <a:xfrm>
            <a:off x="2133720" y="1527120"/>
            <a:ext cx="495288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хемы мотива вязания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0" t="0" r="76623" b="0"/>
          <a:stretch/>
        </p:blipFill>
        <p:spPr>
          <a:xfrm>
            <a:off x="4952880" y="190512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198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хемы мотива вязания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F:\Некрасова Саша олимпиада 2017-18\D48aVzRNeG4.jpg"/>
          <p:cNvPicPr/>
          <p:nvPr/>
        </p:nvPicPr>
        <p:blipFill>
          <a:blip r:embed="rId1"/>
          <a:srcRect l="0" t="0" r="0" b="-259"/>
          <a:stretch/>
        </p:blipFill>
        <p:spPr>
          <a:xfrm>
            <a:off x="1066680" y="1676520"/>
            <a:ext cx="3040200" cy="417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F:\Некрасова Саша олимпиада 2017-18\e3dN6yOKJ1Q.jpg"/>
          <p:cNvPicPr/>
          <p:nvPr/>
        </p:nvPicPr>
        <p:blipFill>
          <a:blip r:embed="rId2"/>
          <a:stretch/>
        </p:blipFill>
        <p:spPr>
          <a:xfrm>
            <a:off x="5100480" y="1676520"/>
            <a:ext cx="298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хемы мотива вязания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F:\Некрасова Саша олимпиада 2017-18\nc1QwEdOpjs.jpg"/>
          <p:cNvPicPr/>
          <p:nvPr/>
        </p:nvPicPr>
        <p:blipFill>
          <a:blip r:embed="rId1"/>
          <a:srcRect l="0" t="0" r="-5139" b="0"/>
          <a:stretch/>
        </p:blipFill>
        <p:spPr>
          <a:xfrm>
            <a:off x="1143000" y="2133720"/>
            <a:ext cx="3179880" cy="380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:\Некрасова Саша олимпиада 2017-18\EbfS4HmVdwY.jpg"/>
          <p:cNvPicPr/>
          <p:nvPr/>
        </p:nvPicPr>
        <p:blipFill>
          <a:blip r:embed="rId2"/>
          <a:stretch/>
        </p:blipFill>
        <p:spPr>
          <a:xfrm>
            <a:off x="5029200" y="2166840"/>
            <a:ext cx="30114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F:\для юли\lMqsVuJ9p8I.jpg"/>
          <p:cNvPicPr/>
          <p:nvPr/>
        </p:nvPicPr>
        <p:blipFill>
          <a:blip r:embed="rId1"/>
          <a:stretch/>
        </p:blipFill>
        <p:spPr>
          <a:xfrm>
            <a:off x="762120" y="1447920"/>
            <a:ext cx="4287600" cy="281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431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:\для юли\lMqsVuJ9p8I.jpg"/>
          <p:cNvPicPr/>
          <p:nvPr/>
        </p:nvPicPr>
        <p:blipFill>
          <a:blip r:embed="rId1"/>
          <a:stretch/>
        </p:blipFill>
        <p:spPr>
          <a:xfrm>
            <a:off x="457200" y="1219320"/>
            <a:ext cx="351468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– 82 петли +2 кром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ка – 76 петель + 2 кром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F:\Некрасова Саша олимпиада 2017-18\n4p3cmv806w.jpg"/>
          <p:cNvPicPr/>
          <p:nvPr/>
        </p:nvPicPr>
        <p:blipFill>
          <a:blip r:embed="rId1"/>
          <a:stretch/>
        </p:blipFill>
        <p:spPr>
          <a:xfrm>
            <a:off x="2590920" y="1066680"/>
            <a:ext cx="409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F:\Некрасова Саша олимпиада 2017-18\JvgBkEE07e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25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и экономическое обосн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952880"/>
        </p:xfrm>
        <a:graphic>
          <a:graphicData uri="http://schemas.openxmlformats.org/drawingml/2006/table">
            <a:tbl>
              <a:tblPr/>
              <a:tblGrid>
                <a:gridCol w="488880"/>
                <a:gridCol w="2824200"/>
                <a:gridCol w="1638360"/>
                <a:gridCol w="1639800"/>
                <a:gridCol w="1638360"/>
              </a:tblGrid>
              <a:tr h="1100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, руб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ж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GA W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отка по 100 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и пряжи светло-коричневого и темно-коричнев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50 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цы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Рекла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м, сделанным своими руками модно давать названия, поэтому свой жилет я назвала «Мой друг ХАС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Pink\Рабочий стол\реклама хаски.jpg"/>
          <p:cNvPicPr/>
          <p:nvPr/>
        </p:nvPicPr>
        <p:blipFill>
          <a:blip r:embed="rId1"/>
          <a:stretch/>
        </p:blipFill>
        <p:spPr>
          <a:xfrm>
            <a:off x="4800600" y="1066680"/>
            <a:ext cx="3878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1e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Times New Roman"/>
              </a:rPr>
              <a:t>Некрасова Александра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ученица 7Б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МБОУ «СШ №9 с УИ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yupovaSA\Desktop\2017-2018 учебный год\олимпиада 2017-2018\Некрасова Саша олимпиада 2017-18\-t43uLbCgWU.jpg"/>
          <p:cNvPicPr/>
          <p:nvPr/>
        </p:nvPicPr>
        <p:blipFill>
          <a:blip r:embed="rId1"/>
          <a:stretch/>
        </p:blipFill>
        <p:spPr>
          <a:xfrm>
            <a:off x="4800600" y="1752480"/>
            <a:ext cx="3492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Некрасова Саша олимпиада 2017-18\wr8whNVXBEU.jpg"/>
          <p:cNvPicPr/>
          <p:nvPr/>
        </p:nvPicPr>
        <p:blipFill>
          <a:blip r:embed="rId1"/>
          <a:stretch/>
        </p:blipFill>
        <p:spPr>
          <a:xfrm>
            <a:off x="649440" y="450720"/>
            <a:ext cx="78451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Проблема и 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1e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коро Новый 2018 год – год желтой земляной Соб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AyupovaSA\Desktop\2017-2018 учебный год\олимпиада 2017-2018\Некрасова Саша олимпиада 2017-18\хаски фото\i.jpg"/>
          <p:cNvPicPr/>
          <p:nvPr/>
        </p:nvPicPr>
        <p:blipFill>
          <a:blip r:embed="rId1"/>
          <a:stretch/>
        </p:blipFill>
        <p:spPr>
          <a:xfrm>
            <a:off x="1219320" y="2514600"/>
            <a:ext cx="677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7524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амостоятельно схему мотива для вязаного жилета и связать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AyupovaSA\Desktop\2017-2018 учебный год\олимпиада 2017-2018\Некрасова Саша олимпиада 2017-18\uSXW73ZcO84.jpg"/>
          <p:cNvPicPr/>
          <p:nvPr/>
        </p:nvPicPr>
        <p:blipFill>
          <a:blip r:embed="rId1"/>
          <a:stretch/>
        </p:blipFill>
        <p:spPr>
          <a:xfrm>
            <a:off x="3975120" y="1828800"/>
            <a:ext cx="475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одные прототипы издел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изделие и способ вяза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хему мотива вяз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одную цветовую гам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пряжу для издел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ть изде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Исследование модных прототи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AyupovaSA\Desktop\2017-2018 учебный год\олимпиада 2017-2018\Некрасова Саша олимпиада 2017-18\E2zsYMg5e0k.jpg"/>
          <p:cNvPicPr/>
          <p:nvPr/>
        </p:nvPicPr>
        <p:blipFill>
          <a:blip r:embed="rId1"/>
          <a:stretch/>
        </p:blipFill>
        <p:spPr>
          <a:xfrm>
            <a:off x="457200" y="1066680"/>
            <a:ext cx="3422520" cy="25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AyupovaSA\Desktop\2017-2018 учебный год\олимпиада 2017-2018\Некрасова Саша олимпиада 2017-18\i35X1IBH7.jpg"/>
          <p:cNvPicPr/>
          <p:nvPr/>
        </p:nvPicPr>
        <p:blipFill>
          <a:blip r:embed="rId2"/>
          <a:stretch/>
        </p:blipFill>
        <p:spPr>
          <a:xfrm>
            <a:off x="457200" y="3809880"/>
            <a:ext cx="3402000" cy="255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AyupovaSA\Desktop\2017-2018 учебный год\олимпиада 2017-2018\Некрасова Саша олимпиада 2017-18\i0L9A4JSV.jpg"/>
          <p:cNvPicPr/>
          <p:nvPr/>
        </p:nvPicPr>
        <p:blipFill>
          <a:blip r:embed="rId3"/>
          <a:stretch/>
        </p:blipFill>
        <p:spPr>
          <a:xfrm>
            <a:off x="4191120" y="1066680"/>
            <a:ext cx="2603520" cy="426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AyupovaSA\Desktop\2017-2018 учебный год\олимпиада 2017-2018\Некрасова Саша олимпиада 2017-18\i0OQI7QUI.jpg"/>
          <p:cNvPicPr/>
          <p:nvPr/>
        </p:nvPicPr>
        <p:blipFill>
          <a:blip r:embed="rId4"/>
          <a:stretch/>
        </p:blipFill>
        <p:spPr>
          <a:xfrm>
            <a:off x="6400800" y="3429000"/>
            <a:ext cx="239544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6"/>
          <p:cNvSpPr/>
          <p:nvPr/>
        </p:nvSpPr>
        <p:spPr>
          <a:xfrm>
            <a:off x="152280" y="1219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5228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69368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0224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изделия и способа вяз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F:\Некрасова Саша олимпиада 2017-18\7Di1-nUz6PY.jpg"/>
          <p:cNvPicPr/>
          <p:nvPr/>
        </p:nvPicPr>
        <p:blipFill>
          <a:blip r:embed="rId1"/>
          <a:stretch/>
        </p:blipFill>
        <p:spPr>
          <a:xfrm>
            <a:off x="685800" y="1371600"/>
            <a:ext cx="234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380200" y="4051440"/>
            <a:ext cx="1750680" cy="219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3429000" y="1627200"/>
            <a:ext cx="2444760" cy="21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553080" y="1447920"/>
            <a:ext cx="155592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1828800" y="4038480"/>
            <a:ext cx="2247840" cy="2210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716292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Выбор рисунка для схемы мотива вяз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1" descr=""/>
          <p:cNvPicPr/>
          <p:nvPr/>
        </p:nvPicPr>
        <p:blipFill>
          <a:blip r:embed="rId1"/>
          <a:stretch/>
        </p:blipFill>
        <p:spPr>
          <a:xfrm>
            <a:off x="838080" y="1509840"/>
            <a:ext cx="204480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4" descr=""/>
          <p:cNvPicPr/>
          <p:nvPr/>
        </p:nvPicPr>
        <p:blipFill>
          <a:blip r:embed="rId2"/>
          <a:stretch/>
        </p:blipFill>
        <p:spPr>
          <a:xfrm>
            <a:off x="3402000" y="126540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7" descr=""/>
          <p:cNvPicPr/>
          <p:nvPr/>
        </p:nvPicPr>
        <p:blipFill>
          <a:blip r:embed="rId3"/>
          <a:stretch/>
        </p:blipFill>
        <p:spPr>
          <a:xfrm>
            <a:off x="2111400" y="4241880"/>
            <a:ext cx="15415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6248520" y="1525680"/>
            <a:ext cx="1600200" cy="226836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12" descr=""/>
          <p:cNvPicPr/>
          <p:nvPr/>
        </p:nvPicPr>
        <p:blipFill>
          <a:blip r:embed="rId5"/>
          <a:stretch/>
        </p:blipFill>
        <p:spPr>
          <a:xfrm>
            <a:off x="5114880" y="4240080"/>
            <a:ext cx="226692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457200" y="17524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6"/>
          <a:stretch/>
        </p:blipFill>
        <p:spPr>
          <a:xfrm>
            <a:off x="838080" y="1500120"/>
            <a:ext cx="20448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1" descr=""/>
          <p:cNvPicPr/>
          <p:nvPr/>
        </p:nvPicPr>
        <p:blipFill>
          <a:blip r:embed="rId7"/>
          <a:stretch/>
        </p:blipFill>
        <p:spPr>
          <a:xfrm>
            <a:off x="838080" y="1509840"/>
            <a:ext cx="2044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одной цветовой г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2" descr=""/>
          <p:cNvPicPr/>
          <p:nvPr/>
        </p:nvPicPr>
        <p:blipFill>
          <a:blip r:embed="rId1"/>
          <a:srcRect l="32076" t="0" r="7550" b="-4345"/>
          <a:stretch/>
        </p:blipFill>
        <p:spPr>
          <a:xfrm>
            <a:off x="914400" y="4175280"/>
            <a:ext cx="71866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3581280" y="1612800"/>
            <a:ext cx="22860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0-09-16T05:04:1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