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29.jpeg" ContentType="image/jpeg"/>
  <Override PartName="/ppt/media/image7.gif" ContentType="image/gif"/>
  <Override PartName="/ppt/media/image25.gif" ContentType="image/gif"/>
  <Override PartName="/ppt/media/image27.png" ContentType="image/png"/>
  <Override PartName="/ppt/media/image4.gif" ContentType="image/gif"/>
  <Override PartName="/ppt/media/image33.jpeg" ContentType="image/jpeg"/>
  <Override PartName="/ppt/media/image24.gif" ContentType="image/gif"/>
  <Override PartName="/ppt/media/image32.jpeg" ContentType="image/jpeg"/>
  <Override PartName="/ppt/media/image23.gif" ContentType="image/gif"/>
  <Override PartName="/ppt/media/image20.jpeg" ContentType="image/jpeg"/>
  <Override PartName="/ppt/media/image26.gif" ContentType="image/gif"/>
  <Override PartName="/ppt/media/image21.gif" ContentType="image/gif"/>
  <Override PartName="/ppt/media/image19.gif" ContentType="image/gif"/>
  <Override PartName="/ppt/media/image13.gif" ContentType="image/gif"/>
  <Override PartName="/ppt/media/image11.gif" ContentType="image/gif"/>
  <Override PartName="/ppt/media/image30.jpeg" ContentType="image/jpeg"/>
  <Override PartName="/ppt/media/image37.png" ContentType="image/png"/>
  <Override PartName="/ppt/media/image40.gif" ContentType="image/gif"/>
  <Override PartName="/ppt/media/image8.gif" ContentType="image/gif"/>
  <Override PartName="/ppt/media/image38.gif" ContentType="image/gif"/>
  <Override PartName="/ppt/media/image15.jpeg" ContentType="image/jpeg"/>
  <Override PartName="/ppt/media/image41.png" ContentType="image/png"/>
  <Override PartName="/ppt/media/image16.jpeg" ContentType="image/jpeg"/>
  <Override PartName="/ppt/media/image9.gif" ContentType="image/gif"/>
  <Override PartName="/ppt/media/image39.gif" ContentType="image/gif"/>
  <Override PartName="/ppt/media/image42.png" ContentType="image/png"/>
  <Override PartName="/ppt/media/image34.png" ContentType="image/png"/>
  <Override PartName="/ppt/media/image12.jpeg" ContentType="image/jpeg"/>
  <Override PartName="/ppt/media/image10.gif" ContentType="image/gif"/>
  <Override PartName="/ppt/media/image36.png" ContentType="image/png"/>
  <Override PartName="/ppt/media/image43.gif" ContentType="image/gif"/>
  <Override PartName="/ppt/media/image6.png" ContentType="image/png"/>
  <Override PartName="/ppt/media/image3.gif" ContentType="image/gif"/>
  <Override PartName="/ppt/media/image5.gif" ContentType="image/gif"/>
  <Override PartName="/ppt/media/image35.jpeg" ContentType="image/jpeg"/>
  <Override PartName="/ppt/media/image1.jpeg" ContentType="image/jpeg"/>
  <Override PartName="/ppt/media/image2.png" ContentType="image/png"/>
  <Override PartName="/ppt/media/image22.gif" ContentType="image/gif"/>
  <Override PartName="/ppt/media/image31.jpeg" ContentType="image/jpeg"/>
  <Override PartName="/ppt/media/image14.gif" ContentType="image/gif"/>
  <Override PartName="/ppt/media/image17.gif" ContentType="image/gif"/>
  <Override PartName="/ppt/media/image1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F513-21A2-4172-BFB3-7F867BE9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B589-098E-404B-A805-30908490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4F8F-CFE4-4F24-BAF2-9BECE4DD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BB01-D455-4132-9995-DE13CAFB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66EE-C9D4-454F-A321-496FD8F2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8BBB-A1C2-42FF-9633-7000FDAA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F4A8-E952-4F52-9BC6-3AD56B3F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2B57-5174-4CC9-BC4C-B29AC13F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7094-E5C3-4BB3-AD2F-CFEF32BE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8E0F-1E4A-406F-BC11-967B9978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6C69-AFD6-4DA1-B702-45716FB6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3AB1-4E7F-4206-B998-56E9CD78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9891-117A-4140-9E90-54689920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40F0-6E1B-4489-A332-6AF56922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D3A6-C302-4F26-A30D-4BC1D609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FEF9-B860-449D-BF45-99A595A0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A7CD-F8ED-4C1B-9FC6-B4E0E1206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B1EAD-7715-48C7-9F91-A495950C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B5D0B-47D9-4E3E-937C-632430A0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1B30E-88B5-4DF1-940D-C673BC7C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43CB3-FA21-4A70-AE86-17BC5E0D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6F3D9-E42A-42C6-A84E-E022DB11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1C69-823A-44F3-8856-B0BC678F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19E25-4566-4549-9256-40CC0871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6B049-9A43-4B62-A72D-ED313CAF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10741-879B-4924-A98B-15B39CF8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48227-521D-4B71-901D-6B1CF528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09D4A-1F3F-4E32-A5E3-02B1E057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B8831-AB58-4B2C-AC62-DE7B043C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06BE3-5DF1-40F8-BB5E-A6AD5336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5600-1EC9-4291-845B-34CF1AD7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B4EA-30E2-4051-B481-161A3D14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73D8-9FA2-4C23-8FB5-FFC86ECD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DAA8-25F2-41FA-BCBC-7A186A23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842C-ABC0-49A1-96F8-A1143D36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1840-CF5B-4AFB-A6BA-9CD9EE74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CAD4-8627-4EC3-A657-606EC36B1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723B-9C03-4E67-86F7-E75CCC2C77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5C8F-D55A-491A-AD45-955BFAA753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9.gi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png"/><Relationship Id="rId8" Type="http://schemas.openxmlformats.org/officeDocument/2006/relationships/image" Target="../media/image35.jpe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9.gif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gif"/><Relationship Id="rId3" Type="http://schemas.openxmlformats.org/officeDocument/2006/relationships/image" Target="../media/image17.gif"/><Relationship Id="rId4" Type="http://schemas.openxmlformats.org/officeDocument/2006/relationships/image" Target="../media/image9.gif"/><Relationship Id="rId5" Type="http://schemas.openxmlformats.org/officeDocument/2006/relationships/image" Target="../media/image40.gi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6.xml"/><Relationship Id="rId3" Type="http://schemas.openxmlformats.org/officeDocument/2006/relationships/image" Target="../media/image6.png"/><Relationship Id="rId4" Type="http://schemas.openxmlformats.org/officeDocument/2006/relationships/slide" Target="slide7.xml"/><Relationship Id="rId5" Type="http://schemas.openxmlformats.org/officeDocument/2006/relationships/image" Target="../media/image6.png"/><Relationship Id="rId6" Type="http://schemas.openxmlformats.org/officeDocument/2006/relationships/slide" Target="slide8.xml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5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4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413000"/>
            <a:ext cx="84247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Мультимедийная презентация языкового материала как методический прие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Подготовительный этап включает в себ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71280" y="2060280"/>
            <a:ext cx="504036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тбор необходимого матери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нализ и создание учителем ММ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372360" y="4653000"/>
            <a:ext cx="2087280" cy="198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6360" y="286920"/>
            <a:ext cx="7343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Алгоритм создания ММ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249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педагогические задачи, решаемые с помощью ММП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умать цели и задачи создания слай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вить себя на место ученика, учитывая его возростные особенности, потенциальные возмож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брать иллюстрации, используя мультимедийные возможности компьюте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0360" y="1197000"/>
            <a:ext cx="4392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думать содержание текстов исходя из требований к ММП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ить сценарий ММП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здать структуру ММП, используя необходимые компьютерные програм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нить анимационные и звуковые эффек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анализировать и оценить подготовленную презентацию согласно требованиям к ММП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рректировать возможные недоч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6237360"/>
            <a:ext cx="1008000" cy="40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7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3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7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7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3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7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7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3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7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3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7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3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7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2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3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7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5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3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7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8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30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7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1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21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Arial Black"/>
              </a:rPr>
              <a:t>В преддемонстрационный этап входя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5338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нятие языковых трудн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верка понимания ранее изученных лексических едини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вторение необходимого грамматического матери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ормулировка целей и задач для учащих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12000" y="6165720"/>
            <a:ext cx="1081080" cy="432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227640" y="2421000"/>
            <a:ext cx="2664000" cy="21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0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На демонстрационном этапе происходит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5761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дъявление нового материала с параллельным комментарием учите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бота над содержанием каждого слай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Паузированные» упраж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 необходимости повтор нужных слай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812000" y="6093000"/>
            <a:ext cx="1087560" cy="434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308720" y="2565360"/>
            <a:ext cx="1204920" cy="240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7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51868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Arial Black"/>
              </a:rPr>
              <a:t>Последемонстрационный этап охватывае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31760"/>
            <a:ext cx="5678640" cy="45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опросно-ответные упраж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дведение учащимися итог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амостоятельную формулировку ими прави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вторение лексических едини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740720" y="6093000"/>
            <a:ext cx="1081080" cy="430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804000" y="2565360"/>
            <a:ext cx="1341360" cy="201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000"/>
                            </p:stCondLst>
                            <p:childTnLst>
                              <p:par>
                                <p:cTn id="4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Рефлексивный этап включае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00000" y="1915920"/>
            <a:ext cx="5184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нализ и выводы учителя о результативности подготовки и показа ММ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ониторин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804000" y="3141720"/>
            <a:ext cx="1090800" cy="14079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580000" y="4941720"/>
            <a:ext cx="1146240" cy="140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0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2484360" y="1844640"/>
            <a:ext cx="4175280" cy="26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eason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84360" y="5084640"/>
            <a:ext cx="1657080" cy="12304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7020000" y="549360"/>
            <a:ext cx="16761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732720" y="3213000"/>
            <a:ext cx="2208240" cy="32799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411280" y="2924280"/>
            <a:ext cx="38880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4360" y="3645000"/>
            <a:ext cx="172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84360" y="4724280"/>
            <a:ext cx="107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4000" y="4653000"/>
            <a:ext cx="302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WordArt 11"/>
          <p:cNvSpPr txBox="1"/>
          <p:nvPr/>
        </p:nvSpPr>
        <p:spPr>
          <a:xfrm rot="5400000">
            <a:off x="-2214720" y="2403360"/>
            <a:ext cx="6408720" cy="19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winter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393372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08000" y="3068640"/>
            <a:ext cx="5042160" cy="34736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When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99"/>
                </a:solidFill>
                <a:latin typeface="Arial"/>
              </a:rPr>
              <a:t>In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  December, January, Febru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5940360" y="476280"/>
            <a:ext cx="273708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588000" y="2349360"/>
            <a:ext cx="1792440" cy="26974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01040" y="2276640"/>
            <a:ext cx="342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cc00"/>
                </a:solidFill>
                <a:latin typeface="Arial"/>
              </a:rPr>
              <a:t>When is 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3933720"/>
            <a:ext cx="107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cc00"/>
                </a:solidFill>
                <a:latin typeface="Arial"/>
              </a:rPr>
              <a:t>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92360" y="407664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Arial"/>
              </a:rPr>
              <a:t>M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67280" y="407664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Arial"/>
              </a:rPr>
              <a:t>Apr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87640" y="5229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Arial"/>
              </a:rPr>
              <a:t>M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14"/>
          <p:cNvSpPr txBox="1"/>
          <p:nvPr/>
        </p:nvSpPr>
        <p:spPr>
          <a:xfrm>
            <a:off x="1763640" y="260280"/>
            <a:ext cx="518328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pring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77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770" fill="hold"/>
                                        <p:tgtEl>
                                          <p:spTgt spid="2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6" dur="77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77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3" dur="770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5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7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77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4" dur="770" fill="hold"/>
                                        <p:tgtEl>
                                          <p:spTgt spid="2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6" dur="77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8" dur="77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29760" y="549360"/>
            <a:ext cx="342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66699"/>
                </a:solidFill>
                <a:latin typeface="Arial"/>
              </a:rPr>
              <a:t>When is 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524720" y="2492280"/>
            <a:ext cx="1325520" cy="13622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867280" y="5373720"/>
            <a:ext cx="2448000" cy="979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324000" y="3789360"/>
            <a:ext cx="1277640" cy="2840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2340000" y="5300640"/>
            <a:ext cx="2448000" cy="9795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4067280" y="6922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26" name="WordArt 5"/>
          <p:cNvSpPr txBox="1"/>
          <p:nvPr/>
        </p:nvSpPr>
        <p:spPr>
          <a:xfrm>
            <a:off x="2050920" y="2421000"/>
            <a:ext cx="5113440" cy="12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Wint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2" dur="134138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26560" y="1916280"/>
            <a:ext cx="770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ММП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пособ предъявления творчески переработанной учителем, адаптированной для определенного возраста учащихся языковой информации в виде логически завершенной подборки слайдов по определенной лексико-грамматической теме.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ультимедийная презентац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базируется на использовании аудиовизуальных возможностей компьютерных технолог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4076640"/>
            <a:ext cx="777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236000" y="5084640"/>
            <a:ext cx="1738080" cy="1592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50920" y="26028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Arial"/>
              </a:rPr>
              <a:t>Определение мультимедийной презентац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Некоторые приемы для ММП лексических явлен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550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ведение конкретных слов путем демонстрации конкретных предме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мантизация глагола с помощью мультимедийных средств на основе иллюстративных движений или действий анимированными и анимационными картинк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ведение предлогов с использованием соотнесения предметов в виртуальном классе, специальных рисунков (статичных и анимированных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3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3000"/>
                            </p:stCondLst>
                            <p:childTnLst>
                              <p:par>
                                <p:cTn id="6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5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7" descr="Ham"/>
          <p:cNvPicPr/>
          <p:nvPr/>
        </p:nvPicPr>
        <p:blipFill>
          <a:blip r:embed="rId1"/>
          <a:stretch/>
        </p:blipFill>
        <p:spPr>
          <a:xfrm>
            <a:off x="1547640" y="4510080"/>
            <a:ext cx="1440000" cy="1432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ddeea9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New wor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milk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b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eg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fi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0" y="155700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ju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b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che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sw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c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milk_soy"/>
          <p:cNvPicPr/>
          <p:nvPr/>
        </p:nvPicPr>
        <p:blipFill>
          <a:blip r:embed="rId2"/>
          <a:stretch/>
        </p:blipFill>
        <p:spPr>
          <a:xfrm>
            <a:off x="1258920" y="148428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масло3"/>
          <p:cNvPicPr/>
          <p:nvPr/>
        </p:nvPicPr>
        <p:blipFill>
          <a:blip r:embed="rId3"/>
          <a:stretch/>
        </p:blipFill>
        <p:spPr>
          <a:xfrm>
            <a:off x="6084720" y="2565360"/>
            <a:ext cx="1654200" cy="1103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сыр"/>
          <p:cNvPicPr/>
          <p:nvPr/>
        </p:nvPicPr>
        <p:blipFill>
          <a:blip r:embed="rId4"/>
          <a:stretch/>
        </p:blipFill>
        <p:spPr>
          <a:xfrm>
            <a:off x="6300720" y="3933720"/>
            <a:ext cx="936720" cy="703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хлеб2"/>
          <p:cNvPicPr/>
          <p:nvPr/>
        </p:nvPicPr>
        <p:blipFill>
          <a:blip r:embed="rId5"/>
          <a:stretch/>
        </p:blipFill>
        <p:spPr>
          <a:xfrm>
            <a:off x="1619280" y="2565360"/>
            <a:ext cx="1297080" cy="979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рыб"/>
          <p:cNvPicPr/>
          <p:nvPr/>
        </p:nvPicPr>
        <p:blipFill>
          <a:blip r:embed="rId6"/>
          <a:stretch/>
        </p:blipFill>
        <p:spPr>
          <a:xfrm>
            <a:off x="1403280" y="5929200"/>
            <a:ext cx="1432080" cy="9288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1" descr=""/>
          <p:cNvPicPr/>
          <p:nvPr/>
        </p:nvPicPr>
        <p:blipFill>
          <a:blip r:embed="rId7"/>
          <a:stretch/>
        </p:blipFill>
        <p:spPr>
          <a:xfrm>
            <a:off x="1332000" y="3789360"/>
            <a:ext cx="720720" cy="684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2" descr="пирожное"/>
          <p:cNvPicPr/>
          <p:nvPr/>
        </p:nvPicPr>
        <p:blipFill>
          <a:blip r:embed="rId8"/>
          <a:stretch/>
        </p:blipFill>
        <p:spPr>
          <a:xfrm>
            <a:off x="6012000" y="5897520"/>
            <a:ext cx="1170000" cy="960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3" descr=""/>
          <p:cNvPicPr/>
          <p:nvPr/>
        </p:nvPicPr>
        <p:blipFill>
          <a:blip r:embed="rId9"/>
          <a:stretch/>
        </p:blipFill>
        <p:spPr>
          <a:xfrm>
            <a:off x="5796000" y="1197000"/>
            <a:ext cx="998640" cy="1123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5" descr=""/>
          <p:cNvPicPr/>
          <p:nvPr/>
        </p:nvPicPr>
        <p:blipFill>
          <a:blip r:embed="rId10"/>
          <a:stretch/>
        </p:blipFill>
        <p:spPr>
          <a:xfrm>
            <a:off x="6012000" y="4869000"/>
            <a:ext cx="1439640" cy="10839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1"/>
          <a:stretch/>
        </p:blipFill>
        <p:spPr>
          <a:xfrm>
            <a:off x="7740720" y="6237360"/>
            <a:ext cx="105228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1701720" cy="2165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11280" y="2852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99"/>
                </a:solidFill>
                <a:latin typeface="Arial"/>
              </a:rPr>
              <a:t>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635280" y="2924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99"/>
                </a:solidFill>
                <a:latin typeface="Arial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516720" y="981000"/>
            <a:ext cx="1690560" cy="18446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6588000" y="2924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99"/>
                </a:solidFill>
                <a:latin typeface="Arial"/>
              </a:rPr>
              <a:t>j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3564000" y="4292640"/>
            <a:ext cx="1655640" cy="12286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564000" y="5877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99"/>
                </a:solidFill>
                <a:latin typeface="Arial"/>
              </a:rPr>
              <a:t>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812000" y="6165720"/>
            <a:ext cx="1079640" cy="432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3708360" y="119376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9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000"/>
                            </p:stCondLst>
                            <p:childTnLst>
                              <p:par>
                                <p:cTn id="6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3000"/>
                            </p:stCondLst>
                            <p:childTnLst>
                              <p:par>
                                <p:cTn id="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780000" y="1916280"/>
            <a:ext cx="2000160" cy="947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609480" y="5257800"/>
            <a:ext cx="1143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99"/>
                </a:solidFill>
                <a:latin typeface="Impact"/>
              </a:rPr>
              <a:t>auf</a:t>
            </a:r>
            <a:endParaRPr b="0" lang="en-US" sz="1800" spc="1" strike="noStrike">
              <a:ln w="0">
                <a:noFill/>
              </a:ln>
              <a:solidFill>
                <a:srgbClr val="990099"/>
              </a:solidFill>
              <a:latin typeface="Impact"/>
              <a:ea typeface="Impac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981080" y="5257800"/>
            <a:ext cx="3276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latin typeface="Impact"/>
              </a:rPr>
              <a:t>dem Sofa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latin typeface="Impact"/>
              <a:ea typeface="Impact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8388360" y="616572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5410080"/>
            <a:ext cx="914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99"/>
                </a:solidFill>
                <a:latin typeface="Impact"/>
              </a:rPr>
              <a:t>vor</a:t>
            </a:r>
            <a:endParaRPr b="0" lang="en-US" sz="1800" spc="1" strike="noStrike">
              <a:ln w="0">
                <a:noFill/>
              </a:ln>
              <a:solidFill>
                <a:srgbClr val="990099"/>
              </a:solidFill>
              <a:latin typeface="Impact"/>
              <a:ea typeface="Impact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676520" y="5257800"/>
            <a:ext cx="3886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latin typeface="Impact"/>
              </a:rPr>
              <a:t>dem Fernseher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latin typeface="Impact"/>
              <a:ea typeface="Impact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39640" y="4149720"/>
            <a:ext cx="2000520" cy="9478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8388360" y="616572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3059280" y="4221000"/>
            <a:ext cx="2000160" cy="9478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380880" y="533412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99"/>
                </a:solidFill>
                <a:latin typeface="Impact"/>
              </a:rPr>
              <a:t>unter</a:t>
            </a:r>
            <a:endParaRPr b="0" lang="en-US" sz="1800" spc="1" strike="noStrike">
              <a:ln w="0">
                <a:noFill/>
              </a:ln>
              <a:solidFill>
                <a:srgbClr val="990099"/>
              </a:solidFill>
              <a:latin typeface="Impact"/>
              <a:ea typeface="Impact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981080" y="5257800"/>
            <a:ext cx="3276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latin typeface="Impact"/>
              </a:rPr>
              <a:t>dem Tisch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latin typeface="Impact"/>
              <a:ea typeface="Impact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8388360" y="616572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2"/>
          <a:srcRect l="72073" t="45576" r="-864" b="0"/>
          <a:stretch/>
        </p:blipFill>
        <p:spPr>
          <a:xfrm>
            <a:off x="1187280" y="3141720"/>
            <a:ext cx="576360" cy="5158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838080" y="5334120"/>
            <a:ext cx="685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99"/>
                </a:solidFill>
                <a:latin typeface="Impact"/>
              </a:rPr>
              <a:t>in</a:t>
            </a:r>
            <a:endParaRPr b="0" lang="en-US" sz="1800" spc="1" strike="noStrike">
              <a:ln w="0">
                <a:noFill/>
              </a:ln>
              <a:solidFill>
                <a:srgbClr val="990099"/>
              </a:solidFill>
              <a:latin typeface="Impact"/>
              <a:ea typeface="Impact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828800" y="5334120"/>
            <a:ext cx="3657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latin typeface="Impact"/>
              </a:rPr>
              <a:t>dem Schrank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Список литерату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нисова Ж. А., Денисов М. К. Мультимедийная презентация языкового материала как методический прием / Денисова Ж. А., Денисов М. К. // Иностр. языки в школе. – 2008. - №3. – с. 20-2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yandex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 rot="21261600">
            <a:off x="971280" y="2708280"/>
            <a:ext cx="76388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лагодарю за внимание!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028 -0.03959 C 0.12187 -0.10347 0.20382 -0.16759 0.14548 -0.20486 C 0.08715 -0.24213 -0.2092 -0.29908 -0.30972 -0.26227 C -0.41024 -0.22547 -0.45104 -0.08496 -0.45799 0.01574 C -0.46493 0.11643 -0.45243 0.28379 -0.35122 0.34213 C -0.24965 0.40046 0.03055 0.40625 0.15069 0.36528 C 0.27083 0.3243 0.40156 0.15486 0.36962 0.09629 C 0.33767 0.03773 0.14844 0.02546 -0.0408 0.01342 E">
                                      <p:cBhvr>
                                        <p:cTn id="755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Arial"/>
              </a:rPr>
              <a:t>Медиатека учителя иностранного язы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50920" y="1384200"/>
          <a:ext cx="8713800" cy="5108760"/>
        </p:xfrm>
        <a:graphic>
          <a:graphicData uri="http://schemas.openxmlformats.org/drawingml/2006/table">
            <a:tbl>
              <a:tblPr/>
              <a:tblGrid>
                <a:gridCol w="5689440"/>
                <a:gridCol w="3024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льтимедийный учебно-методический ассорти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вигат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оллекция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ических картинок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разбитых по лексическим и грамматическим темам (рисунки, графики, схемы и т. п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ок хранящихся статических картин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оллекция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мированных картинок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разбитых по лексическим и грамматическим тем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ок хранящихся анимированных картин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оллекция звуковых файлов, разбитых по темам (классические произведения, звуки природы, эмоции, текстовые аудиозаписи и т.п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ок хранящихся звуковых фай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524720" y="18900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86652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250920" y="333360"/>
          <a:ext cx="8642160" cy="6151680"/>
        </p:xfrm>
        <a:graphic>
          <a:graphicData uri="http://schemas.openxmlformats.org/drawingml/2006/table">
            <a:tbl>
              <a:tblPr/>
              <a:tblGrid>
                <a:gridCol w="5616360"/>
                <a:gridCol w="3025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лекция готовых ММП по тем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ок готовых ММ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8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оллекция текстовых фай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ок хранящихся текстовых фай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ок нужных поисковых машин и часто посещаемых веб-сай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ок справочной информ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ок хранящихся материалов по мониторинг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азное (коллекция необработанных файло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81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Arial Black"/>
              </a:rPr>
              <a:t>Основные дидактические условия применения ММП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65516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Перспективное планирование использования ММ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Методический анализ намеченных для демонстрации ММ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6" action="ppaction://hlinksldjump"/>
              </a:rPr>
              <a:t>Комплексный подход к применению ММП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6443640" y="1844640"/>
            <a:ext cx="23623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42920" y="1989000"/>
            <a:ext cx="734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еобходимо для решения важной методической задачи – подбора оптимального комплекса обучающих средств к каждой конкретной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443640" y="4602240"/>
            <a:ext cx="2376360" cy="2255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50920" y="26028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Перспективное планирование использования ММ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71640" y="6165720"/>
            <a:ext cx="1125360" cy="44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В процессе анализа учитель долже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42447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ределить степень соответствия ММП учебной программе, теме урока, изученному материал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метить задачи применения ММП в соответствии с методикой проведения уро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0" y="1557000"/>
            <a:ext cx="42451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делить в применяемой ММП основной и дополнительный материа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 необходимости доработать существующую ММП (сократив или увеличив количество слайд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6093000"/>
            <a:ext cx="1125360" cy="44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7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7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7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7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50920" y="1628640"/>
            <a:ext cx="374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Комплексный подход к применению ММП предусматривает их подбор к определенной теме, учитыв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54936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64000" y="260280"/>
            <a:ext cx="3024360" cy="222696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идактические возможности материала на разных этапах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92720" y="2708280"/>
            <a:ext cx="3311640" cy="180036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вень знаний и развития учащихся данного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4724280"/>
            <a:ext cx="3600360" cy="180036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готовленность и опыт учителя в использовании ММ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 rot="19132800">
            <a:off x="3851280" y="1844280"/>
            <a:ext cx="809640" cy="228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140360" y="3573360"/>
            <a:ext cx="809640" cy="22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 rot="1996800">
            <a:off x="3993840" y="5087520"/>
            <a:ext cx="809640" cy="2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4360" y="286920"/>
            <a:ext cx="79916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Этапы технологии использования ММ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2060640"/>
            <a:ext cx="2736720" cy="1224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одготов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3860640"/>
            <a:ext cx="2736720" cy="1152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реддемонстра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цио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40360" y="2133720"/>
            <a:ext cx="2808360" cy="1368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демонстрацио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40360" y="4005360"/>
            <a:ext cx="2808360" cy="115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последемонстра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цио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59280" y="5157720"/>
            <a:ext cx="2663640" cy="1152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рефлекси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67280" y="1557360"/>
            <a:ext cx="504720" cy="3672000"/>
          </a:xfrm>
          <a:prstGeom prst="downArrow">
            <a:avLst>
              <a:gd name="adj1" fmla="val 50000"/>
              <a:gd name="adj2" fmla="val 1818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9388400">
            <a:off x="2085840" y="1591920"/>
            <a:ext cx="1152720" cy="431640"/>
          </a:xfrm>
          <a:prstGeom prst="leftArrow">
            <a:avLst>
              <a:gd name="adj1" fmla="val 50000"/>
              <a:gd name="adj2" fmla="val 66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3403400">
            <a:off x="5651280" y="1628280"/>
            <a:ext cx="1152360" cy="432000"/>
          </a:xfrm>
          <a:prstGeom prst="leftArrow">
            <a:avLst>
              <a:gd name="adj1" fmla="val 50000"/>
              <a:gd name="adj2" fmla="val 666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20077200">
            <a:off x="5148360" y="1341360"/>
            <a:ext cx="503280" cy="3095640"/>
          </a:xfrm>
          <a:prstGeom prst="downArrow">
            <a:avLst>
              <a:gd name="adj1" fmla="val 50000"/>
              <a:gd name="adj2" fmla="val 1537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57200">
            <a:off x="3058920" y="1412640"/>
            <a:ext cx="502920" cy="3095640"/>
          </a:xfrm>
          <a:prstGeom prst="downArrow">
            <a:avLst>
              <a:gd name="adj1" fmla="val 50000"/>
              <a:gd name="adj2" fmla="val 1538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4T08:50:55Z</dcterms:created>
  <dc:creator>Admin</dc:creator>
  <dc:description/>
  <dc:language>en-US</dc:language>
  <cp:lastModifiedBy>Admin</cp:lastModifiedBy>
  <dcterms:modified xsi:type="dcterms:W3CDTF">2010-08-30T05:01:38Z</dcterms:modified>
  <cp:revision>23</cp:revision>
  <dc:subject/>
  <dc:title>Медиатека учителя иностранного языка</dc:title>
</cp:coreProperties>
</file>