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9.jpeg" ContentType="image/jpeg"/>
  <Override PartName="/ppt/media/image7.gif" ContentType="image/gif"/>
  <Override PartName="/ppt/media/image25.gif" ContentType="image/gif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32.jpeg" ContentType="image/jpeg"/>
  <Override PartName="/ppt/media/image23.gif" ContentType="image/gif"/>
  <Override PartName="/ppt/media/image20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13.gif" ContentType="image/gif"/>
  <Override PartName="/ppt/media/image11.gif" ContentType="image/gif"/>
  <Override PartName="/ppt/media/image30.jpeg" ContentType="image/jpeg"/>
  <Override PartName="/ppt/media/image37.png" ContentType="image/png"/>
  <Override PartName="/ppt/media/image40.gif" ContentType="image/gif"/>
  <Override PartName="/ppt/media/image8.gif" ContentType="image/gif"/>
  <Override PartName="/ppt/media/image38.gif" ContentType="image/gif"/>
  <Override PartName="/ppt/media/image15.jpeg" ContentType="image/jpeg"/>
  <Override PartName="/ppt/media/image41.png" ContentType="image/png"/>
  <Override PartName="/ppt/media/image16.jpeg" ContentType="image/jpeg"/>
  <Override PartName="/ppt/media/image9.gif" ContentType="image/gif"/>
  <Override PartName="/ppt/media/image39.gif" ContentType="image/gif"/>
  <Override PartName="/ppt/media/image42.png" ContentType="image/png"/>
  <Override PartName="/ppt/media/image34.png" ContentType="image/png"/>
  <Override PartName="/ppt/media/image12.jpeg" ContentType="image/jpeg"/>
  <Override PartName="/ppt/media/image10.gif" ContentType="image/gif"/>
  <Override PartName="/ppt/media/image36.png" ContentType="image/png"/>
  <Override PartName="/ppt/media/image43.gif" ContentType="image/gif"/>
  <Override PartName="/ppt/media/image6.png" ContentType="image/png"/>
  <Override PartName="/ppt/media/image3.gif" ContentType="image/gif"/>
  <Override PartName="/ppt/media/image5.gif" ContentType="image/gif"/>
  <Override PartName="/ppt/media/image35.jpeg" ContentType="image/jpeg"/>
  <Override PartName="/ppt/media/image1.jpeg" ContentType="image/jpeg"/>
  <Override PartName="/ppt/media/image2.png" ContentType="image/png"/>
  <Override PartName="/ppt/media/image22.gif" ContentType="image/gif"/>
  <Override PartName="/ppt/media/image31.jpeg" ContentType="image/jpeg"/>
  <Override PartName="/ppt/media/image14.gif" ContentType="image/gif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2F5-E294-45FD-BD78-275DD0B5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72F-BAB6-4838-A735-D905A99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366-5735-4969-A1D7-C9D945AA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ACA-4B2F-4235-B485-654F997B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C61-7B82-4FED-8D8E-FCB809D9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CD3-B7C1-486B-B59E-7AD25EA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06CF-0B4F-4EBD-AE08-C317AF5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AC6-6BF8-49A8-B437-0C0D3C3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04C-1AF0-4CD9-BB33-0DE7682D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8C98-A443-41E1-8479-884CAF46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08E8-3399-4BD7-BF75-8581122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45E-F5F9-482D-9274-97206D07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76BC-B3F5-46AC-BE6B-C9A0202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5920-9CDE-437C-87CD-6615272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54E8-185A-4C98-89CF-2851905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9D7E-5E6E-4B8F-B792-2395CFF0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8C68-BE5A-4EB3-A693-F5B038C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15F1-8654-4CF4-8084-E5E3169F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E4B9-FA74-4DFA-A596-6C96EC9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E621-CD89-48B6-B927-E602C43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9096-65D0-4DAD-98BD-FE6E02A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66F4-83DD-4CA3-BA27-3EF17F5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09B-2670-41BC-A3B7-2E6237E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6C50-1CA8-461A-B5B1-4EB1FBF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96F6-705A-41B4-9C1C-5982C45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BAAF-D566-439C-9CD0-C530247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8554-4AA7-49FA-8FC7-1FFD9AD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B5AD-9402-4160-B6EA-B14A021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5EF5-DD16-4D96-832A-6DA06C0E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F8C1-F4C4-42E4-85F6-09374729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72C-C04B-49D9-B5F2-E66675A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A7C-B6B7-4F40-B57D-2D68474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BA7-BC9C-4087-B3A6-947BEF00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74C-F3EA-4A2B-8868-9123DF0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430-F9E0-4AF8-91BC-2EAA208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C0F-46D3-4371-9330-F17EB69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C79-E522-4887-BC25-42C10499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93D-CAEE-44A9-9F6E-97FB9B7B6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0241-F628-4A99-B8E8-4DA7944DF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17.gif"/><Relationship Id="rId4" Type="http://schemas.openxmlformats.org/officeDocument/2006/relationships/image" Target="../media/image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" Target="slide8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5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Мультимедийная презентация языкового материала как методический при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Подготовительный этап включает в себ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50403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бор необходим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и создание учителем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08728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6360" y="286920"/>
            <a:ext cx="7343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Алгоритм созд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249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педагогические задачи, решаемые с помощью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ть цели и задачи создания слай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ить себя на место ученика, учитывая его возростные особенности, потенциальны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иллюстрации, используя мультимедийные возможности компью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0360" y="119700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мать содержание текстов исходя из требований к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сценарий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структуру ММП, используя необходимые компьютерные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ить анимационные и звуковые эфф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и оценить подготовленную презентацию согласно требованиям к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ректировать возможные недоч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100800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7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7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7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7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7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7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7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7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7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7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2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В преддемонстрационный этап входя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5338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нятие языковых труд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верка понимания ранее изученных лексических еди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вторение необходимого грамматическ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улировка целей и задач для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1081080" cy="43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На демонстрационном этапе происходит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576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ъявление нового материала с параллельным комментарием 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над содержанием каждого слай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аузированные» упр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еобходимости повтор нужных слай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12000" y="6093000"/>
            <a:ext cx="1087560" cy="43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2565360"/>
            <a:ext cx="120492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1868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Последемонстрационный этап охватыва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31760"/>
            <a:ext cx="56786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просно-ответные упр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учащимися ит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амостоятельную формулировку ими прав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вторение лексических еди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740720" y="6093000"/>
            <a:ext cx="1081080" cy="43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04000" y="2565360"/>
            <a:ext cx="1341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Рефлексивный этап включа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18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и выводы учителя о результативности подготовки и показа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04000" y="3141720"/>
            <a:ext cx="1090800" cy="1407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80000" y="4941720"/>
            <a:ext cx="11462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484360" y="1844640"/>
            <a:ext cx="417528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as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1657080" cy="1230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732720" y="3213000"/>
            <a:ext cx="2208240" cy="327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11280" y="2924280"/>
            <a:ext cx="388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64500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47242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4653000"/>
            <a:ext cx="30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 rot="5400000">
            <a:off x="-2214720" y="2403360"/>
            <a:ext cx="6408720" cy="19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inter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068640"/>
            <a:ext cx="5042160" cy="347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en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99"/>
                </a:solidFill>
                <a:latin typeface="Arial"/>
              </a:rPr>
              <a:t>In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  December, January,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940360" y="476280"/>
            <a:ext cx="2737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792440" cy="269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1040" y="2276640"/>
            <a:ext cx="34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When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93372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076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4076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5229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4"/>
          <p:cNvSpPr txBox="1"/>
          <p:nvPr/>
        </p:nvSpPr>
        <p:spPr>
          <a:xfrm>
            <a:off x="1763640" y="260280"/>
            <a:ext cx="51832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pring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9760" y="549360"/>
            <a:ext cx="34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6699"/>
                </a:solidFill>
                <a:latin typeface="Arial"/>
              </a:rPr>
              <a:t>When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24720" y="2492280"/>
            <a:ext cx="1325520" cy="1362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867280" y="537372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277640" cy="284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340000" y="530064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067280" y="6922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050920" y="2421000"/>
            <a:ext cx="51134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in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3413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7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МП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пособ предъявления творчески переработанной учителем, адаптированной для определенного возраста учащихся языковой информации в виде логически завершенной подборки слайдов по определенной лексико-грамматической теме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базируется на использовании аудиовизуальных возможностей компьютерных технолог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076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738080" cy="1592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6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Определение мультимедийной презент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Некоторые приемы для ММП лексических явле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конкретных слов путем демонстрации конкретных предме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нтизация глагола с помощью мультимедийных средств на основе иллюстративных движений или действий анимированными и анимационными картин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предлогов с использованием соотнесения предметов в виртуальном классе, специальных рисунков (статичных и анимированны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Ham"/>
          <p:cNvPicPr/>
          <p:nvPr/>
        </p:nvPicPr>
        <p:blipFill>
          <a:blip r:embed="rId1"/>
          <a:stretch/>
        </p:blipFill>
        <p:spPr>
          <a:xfrm>
            <a:off x="1547640" y="4510080"/>
            <a:ext cx="1440000" cy="1432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deea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ilk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w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milk_soy"/>
          <p:cNvPicPr/>
          <p:nvPr/>
        </p:nvPicPr>
        <p:blipFill>
          <a:blip r:embed="rId2"/>
          <a:stretch/>
        </p:blipFill>
        <p:spPr>
          <a:xfrm>
            <a:off x="1258920" y="1484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масло3"/>
          <p:cNvPicPr/>
          <p:nvPr/>
        </p:nvPicPr>
        <p:blipFill>
          <a:blip r:embed="rId3"/>
          <a:stretch/>
        </p:blipFill>
        <p:spPr>
          <a:xfrm>
            <a:off x="6084720" y="2565360"/>
            <a:ext cx="1654200" cy="1103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ыр"/>
          <p:cNvPicPr/>
          <p:nvPr/>
        </p:nvPicPr>
        <p:blipFill>
          <a:blip r:embed="rId4"/>
          <a:stretch/>
        </p:blipFill>
        <p:spPr>
          <a:xfrm>
            <a:off x="6300720" y="393372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хлеб2"/>
          <p:cNvPicPr/>
          <p:nvPr/>
        </p:nvPicPr>
        <p:blipFill>
          <a:blip r:embed="rId5"/>
          <a:stretch/>
        </p:blipFill>
        <p:spPr>
          <a:xfrm>
            <a:off x="1619280" y="2565360"/>
            <a:ext cx="1297080" cy="979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рыб"/>
          <p:cNvPicPr/>
          <p:nvPr/>
        </p:nvPicPr>
        <p:blipFill>
          <a:blip r:embed="rId6"/>
          <a:stretch/>
        </p:blipFill>
        <p:spPr>
          <a:xfrm>
            <a:off x="1403280" y="5929200"/>
            <a:ext cx="1432080" cy="9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"/>
          <p:cNvPicPr/>
          <p:nvPr/>
        </p:nvPicPr>
        <p:blipFill>
          <a:blip r:embed="rId7"/>
          <a:stretch/>
        </p:blipFill>
        <p:spPr>
          <a:xfrm>
            <a:off x="1332000" y="378936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пирожное"/>
          <p:cNvPicPr/>
          <p:nvPr/>
        </p:nvPicPr>
        <p:blipFill>
          <a:blip r:embed="rId8"/>
          <a:stretch/>
        </p:blipFill>
        <p:spPr>
          <a:xfrm>
            <a:off x="6012000" y="58975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9"/>
          <a:stretch/>
        </p:blipFill>
        <p:spPr>
          <a:xfrm>
            <a:off x="5796000" y="1197000"/>
            <a:ext cx="998640" cy="1123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"/>
          <p:cNvPicPr/>
          <p:nvPr/>
        </p:nvPicPr>
        <p:blipFill>
          <a:blip r:embed="rId10"/>
          <a:stretch/>
        </p:blipFill>
        <p:spPr>
          <a:xfrm>
            <a:off x="6012000" y="4869000"/>
            <a:ext cx="1439640" cy="1083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7740720" y="6237360"/>
            <a:ext cx="10522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701720" cy="2165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11280" y="2852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29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1690560" cy="1844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58800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64000" y="429264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64000" y="5877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812000" y="6165720"/>
            <a:ext cx="1079640" cy="432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708360" y="11937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2000160" cy="947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609480" y="525780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auf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98108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Sofa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54100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vor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676520" y="52578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Fernseher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000520" cy="94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2000160" cy="947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80880" y="53341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unter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8108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Tisch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72073" t="45576" r="-864" b="0"/>
          <a:stretch/>
        </p:blipFill>
        <p:spPr>
          <a:xfrm>
            <a:off x="1187280" y="3141720"/>
            <a:ext cx="576360" cy="515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838080" y="533412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in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828800" y="5334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Schrank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Ж. А., Денисов М. К. Мультимедийная презентация языкового материала как методический прием / Денисова Ж. А., Денисов М. К. // Иностр. языки в школе. – 2008. - №3. – с. 20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 rot="21261600">
            <a:off x="971280" y="2708280"/>
            <a:ext cx="76388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28 -0.03959 C 0.12187 -0.10347 0.20382 -0.16759 0.14548 -0.20486 C 0.08715 -0.24213 -0.2092 -0.29908 -0.30972 -0.26227 C -0.41024 -0.22547 -0.45104 -0.08496 -0.45799 0.01574 C -0.46493 0.11643 -0.45243 0.28379 -0.35122 0.34213 C -0.24965 0.40046 0.03055 0.40625 0.15069 0.36528 C 0.27083 0.3243 0.40156 0.15486 0.36962 0.09629 C 0.33767 0.03773 0.14844 0.02546 -0.0408 0.01342 E">
                                      <p:cBhvr>
                                        <p:cTn id="755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Медиатека учителя иностранн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384200"/>
          <a:ext cx="8713800" cy="5108760"/>
        </p:xfrm>
        <a:graphic>
          <a:graphicData uri="http://schemas.openxmlformats.org/drawingml/2006/table">
            <a:tbl>
              <a:tblPr/>
              <a:tblGrid>
                <a:gridCol w="5689440"/>
                <a:gridCol w="3024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дийный учебно-методический ассорт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г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их картино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битых по лексическим и грамматическим темам (рисунки, графики, схемы и т. 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статических кар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мированных картино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битых по лексическим и грамматическим тем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анимированных кар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звуковых файлов, разбитых по темам (классические произведения, звуки природы, эмоции, текстовые аудиозаписи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звук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65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0920" y="333360"/>
          <a:ext cx="8642160" cy="6151680"/>
        </p:xfrm>
        <a:graphic>
          <a:graphicData uri="http://schemas.openxmlformats.org/drawingml/2006/table">
            <a:tbl>
              <a:tblPr/>
              <a:tblGrid>
                <a:gridCol w="5616360"/>
                <a:gridCol w="302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ция готовых ММП по тем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готовых М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текст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текст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нужных поисковых машин и часто посещаемых веб-сай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правочн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материалов по мониторин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ное (коллекция необработанных файл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1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 Black"/>
              </a:rPr>
              <a:t>Основные дидактические условия применения ММ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65516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ерспективное планирование использования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Методический анализ намеченных для демонстрации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Комплексный подход к применению ММ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443640" y="1844640"/>
            <a:ext cx="2362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98900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обходимо для решения важной методической задачи – подбора оптимального комплекса обучающих средств к каждой конкрет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43640" y="4602240"/>
            <a:ext cx="2376360" cy="2255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Перспективное планирование использов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6165720"/>
            <a:ext cx="112536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В процессе анализа учитель долже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2447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ь степень соответствия ММП учебной программе, теме урока, изученному материа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метить задачи применения ММП в соответствии с методикой проведения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245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делить в применяемой ММП основной и дополнитель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необходимости доработать существующую ММП (сократив или увеличив количество слай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093000"/>
            <a:ext cx="1125360" cy="44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7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7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7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628640"/>
            <a:ext cx="374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Комплексный подход к применению ММП предусматривает их подбор к определенной теме, учиты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549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260280"/>
            <a:ext cx="3024360" cy="22269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дактические возможности материала на разных этапах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708280"/>
            <a:ext cx="3311640" cy="180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знаний и развития учащихся данно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24280"/>
            <a:ext cx="3600360" cy="180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ленность и опыт учителя в использовании М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19132800">
            <a:off x="3851280" y="1844280"/>
            <a:ext cx="809640" cy="2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40360" y="3573360"/>
            <a:ext cx="80964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1996800">
            <a:off x="3993840" y="5087520"/>
            <a:ext cx="80964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991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Этапы технологии использов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2060640"/>
            <a:ext cx="2736720" cy="1224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дготов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860640"/>
            <a:ext cx="2736720" cy="115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еддемонстра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2133720"/>
            <a:ext cx="280836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емонстр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005360"/>
            <a:ext cx="280836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следемонстра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5157720"/>
            <a:ext cx="2663640" cy="115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1557360"/>
            <a:ext cx="504720" cy="3672000"/>
          </a:xfrm>
          <a:prstGeom prst="downArrow">
            <a:avLst>
              <a:gd name="adj1" fmla="val 50000"/>
              <a:gd name="adj2" fmla="val 1818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388400">
            <a:off x="2085840" y="1591920"/>
            <a:ext cx="1152720" cy="431640"/>
          </a:xfrm>
          <a:prstGeom prst="leftArrow">
            <a:avLst>
              <a:gd name="adj1" fmla="val 50000"/>
              <a:gd name="adj2" fmla="val 66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3403400">
            <a:off x="5651280" y="1628280"/>
            <a:ext cx="1152360" cy="432000"/>
          </a:xfrm>
          <a:prstGeom prst="leftArrow">
            <a:avLst>
              <a:gd name="adj1" fmla="val 50000"/>
              <a:gd name="adj2" fmla="val 66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077200">
            <a:off x="5148360" y="1341360"/>
            <a:ext cx="503280" cy="3095640"/>
          </a:xfrm>
          <a:prstGeom prst="downArrow">
            <a:avLst>
              <a:gd name="adj1" fmla="val 50000"/>
              <a:gd name="adj2" fmla="val 153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57200">
            <a:off x="3058920" y="1412640"/>
            <a:ext cx="502920" cy="3095640"/>
          </a:xfrm>
          <a:prstGeom prst="downArrow">
            <a:avLst>
              <a:gd name="adj1" fmla="val 50000"/>
              <a:gd name="adj2" fmla="val 1538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8:50:55Z</dcterms:created>
  <dc:creator>Admin</dc:creator>
  <dc:description/>
  <dc:language>en-US</dc:language>
  <cp:lastModifiedBy>Admin</cp:lastModifiedBy>
  <dcterms:modified xsi:type="dcterms:W3CDTF">2010-08-30T05:01:38Z</dcterms:modified>
  <cp:revision>23</cp:revision>
  <dc:subject/>
  <dc:title>Медиатека учителя иностранного языка</dc:title>
</cp:coreProperties>
</file>