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03973F-390F-4A25-BF32-8C8DA9A56EC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4BE59B-29AF-41BA-A567-CE4749B96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33B500-9D59-4D7A-AE81-5A7BC77A6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3FB1A8-10A0-4DDB-99F7-F28095FDC7D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B86959-7F7D-462B-B068-BC5B296E8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C6EC94-540A-41C3-8EB0-B25197024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0D1DCC-39B3-4BB6-89AC-3595E9197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DD10CD-10BA-4AA0-A431-4252B5957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41583F-B280-4721-AFE1-08BF3DBF1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8158E4-D391-4D6B-B207-58F0FEAD8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431BF5-DEF3-4194-8122-DC9DBA9EB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E60667-0EB1-45B7-B41C-F51E7C574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8b8b8b"/>
                </a:solidFill>
                <a:latin typeface="Calibri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  <a:ea typeface="Segoe UI"/>
              </a:rPr>
              <a:t>16.9.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8b8b8b"/>
                </a:solidFill>
                <a:latin typeface="Calibri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0B28F4-8FFB-4CC2-AFCF-3142720EB5C8}" type="slidenum">
              <a:rPr b="0" lang="ru-RU" sz="1200" spc="-1" strike="noStrike">
                <a:solidFill>
                  <a:srgbClr val="8b8b8b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 fontScale="99000"/>
          </a:bodyPr>
          <a:p>
            <a:pPr marL="339480" indent="0">
              <a:lnSpc>
                <a:spcPct val="8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9480" indent="-3394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39480" indent="-3394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39480" indent="-3394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39480" indent="-3394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39480" indent="-3394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39480" indent="-3394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900000" y="3573360"/>
            <a:ext cx="7309080" cy="173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e0322d"/>
                </a:solidFill>
                <a:latin typeface="Calibri"/>
              </a:rPr>
              <a:t>СРЕДНЯЯ ГРУППА №14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e0322d"/>
                </a:solidFill>
                <a:latin typeface="Calibri"/>
              </a:rPr>
              <a:t>«РЯБИНКА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716360" y="6093000"/>
            <a:ext cx="4176720" cy="7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МБДОУ  детский сад №6 «Берёзк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2018-2019 г.г.  г.Лобн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52360" y="6308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fill="hold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dur="indefinite" fill="hold">
                      <p:stCondLst>
                        <p:cond delay="indefinite"/>
                      </p:stCondLst>
                      <p:childTnLst>
                        <p:par>
                          <p:cTn id="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52360" y="3112920"/>
            <a:ext cx="5832360" cy="3743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800" y="5800"/>
                </a:moveTo>
                <a:lnTo>
                  <a:pt x="14522" y="0"/>
                </a:lnTo>
                <a:lnTo>
                  <a:pt x="14155" y="5325"/>
                </a:lnTo>
                <a:lnTo>
                  <a:pt x="18380" y="4457"/>
                </a:lnTo>
                <a:lnTo>
                  <a:pt x="16702" y="7315"/>
                </a:lnTo>
                <a:lnTo>
                  <a:pt x="21097" y="8137"/>
                </a:lnTo>
                <a:lnTo>
                  <a:pt x="17607" y="10475"/>
                </a:lnTo>
                <a:lnTo>
                  <a:pt x="21600" y="13290"/>
                </a:lnTo>
                <a:lnTo>
                  <a:pt x="16837" y="12942"/>
                </a:lnTo>
                <a:lnTo>
                  <a:pt x="18145" y="18095"/>
                </a:lnTo>
                <a:lnTo>
                  <a:pt x="14020" y="14457"/>
                </a:lnTo>
                <a:lnTo>
                  <a:pt x="13247" y="19737"/>
                </a:lnTo>
                <a:lnTo>
                  <a:pt x="10532" y="14935"/>
                </a:lnTo>
                <a:lnTo>
                  <a:pt x="8485" y="21600"/>
                </a:lnTo>
                <a:lnTo>
                  <a:pt x="7715" y="15627"/>
                </a:lnTo>
                <a:lnTo>
                  <a:pt x="4762" y="17617"/>
                </a:lnTo>
                <a:lnTo>
                  <a:pt x="5667" y="13937"/>
                </a:lnTo>
                <a:lnTo>
                  <a:pt x="135" y="14587"/>
                </a:lnTo>
                <a:lnTo>
                  <a:pt x="3722" y="11775"/>
                </a:lnTo>
                <a:lnTo>
                  <a:pt x="0" y="8615"/>
                </a:lnTo>
                <a:lnTo>
                  <a:pt x="4627" y="7617"/>
                </a:lnTo>
                <a:lnTo>
                  <a:pt x="370" y="2295"/>
                </a:lnTo>
                <a:lnTo>
                  <a:pt x="7312" y="6320"/>
                </a:lnTo>
                <a:lnTo>
                  <a:pt x="8352" y="2295"/>
                </a:lnTo>
                <a:close/>
              </a:path>
            </a:pathLst>
          </a:custGeom>
          <a:solidFill>
            <a:srgbClr val="fcd5b5"/>
          </a:soli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547640" y="4221000"/>
            <a:ext cx="2735280" cy="12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В НАШУ ГРУППУ ХОДЯ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a0207e"/>
                </a:solidFill>
                <a:latin typeface="Calibri"/>
              </a:rPr>
              <a:t>ДЕВОЧЕК</a:t>
            </a:r>
            <a:r>
              <a:rPr b="1" i="1" lang="ru-RU" sz="1800" spc="-1" strike="noStrike">
                <a:solidFill>
                  <a:srgbClr val="c00000"/>
                </a:solidFill>
                <a:latin typeface="Calibri"/>
              </a:rPr>
              <a:t> 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376092"/>
                </a:solidFill>
                <a:latin typeface="Calibri"/>
              </a:rPr>
              <a:t>МАЛЬЧИКОВ</a:t>
            </a:r>
            <a:r>
              <a:rPr b="1" i="1" lang="ru-RU" sz="18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364000" y="1628640"/>
            <a:ext cx="3456000" cy="3311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800" y="5800"/>
                </a:moveTo>
                <a:lnTo>
                  <a:pt x="14522" y="0"/>
                </a:lnTo>
                <a:lnTo>
                  <a:pt x="14155" y="5325"/>
                </a:lnTo>
                <a:lnTo>
                  <a:pt x="18380" y="4457"/>
                </a:lnTo>
                <a:lnTo>
                  <a:pt x="16702" y="7315"/>
                </a:lnTo>
                <a:lnTo>
                  <a:pt x="21097" y="8137"/>
                </a:lnTo>
                <a:lnTo>
                  <a:pt x="17607" y="10475"/>
                </a:lnTo>
                <a:lnTo>
                  <a:pt x="21600" y="13290"/>
                </a:lnTo>
                <a:lnTo>
                  <a:pt x="16837" y="12942"/>
                </a:lnTo>
                <a:lnTo>
                  <a:pt x="18145" y="18095"/>
                </a:lnTo>
                <a:lnTo>
                  <a:pt x="14020" y="14457"/>
                </a:lnTo>
                <a:lnTo>
                  <a:pt x="13247" y="19737"/>
                </a:lnTo>
                <a:lnTo>
                  <a:pt x="10532" y="14935"/>
                </a:lnTo>
                <a:lnTo>
                  <a:pt x="8485" y="21600"/>
                </a:lnTo>
                <a:lnTo>
                  <a:pt x="7715" y="15627"/>
                </a:lnTo>
                <a:lnTo>
                  <a:pt x="4762" y="17617"/>
                </a:lnTo>
                <a:lnTo>
                  <a:pt x="5667" y="13937"/>
                </a:lnTo>
                <a:lnTo>
                  <a:pt x="135" y="14587"/>
                </a:lnTo>
                <a:lnTo>
                  <a:pt x="3722" y="11775"/>
                </a:lnTo>
                <a:lnTo>
                  <a:pt x="0" y="8615"/>
                </a:lnTo>
                <a:lnTo>
                  <a:pt x="4627" y="7617"/>
                </a:lnTo>
                <a:lnTo>
                  <a:pt x="370" y="2295"/>
                </a:lnTo>
                <a:lnTo>
                  <a:pt x="7312" y="6320"/>
                </a:lnTo>
                <a:lnTo>
                  <a:pt x="8352" y="2295"/>
                </a:lnTo>
                <a:close/>
              </a:path>
            </a:pathLst>
          </a:custGeom>
          <a:solidFill>
            <a:srgbClr val="fcd5b5"/>
          </a:soli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372360" y="2781360"/>
            <a:ext cx="1511280" cy="10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ВОЗРАСТ ДЕТ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4-5 Л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755640" y="333360"/>
            <a:ext cx="7488360" cy="9223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DeflateBottom">
              <a:avLst>
                <a:gd name="adj" fmla="val 53241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5400" spc="-1" strike="noStrike">
                <a:ln w="0">
                  <a:noFill/>
                </a:ln>
                <a:solidFill>
                  <a:srgbClr val="fff1ec"/>
                </a:solidFill>
                <a:latin typeface="Arial"/>
              </a:rPr>
              <a:t>Наши сокровища</a:t>
            </a:r>
            <a:endParaRPr b="1" lang="en-US" sz="5400" spc="-1" strike="noStrike">
              <a:ln w="0">
                <a:noFill/>
              </a:ln>
              <a:solidFill>
                <a:srgbClr val="fff1ec"/>
              </a:solidFill>
              <a:latin typeface="Arial"/>
              <a:ea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908000" y="4869000"/>
            <a:ext cx="561672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С у</a:t>
            </a:r>
            <a:r>
              <a:rPr b="1" i="1" lang="ru-RU" sz="2800" spc="-1" strike="noStrike">
                <a:solidFill>
                  <a:srgbClr val="c00000"/>
                </a:solidFill>
                <a:latin typeface="Calibri"/>
              </a:rPr>
              <a:t>лыбкой всегда встречают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Calibri"/>
              </a:rPr>
              <a:t>на все вопросы отвечают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Calibri"/>
              </a:rPr>
              <a:t>добрые и вниматель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Calibri"/>
              </a:rPr>
              <a:t>наши воспитател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6156360" y="836640"/>
            <a:ext cx="2735280" cy="27352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324000" y="836640"/>
            <a:ext cx="2376360" cy="30402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6381720" y="3573360"/>
            <a:ext cx="2410200" cy="7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Кучумо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Анастасия Игоре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5800" y="4005360"/>
            <a:ext cx="2591640" cy="7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Третьяко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Светлана Николае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3203640" y="620640"/>
            <a:ext cx="2452680" cy="25192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3281760" y="3357720"/>
            <a:ext cx="2477520" cy="7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Борисо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Наталья Николае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dur="indefinite" fill="hold">
                      <p:stCondLst>
                        <p:cond delay="indefinite"/>
                      </p:stCondLst>
                      <p:childTnLst>
                        <p:par>
                          <p:cTn id="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dur="indefinite" fill="hold">
                      <p:stCondLst>
                        <p:cond delay="indefinite"/>
                      </p:stCondLst>
                      <p:childTnLst>
                        <p:par>
                          <p:cTn id="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dur="indefinite" fill="hold">
                      <p:stCondLst>
                        <p:cond delay="indefinite"/>
                      </p:stCondLst>
                      <p:childTnLst>
                        <p:par>
                          <p:cTn id="2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 txBox="1"/>
          <p:nvPr/>
        </p:nvSpPr>
        <p:spPr>
          <a:xfrm>
            <a:off x="179280" y="333360"/>
            <a:ext cx="4176720" cy="11509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5400" spc="-1" strike="noStrike">
                <a:ln w="0">
                  <a:noFill/>
                </a:ln>
                <a:solidFill>
                  <a:srgbClr val="fff1ec"/>
                </a:solidFill>
                <a:latin typeface="Arial"/>
              </a:rPr>
              <a:t>ПО РЕЖИМУ МЫ ЖИВЁМ</a:t>
            </a:r>
            <a:endParaRPr b="1" lang="en-US" sz="5400" spc="-1" strike="noStrike">
              <a:ln w="0">
                <a:noFill/>
              </a:ln>
              <a:solidFill>
                <a:srgbClr val="fff1ec"/>
              </a:solidFill>
              <a:latin typeface="Arial"/>
              <a:ea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5400" spc="-1" strike="noStrike">
                <a:ln w="0">
                  <a:noFill/>
                </a:ln>
                <a:solidFill>
                  <a:srgbClr val="fff1ec"/>
                </a:solidFill>
                <a:latin typeface="Arial"/>
              </a:rPr>
              <a:t>И ЗДОРОВЫМИ РАСТЁМ</a:t>
            </a:r>
            <a:endParaRPr b="1" lang="en-US" sz="5400" spc="-1" strike="noStrike">
              <a:ln w="0">
                <a:noFill/>
              </a:ln>
              <a:solidFill>
                <a:srgbClr val="fff1ec"/>
              </a:solidFill>
              <a:latin typeface="Arial"/>
              <a:ea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4437000"/>
            <a:ext cx="3816360" cy="19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Calibri"/>
              </a:rPr>
              <a:t>Любим мы лепить, играть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Calibri"/>
              </a:rPr>
              <a:t>Песни петь и танцевать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Calibri"/>
              </a:rPr>
              <a:t>Бегать, прыгать и гуля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Calibri"/>
              </a:rPr>
              <a:t>Никогда не унывать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Calibri"/>
              </a:rPr>
              <a:t>Учимся мы дружно жить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Calibri"/>
              </a:rPr>
              <a:t>Крепкой дружбой дорожить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4356000" y="189000"/>
          <a:ext cx="4538520" cy="6405120"/>
        </p:xfrm>
        <a:graphic>
          <a:graphicData uri="http://schemas.openxmlformats.org/drawingml/2006/table">
            <a:tbl>
              <a:tblPr/>
              <a:tblGrid>
                <a:gridCol w="1153080"/>
                <a:gridCol w="3385440"/>
              </a:tblGrid>
              <a:tr h="363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7.00-8.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Приём детей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ada"/>
                    </a:solidFill>
                  </a:tcPr>
                </a:tc>
              </a:tr>
              <a:tr h="368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8.00-8.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dc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Утренняя гимнастик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dccf"/>
                    </a:solidFill>
                  </a:tcPr>
                </a:tc>
              </a:tr>
              <a:tr h="368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8.25-8.5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e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Подготовка к завтраку. Завтрак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ee8"/>
                    </a:solidFill>
                  </a:tcPr>
                </a:tc>
              </a:tr>
              <a:tr h="368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8.55-9.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dc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Подготовка к занятиям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dccf"/>
                    </a:solidFill>
                  </a:tcPr>
                </a:tc>
              </a:tr>
              <a:tr h="368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9.00-9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e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Организационная деятельность (занятия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ee8"/>
                    </a:solidFill>
                  </a:tcPr>
                </a:tc>
              </a:tr>
              <a:tr h="368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9.20-9.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dc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Динамическая пауз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dccf"/>
                    </a:solidFill>
                  </a:tcPr>
                </a:tc>
              </a:tr>
              <a:tr h="368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9.30-9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e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Организационная деятельность (занятия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ee8"/>
                    </a:solidFill>
                  </a:tcPr>
                </a:tc>
              </a:tr>
              <a:tr h="368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9.50-10.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dc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Самостоятельная деятельность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dccf"/>
                    </a:solidFill>
                  </a:tcPr>
                </a:tc>
              </a:tr>
              <a:tr h="368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10.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e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Второй завтрак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ee8"/>
                    </a:solidFill>
                  </a:tcPr>
                </a:tc>
              </a:tr>
              <a:tr h="368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10.00-12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dc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Подготовка к прогулке. Прогулк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dccf"/>
                    </a:solidFill>
                  </a:tcPr>
                </a:tc>
              </a:tr>
              <a:tr h="5176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12.10-12.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e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Возвращение с прогулки. Самостоятельная деятельность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ee8"/>
                    </a:solidFill>
                  </a:tcPr>
                </a:tc>
              </a:tr>
              <a:tr h="368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12.30-13.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dc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Подготовка к обеду. Обед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dccf"/>
                    </a:solidFill>
                  </a:tcPr>
                </a:tc>
              </a:tr>
              <a:tr h="368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13.00-15.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e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Подготовка ко сну. Дневной сон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ee8"/>
                    </a:solidFill>
                  </a:tcPr>
                </a:tc>
              </a:tr>
              <a:tr h="368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15.00-15.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dc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Подъём. Гимнастика после сн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dccf"/>
                    </a:solidFill>
                  </a:tcPr>
                </a:tc>
              </a:tr>
              <a:tr h="368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15.25-15.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e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Подготовка к полднику. Полдник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ee8"/>
                    </a:solidFill>
                  </a:tcPr>
                </a:tc>
              </a:tr>
              <a:tr h="368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15.45-16.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dc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Игры.  Кружковая работ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dccf"/>
                    </a:solidFill>
                  </a:tcPr>
                </a:tc>
              </a:tr>
              <a:tr h="366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16.45-19.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e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Прогулка. Уход домой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ee8"/>
                    </a:solidFill>
                  </a:tcPr>
                </a:tc>
              </a:tr>
            </a:tbl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 txBox="1"/>
          <p:nvPr/>
        </p:nvSpPr>
        <p:spPr>
          <a:xfrm>
            <a:off x="2771640" y="189000"/>
            <a:ext cx="5977080" cy="9349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Down">
              <a:avLst>
                <a:gd name="adj" fmla="val 44444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5400" spc="-1" strike="noStrike">
                <a:ln w="0">
                  <a:noFill/>
                </a:ln>
                <a:solidFill>
                  <a:srgbClr val="fff1ec"/>
                </a:solidFill>
                <a:latin typeface="Arial"/>
              </a:rPr>
              <a:t>НАШИ ЗАНЯТИЯ</a:t>
            </a:r>
            <a:endParaRPr b="1" lang="en-US" sz="5400" spc="-1" strike="noStrike">
              <a:ln w="0">
                <a:noFill/>
              </a:ln>
              <a:solidFill>
                <a:srgbClr val="fff1ec"/>
              </a:solidFill>
              <a:latin typeface="Arial"/>
              <a:ea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556000" y="2349360"/>
            <a:ext cx="4103640" cy="2952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800" y="5800"/>
                </a:moveTo>
                <a:lnTo>
                  <a:pt x="14522" y="0"/>
                </a:lnTo>
                <a:lnTo>
                  <a:pt x="14155" y="5325"/>
                </a:lnTo>
                <a:lnTo>
                  <a:pt x="18380" y="4457"/>
                </a:lnTo>
                <a:lnTo>
                  <a:pt x="16702" y="7315"/>
                </a:lnTo>
                <a:lnTo>
                  <a:pt x="21097" y="8137"/>
                </a:lnTo>
                <a:lnTo>
                  <a:pt x="17607" y="10475"/>
                </a:lnTo>
                <a:lnTo>
                  <a:pt x="21600" y="13290"/>
                </a:lnTo>
                <a:lnTo>
                  <a:pt x="16837" y="12942"/>
                </a:lnTo>
                <a:lnTo>
                  <a:pt x="18145" y="18095"/>
                </a:lnTo>
                <a:lnTo>
                  <a:pt x="14020" y="14457"/>
                </a:lnTo>
                <a:lnTo>
                  <a:pt x="13247" y="19737"/>
                </a:lnTo>
                <a:lnTo>
                  <a:pt x="10532" y="14935"/>
                </a:lnTo>
                <a:lnTo>
                  <a:pt x="8485" y="21600"/>
                </a:lnTo>
                <a:lnTo>
                  <a:pt x="7715" y="15627"/>
                </a:lnTo>
                <a:lnTo>
                  <a:pt x="4762" y="17617"/>
                </a:lnTo>
                <a:lnTo>
                  <a:pt x="5667" y="13937"/>
                </a:lnTo>
                <a:lnTo>
                  <a:pt x="135" y="14587"/>
                </a:lnTo>
                <a:lnTo>
                  <a:pt x="3722" y="11775"/>
                </a:lnTo>
                <a:lnTo>
                  <a:pt x="0" y="8615"/>
                </a:lnTo>
                <a:lnTo>
                  <a:pt x="4627" y="7617"/>
                </a:lnTo>
                <a:lnTo>
                  <a:pt x="370" y="2295"/>
                </a:lnTo>
                <a:lnTo>
                  <a:pt x="7312" y="6320"/>
                </a:lnTo>
                <a:lnTo>
                  <a:pt x="8352" y="2295"/>
                </a:lnTo>
                <a:close/>
              </a:path>
            </a:pathLst>
          </a:custGeom>
          <a:solidFill>
            <a:srgbClr val="fcd5b5"/>
          </a:soli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СРЕ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1-Развитие реч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2- Рисова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3-Физическое развит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Бассей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620640"/>
            <a:ext cx="4282920" cy="2735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800" y="5800"/>
                </a:moveTo>
                <a:lnTo>
                  <a:pt x="14522" y="0"/>
                </a:lnTo>
                <a:lnTo>
                  <a:pt x="14155" y="5325"/>
                </a:lnTo>
                <a:lnTo>
                  <a:pt x="18380" y="4457"/>
                </a:lnTo>
                <a:lnTo>
                  <a:pt x="16702" y="7315"/>
                </a:lnTo>
                <a:lnTo>
                  <a:pt x="21097" y="8137"/>
                </a:lnTo>
                <a:lnTo>
                  <a:pt x="17607" y="10475"/>
                </a:lnTo>
                <a:lnTo>
                  <a:pt x="21600" y="13290"/>
                </a:lnTo>
                <a:lnTo>
                  <a:pt x="16837" y="12942"/>
                </a:lnTo>
                <a:lnTo>
                  <a:pt x="18145" y="18095"/>
                </a:lnTo>
                <a:lnTo>
                  <a:pt x="14020" y="14457"/>
                </a:lnTo>
                <a:lnTo>
                  <a:pt x="13247" y="19737"/>
                </a:lnTo>
                <a:lnTo>
                  <a:pt x="10532" y="14935"/>
                </a:lnTo>
                <a:lnTo>
                  <a:pt x="8485" y="21600"/>
                </a:lnTo>
                <a:lnTo>
                  <a:pt x="7715" y="15627"/>
                </a:lnTo>
                <a:lnTo>
                  <a:pt x="4762" y="17617"/>
                </a:lnTo>
                <a:lnTo>
                  <a:pt x="5667" y="13937"/>
                </a:lnTo>
                <a:lnTo>
                  <a:pt x="135" y="14587"/>
                </a:lnTo>
                <a:lnTo>
                  <a:pt x="3722" y="11775"/>
                </a:lnTo>
                <a:lnTo>
                  <a:pt x="0" y="8615"/>
                </a:lnTo>
                <a:lnTo>
                  <a:pt x="4627" y="7617"/>
                </a:lnTo>
                <a:lnTo>
                  <a:pt x="370" y="2295"/>
                </a:lnTo>
                <a:lnTo>
                  <a:pt x="7312" y="6320"/>
                </a:lnTo>
                <a:lnTo>
                  <a:pt x="8352" y="2295"/>
                </a:lnTo>
                <a:close/>
              </a:path>
            </a:pathLst>
          </a:custGeom>
          <a:solidFill>
            <a:srgbClr val="fcd5b5"/>
          </a:soli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ПОНЕДЕЛЬН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1-Формирование целостности картины мир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2-Физическое развит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3932280"/>
            <a:ext cx="3490920" cy="2924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800" y="5800"/>
                </a:moveTo>
                <a:lnTo>
                  <a:pt x="14522" y="0"/>
                </a:lnTo>
                <a:lnTo>
                  <a:pt x="14155" y="5325"/>
                </a:lnTo>
                <a:lnTo>
                  <a:pt x="18380" y="4457"/>
                </a:lnTo>
                <a:lnTo>
                  <a:pt x="16702" y="7315"/>
                </a:lnTo>
                <a:lnTo>
                  <a:pt x="21097" y="8137"/>
                </a:lnTo>
                <a:lnTo>
                  <a:pt x="17607" y="10475"/>
                </a:lnTo>
                <a:lnTo>
                  <a:pt x="21600" y="13290"/>
                </a:lnTo>
                <a:lnTo>
                  <a:pt x="16837" y="12942"/>
                </a:lnTo>
                <a:lnTo>
                  <a:pt x="18145" y="18095"/>
                </a:lnTo>
                <a:lnTo>
                  <a:pt x="14020" y="14457"/>
                </a:lnTo>
                <a:lnTo>
                  <a:pt x="13247" y="19737"/>
                </a:lnTo>
                <a:lnTo>
                  <a:pt x="10532" y="14935"/>
                </a:lnTo>
                <a:lnTo>
                  <a:pt x="8485" y="21600"/>
                </a:lnTo>
                <a:lnTo>
                  <a:pt x="7715" y="15627"/>
                </a:lnTo>
                <a:lnTo>
                  <a:pt x="4762" y="17617"/>
                </a:lnTo>
                <a:lnTo>
                  <a:pt x="5667" y="13937"/>
                </a:lnTo>
                <a:lnTo>
                  <a:pt x="135" y="14587"/>
                </a:lnTo>
                <a:lnTo>
                  <a:pt x="3722" y="11775"/>
                </a:lnTo>
                <a:lnTo>
                  <a:pt x="0" y="8615"/>
                </a:lnTo>
                <a:lnTo>
                  <a:pt x="4627" y="7617"/>
                </a:lnTo>
                <a:lnTo>
                  <a:pt x="370" y="2295"/>
                </a:lnTo>
                <a:lnTo>
                  <a:pt x="7312" y="6320"/>
                </a:lnTo>
                <a:lnTo>
                  <a:pt x="8352" y="2295"/>
                </a:lnTo>
                <a:close/>
              </a:path>
            </a:pathLst>
          </a:custGeom>
          <a:solidFill>
            <a:srgbClr val="fcd5b5"/>
          </a:soli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ЧЕТВЕР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1-Лепка\Аппликац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2-Музыка          </a:t>
            </a:r>
            <a:r>
              <a:rPr b="0" lang="ru-RU" sz="1400" spc="-1" strike="noStrike">
                <a:solidFill>
                  <a:srgbClr val="c00000"/>
                </a:solidFill>
                <a:latin typeface="Calibri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508720" y="1052640"/>
            <a:ext cx="3635280" cy="2519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800" y="5800"/>
                </a:moveTo>
                <a:lnTo>
                  <a:pt x="14522" y="0"/>
                </a:lnTo>
                <a:lnTo>
                  <a:pt x="14155" y="5325"/>
                </a:lnTo>
                <a:lnTo>
                  <a:pt x="18380" y="4457"/>
                </a:lnTo>
                <a:lnTo>
                  <a:pt x="16702" y="7315"/>
                </a:lnTo>
                <a:lnTo>
                  <a:pt x="21097" y="8137"/>
                </a:lnTo>
                <a:lnTo>
                  <a:pt x="17607" y="10475"/>
                </a:lnTo>
                <a:lnTo>
                  <a:pt x="21600" y="13290"/>
                </a:lnTo>
                <a:lnTo>
                  <a:pt x="16837" y="12942"/>
                </a:lnTo>
                <a:lnTo>
                  <a:pt x="18145" y="18095"/>
                </a:lnTo>
                <a:lnTo>
                  <a:pt x="14020" y="14457"/>
                </a:lnTo>
                <a:lnTo>
                  <a:pt x="13247" y="19737"/>
                </a:lnTo>
                <a:lnTo>
                  <a:pt x="10532" y="14935"/>
                </a:lnTo>
                <a:lnTo>
                  <a:pt x="8485" y="21600"/>
                </a:lnTo>
                <a:lnTo>
                  <a:pt x="7715" y="15627"/>
                </a:lnTo>
                <a:lnTo>
                  <a:pt x="4762" y="17617"/>
                </a:lnTo>
                <a:lnTo>
                  <a:pt x="5667" y="13937"/>
                </a:lnTo>
                <a:lnTo>
                  <a:pt x="135" y="14587"/>
                </a:lnTo>
                <a:lnTo>
                  <a:pt x="3722" y="11775"/>
                </a:lnTo>
                <a:lnTo>
                  <a:pt x="0" y="8615"/>
                </a:lnTo>
                <a:lnTo>
                  <a:pt x="4627" y="7617"/>
                </a:lnTo>
                <a:lnTo>
                  <a:pt x="370" y="2295"/>
                </a:lnTo>
                <a:lnTo>
                  <a:pt x="7312" y="6320"/>
                </a:lnTo>
                <a:lnTo>
                  <a:pt x="8352" y="2295"/>
                </a:lnTo>
                <a:close/>
              </a:path>
            </a:pathLst>
          </a:custGeom>
          <a:solidFill>
            <a:srgbClr val="fcd5b5"/>
          </a:soli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ВТОРН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1- ФЭМП (математика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2-Музы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292720" y="4437000"/>
            <a:ext cx="3456000" cy="2421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800" y="5800"/>
                </a:moveTo>
                <a:lnTo>
                  <a:pt x="14522" y="0"/>
                </a:lnTo>
                <a:lnTo>
                  <a:pt x="14155" y="5325"/>
                </a:lnTo>
                <a:lnTo>
                  <a:pt x="18380" y="4457"/>
                </a:lnTo>
                <a:lnTo>
                  <a:pt x="16702" y="7315"/>
                </a:lnTo>
                <a:lnTo>
                  <a:pt x="21097" y="8137"/>
                </a:lnTo>
                <a:lnTo>
                  <a:pt x="17607" y="10475"/>
                </a:lnTo>
                <a:lnTo>
                  <a:pt x="21600" y="13290"/>
                </a:lnTo>
                <a:lnTo>
                  <a:pt x="16837" y="12942"/>
                </a:lnTo>
                <a:lnTo>
                  <a:pt x="18145" y="18095"/>
                </a:lnTo>
                <a:lnTo>
                  <a:pt x="14020" y="14457"/>
                </a:lnTo>
                <a:lnTo>
                  <a:pt x="13247" y="19737"/>
                </a:lnTo>
                <a:lnTo>
                  <a:pt x="10532" y="14935"/>
                </a:lnTo>
                <a:lnTo>
                  <a:pt x="8485" y="21600"/>
                </a:lnTo>
                <a:lnTo>
                  <a:pt x="7715" y="15627"/>
                </a:lnTo>
                <a:lnTo>
                  <a:pt x="4762" y="17617"/>
                </a:lnTo>
                <a:lnTo>
                  <a:pt x="5667" y="13937"/>
                </a:lnTo>
                <a:lnTo>
                  <a:pt x="135" y="14587"/>
                </a:lnTo>
                <a:lnTo>
                  <a:pt x="3722" y="11775"/>
                </a:lnTo>
                <a:lnTo>
                  <a:pt x="0" y="8615"/>
                </a:lnTo>
                <a:lnTo>
                  <a:pt x="4627" y="7617"/>
                </a:lnTo>
                <a:lnTo>
                  <a:pt x="370" y="2295"/>
                </a:lnTo>
                <a:lnTo>
                  <a:pt x="7312" y="6320"/>
                </a:lnTo>
                <a:lnTo>
                  <a:pt x="8352" y="2295"/>
                </a:lnTo>
                <a:close/>
              </a:path>
            </a:pathLst>
          </a:custGeom>
          <a:solidFill>
            <a:srgbClr val="fcd5b5"/>
          </a:soli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ПЯТНИ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1- Конструирова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Физкультура на улиц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cap="sq" w="88920">
            <a:solidFill>
              <a:srgbClr val="ffffff"/>
            </a:solidFill>
            <a:miter/>
          </a:ln>
          <a:effectLst>
            <a:outerShdw dist="18000" dir="54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71" name=""/>
          <p:cNvSpPr txBox="1"/>
          <p:nvPr/>
        </p:nvSpPr>
        <p:spPr>
          <a:xfrm>
            <a:off x="539640" y="404640"/>
            <a:ext cx="7993080" cy="10796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DeflateBottom">
              <a:avLst>
                <a:gd name="adj" fmla="val 53241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5400" spc="-1" strike="noStrike">
                <a:ln w="0">
                  <a:noFill/>
                </a:ln>
                <a:solidFill>
                  <a:srgbClr val="fff1ec"/>
                </a:solidFill>
                <a:latin typeface="Arial"/>
              </a:rPr>
              <a:t>Мы самые спортивные</a:t>
            </a:r>
            <a:endParaRPr b="1" lang="en-US" sz="5400" spc="-1" strike="noStrike">
              <a:ln w="0">
                <a:noFill/>
              </a:ln>
              <a:solidFill>
                <a:srgbClr val="fff1ec"/>
              </a:solidFill>
              <a:latin typeface="Arial"/>
              <a:ea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252360" y="4365720"/>
            <a:ext cx="3807000" cy="21524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2050920" y="1413000"/>
            <a:ext cx="4443480" cy="25128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4"/>
          <a:stretch/>
        </p:blipFill>
        <p:spPr>
          <a:xfrm>
            <a:off x="4716360" y="4221000"/>
            <a:ext cx="4189680" cy="2368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dur="indefinite" fill="hold">
                      <p:stCondLst>
                        <p:cond delay="indefinite"/>
                      </p:stCondLst>
                      <p:childTnLst>
                        <p:par>
                          <p:cTn id="3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fill="hold">
                      <p:stCondLst>
                        <p:cond delay="indefinite"/>
                      </p:stCondLst>
                      <p:childTnLst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dur="indefinite" fill="hold">
                      <p:stCondLst>
                        <p:cond delay="indefinite"/>
                      </p:stCondLst>
                      <p:childTnLst>
                        <p:par>
                          <p:cTn id="4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 txBox="1"/>
          <p:nvPr/>
        </p:nvSpPr>
        <p:spPr>
          <a:xfrm>
            <a:off x="252360" y="333360"/>
            <a:ext cx="8209080" cy="9223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DeflateBottom">
              <a:avLst>
                <a:gd name="adj" fmla="val 53241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5400" spc="-1" strike="noStrike">
                <a:ln w="0">
                  <a:noFill/>
                </a:ln>
                <a:solidFill>
                  <a:srgbClr val="fff1ec"/>
                </a:solidFill>
                <a:latin typeface="Arial"/>
              </a:rPr>
              <a:t>Мы самые весёлые</a:t>
            </a:r>
            <a:endParaRPr b="1" lang="en-US" sz="5400" spc="-1" strike="noStrike">
              <a:ln w="0">
                <a:noFill/>
              </a:ln>
              <a:solidFill>
                <a:srgbClr val="fff1ec"/>
              </a:solidFill>
              <a:latin typeface="Arial"/>
              <a:ea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5124600" y="4005360"/>
            <a:ext cx="3803400" cy="285264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539640" y="1484280"/>
            <a:ext cx="4511880" cy="3384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dur="indefinite" fill="hold">
                      <p:stCondLst>
                        <p:cond delay="indefinite"/>
                      </p:stCondLst>
                      <p:childTnLst>
                        <p:par>
                          <p:cTn id="5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dur="indefinite" fill="hold">
                      <p:stCondLst>
                        <p:cond delay="indefinite"/>
                      </p:stCondLst>
                      <p:childTnLst>
                        <p:par>
                          <p:cTn id="5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 txBox="1"/>
          <p:nvPr/>
        </p:nvSpPr>
        <p:spPr>
          <a:xfrm>
            <a:off x="611280" y="404640"/>
            <a:ext cx="8064360" cy="922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DeflateBottom">
              <a:avLst>
                <a:gd name="adj" fmla="val 53241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5400" spc="-1" strike="noStrike">
                <a:ln w="0">
                  <a:noFill/>
                </a:ln>
                <a:solidFill>
                  <a:srgbClr val="fff1ec"/>
                </a:solidFill>
                <a:latin typeface="Arial"/>
              </a:rPr>
              <a:t>Мы самые талантливые</a:t>
            </a:r>
            <a:endParaRPr b="1" lang="en-US" sz="5400" spc="-1" strike="noStrike">
              <a:ln w="0">
                <a:noFill/>
              </a:ln>
              <a:solidFill>
                <a:srgbClr val="fff1ec"/>
              </a:solidFill>
              <a:latin typeface="Arial"/>
              <a:ea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4356000" y="4076640"/>
            <a:ext cx="4572000" cy="258444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252360" y="2060640"/>
            <a:ext cx="3294000" cy="43927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4356000" y="1413000"/>
            <a:ext cx="3932280" cy="2211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dur="indefinite" fill="hold">
                      <p:stCondLst>
                        <p:cond delay="indefinite"/>
                      </p:stCondLst>
                      <p:childTnLst>
                        <p:par>
                          <p:cTn id="6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dur="indefinite" fill="hold">
                      <p:stCondLst>
                        <p:cond delay="indefinite"/>
                      </p:stCondLst>
                      <p:childTnLst>
                        <p:par>
                          <p:cTn id="6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4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dur="indefinite" fill="hold">
                      <p:stCondLst>
                        <p:cond delay="indefinite"/>
                      </p:stCondLst>
                      <p:childTnLst>
                        <p:par>
                          <p:cTn id="7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1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1280" y="189000"/>
            <a:ext cx="8064360" cy="9223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DeflateBottom">
              <a:avLst>
                <a:gd name="adj" fmla="val 53241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5400" spc="-1" strike="noStrike">
                <a:ln w="0">
                  <a:noFill/>
                </a:ln>
                <a:solidFill>
                  <a:srgbClr val="fff1ec"/>
                </a:solidFill>
                <a:latin typeface="Arial"/>
              </a:rPr>
              <a:t>Спасибо за внимание!</a:t>
            </a:r>
            <a:endParaRPr b="1" lang="en-US" sz="5400" spc="-1" strike="noStrike">
              <a:ln w="0">
                <a:noFill/>
              </a:ln>
              <a:solidFill>
                <a:srgbClr val="fff1ec"/>
              </a:solidFill>
              <a:latin typeface="Arial"/>
              <a:ea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9640" y="5734080"/>
            <a:ext cx="8209080" cy="9223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InflateBottom">
              <a:avLst>
                <a:gd name="adj" fmla="val 68056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5400" spc="-1" strike="noStrike">
                <a:ln w="0">
                  <a:noFill/>
                </a:ln>
                <a:solidFill>
                  <a:srgbClr val="fff1ec"/>
                </a:solidFill>
                <a:latin typeface="Arial"/>
              </a:rPr>
              <a:t>До новых встреч!</a:t>
            </a:r>
            <a:endParaRPr b="1" lang="en-US" sz="5400" spc="-1" strike="noStrike">
              <a:ln w="0">
                <a:noFill/>
              </a:ln>
              <a:solidFill>
                <a:srgbClr val="fff1ec"/>
              </a:solidFill>
              <a:latin typeface="Arial"/>
              <a:ea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619280" y="1123920"/>
            <a:ext cx="6192720" cy="4643640"/>
          </a:xfrm>
          <a:custGeom>
            <a:avLst/>
            <a:gdLst/>
            <a:ahLst/>
            <a:rect l="l" t="t" r="r" b="b"/>
            <a:pathLst>
              <a:path w="8601" h="6451">
                <a:moveTo>
                  <a:pt x="0" y="6451"/>
                </a:moveTo>
                <a:lnTo>
                  <a:pt x="8601" y="6451"/>
                </a:lnTo>
                <a:lnTo>
                  <a:pt x="180" y="90"/>
                </a:lnTo>
                <a:lnTo>
                  <a:pt x="8601" y="6451"/>
                </a:lnTo>
                <a:lnTo>
                  <a:pt x="270" y="9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dur="indefinite" fill="hold">
                      <p:stCondLst>
                        <p:cond delay="indefinite"/>
                      </p:stCondLst>
                      <p:childTnLst>
                        <p:par>
                          <p:cTn id="8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9-24T07:25:21Z</dcterms:created>
  <dc:creator>РЯБИНКА</dc:creator>
  <dc:description/>
  <dc:language>en-US</dc:language>
  <cp:lastModifiedBy/>
  <dcterms:modified xsi:type="dcterms:W3CDTF">2020-09-16T16:52:04Z</dcterms:modified>
  <cp:revision>11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HiddenSlides">
    <vt:r8>0</vt:r8>
  </property>
  <property fmtid="{D5CDD505-2E9C-101B-9397-08002B2CF9AE}" pid="3" name="HyperlinksChanged">
    <vt:bool>0</vt:bool>
  </property>
  <property fmtid="{D5CDD505-2E9C-101B-9397-08002B2CF9AE}" pid="4" name="LinksUpToDate">
    <vt:bool>0</vt:bool>
  </property>
  <property fmtid="{D5CDD505-2E9C-101B-9397-08002B2CF9AE}" pid="5" name="MMClips">
    <vt:r8>1</vt:r8>
  </property>
  <property fmtid="{D5CDD505-2E9C-101B-9397-08002B2CF9AE}" pid="6" name="Notes">
    <vt:r8>0</vt:r8>
  </property>
  <property fmtid="{D5CDD505-2E9C-101B-9397-08002B2CF9AE}" pid="7" name="PresentationFormat">
    <vt:lpwstr>Экран (4:3)</vt:lpwstr>
  </property>
  <property fmtid="{D5CDD505-2E9C-101B-9397-08002B2CF9AE}" pid="8" name="ScaleCrop">
    <vt:bool>0</vt:bool>
  </property>
  <property fmtid="{D5CDD505-2E9C-101B-9397-08002B2CF9AE}" pid="9" name="ShareDoc">
    <vt:bool>0</vt:bool>
  </property>
  <property fmtid="{D5CDD505-2E9C-101B-9397-08002B2CF9AE}" pid="10" name="Slides">
    <vt:r8>11</vt:r8>
  </property>
</Properties>
</file>