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A677-B226-466F-A1AE-E7137D98E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1E8E-0AF6-412F-B254-B90AEB1D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2CE2-D420-48BE-86EB-A2682098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45DC-55B8-4C11-A76F-F55AD05EC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87D0-DE30-4055-954B-262B0F81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59D3-3B77-4409-8A72-A0506BC1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A06B-3ABA-409E-825A-010F82CF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AF25-660B-4AC8-BBDD-98C14BCE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EDA5-C8F1-43F5-B753-B2FF6CEA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9140-C8F8-4ECC-B99F-E196997D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AAEE9-E51A-45C2-B2F3-1631F95A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5944-0475-43DF-8321-ED461ABD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16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E5EB7-5064-4700-9805-2886B872ED28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0000" y="3573360"/>
            <a:ext cx="7309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e0322d"/>
                </a:solidFill>
                <a:latin typeface="Calibri"/>
              </a:rPr>
              <a:t>СРЕДНЯЯ ГРУППА №1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e0322d"/>
                </a:solidFill>
                <a:latin typeface="Calibri"/>
              </a:rPr>
              <a:t>«РЯБИН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6093000"/>
            <a:ext cx="417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БДОУ  детский сад №6 «Берё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018-2019 г.г.  г.Лоб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2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2360" y="3112920"/>
            <a:ext cx="5832360" cy="374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4221000"/>
            <a:ext cx="273528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НАШУ ГРУППУ 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a0207e"/>
                </a:solidFill>
                <a:latin typeface="Calibri"/>
              </a:rPr>
              <a:t>ДЕВОЧЕК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МАЛЬЧИКОВ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1628640"/>
            <a:ext cx="3456000" cy="331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2781360"/>
            <a:ext cx="1511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ОЗРАСТ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4-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5640" y="333360"/>
            <a:ext cx="7488360" cy="92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Наши сокровища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8000" y="4869000"/>
            <a:ext cx="5616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 у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ыбкой всегда встреч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на все вопросы отвеч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добрые и вним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наши воспита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2376360" cy="3040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381720" y="3573360"/>
            <a:ext cx="2410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учум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настасия Игор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5800" y="4005360"/>
            <a:ext cx="2591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ретья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03640" y="620640"/>
            <a:ext cx="2452680" cy="2519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81760" y="3357720"/>
            <a:ext cx="2477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ори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аталья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9280" y="333360"/>
            <a:ext cx="417672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ПО РЕЖИМУ МЫ ЖИВЁМ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И ЗДОРОВЫМИ РАСТЁМ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437000"/>
            <a:ext cx="3816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им мы лепить, игр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есни петь и танцев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Бегать, прыгать и гул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икогда не уныв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Учимся мы дружно ж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Крепкой дружбой дорож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56000" y="189000"/>
          <a:ext cx="4538520" cy="6405120"/>
        </p:xfrm>
        <a:graphic>
          <a:graphicData uri="http://schemas.openxmlformats.org/drawingml/2006/table">
            <a:tbl>
              <a:tblPr/>
              <a:tblGrid>
                <a:gridCol w="1153080"/>
                <a:gridCol w="3385440"/>
              </a:tblGrid>
              <a:tr h="3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.00-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иём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.00-8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тренняя гимнаст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.25-8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завтраку. Завтр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.55-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занятия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.00-9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рганизационная деятельность (занят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.20-9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инамическая пауз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.30-9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рганизационная деятельность (занят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.50-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амостоятельная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торой завтр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0.00-1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прогулке. Прогул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2.10-12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озвращение с прогулки. Самостоятельная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2.30-1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обеду. Об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3.00-1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о сну. Дневной с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5.00-15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ъём. Гимнастика после с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5.25-15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полднику. Полдни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5.45-1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гры.  Кружковая рабо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6.45-1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огулка. Уход дом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771640" y="189000"/>
            <a:ext cx="5977080" cy="93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НАШИ ЗАНЯТИЯ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349360"/>
            <a:ext cx="410364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Развитие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- Рис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-Физическое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ассей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20640"/>
            <a:ext cx="428292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НЕДЕ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Формирование целостности картины м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-Физическое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32280"/>
            <a:ext cx="3490920" cy="292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ЧЕТВ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Лепка\Апплика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-Музыка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08720" y="1052640"/>
            <a:ext cx="3635280" cy="25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ТО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 ФЭМП (математи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-Му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4437000"/>
            <a:ext cx="3456000" cy="242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ЯТ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 Констру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Физкультура на ули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1" name=""/>
          <p:cNvSpPr txBox="1"/>
          <p:nvPr/>
        </p:nvSpPr>
        <p:spPr>
          <a:xfrm>
            <a:off x="539640" y="404640"/>
            <a:ext cx="799308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Мы самые спортивные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2360" y="4365720"/>
            <a:ext cx="3807000" cy="2152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0920" y="1413000"/>
            <a:ext cx="4443480" cy="2512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716360" y="4221000"/>
            <a:ext cx="4189680" cy="23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52360" y="333360"/>
            <a:ext cx="8209080" cy="92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Мы самые весёлые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24600" y="4005360"/>
            <a:ext cx="3803400" cy="28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451188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611280" y="404640"/>
            <a:ext cx="8064360" cy="92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Мы самые талантливые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4572000" cy="258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2360" y="2060640"/>
            <a:ext cx="3294000" cy="4392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356000" y="1413000"/>
            <a:ext cx="3932280" cy="221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1280" y="189000"/>
            <a:ext cx="8064360" cy="92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Спасибо за внимание!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5734080"/>
            <a:ext cx="8209080" cy="92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До новых встреч!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1123920"/>
            <a:ext cx="6192720" cy="4643640"/>
          </a:xfrm>
          <a:custGeom>
            <a:avLst/>
            <a:gdLst/>
            <a:ahLst/>
            <a:rect l="l" t="t" r="r" b="b"/>
            <a:pathLst>
              <a:path w="8601" h="6451">
                <a:moveTo>
                  <a:pt x="0" y="6451"/>
                </a:moveTo>
                <a:lnTo>
                  <a:pt x="8601" y="6451"/>
                </a:lnTo>
                <a:lnTo>
                  <a:pt x="180" y="90"/>
                </a:lnTo>
                <a:lnTo>
                  <a:pt x="8601" y="6451"/>
                </a:lnTo>
                <a:lnTo>
                  <a:pt x="270" y="9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4T07:25:21Z</dcterms:created>
  <dc:creator>РЯБИНКА</dc:creator>
  <dc:description/>
  <dc:language>en-US</dc:language>
  <cp:lastModifiedBy/>
  <dcterms:modified xsi:type="dcterms:W3CDTF">2020-09-16T16:52:04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1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1</vt:r8>
  </property>
</Properties>
</file>