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1874-2655-411D-A53B-B5B1CA5B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4D9-14BE-4A55-B768-1E20FDD1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127-FB1E-43E7-900F-6FB855E1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E7F-F756-4250-84C4-23B5E1A1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2A63-F51A-4701-9C3F-6741A061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C53F-F32B-4E64-87D7-DEB19DAA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D25A-E506-46B0-8437-AF1A0503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A18C-62C3-49EC-A42B-BE3FADDD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4CCC-CA9F-4AAD-BAE4-90F0DC4A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CFD3-8299-440B-9EF4-82928D15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2F78-7309-407F-9B09-7EF52ACD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B2D-054A-4338-9E43-D2B638B4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B771-B22B-4DD8-A7A9-96E29B70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67AF-1F97-4905-B67E-842C18E8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6392-CEAF-4BE6-A5B5-39812090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BD69-1ED2-417D-9FCA-7653D49D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A7D4-C1D8-4C58-9DD4-3270E8F1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56A-5003-4A66-AEF2-71699963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62E-D284-4D0D-A9DE-1F7E5596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E02-0217-45C5-B322-840146B5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AD7-BF1C-4835-B620-DC5B0BC3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F6F-B282-468F-8607-F7AEA7AB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35E-A056-4664-BA58-1B537E07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CDA-375A-429D-91AD-08C3432F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3815-791A-4887-A635-3C8051BB24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C1A2-259B-4801-8C67-3A45DEA04B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066320" y="1412640"/>
            <a:ext cx="762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Ум заключается не только в Знании, но и в умении применять знания  на деле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                   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Аристот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4" name="143(2).avi" descr=""/>
          <p:cNvPicPr/>
          <p:nvPr/>
        </p:nvPicPr>
        <p:blipFill>
          <a:blip r:embed="rId1"/>
          <a:stretch/>
        </p:blipFill>
        <p:spPr>
          <a:xfrm>
            <a:off x="1000080" y="500040"/>
            <a:ext cx="7715160" cy="588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66320" y="499680"/>
            <a:ext cx="7620120" cy="53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От каких величин зависит период колебаний пружинного и нитяного маятник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066320" y="428400"/>
            <a:ext cx="76201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1. Определение зависимости (независимости) периода колебаний нитяного маятника от длины нити, от амплитуды колебаний, от массы груз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2.  Определение зависимости (независимости) периода колебаний пружинного маятника от массы груза, от жесткости пружи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Техника безопасн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320" y="1752120"/>
            <a:ext cx="76201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Тщательно изучите описание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Не устанавливайте на краю стола штатив, во избежание его пад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Не отклоняйте маятник от положения равновесия на расстояние больше, чем предусмотрено в описании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По окончании работы отключите секундоме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C:\Users\User\Desktop\img2.jpg"/>
          <p:cNvPicPr/>
          <p:nvPr/>
        </p:nvPicPr>
        <p:blipFill>
          <a:blip r:embed="rId1"/>
          <a:stretch/>
        </p:blipFill>
        <p:spPr>
          <a:xfrm>
            <a:off x="1000080" y="285840"/>
            <a:ext cx="7790040" cy="6357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66320" y="499680"/>
            <a:ext cx="7620120" cy="53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место пропусков вставьте сло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ериод колебаний нитяного маятника ___________ от длины нити маятника.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Чем __________ длина нити маятника, тем __________период его колеб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Частота колебаний нитяного маятника __________ от длины нити маятника.              Чем __________длина нити маятника, тем _______частота его колеб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66320" y="714240"/>
            <a:ext cx="762012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Готовимся к ОГ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ассу груза нитяного маятника увеличили в 2 раза. Период колеб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увеличился в 2 раз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увеличился в 4 раз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е изменилс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уменьшился в 2 раз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066320" y="357120"/>
            <a:ext cx="76201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Готовимся к ОГ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Длину нити нитяного маятника увеличили в 4 раза. Период колеб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меньшился в 1,4 раз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величился в 4 раз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величился в 2 раз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не изменилс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66320" y="357120"/>
            <a:ext cx="76201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Готовимся к ОГ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Часы с маятником отстают. Чтобы они шли правильно, над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меньшить амплитуду колебани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величить амплитуду колебани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груз маятника переместить вниз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груз маятника переместить ввер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56800" y="357120"/>
            <a:ext cx="7905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Готовимся к ОГ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За какую часть периода шарик нитяного маятника проходит путь от крайнего  левого  положения до крайнего правого положени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/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/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/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Продолжите фразу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Максимальное расстояние, на которое отклоняется тело от положения равновесия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Количество колебаний за единицу времени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ело за время одного периода проходит путь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User\Desktop\xs3qstsrcA8EAC92FCBD1A02949E1EE0C811605D9_1_1473949852.png"/>
          <p:cNvPicPr/>
          <p:nvPr/>
        </p:nvPicPr>
        <p:blipFill>
          <a:blip r:embed="rId1"/>
          <a:stretch/>
        </p:blipFill>
        <p:spPr>
          <a:xfrm>
            <a:off x="4643280" y="3500280"/>
            <a:ext cx="3635640" cy="30718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6"/>
          <p:cNvSpPr/>
          <p:nvPr/>
        </p:nvSpPr>
        <p:spPr>
          <a:xfrm>
            <a:off x="1000080" y="500040"/>
            <a:ext cx="7858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обходимо экспериментально установить, зависит ли период колебаний пружинного маятника от жёсткости пружины. Какую из указанных пар маятников можно использовать для этой це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778680" y="500040"/>
            <a:ext cx="26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Готовимся к ОГ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9"/>
          <p:cNvSpPr/>
          <p:nvPr/>
        </p:nvSpPr>
        <p:spPr>
          <a:xfrm>
            <a:off x="1714680" y="3857760"/>
            <a:ext cx="207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1)Б и 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2)В и 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3)А и 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4)А и 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Picture 2" descr="C:\Users\User\Desktop\1178454968_g.jpg"/>
          <p:cNvPicPr/>
          <p:nvPr/>
        </p:nvPicPr>
        <p:blipFill>
          <a:blip r:embed="rId1"/>
          <a:stretch/>
        </p:blipFill>
        <p:spPr>
          <a:xfrm>
            <a:off x="428760" y="214200"/>
            <a:ext cx="8477280" cy="6357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Ж.Фуко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2" name="Picture 2" descr="C:\Users\User\Desktop\84ce26f0c53aa3ddc20a397f86c5ec97.jpg"/>
          <p:cNvPicPr/>
          <p:nvPr/>
        </p:nvPicPr>
        <p:blipFill>
          <a:blip r:embed="rId1"/>
          <a:stretch/>
        </p:blipFill>
        <p:spPr>
          <a:xfrm>
            <a:off x="571680" y="0"/>
            <a:ext cx="2885760" cy="3405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Users\User\Desktop\img2.jpg"/>
          <p:cNvPicPr/>
          <p:nvPr/>
        </p:nvPicPr>
        <p:blipFill>
          <a:blip r:embed="rId2"/>
          <a:stretch/>
        </p:blipFill>
        <p:spPr>
          <a:xfrm>
            <a:off x="3481560" y="2581200"/>
            <a:ext cx="5662440" cy="4276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User\Desktop\v880_221.jpg"/>
          <p:cNvPicPr/>
          <p:nvPr/>
        </p:nvPicPr>
        <p:blipFill>
          <a:blip r:embed="rId2"/>
          <a:stretch/>
        </p:blipFill>
        <p:spPr>
          <a:xfrm>
            <a:off x="1214280" y="-563400"/>
            <a:ext cx="7929720" cy="7421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Решите задачу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Длина маятника Фуко в Исаакиевском соборе в Санкт-Петербурге 98 м. Чему равен период и частоту колебания маятник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Итоги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Закончите предложе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1) На уроке я узнал(а)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2)Этот учебный материал мне нужен для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3) На уроке у меня получилось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Учить форму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§ 23,24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Задачник № 1718, №1719, №17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6" descr="teacher_clipart_8.gif"/>
          <p:cNvPicPr/>
          <p:nvPr/>
        </p:nvPicPr>
        <p:blipFill>
          <a:blip r:embed="rId1"/>
          <a:stretch/>
        </p:blipFill>
        <p:spPr>
          <a:xfrm>
            <a:off x="3059280" y="3166920"/>
            <a:ext cx="3817800" cy="29019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642960" y="1125360"/>
            <a:ext cx="8072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Продолжите фразу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Период в системе СИ измеряется в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Частота в системе СИ измеряется в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Амплитуда в системе СИ измеряется 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20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ая зависимость существует между периодом и частотой колебаний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66320" y="2714400"/>
            <a:ext cx="7620120" cy="31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труна за 1 минуту совершает 600 колебаний. Найдите период и частоту колебани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42920" y="404640"/>
          <a:ext cx="7632720" cy="6465960"/>
        </p:xfrm>
        <a:graphic>
          <a:graphicData uri="http://schemas.openxmlformats.org/drawingml/2006/table">
            <a:tbl>
              <a:tblPr/>
              <a:tblGrid>
                <a:gridCol w="2921040"/>
                <a:gridCol w="830160"/>
                <a:gridCol w="3881520"/>
              </a:tblGrid>
              <a:tr h="648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риод измеряется в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ремя одного колеб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астота измеряется в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ибольшее смещение от положения равнове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мплитуда измеряется в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ебания, амплитуда которых с течением времени уменьша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риод-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секунд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астота-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исло колебаний в единицу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мплитуда-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герц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ободные колебания-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ебания, происходящие благодаря только первоначальному запасу энер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ынужденные колебания-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ебания, совершаемые телом под действием внешней периодической си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тухающие колебания-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ме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ебательная система-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истема тел, в которой возможны свободные колеб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8" name="Прямая со стрелкой 4"/>
          <p:cNvCxnSpPr/>
          <p:nvPr/>
        </p:nvCxnSpPr>
        <p:spPr>
          <a:xfrm>
            <a:off x="4000680" y="1071720"/>
            <a:ext cx="786240" cy="16437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99" name="Прямая со стрелкой 6"/>
          <p:cNvCxnSpPr/>
          <p:nvPr/>
        </p:nvCxnSpPr>
        <p:spPr>
          <a:xfrm>
            <a:off x="4000680" y="1571400"/>
            <a:ext cx="786240" cy="1929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0" name="Прямая со стрелкой 8"/>
          <p:cNvCxnSpPr/>
          <p:nvPr/>
        </p:nvCxnSpPr>
        <p:spPr>
          <a:xfrm>
            <a:off x="4000680" y="2142720"/>
            <a:ext cx="786240" cy="34297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1" name="Прямая со стрелкой 10"/>
          <p:cNvCxnSpPr/>
          <p:nvPr/>
        </p:nvCxnSpPr>
        <p:spPr>
          <a:xfrm flipV="1">
            <a:off x="4000680" y="999720"/>
            <a:ext cx="786240" cy="1643760"/>
          </a:xfrm>
          <a:prstGeom prst="straightConnector1">
            <a:avLst/>
          </a:prstGeom>
          <a:ln w="1260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2" name="Прямая со стрелкой 12"/>
          <p:cNvCxnSpPr/>
          <p:nvPr/>
        </p:nvCxnSpPr>
        <p:spPr>
          <a:xfrm>
            <a:off x="3928680" y="3071880"/>
            <a:ext cx="857880" cy="21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3" name="Прямая со стрелкой 14"/>
          <p:cNvCxnSpPr/>
          <p:nvPr/>
        </p:nvCxnSpPr>
        <p:spPr>
          <a:xfrm flipV="1">
            <a:off x="4000680" y="1642320"/>
            <a:ext cx="786240" cy="18579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4" name="Прямая со стрелкой 16"/>
          <p:cNvCxnSpPr/>
          <p:nvPr/>
        </p:nvCxnSpPr>
        <p:spPr>
          <a:xfrm>
            <a:off x="3928680" y="4142880"/>
            <a:ext cx="857880" cy="25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5" name="Прямая со стрелкой 18"/>
          <p:cNvCxnSpPr/>
          <p:nvPr/>
        </p:nvCxnSpPr>
        <p:spPr>
          <a:xfrm>
            <a:off x="3928680" y="4928760"/>
            <a:ext cx="857880" cy="25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6" name="Прямая со стрелкой 20"/>
          <p:cNvCxnSpPr/>
          <p:nvPr/>
        </p:nvCxnSpPr>
        <p:spPr>
          <a:xfrm flipV="1">
            <a:off x="4000680" y="2142360"/>
            <a:ext cx="786240" cy="34297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7" name="Прямая со стрелкой 22"/>
          <p:cNvCxnSpPr/>
          <p:nvPr/>
        </p:nvCxnSpPr>
        <p:spPr>
          <a:xfrm>
            <a:off x="3928680" y="6428880"/>
            <a:ext cx="857880" cy="25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2700360" y="292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403280" y="638172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9"/>
          <p:cNvSpPr txBox="1"/>
          <p:nvPr/>
        </p:nvSpPr>
        <p:spPr>
          <a:xfrm>
            <a:off x="430200" y="333360"/>
            <a:ext cx="871380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6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Picture 6" descr="C:\Documents and Settings\Татьяна\Рабочий стол\ссылки\длядиска\pend560.gif"/>
          <p:cNvPicPr/>
          <p:nvPr/>
        </p:nvPicPr>
        <p:blipFill>
          <a:blip r:embed="rId3"/>
          <a:stretch/>
        </p:blipFill>
        <p:spPr>
          <a:xfrm>
            <a:off x="928800" y="3000240"/>
            <a:ext cx="6357960" cy="347832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6" descr=""/>
          <p:cNvPicPr/>
          <p:nvPr/>
        </p:nvPicPr>
        <p:blipFill>
          <a:blip r:embed="rId4"/>
          <a:stretch/>
        </p:blipFill>
        <p:spPr>
          <a:xfrm>
            <a:off x="822240" y="500040"/>
            <a:ext cx="6608880" cy="286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412640"/>
            <a:ext cx="762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Изучить колебания нитяного и пружинного маятник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85920" y="380520"/>
            <a:ext cx="2900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Г.Галиле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6" name="Picture 4" descr="http://900igr.net/datas/astronomija/Biografija-Galileja/0001-001-Galileo-Galilej.jpg"/>
          <p:cNvPicPr/>
          <p:nvPr/>
        </p:nvPicPr>
        <p:blipFill>
          <a:blip r:embed="rId1"/>
          <a:stretch/>
        </p:blipFill>
        <p:spPr>
          <a:xfrm>
            <a:off x="5643720" y="1571760"/>
            <a:ext cx="2571480" cy="3071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User\Desktop\tmpnE7MCY.jpeg"/>
          <p:cNvPicPr/>
          <p:nvPr/>
        </p:nvPicPr>
        <p:blipFill>
          <a:blip r:embed="rId2"/>
          <a:stretch/>
        </p:blipFill>
        <p:spPr>
          <a:xfrm>
            <a:off x="500040" y="0"/>
            <a:ext cx="4716360" cy="48704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7"/>
          <p:cNvSpPr/>
          <p:nvPr/>
        </p:nvSpPr>
        <p:spPr>
          <a:xfrm>
            <a:off x="1000080" y="492912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Маятник – тело, подвешенное так, что его центр тяжести находится ниже точки подвес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285920" y="0"/>
            <a:ext cx="2786040" cy="42148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20" name="Прямоугольник 4"/>
          <p:cNvSpPr/>
          <p:nvPr/>
        </p:nvSpPr>
        <p:spPr>
          <a:xfrm>
            <a:off x="928800" y="4357800"/>
            <a:ext cx="3857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мля, штатив, пружина и груз образуют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вертикальный пружинный маятник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5214960" y="0"/>
            <a:ext cx="2894040" cy="40719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22" name="Прямоугольник 6"/>
          <p:cNvSpPr/>
          <p:nvPr/>
        </p:nvSpPr>
        <p:spPr>
          <a:xfrm>
            <a:off x="4786200" y="4179960"/>
            <a:ext cx="3786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мля, подставка и подвешенный на легкой и прочной нити к подставке шарик, образуют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нитяной маят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7T12:40:14Z</dcterms:created>
  <dc:creator>Дом</dc:creator>
  <dc:description/>
  <dc:language>en-US</dc:language>
  <cp:lastModifiedBy>user</cp:lastModifiedBy>
  <dcterms:modified xsi:type="dcterms:W3CDTF">2018-01-11T11:34:22Z</dcterms:modified>
  <cp:revision>143</cp:revision>
  <dc:subject/>
  <dc:title>Презентация PowerPoint</dc:title>
</cp:coreProperties>
</file>