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58A-4524-47FE-A25A-A4059D68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42B-1CF1-4410-99C3-9F632933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EF1-2E3A-4626-A688-9BA0C14B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CB6-8C93-4A32-B4DE-EBF94CCD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547-A130-4508-83A1-C5232845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299-1343-4DB1-BECA-979E4D5D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9A5B-4C26-433C-AB75-9294548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9EA2-4BA4-4398-808D-154D66C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7CE-A355-416A-B038-F2656169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6BB4-6FE5-4EB0-96E9-0E0480E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256-DD55-43A8-A186-978A96A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D94-F0F8-40B7-8601-128177F6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005B-7A56-4303-AD67-2874888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5637-420A-4E10-A240-DCF0E72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0DDE-F558-41D0-9428-C773C615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0DF3-EF08-4B61-A3F1-C043A2B3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0155-E351-47D1-9929-C3582958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044-F812-4183-BAB2-AF004AD9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899-7FC9-4B53-B511-EED8006B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AD6-5ED4-474F-A057-CA764584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E95-65D6-477A-8C41-89276C85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3DF-3E75-4A93-95CF-6CFE5F7B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FFC-1C38-4A29-AABD-63DD8140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24A-8BC7-40ED-A3FE-2BCDC211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9E6-23F8-41CA-8719-C0468A451A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8D30-74D9-4440-A865-79624FCCA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Ум заключается не только в Знании, но и в умении применять знания  на дел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Аристо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143(2).avi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715160" cy="588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320" y="499680"/>
            <a:ext cx="762012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т каких величин зависит период колебаний пружинного и нитяного маятник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. Определение зависимости (независимости) периода колебаний нитяного маятника от длины нити, от амплитуды колебаний, от массы груз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2.  Определение зависимости (независимости) периода колебаний пружинного маятника от массы груза, от жесткости пружи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752120"/>
            <a:ext cx="76201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Тщательно изучите описание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Не устанавливайте на краю стола штатив, во избежание его па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Не отклоняйте маятник от положения равновесия на расстояние больше, чем предусмотрено в описании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По окончании работы отключите секундом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:\Users\User\Desktop\img2.jpg"/>
          <p:cNvPicPr/>
          <p:nvPr/>
        </p:nvPicPr>
        <p:blipFill>
          <a:blip r:embed="rId1"/>
          <a:stretch/>
        </p:blipFill>
        <p:spPr>
          <a:xfrm>
            <a:off x="1000080" y="285840"/>
            <a:ext cx="7790040" cy="635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320" y="499680"/>
            <a:ext cx="762012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место пропусков вставьте сло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ериод колебаний нитяного маятника ___________ от длины нити маятника.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Чем __________ длина нити маятника, тем __________период его колеб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Частота колебаний нитяного маятника __________ от длины нити маятника.              Чем __________длина нити маятника, тем _______частота его колеб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320" y="714240"/>
            <a:ext cx="762012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ассу груза нитяного маятника увеличили в 2 раза. Период колеб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величился в 2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величился в 4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е изменилс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меньшился в 2 раз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320" y="357120"/>
            <a:ext cx="76201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лину нити нитяного маятника увеличили в 4 раза. Период колеб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меньшился в 1,4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величился в 4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величился в 2 раз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не изменил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357120"/>
            <a:ext cx="7620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Часы с маятником отстают. Чтобы они шли правильно, над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меньшить амплитуду колебани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величить амплитуду колебани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груз маятника переместить вниз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груз маятника переместить ввер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56800" y="357120"/>
            <a:ext cx="7905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За какую часть периода шарик нитяного маятника проходит путь от крайнего  левого  положения до крайнего правого полож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/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/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одолжите фраз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Максимальное расстояние, на которое отклоняется тело от положения равновесия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оличество колебаний за единицу времени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ло за время одного периода проходит путь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User\Desktop\xs3qstsrcA8EAC92FCBD1A02949E1EE0C811605D9_1_1473949852.png"/>
          <p:cNvPicPr/>
          <p:nvPr/>
        </p:nvPicPr>
        <p:blipFill>
          <a:blip r:embed="rId1"/>
          <a:stretch/>
        </p:blipFill>
        <p:spPr>
          <a:xfrm>
            <a:off x="4643280" y="3500280"/>
            <a:ext cx="3635640" cy="30718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000080" y="500040"/>
            <a:ext cx="785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обходимо экспериментально установить, зависит ли период колебаний пружинного маятника от жёсткости пружины. Какую из указанных пар маятников можно использовать для этой це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778680" y="50004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Готовимся к ОГ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1714680" y="3857760"/>
            <a:ext cx="20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)Б и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2)В и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3)А и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4)А и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Picture 2" descr="C:\Users\User\Desktop\1178454968_g.jpg"/>
          <p:cNvPicPr/>
          <p:nvPr/>
        </p:nvPicPr>
        <p:blipFill>
          <a:blip r:embed="rId1"/>
          <a:stretch/>
        </p:blipFill>
        <p:spPr>
          <a:xfrm>
            <a:off x="428760" y="21420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Ж.Фуко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Picture 2" descr="C:\Users\User\Desktop\84ce26f0c53aa3ddc20a397f86c5ec97.jpg"/>
          <p:cNvPicPr/>
          <p:nvPr/>
        </p:nvPicPr>
        <p:blipFill>
          <a:blip r:embed="rId1"/>
          <a:stretch/>
        </p:blipFill>
        <p:spPr>
          <a:xfrm>
            <a:off x="571680" y="0"/>
            <a:ext cx="2885760" cy="340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User\Desktop\img2.jpg"/>
          <p:cNvPicPr/>
          <p:nvPr/>
        </p:nvPicPr>
        <p:blipFill>
          <a:blip r:embed="rId2"/>
          <a:stretch/>
        </p:blipFill>
        <p:spPr>
          <a:xfrm>
            <a:off x="3481560" y="2581200"/>
            <a:ext cx="5662440" cy="4276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User\Desktop\v880_221.jpg"/>
          <p:cNvPicPr/>
          <p:nvPr/>
        </p:nvPicPr>
        <p:blipFill>
          <a:blip r:embed="rId2"/>
          <a:stretch/>
        </p:blipFill>
        <p:spPr>
          <a:xfrm>
            <a:off x="1214280" y="-563400"/>
            <a:ext cx="7929720" cy="742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Решите задач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Длина маятника Фуко в Исаакиевском соборе в Санкт-Петербурге 98 м. Чему равен период и частоту колебания маятни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тоги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Закончите предло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) На уроке я узнал(а)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2)Этот учебный материал мне нужен для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3) На уроке у меня получилось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Учить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 23,24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дачник № 1718, №1719, №17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teacher_clipart_8.gif"/>
          <p:cNvPicPr/>
          <p:nvPr/>
        </p:nvPicPr>
        <p:blipFill>
          <a:blip r:embed="rId1"/>
          <a:stretch/>
        </p:blipFill>
        <p:spPr>
          <a:xfrm>
            <a:off x="3059280" y="3166920"/>
            <a:ext cx="3817800" cy="2901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642960" y="1125360"/>
            <a:ext cx="8072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родолжите фраз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ериод в системе СИ измеряется в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Частота в системе СИ измеряется в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Амплитуда в системе СИ измеряется 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зависимость существует между периодом и частотой колебаний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320" y="2714400"/>
            <a:ext cx="76201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на за 1 минуту совершает 600 колебаний. Найдите период и частоту колеба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42920" y="404640"/>
          <a:ext cx="7632720" cy="6465960"/>
        </p:xfrm>
        <a:graphic>
          <a:graphicData uri="http://schemas.openxmlformats.org/drawingml/2006/table">
            <a:tbl>
              <a:tblPr/>
              <a:tblGrid>
                <a:gridCol w="2921040"/>
                <a:gridCol w="830160"/>
                <a:gridCol w="3881520"/>
              </a:tblGrid>
              <a:tr h="64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иод измеряется в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ремя одного колеб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астота измеряется в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большее смещение от положения равнове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плитуда измеряется в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ния, амплитуда которых с течением времени умень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иод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секунд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астота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ло колебаний в единицу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плитуда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герц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ободные колебания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ния, происходящие благодаря только первоначальному запасу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нужденные колебания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ния, совершаемые телом под действием внешней периодической си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тухающие колебания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ме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ебательная система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148"/>
                        </a:lnSpc>
                        <a:spcAft>
                          <a:spcPts val="986"/>
                        </a:spcAft>
                        <a:tabLst>
                          <a:tab algn="l" pos="0"/>
                          <a:tab algn="l" pos="2025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истема тел, в которой возможны свободные колеб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8" name="Прямая со стрелкой 4"/>
          <p:cNvCxnSpPr/>
          <p:nvPr/>
        </p:nvCxnSpPr>
        <p:spPr>
          <a:xfrm>
            <a:off x="4000680" y="1071720"/>
            <a:ext cx="786240" cy="16437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99" name="Прямая со стрелкой 6"/>
          <p:cNvCxnSpPr/>
          <p:nvPr/>
        </p:nvCxnSpPr>
        <p:spPr>
          <a:xfrm>
            <a:off x="4000680" y="1571400"/>
            <a:ext cx="786240" cy="1929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0" name="Прямая со стрелкой 8"/>
          <p:cNvCxnSpPr/>
          <p:nvPr/>
        </p:nvCxnSpPr>
        <p:spPr>
          <a:xfrm>
            <a:off x="4000680" y="2142720"/>
            <a:ext cx="786240" cy="3429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1" name="Прямая со стрелкой 10"/>
          <p:cNvCxnSpPr/>
          <p:nvPr/>
        </p:nvCxnSpPr>
        <p:spPr>
          <a:xfrm flipV="1">
            <a:off x="4000680" y="999720"/>
            <a:ext cx="786240" cy="1643760"/>
          </a:xfrm>
          <a:prstGeom prst="straightConnector1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2" name="Прямая со стрелкой 12"/>
          <p:cNvCxnSpPr/>
          <p:nvPr/>
        </p:nvCxnSpPr>
        <p:spPr>
          <a:xfrm>
            <a:off x="3928680" y="3071880"/>
            <a:ext cx="857880" cy="21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V="1">
            <a:off x="4000680" y="1642320"/>
            <a:ext cx="786240" cy="1857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>
            <a:off x="3928680" y="4142880"/>
            <a:ext cx="85788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5" name="Прямая со стрелкой 18"/>
          <p:cNvCxnSpPr/>
          <p:nvPr/>
        </p:nvCxnSpPr>
        <p:spPr>
          <a:xfrm>
            <a:off x="3928680" y="4928760"/>
            <a:ext cx="85788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6" name="Прямая со стрелкой 20"/>
          <p:cNvCxnSpPr/>
          <p:nvPr/>
        </p:nvCxnSpPr>
        <p:spPr>
          <a:xfrm flipV="1">
            <a:off x="4000680" y="2142360"/>
            <a:ext cx="786240" cy="3429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07" name="Прямая со стрелкой 22"/>
          <p:cNvCxnSpPr/>
          <p:nvPr/>
        </p:nvCxnSpPr>
        <p:spPr>
          <a:xfrm>
            <a:off x="3928680" y="6428880"/>
            <a:ext cx="857880" cy="2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2700360" y="2924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03280" y="638172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430200" y="333360"/>
            <a:ext cx="871380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6" descr="C:\Documents and Settings\Татьяна\Рабочий стол\ссылки\длядиска\pend560.gif"/>
          <p:cNvPicPr/>
          <p:nvPr/>
        </p:nvPicPr>
        <p:blipFill>
          <a:blip r:embed="rId3"/>
          <a:stretch/>
        </p:blipFill>
        <p:spPr>
          <a:xfrm>
            <a:off x="928800" y="3000240"/>
            <a:ext cx="6357960" cy="347832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6" descr=""/>
          <p:cNvPicPr/>
          <p:nvPr/>
        </p:nvPicPr>
        <p:blipFill>
          <a:blip r:embed="rId4"/>
          <a:stretch/>
        </p:blipFill>
        <p:spPr>
          <a:xfrm>
            <a:off x="822240" y="500040"/>
            <a:ext cx="6608880" cy="28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зучить колебания нитяного и пружинного маятник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85920" y="380520"/>
            <a:ext cx="2900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Г.Гали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Picture 4" descr="http://900igr.net/datas/astronomija/Biografija-Galileja/0001-001-Galileo-Galilej.jpg"/>
          <p:cNvPicPr/>
          <p:nvPr/>
        </p:nvPicPr>
        <p:blipFill>
          <a:blip r:embed="rId1"/>
          <a:stretch/>
        </p:blipFill>
        <p:spPr>
          <a:xfrm>
            <a:off x="5643720" y="1571760"/>
            <a:ext cx="2571480" cy="307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User\Desktop\tmpnE7MCY.jpeg"/>
          <p:cNvPicPr/>
          <p:nvPr/>
        </p:nvPicPr>
        <p:blipFill>
          <a:blip r:embed="rId2"/>
          <a:stretch/>
        </p:blipFill>
        <p:spPr>
          <a:xfrm>
            <a:off x="500040" y="0"/>
            <a:ext cx="4716360" cy="4870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1000080" y="492912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Маятник – тело, подвешенное так, что его центр тяжести находится ниже точки подвес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285920" y="0"/>
            <a:ext cx="2786040" cy="42148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20" name="Прямоугольник 4"/>
          <p:cNvSpPr/>
          <p:nvPr/>
        </p:nvSpPr>
        <p:spPr>
          <a:xfrm>
            <a:off x="928800" y="4357800"/>
            <a:ext cx="3857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, штатив, пружина и груз образуют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вертикальный пружинный маятник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5214960" y="0"/>
            <a:ext cx="2894040" cy="40719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22" name="Прямоугольник 6"/>
          <p:cNvSpPr/>
          <p:nvPr/>
        </p:nvSpPr>
        <p:spPr>
          <a:xfrm>
            <a:off x="4786200" y="4179960"/>
            <a:ext cx="378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, подставка и подвешенный на легкой и прочной нити к подставке шарик, образуют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нитяной маят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2:40:14Z</dcterms:created>
  <dc:creator>Дом</dc:creator>
  <dc:description/>
  <dc:language>en-US</dc:language>
  <cp:lastModifiedBy>user</cp:lastModifiedBy>
  <dcterms:modified xsi:type="dcterms:W3CDTF">2018-01-11T11:34:22Z</dcterms:modified>
  <cp:revision>143</cp:revision>
  <dc:subject/>
  <dc:title>Презентация PowerPoint</dc:title>
</cp:coreProperties>
</file>