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2ADC-30D8-4552-8274-961FCE13D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C0A4-C9AE-4C31-853B-FEE835BC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D53C-AABC-4987-B820-CE6FAF3B3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AC13-003C-4BAA-8559-6FF3457E5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B7B3-7B47-4F9D-94A8-27E83E1D3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B379-30C3-4547-BDAD-7CDE4FFF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FBA02-A210-4422-9271-0D2A0DAF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DEE8-BEE1-4394-979B-2151BAB1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7CF83-AAB1-43F2-98CE-352E79A1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2E50-907E-4F3A-9BDF-1CF5A15E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CD812-9DD0-4514-966B-9520C632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326F-EE97-4930-9FCF-936B1DA8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3FEC0-5047-40E7-96BB-4AD73AB0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AE58-5C8C-4EB4-B760-D79BB88A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C882-7586-4AC0-923E-09C4F121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F988-FEB9-4B63-B0B4-38ECD029A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01053-C118-44AF-A0E3-F201B945A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8F08-5B9D-4457-9D1D-F9F4CBCF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2459-492C-4E4F-8B69-3AF9769F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7798-7E70-423C-87C9-CB242C0C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3151-5227-4555-9DE8-61A774DA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CDCC-1D6D-4DFF-B2A5-B71B4FB0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9FA2-7EAD-4C7D-97BA-28B87824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09FD-AB2B-40EF-9104-C63AEA2F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303D-0D6D-4F31-AFC4-7DD49F3A514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C404-D0AF-4A31-86FD-1CD0ED6A6A61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6966000" cy="35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d47d"/>
                </a:solidFill>
                <a:latin typeface="Arial"/>
              </a:rPr>
              <a:t>Создание условий для самостоятельной деятельности учащихся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32000" y="4437000"/>
            <a:ext cx="5891040" cy="17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доленко У.Д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МБОУ «Лицей «Серпухов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9240" y="1196640"/>
            <a:ext cx="694512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Плохой учитель 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сообщает истину,                                                              хороший учит её находить.                                                                               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Адольф Дистервег 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94920" y="5805000"/>
            <a:ext cx="61088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9280" y="227160"/>
            <a:ext cx="7516800" cy="22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ЗАДАЧИ САМОСТОЯТЕЛЬНОЙ РАБОТЫ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160" y="2997360"/>
            <a:ext cx="733284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1.ОБРАЗОВАТЕЛЬНЫЕ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ормирование системы  знаний, умений и навыков. 2.ВОСПИТАТЕЛЬНЫЕ: Формирование самостоятельности, навыков учебного труда. 3.РАЗВИВАЮЩИЕ:Формирование приемов умственной деятельности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03640" y="5805000"/>
            <a:ext cx="576360" cy="71640"/>
          </a:xfrm>
          <a:prstGeom prst="rect">
            <a:avLst/>
          </a:prstGeom>
          <a:noFill/>
          <a:ln w="0">
            <a:noFill/>
          </a:ln>
        </p:spPr>
        <p:txBody>
          <a:bodyPr tIns="25920" bIns="2592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227160"/>
            <a:ext cx="7516800" cy="22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СТРУКТУРА САМОСТОЯТЕЛЬНОЙ РАБОТЫ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160" y="2997360"/>
            <a:ext cx="733284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1.ПОДГОТОВИТЕЛЬНЫЙ ЭТАП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2.ИСПОЛНИТЕЛЬНЫЙ ЭТАП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3.ПРОВЕРОЧНЫЙ ЭТАП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219280" y="5949720"/>
            <a:ext cx="2089080" cy="74520"/>
          </a:xfrm>
          <a:prstGeom prst="rect">
            <a:avLst/>
          </a:prstGeom>
          <a:noFill/>
          <a:ln w="0">
            <a:noFill/>
          </a:ln>
        </p:spPr>
        <p:txBody>
          <a:bodyPr tIns="28800" bIns="28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227160"/>
            <a:ext cx="7516800" cy="22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ФОРМЫ ОРГАНИЗАЦИИ САМОСТОЯТЕЛЬНОЙ РАБОТЫ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160" y="1988640"/>
            <a:ext cx="73328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УДИТОРНЫЕ / ВНЕАУДИТОРНЫ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НДИВИДУАЛЬНЫ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 ПАРАХ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РУППОВЫ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ФРОНТАЛЬНЫ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219280" y="5949720"/>
            <a:ext cx="2089080" cy="74520"/>
          </a:xfrm>
          <a:prstGeom prst="rect">
            <a:avLst/>
          </a:prstGeom>
          <a:noFill/>
          <a:ln w="0">
            <a:noFill/>
          </a:ln>
        </p:spPr>
        <p:txBody>
          <a:bodyPr tIns="28800" bIns="28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Стрелка вниз 2"/>
          <p:cNvSpPr/>
          <p:nvPr/>
        </p:nvSpPr>
        <p:spPr>
          <a:xfrm>
            <a:off x="3419640" y="2565360"/>
            <a:ext cx="48564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5b781"/>
          </a:solidFill>
          <a:ln w="25560">
            <a:solidFill>
              <a:srgbClr val="9c86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3419640" y="5589720"/>
            <a:ext cx="560160" cy="4633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280" y="227160"/>
            <a:ext cx="7516800" cy="22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ФОРМЫ ОРГАНИЗАЦИИ САМОСТОЯТЕЛЬНОЙ РАБОТЫ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2852280"/>
            <a:ext cx="6972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УСТНЫ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ИСЬМЕННЫ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ХЕМАТИЧЕСКИ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РАКТИЧЕСКИ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219280" y="5949720"/>
            <a:ext cx="2089080" cy="74520"/>
          </a:xfrm>
          <a:prstGeom prst="rect">
            <a:avLst/>
          </a:prstGeom>
          <a:noFill/>
          <a:ln w="0">
            <a:noFill/>
          </a:ln>
        </p:spPr>
        <p:txBody>
          <a:bodyPr tIns="28800" bIns="28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79280" y="227160"/>
            <a:ext cx="7516800" cy="22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Ожидаемые результаты деятельности 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7640" y="1988640"/>
            <a:ext cx="75596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нижение страха перед неудаче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оявление уверенности в себ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Формирование привычки к свободному самовыражению и самостоятельному мышлению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Развитие творческого воображения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овышения  инициативности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219280" y="5949720"/>
            <a:ext cx="2089080" cy="74520"/>
          </a:xfrm>
          <a:prstGeom prst="rect">
            <a:avLst/>
          </a:prstGeom>
          <a:noFill/>
          <a:ln w="0">
            <a:noFill/>
          </a:ln>
        </p:spPr>
        <p:txBody>
          <a:bodyPr tIns="28800" bIns="28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9280" y="227160"/>
            <a:ext cx="7516800" cy="22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Ожидаемые результаты деятельности 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7640" y="1988640"/>
            <a:ext cx="75596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Развитие способности постоянного поиска знаний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смысление своей деятельности при выполнении учебных задач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оиск  творческого решения учебных задач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ысокий уровень развития личности ученик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219280" y="5949720"/>
            <a:ext cx="2089080" cy="74520"/>
          </a:xfrm>
          <a:prstGeom prst="rect">
            <a:avLst/>
          </a:prstGeom>
          <a:noFill/>
          <a:ln w="0">
            <a:noFill/>
          </a:ln>
        </p:spPr>
        <p:txBody>
          <a:bodyPr tIns="28800" bIns="28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6T15:16:52Z</dcterms:created>
  <dc:creator>User</dc:creator>
  <dc:description/>
  <dc:language>en-US</dc:language>
  <cp:lastModifiedBy>licey</cp:lastModifiedBy>
  <dcterms:modified xsi:type="dcterms:W3CDTF">2020-09-16T23:15:31Z</dcterms:modified>
  <cp:revision>30</cp:revision>
  <dc:subject/>
  <dc:title>Роль классного руководителя во время подготовки к итоговой аттестации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1.1.0.8865</vt:lpwstr>
  </property>
</Properties>
</file>