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11013-A867-43DB-B447-E861DBBB4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DC277-78A9-45DD-8B70-3A8B03B36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C94D4-9898-40E1-99AB-D64D481FD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CB469-220A-4515-BD95-79F29EB1A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4EF4E-81D3-43C0-9DE7-0CFB1B4A0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C2E49-E4D3-4FCD-B735-2F0CEB09D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9D9BD-423D-4EF5-87C9-70C791DF2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9902E-C1FF-4959-913D-A35FEF986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8FE18-A4E6-457A-A7DB-7F2591BA7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30A13-E73B-4EF8-955F-C89D75889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80B09-71EF-49EB-B283-E7490D497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C70C9-E14F-41F0-A2EE-CE6B9A36C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DE4B5-1C13-41A2-8D16-0A3DA21FA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F3B00-D235-4F88-BB67-3D6A3C758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60C5F-3747-4CD3-A331-8F3F5A2C4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7DBA3-6361-495F-9ECC-A488C9804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E14F4-F5D1-41FC-BCD4-9E0877384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54CBC-1F42-43D2-9F63-CA9DF6D75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B9057-05F9-4C28-A664-21AFE9DB3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E22AF-AE13-42C7-949A-09DFF9BA1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8CF94-E241-45E8-9A97-1A01D01AA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32ED2-814D-487E-AC54-07BD408CC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A1E18-3D15-4DB8-861F-EC24F17DB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3C987-5B4C-495F-BBB5-892014E02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720" bIns="-97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040" bIns="140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440" bIns="-19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" bIns="-46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A4684-1C7F-4BA3-B65A-12F65A220C13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720" bIns="-97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040" bIns="140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440" bIns="-19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" bIns="-46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C7A2E-3AE3-4B9A-ACCA-6D89E3F4F36F}" type="slidenum">
              <a:rPr b="0" lang="ru-RU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79280" y="333360"/>
            <a:ext cx="6966000" cy="35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7d47d"/>
                </a:solidFill>
                <a:latin typeface="Arial"/>
              </a:rPr>
              <a:t>Создание условий для самостоятельной деятельности учащихся</a:t>
            </a: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332000" y="4437000"/>
            <a:ext cx="5891040" cy="170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Идоленко У.Д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МБОУ «Лицей «Серпухов»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pull dir="l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19240" y="1196640"/>
            <a:ext cx="6945120" cy="403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Плохой учитель </a:t>
            </a:r>
            <a:br>
              <a:rPr sz="3600"/>
            </a:b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сообщает истину,                                                              хороший учит её находить.                                                                               </a:t>
            </a:r>
            <a:br>
              <a:rPr sz="3600"/>
            </a:br>
            <a:br>
              <a:rPr sz="3600"/>
            </a:b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Адольф Дистервег </a:t>
            </a:r>
            <a:br>
              <a:rPr sz="3600"/>
            </a:b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94920" y="5805000"/>
            <a:ext cx="610884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1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pull dir="lu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79280" y="227160"/>
            <a:ext cx="7516800" cy="22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ЗАДАЧИ САМОСТОЯТЕЛЬНОЙ РАБОТЫ: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63160" y="2997360"/>
            <a:ext cx="7332840" cy="33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1.ОБРАЗОВАТЕЛЬНЫЕ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: </a:t>
            </a: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Формирование системы  знаний, умений и навыков. 2.ВОСПИТАТЕЛЬНЫЕ: Формирование самостоятельности, навыков учебного труда. 3.РАЗВИВАЮЩИЕ:Формирование приемов умственной деятельности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6803640" y="5805000"/>
            <a:ext cx="576360" cy="71640"/>
          </a:xfrm>
          <a:prstGeom prst="rect">
            <a:avLst/>
          </a:prstGeom>
          <a:noFill/>
          <a:ln w="0">
            <a:noFill/>
          </a:ln>
        </p:spPr>
        <p:txBody>
          <a:bodyPr tIns="25920" bIns="25920"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pull dir="lu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280" y="227160"/>
            <a:ext cx="7516800" cy="22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СТРУКТУРА САМОСТОЯТЕЛЬНОЙ РАБОТЫ: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63160" y="2997360"/>
            <a:ext cx="7332840" cy="33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1.ПОДГОТОВИТЕЛЬНЫЙ ЭТАП.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2.ИСПОЛНИТЕЛЬНЫЙ ЭТАП.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3.ПРОВЕРОЧНЫЙ ЭТАП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5219280" y="5949720"/>
            <a:ext cx="2089080" cy="74520"/>
          </a:xfrm>
          <a:prstGeom prst="rect">
            <a:avLst/>
          </a:prstGeom>
          <a:noFill/>
          <a:ln w="0">
            <a:noFill/>
          </a:ln>
        </p:spPr>
        <p:txBody>
          <a:bodyPr tIns="28800" bIns="28800"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pull dir="lu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280" y="227160"/>
            <a:ext cx="7516800" cy="22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ФОРМЫ ОРГАНИЗАЦИИ САМОСТОЯТЕЛЬНОЙ РАБОТЫ: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263160" y="1988640"/>
            <a:ext cx="733284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АУДИТОРНЫЕ / ВНЕАУДИТОРНЫЕ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ИНДИВИДУАЛЬНЫЕ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В ПАРАХ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ГРУППОВЫЕ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ФРОНТАЛЬНЫЕ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5219280" y="5949720"/>
            <a:ext cx="2089080" cy="74520"/>
          </a:xfrm>
          <a:prstGeom prst="rect">
            <a:avLst/>
          </a:prstGeom>
          <a:noFill/>
          <a:ln w="0">
            <a:noFill/>
          </a:ln>
        </p:spPr>
        <p:txBody>
          <a:bodyPr tIns="28800" bIns="28800"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5" name="Стрелка вниз 2"/>
          <p:cNvSpPr/>
          <p:nvPr/>
        </p:nvSpPr>
        <p:spPr>
          <a:xfrm>
            <a:off x="3419640" y="2565360"/>
            <a:ext cx="485640" cy="4320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d5b781"/>
          </a:solidFill>
          <a:ln w="25560">
            <a:solidFill>
              <a:srgbClr val="9c865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6" name="Picture 2" descr=""/>
          <p:cNvPicPr/>
          <p:nvPr/>
        </p:nvPicPr>
        <p:blipFill>
          <a:blip r:embed="rId1"/>
          <a:stretch/>
        </p:blipFill>
        <p:spPr>
          <a:xfrm>
            <a:off x="3419640" y="5589720"/>
            <a:ext cx="560160" cy="46332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280" y="227160"/>
            <a:ext cx="7516800" cy="22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ФОРМЫ ОРГАНИЗАЦИИ САМОСТОЯТЕЛЬНОЙ РАБОТЫ: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263520" y="2852280"/>
            <a:ext cx="6972480" cy="30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УСТНЫЕ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ПИСЬМЕННЫЕ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СХЕМАТИЧЕСКИЕ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ПРАКТИЧЕСКИЕ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5219280" y="5949720"/>
            <a:ext cx="2089080" cy="74520"/>
          </a:xfrm>
          <a:prstGeom prst="rect">
            <a:avLst/>
          </a:prstGeom>
          <a:noFill/>
          <a:ln w="0">
            <a:noFill/>
          </a:ln>
        </p:spPr>
        <p:txBody>
          <a:bodyPr tIns="28800" bIns="28800"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pull dir="lu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79280" y="227160"/>
            <a:ext cx="7516800" cy="22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Ожидаемые результаты деятельности :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07640" y="1988640"/>
            <a:ext cx="755964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Снижение страха перед неудачей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Появление уверенности в себе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Формирование привычки к свободному самовыражению и самостоятельному мышлению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Развитие творческого воображения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Повышения  инициативности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5219280" y="5949720"/>
            <a:ext cx="2089080" cy="74520"/>
          </a:xfrm>
          <a:prstGeom prst="rect">
            <a:avLst/>
          </a:prstGeom>
          <a:noFill/>
          <a:ln w="0">
            <a:noFill/>
          </a:ln>
        </p:spPr>
        <p:txBody>
          <a:bodyPr tIns="28800" bIns="28800"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pull dir="lu"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9280" y="227160"/>
            <a:ext cx="7516800" cy="22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Ожидаемые результаты деятельности :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07640" y="1988640"/>
            <a:ext cx="755964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Развитие способности постоянного поиска знаний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Осмысление своей деятельности при выполнении учебных задач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Поиск  творческого решения учебных задач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Высокий уровень развития личности ученика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5219280" y="5949720"/>
            <a:ext cx="2089080" cy="74520"/>
          </a:xfrm>
          <a:prstGeom prst="rect">
            <a:avLst/>
          </a:prstGeom>
          <a:noFill/>
          <a:ln w="0">
            <a:noFill/>
          </a:ln>
        </p:spPr>
        <p:txBody>
          <a:bodyPr tIns="28800" bIns="28800"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pull dir="lu"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6T15:16:52Z</dcterms:created>
  <dc:creator>User</dc:creator>
  <dc:description/>
  <dc:language>en-US</dc:language>
  <cp:lastModifiedBy>licey</cp:lastModifiedBy>
  <dcterms:modified xsi:type="dcterms:W3CDTF">2020-09-16T23:15:31Z</dcterms:modified>
  <cp:revision>30</cp:revision>
  <dc:subject/>
  <dc:title>Роль классного руководителя во время подготовки к итоговой аттестации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49-11.1.0.8865</vt:lpwstr>
  </property>
</Properties>
</file>