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0.gif" ContentType="image/gif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F06-5F6A-48DC-96F4-C27FB9B53F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3BC-C494-42B7-9AF7-AACA8BAFF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6FC-6D2A-4619-BBF8-AC267B0FF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23E-940B-420C-B38F-3155A3798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E7E-F4A2-4C2A-A0C9-DBC0028E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F79-897E-4CAC-A123-52E990DA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606-6F6F-4A78-9E70-DE0CB714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EFA-4905-4143-B64A-FFC54E22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966-AE95-4EFA-80DF-90262F9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A86-9C2E-4729-89FD-B03AE017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8F0-AE09-4344-86C9-69C83097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7A2-82CB-4EB1-863A-BA0004FC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C4F-C721-4871-AB85-D66D106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EF2-EC09-4B27-89D1-5B97C867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21C-CE16-42E0-B8C9-066235C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093-B49E-4ED1-948E-FBDAFB6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D96-130F-44E6-A1D4-E12BA7C193AE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71720" y="4005360"/>
            <a:ext cx="7821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2020 год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42960" y="5000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2054160"/>
            <a:ext cx="899172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Звукопроизношение  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3 – 4 годам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к 6 – 7 годам он должен уметь различать звуки на слух и в произношении. Приходя в школу, ребёнок должен отчётливо произносить звуки в различных словах, во фразовой речи. Он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5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7072200" y="4786200"/>
            <a:ext cx="2071800" cy="194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элементарными навыками звукового анали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начальный и конечный звук из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Звуковой анализ слогов,сл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слогов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на заданный звук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8" name="Picture 4" descr="дети"/>
          <p:cNvPicPr/>
          <p:nvPr/>
        </p:nvPicPr>
        <p:blipFill>
          <a:blip r:embed="rId6"/>
          <a:stretch/>
        </p:blipFill>
        <p:spPr>
          <a:xfrm>
            <a:off x="3132000" y="4764240"/>
            <a:ext cx="2376720" cy="190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628560" y="450720"/>
            <a:ext cx="78631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3226"/>
                </a:solidFill>
                <a:latin typeface="Arial Black"/>
              </a:rPr>
              <a:t>«Какой звук есть во всех словах? »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Шуба, кошка, мышь, шампунь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401"/>
                </a:solidFill>
                <a:latin typeface="Arial Black"/>
              </a:rPr>
              <a:t>- Подбери слово, которое начинается на последний звук слова «стол» (лак, л)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Вспомни название птицы, в котором есть последний звук слова «сыр» (грач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Подбери слово, чтобы первый звук был бы [к], а последний [а] (кошка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Назови предмет в комнате с заданным звуком (Что заканчивается на "А";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что начитается на "С", в середине слова звук "Т" и т. д.) .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«Цепочка слов»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 rot="21187200">
            <a:off x="11556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1844640"/>
            <a:ext cx="453708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3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антонимы (грустный -весёлый, молодой – старый), синонимы (например, лошадь, конь, жеребец, скакун), слова – действия, слова –</a:t>
            </a:r>
            <a:r>
              <a:rPr b="0" lang="ru-RU" sz="20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признаки.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788000" y="615240"/>
            <a:ext cx="403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Ребенок должен уметь пользоваться разными способами словообразования, правильно употреблять слова с уменьшительно-ласкательным значением, образовывать слова в нужной форме, выделять звуковые и смысловые различия между словами; образовывать прилагательные от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лист"/>
          <p:cNvPicPr/>
          <p:nvPr/>
        </p:nvPicPr>
        <p:blipFill>
          <a:blip r:embed="rId1"/>
          <a:stretch/>
        </p:blipFill>
        <p:spPr>
          <a:xfrm>
            <a:off x="3929040" y="10000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рамматическ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и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стро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речи</a:t>
            </a:r>
            <a:br>
              <a:rPr sz="3600"/>
            </a:br>
            <a:r>
              <a:rPr b="1" lang="ru-RU" sz="2500" spc="-1" strike="noStrike">
                <a:solidFill>
                  <a:srgbClr val="00339a"/>
                </a:solidFill>
                <a:latin typeface="Arial"/>
              </a:rPr>
              <a:t>В норме к 6 – 7 годам у ребенка сформированы: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пользоваться развернутой фразовой речью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ботать с предложением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спространять предложения второстепенными и однородными членами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ботать с деформированным предложением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амостоятельно находить ошибки и устранять их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оставлять предложения по опорным словам и картинка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вязная речь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К 7 годам ребёнок должен уметь составлять рассказы и пересказывать небольшие по объёму незнакомые рассказы и сказки. </a:t>
            </a: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При пересказе обращается внимание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онимание ребёнком текста (он должен правильно формулировать основную мысль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структурирование текста (он должен уметь последовательно и точно строить пересказ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грамматику (он должен правильно строить предложения, уметь использовать сложные предложения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лавность речи (отсутствие подсказок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о ходу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ересказа).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1" name="Рисунок 22" descr="anmated_doll_100048.gif"/>
          <p:cNvPicPr/>
          <p:nvPr/>
        </p:nvPicPr>
        <p:blipFill>
          <a:blip r:embed="rId5"/>
          <a:stretch/>
        </p:blipFill>
        <p:spPr>
          <a:xfrm>
            <a:off x="7020000" y="3213000"/>
            <a:ext cx="2124000" cy="204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14240" y="571680"/>
            <a:ext cx="7929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90000"/>
                </a:solidFill>
                <a:uFillTx/>
                <a:latin typeface="Arial Black"/>
              </a:rPr>
              <a:t>Как Вы можете помочь своему ребён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 ним, задавайте вопросы, побуждая его отвечать предлож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 художественные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йте прочитанную книгу, просмотренный мультфиль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йте знакомые произведения и мультфильмы, предлагайте ребёнку рассказать их сам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внимание на собственную речь. Речь ребенка во многом зависит оттого, как говорят окружающие его взросл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Речевая коммуникац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бёнок должен быть достаточно активен в общени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ть слушать и понимать речь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троить общение с учетом ситуации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легко входить в контакт с детьми и взрослым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ясно и последовательно выражать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ои мысл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ользоваться формами речевого этикет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7" name="Рисунок 6" descr="trumb_1210742.jpg"/>
          <p:cNvPicPr/>
          <p:nvPr/>
        </p:nvPicPr>
        <p:blipFill>
          <a:blip r:embed="rId7"/>
          <a:stretch/>
        </p:blipFill>
        <p:spPr>
          <a:xfrm>
            <a:off x="6372360" y="1773360"/>
            <a:ext cx="2771640" cy="2435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a"/>
                </a:solidFill>
                <a:latin typeface="Franklin Gothic Medium"/>
              </a:rPr>
              <a:t>Чем заниматься с ребенком, чтобы он оказался готовым к школе?</a:t>
            </a:r>
            <a:endParaRPr b="1" lang="en-US" sz="32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первую очередь надо позаботиться о его здоровье.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Плавание, прогулки, велосипед - это занятия, способствующие будущему успешному вступлению в школьную жизнь. Развивать навыки самообслуживания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0" name="Picture 4" descr="73452985"/>
          <p:cNvPicPr/>
          <p:nvPr/>
        </p:nvPicPr>
        <p:blipFill>
          <a:blip r:embed="rId2"/>
          <a:stretch/>
        </p:blipFill>
        <p:spPr>
          <a:xfrm>
            <a:off x="2556000" y="1484280"/>
            <a:ext cx="30956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Важно, чтобы ребенок развивал в себе волевые качества.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 Для этого его нужно приучать любое начатое им дело доделывать до конца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2"/>
          <a:stretch/>
        </p:blipFill>
        <p:spPr>
          <a:xfrm>
            <a:off x="2916360" y="2924280"/>
            <a:ext cx="28209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57200" y="1161000"/>
            <a:ext cx="7072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Выделяются разные виды готовности к школ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e360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3603"/>
                </a:solidFill>
                <a:latin typeface="Arial Black"/>
                <a:ea typeface="Times New Roman"/>
              </a:rPr>
              <a:t>Психологическ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12524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2524"/>
                </a:solidFill>
                <a:latin typeface="Arial Black"/>
                <a:ea typeface="Times New Roman"/>
              </a:rPr>
              <a:t>Физическая готовность: состояние здоровья, физическое развитие, развитие мелких групп мышц, развитие основных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25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253b"/>
                </a:solidFill>
                <a:latin typeface="Arial Black"/>
                <a:ea typeface="Times New Roman"/>
              </a:rPr>
              <a:t>Специальная готовность: умение читать, считать,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6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хорошо говорил, с ним надо разговаривать: так задаются образцы устной реч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научился быть внимательным, ему надо читать и рассказывать сказки: так задаются образцы восприятия слова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книга воспринималас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как необходимый элемент жизн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на должна жить в доме и быт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остребованной взрослы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Так задаются образцы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пределенного жизненного стиля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Содержимое 4" descr="1220501215_umen.gif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6607080" y="3929040"/>
            <a:ext cx="253692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499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Полезны занятия, которые заставляют работать фантазию, воображение, самостоятельную смекалку: </a:t>
            </a: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рисование, лепка, конструирование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6" name="Picture 4" descr="Картинка 1 сентября на сайт"/>
          <p:cNvPicPr/>
          <p:nvPr/>
        </p:nvPicPr>
        <p:blipFill>
          <a:blip r:embed="rId2"/>
          <a:stretch/>
        </p:blipFill>
        <p:spPr>
          <a:xfrm>
            <a:off x="2857680" y="3424320"/>
            <a:ext cx="401940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889760" cy="1214640"/>
          </a:xfrm>
          <a:prstGeom prst="rect">
            <a:avLst/>
          </a:prstGeom>
          <a:gradFill rotWithShape="0">
            <a:gsLst>
              <a:gs pos="0">
                <a:srgbClr val="dfd9e5"/>
              </a:gs>
              <a:gs pos="100000">
                <a:srgbClr val="8e71a3"/>
              </a:gs>
            </a:gsLst>
            <a:lin ang="5400000"/>
          </a:gradFill>
          <a:ln w="10080">
            <a:solidFill>
              <a:srgbClr val="654a7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Franklin Gothic Medium"/>
              </a:rPr>
              <a:t>Спасибо за внимание !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08" name="Рисунок 3" descr="flover_0057.gif"/>
          <p:cNvPicPr/>
          <p:nvPr/>
        </p:nvPicPr>
        <p:blipFill>
          <a:blip r:embed="rId1"/>
          <a:stretch/>
        </p:blipFill>
        <p:spPr>
          <a:xfrm>
            <a:off x="1116000" y="2997360"/>
            <a:ext cx="7056360" cy="253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товность к школе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2060640"/>
            <a:ext cx="36007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гда говорят о      "готовности к школ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то имеют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не отдельные умения и знания, а их определенный набор, в котором присутствуют все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мпоненты.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ист"/>
          <p:cNvPicPr/>
          <p:nvPr/>
        </p:nvPicPr>
        <p:blipFill>
          <a:blip r:embed="rId2"/>
          <a:stretch/>
        </p:blipFill>
        <p:spPr>
          <a:xfrm>
            <a:off x="2700360" y="5157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5148360" y="29743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a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784934.gif"/>
          <p:cNvPicPr/>
          <p:nvPr/>
        </p:nvPicPr>
        <p:blipFill>
          <a:blip r:embed="rId3"/>
          <a:stretch/>
        </p:blipFill>
        <p:spPr>
          <a:xfrm>
            <a:off x="4932360" y="549360"/>
            <a:ext cx="384660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535752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к школе уже сегодн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Не значит уметь писать, читать, считать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к школе — значит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всему этому научитьс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Наша речь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процесс общения</a:t>
            </a:r>
            <a:r>
              <a:rPr b="1" lang="ru-RU" sz="4000" spc="-1" strike="noStrike">
                <a:solidFill>
                  <a:srgbClr val="cf2c1f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поэтому готовность или неготовност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до поступления в школу, тем быстрее ученик овладеет чтением и письмом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ладение элементарными навыками. звукового анализ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ловарный запас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мматический стро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й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речи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язную речь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чевую коммуникацию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Мелкую моторику рук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4" name="Picture 4" descr="сова"/>
          <p:cNvPicPr/>
          <p:nvPr/>
        </p:nvPicPr>
        <p:blipFill>
          <a:blip r:embed="rId9"/>
          <a:stretch/>
        </p:blipFill>
        <p:spPr>
          <a:xfrm>
            <a:off x="4932360" y="4365720"/>
            <a:ext cx="2736720" cy="229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285840" y="50004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Работа логопеда в подготовительной группе состоит в следующем: в диагностике и сопровождении детей, консультировании родителей. В сентябре проходит логопедическое обследование детей. В январе – промежуточное обследование детей, в мае – итого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Занятия с логопедом проводятся ежедневно –фронтальные и  2 – 3 раза в неделю – индивиду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Успех коррекционной работы во многом зависит от родителей. </a:t>
            </a:r>
            <a:r>
              <a:rPr b="1" lang="ru-RU" sz="2400" spc="-1" strike="noStrike">
                <a:solidFill>
                  <a:srgbClr val="790000"/>
                </a:solidFill>
                <a:latin typeface="Arial"/>
              </a:rPr>
              <a:t>Задача логопеда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подготовить артикуляционный аппарат к постановке звука, поставить звук. </a:t>
            </a:r>
            <a:r>
              <a:rPr b="1" lang="ru-RU" sz="2400" spc="-1" strike="noStrike">
                <a:solidFill>
                  <a:srgbClr val="790000"/>
                </a:solidFill>
                <a:latin typeface="Arial"/>
              </a:rPr>
              <a:t>Задача родителей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закрепить звук в речи. Занятия с ребенком рекомендуется проводить систематически, подкрепляя ежедневными 2 – 3 – разовыми кратковремен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4000320"/>
            <a:ext cx="77724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20000"/>
                </a:solidFill>
                <a:uFillTx/>
                <a:latin typeface="Arial Black"/>
              </a:rPr>
              <a:t>Как в домашних условиях развивать мелкую моторику? </a:t>
            </a:r>
            <a:r>
              <a:rPr b="0" lang="ru-RU" sz="3200" spc="-1" strike="noStrike">
                <a:solidFill>
                  <a:srgbClr val="f20000"/>
                </a:solidFill>
                <a:latin typeface="Arial Black"/>
              </a:rPr>
              <a:t>Предложите ребёнку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Игры с мелкими предметами (пазлы, мозаика, бусы, конструктор, шнуровки) 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Рисование, раскрашивание, штриховки, пластилин, ножницы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елкая моторика ру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929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Часто  обучение  письму  вызывает  у  детей  наибольшие  трудности,  проблемы.    Для  того    чтобы  избежать проблемы,  нужно  решить    вопрос  с  готовностью  к  письму  непосредственно  руки.</a:t>
            </a: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Попробуйте обводить в тетради клеточки, рисовать в них кружочки, составлять орнаменты из палочек, лепить из глины, пластилина, выполнение движений с мелкими предметами (мозаика, конструктор, нанизывание бусинок, завязывание веревочек, вырезание ножницами)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чите ребенка правильно сидеть за столом, держать ручку, сосредотачивать внимание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2" name="Picture 10" descr="baby44"/>
          <p:cNvPicPr/>
          <p:nvPr/>
        </p:nvPicPr>
        <p:blipFill>
          <a:blip r:embed="rId4"/>
          <a:stretch/>
        </p:blipFill>
        <p:spPr>
          <a:xfrm>
            <a:off x="7586640" y="214200"/>
            <a:ext cx="1557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20-09-17T13:42:09Z</dcterms:modified>
  <cp:revision>22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