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1.jpeg" ContentType="image/jpeg"/>
  <Override PartName="/ppt/media/image9.jpeg" ContentType="image/jpeg"/>
  <Override PartName="/ppt/media/image10.gif" ContentType="image/gif"/>
  <Override PartName="/ppt/media/image7.png" ContentType="image/png"/>
  <Override PartName="/ppt/media/image1.jpeg" ContentType="image/jpeg"/>
  <Override PartName="/ppt/media/image6.png" ContentType="image/png"/>
  <Override PartName="/ppt/media/image13.jpeg" ContentType="image/jpeg"/>
  <Override PartName="/ppt/media/image21.jpeg" ContentType="image/jpeg"/>
  <Override PartName="/ppt/media/image19.jpeg" ContentType="image/jpeg"/>
  <Override PartName="/ppt/media/image20.png" ContentType="image/png"/>
  <Override PartName="/ppt/media/image18.png" ContentType="image/png"/>
  <Override PartName="/ppt/media/image16.gif" ContentType="image/gif"/>
  <Override PartName="/ppt/media/image14.jpeg" ContentType="image/jpeg"/>
  <Override PartName="/ppt/media/image2.png" ContentType="image/png"/>
  <Override PartName="/ppt/media/image22.gif" ContentType="image/gif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move the slide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E0A1-3874-4828-8D3F-F8004F9D5B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D646-BB2E-4DF6-9D77-D2BD94FA3B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ED0E-D7B9-475F-B5EE-6AB541E202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1EE6-386E-4297-8F12-57F8727CAE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599F-D6E8-44F1-B653-160FBDF7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20F8-7C65-43E0-9EEF-AA6FE281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CA49-39DF-42A8-A42C-96555AEB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6C14-1C82-43DF-9B8F-B1A43A30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038F-66B1-4434-87C2-22796ED4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734-A523-4919-89E9-E6C9BA47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BBB-A035-4FD2-9516-97395918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268B-8513-4C5A-BC4E-EC05EF70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8FA-4E39-4D77-97C3-CB9E3275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8D67-A786-4541-9949-31569480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004D-6001-4139-9677-CEFAEC44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C038-044B-4571-8319-7D9A838E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8B5E-1DD4-4CFC-8BD0-76A27EDBB26A}" type="slidenum">
              <a:rPr b="0" lang="ru-RU" sz="1200" spc="-1" strike="noStrike">
                <a:solidFill>
                  <a:srgbClr val="00206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71720" y="4005360"/>
            <a:ext cx="782136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83226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a"/>
                </a:solidFill>
                <a:latin typeface="Arial"/>
              </a:rPr>
              <a:t>2020 год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642960" y="5000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4" descr=""/>
          <p:cNvPicPr/>
          <p:nvPr/>
        </p:nvPicPr>
        <p:blipFill>
          <a:blip r:embed="rId1"/>
          <a:stretch/>
        </p:blipFill>
        <p:spPr>
          <a:xfrm>
            <a:off x="-60480" y="2054160"/>
            <a:ext cx="8991720" cy="2236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  </a:t>
            </a: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Звукопроизношение  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В норме вся звуковая сторона речи должна быть усвоена ребёнком полностью к 3 – 4 годам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к 6 – 7 годам он должен уметь различать звуки на слух и в произношении. Приходя в школу, ребёнок должен отчётливо произносить звуки в различных словах, во фразовой речи. Он не должен их пропускать, искажать, заменять другими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75" name="Содержимое 4" descr="8c2e29e827a6t.jpg"/>
          <p:cNvPicPr/>
          <p:nvPr/>
        </p:nvPicPr>
        <p:blipFill>
          <a:blip r:embed="rId1"/>
          <a:stretch/>
        </p:blipFill>
        <p:spPr>
          <a:xfrm>
            <a:off x="7072200" y="4786200"/>
            <a:ext cx="2071800" cy="1949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a"/>
                </a:solidFill>
                <a:latin typeface="Franklin Gothic Medium"/>
              </a:rPr>
              <a:t>Владение элементарными навыками звукового анализа:</a:t>
            </a:r>
            <a:endParaRPr b="1" lang="en-US" sz="36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умение выделять начальный и конечный звук из слова;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Звуковой анализ слогов,слов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определять количество и последовательность звуков в слове, слогов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называть слова на заданный звук.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Дети должны знать и правильно употреблять термины «звук», «слог», «слово», «предложение».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78" name="Picture 4" descr="дети"/>
          <p:cNvPicPr/>
          <p:nvPr/>
        </p:nvPicPr>
        <p:blipFill>
          <a:blip r:embed="rId6"/>
          <a:stretch/>
        </p:blipFill>
        <p:spPr>
          <a:xfrm>
            <a:off x="3132000" y="4764240"/>
            <a:ext cx="2376720" cy="1901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628560" y="450720"/>
            <a:ext cx="7863120" cy="30481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14240" y="207180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83226"/>
                </a:solidFill>
                <a:latin typeface="Arial Black"/>
              </a:rPr>
              <a:t>«Какой звук есть во всех словах? »</a:t>
            </a:r>
            <a:endParaRPr b="0" lang="en-US" sz="20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0000"/>
                </a:solidFill>
                <a:latin typeface="Arial Black"/>
              </a:rPr>
              <a:t>         </a:t>
            </a:r>
            <a:r>
              <a:rPr b="0" lang="ru-RU" sz="2000" spc="-1" strike="noStrike">
                <a:solidFill>
                  <a:srgbClr val="f20000"/>
                </a:solidFill>
                <a:latin typeface="Arial Black"/>
              </a:rPr>
              <a:t>Шуба, кошка, мышь, шампунь</a:t>
            </a:r>
            <a:endParaRPr b="0" lang="en-US" sz="20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11401"/>
                </a:solidFill>
                <a:latin typeface="Arial Black"/>
              </a:rPr>
              <a:t>- Подбери слово, которое начинается на последний звук слова «стол» (лак, л). </a:t>
            </a:r>
            <a:endParaRPr b="0" lang="en-US" sz="20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3226"/>
                </a:solidFill>
                <a:latin typeface="Arial Black"/>
              </a:rPr>
              <a:t>- Вспомни название птицы, в котором есть последний звук слова «сыр» (грач). </a:t>
            </a:r>
            <a:endParaRPr b="0" lang="en-US" sz="18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3226"/>
                </a:solidFill>
                <a:latin typeface="Arial Black"/>
              </a:rPr>
              <a:t>- Подбери слово, чтобы первый звук был бы [к], а последний [а] (кошка). </a:t>
            </a:r>
            <a:endParaRPr b="0" lang="en-US" sz="18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3226"/>
                </a:solidFill>
                <a:latin typeface="Arial Black"/>
              </a:rPr>
              <a:t>- Назови предмет в комнате с заданным звуком (Что заканчивается на "А"; </a:t>
            </a:r>
            <a:endParaRPr b="0" lang="en-US" sz="18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3226"/>
                </a:solidFill>
                <a:latin typeface="Arial Black"/>
              </a:rPr>
              <a:t>что начитается на "С", в середине слова звук "Т" и т. д.) .</a:t>
            </a:r>
            <a:endParaRPr b="0" lang="en-US" sz="18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3226"/>
                </a:solidFill>
                <a:latin typeface="Arial Black"/>
              </a:rPr>
              <a:t>- «Цепочка слов» </a:t>
            </a:r>
            <a:endParaRPr b="0" lang="en-US" sz="18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 rot="21187200">
            <a:off x="115560" y="596520"/>
            <a:ext cx="415908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a"/>
                </a:solidFill>
                <a:latin typeface="Franklin Gothic Medium"/>
              </a:rPr>
              <a:t>Словарный запас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395280" y="1989000"/>
            <a:ext cx="30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95280" y="1844640"/>
            <a:ext cx="4537080" cy="44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К 7 годам у ребёнка должен быть достаточно большой словарный запас </a:t>
            </a:r>
            <a:r>
              <a:rPr b="0" lang="ru-RU" sz="1400" spc="-1" strike="noStrike">
                <a:solidFill>
                  <a:srgbClr val="01316b"/>
                </a:solidFill>
                <a:latin typeface="Arial"/>
              </a:rPr>
              <a:t>(около  3000  слов)</a:t>
            </a:r>
            <a:r>
              <a:rPr b="0" lang="ru-RU" sz="1800" spc="-1" strike="noStrike">
                <a:solidFill>
                  <a:srgbClr val="01316b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В своей речи он должен активно использовать антонимы (грустный -весёлый, молодой – старый), синонимы (например, лошадь, конь, жеребец, скакун), слова – действия, слова –</a:t>
            </a:r>
            <a:r>
              <a:rPr b="0" lang="ru-RU" sz="2000" spc="-1" strike="noStrike">
                <a:solidFill>
                  <a:srgbClr val="01316b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признаки.</a:t>
            </a:r>
            <a:r>
              <a:rPr b="0" lang="ru-RU" sz="2000" spc="-1" strike="noStrike">
                <a:solidFill>
                  <a:srgbClr val="48322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5148360" y="3365640"/>
            <a:ext cx="3527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4788000" y="615240"/>
            <a:ext cx="403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Ребенок должен уметь пользоваться разными способами словообразования, правильно употреблять слова с уменьшительно-ласкательным значением, образовывать слова в нужной форме, выделять звуковые и смысловые различия между словами; образовывать прилагательные от существитель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лист"/>
          <p:cNvPicPr/>
          <p:nvPr/>
        </p:nvPicPr>
        <p:blipFill>
          <a:blip r:embed="rId1"/>
          <a:stretch/>
        </p:blipFill>
        <p:spPr>
          <a:xfrm>
            <a:off x="3929040" y="1000080"/>
            <a:ext cx="938160" cy="938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a"/>
                </a:solidFill>
                <a:latin typeface="Franklin Gothic Medium"/>
              </a:rPr>
              <a:t> </a:t>
            </a:r>
            <a:r>
              <a:rPr b="1" lang="ru-RU" sz="3600" spc="-1" strike="noStrike">
                <a:solidFill>
                  <a:srgbClr val="00339a"/>
                </a:solidFill>
                <a:latin typeface="Arial"/>
              </a:rPr>
              <a:t>Г</a:t>
            </a:r>
            <a:r>
              <a:rPr b="1" lang="ru-RU" sz="3600" spc="-1" strike="noStrike">
                <a:solidFill>
                  <a:srgbClr val="00339a"/>
                </a:solidFill>
                <a:latin typeface="Franklin Gothic Medium"/>
              </a:rPr>
              <a:t>рамматическ</a:t>
            </a:r>
            <a:r>
              <a:rPr b="1" lang="ru-RU" sz="3600" spc="-1" strike="noStrike">
                <a:solidFill>
                  <a:srgbClr val="00339a"/>
                </a:solidFill>
                <a:latin typeface="Arial"/>
              </a:rPr>
              <a:t>ий</a:t>
            </a:r>
            <a:r>
              <a:rPr b="1" lang="ru-RU" sz="3600" spc="-1" strike="noStrike">
                <a:solidFill>
                  <a:srgbClr val="00339a"/>
                </a:solidFill>
                <a:latin typeface="Franklin Gothic Medium"/>
              </a:rPr>
              <a:t> стро</a:t>
            </a:r>
            <a:r>
              <a:rPr b="1" lang="ru-RU" sz="3600" spc="-1" strike="noStrike">
                <a:solidFill>
                  <a:srgbClr val="00339a"/>
                </a:solidFill>
                <a:latin typeface="Arial"/>
              </a:rPr>
              <a:t>й</a:t>
            </a:r>
            <a:r>
              <a:rPr b="1" lang="ru-RU" sz="3600" spc="-1" strike="noStrike">
                <a:solidFill>
                  <a:srgbClr val="00339a"/>
                </a:solidFill>
                <a:latin typeface="Franklin Gothic Medium"/>
              </a:rPr>
              <a:t> речи</a:t>
            </a:r>
            <a:br>
              <a:rPr sz="3600"/>
            </a:br>
            <a:r>
              <a:rPr b="1" lang="ru-RU" sz="2500" spc="-1" strike="noStrike">
                <a:solidFill>
                  <a:srgbClr val="00339a"/>
                </a:solidFill>
                <a:latin typeface="Arial"/>
              </a:rPr>
              <a:t>В норме к 6 – 7 годам у ребенка сформированы:</a:t>
            </a:r>
            <a:r>
              <a:rPr b="1" lang="ru-RU" sz="3600" spc="-1" strike="noStrike">
                <a:solidFill>
                  <a:srgbClr val="00339a"/>
                </a:solidFill>
                <a:latin typeface="Franklin Gothic Medium"/>
              </a:rPr>
              <a:t> </a:t>
            </a:r>
            <a:endParaRPr b="1" lang="en-US" sz="36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умение пользоваться развернутой фразовой речью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умение работать с предложением</a:t>
            </a:r>
            <a:r>
              <a:rPr b="0" lang="ru-RU" sz="2800" spc="-1" strike="noStrike">
                <a:solidFill>
                  <a:srgbClr val="483226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распространять предложения второстепенными и однородными членами</a:t>
            </a:r>
            <a:r>
              <a:rPr b="0" lang="ru-RU" sz="2800" spc="-1" strike="noStrike">
                <a:solidFill>
                  <a:srgbClr val="483226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работать с деформированным предложением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самостоятельно находить ошибки и устранять их</a:t>
            </a:r>
            <a:r>
              <a:rPr b="0" lang="ru-RU" sz="2800" spc="-1" strike="noStrike">
                <a:solidFill>
                  <a:srgbClr val="48322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составлять предложения по опорным словам и картинкам.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Связная речь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    </a:t>
            </a: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К 7 годам ребёнок должен уметь составлять рассказы и пересказывать небольшие по объёму незнакомые рассказы и сказки. </a:t>
            </a:r>
            <a:r>
              <a:rPr b="1" lang="ru-RU" sz="2400" spc="-1" strike="noStrike">
                <a:solidFill>
                  <a:srgbClr val="01316b"/>
                </a:solidFill>
                <a:latin typeface="Franklin Gothic Book"/>
              </a:rPr>
              <a:t>При пересказе обращается внимание</a:t>
            </a: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   </a:t>
            </a: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на понимание ребёнком текста (он должен правильно формулировать основную мысль),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на структурирование текста (он должен уметь последовательно и точно строить пересказ),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на грамматику (он должен правильно строить предложения, уметь использовать сложные предложения),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на плавность речи (отсутствие подсказок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     </a:t>
            </a: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по ходу</a:t>
            </a: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пересказа).</a:t>
            </a: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91" name="Рисунок 22" descr="anmated_doll_100048.gif"/>
          <p:cNvPicPr/>
          <p:nvPr/>
        </p:nvPicPr>
        <p:blipFill>
          <a:blip r:embed="rId5"/>
          <a:stretch/>
        </p:blipFill>
        <p:spPr>
          <a:xfrm>
            <a:off x="7020000" y="3213000"/>
            <a:ext cx="2124000" cy="2043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714240" y="571680"/>
            <a:ext cx="79297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90000"/>
                </a:solidFill>
                <a:uFillTx/>
                <a:latin typeface="Arial Black"/>
              </a:rPr>
              <a:t>Как Вы можете помочь своему ребёнк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аривайте с ним, задавайте вопросы, побуждая его отвечать предложени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йте художественные произ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айте прочитанную книгу, просмотренный мультфиль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инайте знакомые произведения и мультфильмы, предлагайте ребёнку рассказать их сам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айте внимание на собственную речь. Речь ребенка во многом зависит оттого, как говорят окружающие его взросл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Речевая коммуникация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Ребёнок должен быть достаточно активен в общении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уметь слушать и понимать речь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строить общение с учетом ситуации,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легко входить в контакт с детьми и взрослыми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ясно и последовательно выражать</a:t>
            </a:r>
            <a:r>
              <a:rPr b="0" lang="ru-RU" sz="2800" spc="-1" strike="noStrike">
                <a:solidFill>
                  <a:srgbClr val="4832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свои мысли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пользоваться формами речевого этикета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97" name="Рисунок 6" descr="trumb_1210742.jpg"/>
          <p:cNvPicPr/>
          <p:nvPr/>
        </p:nvPicPr>
        <p:blipFill>
          <a:blip r:embed="rId7"/>
          <a:stretch/>
        </p:blipFill>
        <p:spPr>
          <a:xfrm>
            <a:off x="6372360" y="1773360"/>
            <a:ext cx="2771640" cy="2435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a"/>
                </a:solidFill>
                <a:latin typeface="Franklin Gothic Medium"/>
              </a:rPr>
              <a:t>Чем заниматься с ребенком, чтобы он оказался готовым к школе?</a:t>
            </a:r>
            <a:endParaRPr b="1" lang="en-US" sz="32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292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В первую очередь надо позаботиться о его здоровье.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Плавание, прогулки, велосипед - это занятия, способствующие будущему успешному вступлению в школьную жизнь. Развивать навыки самообслуживания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00" name="Picture 4" descr="73452985"/>
          <p:cNvPicPr/>
          <p:nvPr/>
        </p:nvPicPr>
        <p:blipFill>
          <a:blip r:embed="rId2"/>
          <a:stretch/>
        </p:blipFill>
        <p:spPr>
          <a:xfrm>
            <a:off x="2556000" y="1484280"/>
            <a:ext cx="3095640" cy="2817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83226"/>
                </a:solidFill>
                <a:uFillTx/>
                <a:latin typeface="Franklin Gothic Book"/>
              </a:rPr>
              <a:t>Важно, чтобы ребенок развивал в себе волевые качества.</a:t>
            </a:r>
            <a:r>
              <a:rPr b="0" lang="ru-RU" sz="3200" spc="-1" strike="noStrike">
                <a:solidFill>
                  <a:srgbClr val="483226"/>
                </a:solidFill>
                <a:latin typeface="Franklin Gothic Book"/>
              </a:rPr>
              <a:t> Для этого его нужно приучать любое начатое им дело доделывать до конца.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02" name="Picture 4" descr="i"/>
          <p:cNvPicPr/>
          <p:nvPr/>
        </p:nvPicPr>
        <p:blipFill>
          <a:blip r:embed="rId2"/>
          <a:stretch/>
        </p:blipFill>
        <p:spPr>
          <a:xfrm>
            <a:off x="2916360" y="2924280"/>
            <a:ext cx="2820960" cy="3744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1357200" y="1161000"/>
            <a:ext cx="707256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Выделяются разные виды готовности к школ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e360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e3603"/>
                </a:solidFill>
                <a:latin typeface="Arial Black"/>
                <a:ea typeface="Times New Roman"/>
              </a:rPr>
              <a:t>Психологическая гото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12524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2524"/>
                </a:solidFill>
                <a:latin typeface="Arial Black"/>
                <a:ea typeface="Times New Roman"/>
              </a:rPr>
              <a:t>Физическая готовность: состояние здоровья, физическое развитие, развитие мелких групп мышц, развитие основных дви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3253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253b"/>
                </a:solidFill>
                <a:latin typeface="Arial Black"/>
                <a:ea typeface="Times New Roman"/>
              </a:rPr>
              <a:t>Специальная готовность: умение читать, считать, пис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9280" y="907920"/>
            <a:ext cx="8460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Чтобы ребенок хорошо говорил, с ним надо разговаривать: так задаются образцы устной речи.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Чтобы ребенок научился быть внимательным, ему надо читать и рассказывать сказки: так задаются образцы восприятия слова.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Чтобы книга воспринималась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как необходимый элемент жизни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она должна жить в доме и быть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востребованной взрослым.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Так задаются образцы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определенного жизненного стиля.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04" name="Содержимое 4" descr="1220501215_umen.gif"/>
          <p:cNvPicPr/>
          <p:nvPr/>
        </p:nvPicPr>
        <p:blipFill>
          <a:blip r:embed="rId4">
            <a:lum contrast="10000"/>
          </a:blip>
          <a:stretch/>
        </p:blipFill>
        <p:spPr>
          <a:xfrm>
            <a:off x="6607080" y="3929040"/>
            <a:ext cx="2536920" cy="2705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7280" y="692280"/>
            <a:ext cx="7499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3226"/>
                </a:solidFill>
                <a:latin typeface="Franklin Gothic Book"/>
              </a:rPr>
              <a:t>Полезны занятия, которые заставляют работать фантазию, воображение, самостоятельную смекалку: </a:t>
            </a:r>
            <a:r>
              <a:rPr b="1" lang="ru-RU" sz="3200" spc="-1" strike="noStrike" u="sng">
                <a:solidFill>
                  <a:srgbClr val="483226"/>
                </a:solidFill>
                <a:uFillTx/>
                <a:latin typeface="Franklin Gothic Book"/>
              </a:rPr>
              <a:t>рисование, лепка, конструирование</a:t>
            </a:r>
            <a:r>
              <a:rPr b="0" lang="ru-RU" sz="3200" spc="-1" strike="noStrike">
                <a:solidFill>
                  <a:srgbClr val="483226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06" name="Picture 4" descr="Картинка 1 сентября на сайт"/>
          <p:cNvPicPr/>
          <p:nvPr/>
        </p:nvPicPr>
        <p:blipFill>
          <a:blip r:embed="rId2"/>
          <a:stretch/>
        </p:blipFill>
        <p:spPr>
          <a:xfrm>
            <a:off x="2857680" y="3424320"/>
            <a:ext cx="4019400" cy="2898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5880" y="714240"/>
            <a:ext cx="7889760" cy="1214640"/>
          </a:xfrm>
          <a:prstGeom prst="rect">
            <a:avLst/>
          </a:prstGeom>
          <a:gradFill rotWithShape="0">
            <a:gsLst>
              <a:gs pos="0">
                <a:srgbClr val="dfd9e5"/>
              </a:gs>
              <a:gs pos="100000">
                <a:srgbClr val="8e71a3"/>
              </a:gs>
            </a:gsLst>
            <a:lin ang="5400000"/>
          </a:gradFill>
          <a:ln w="10080">
            <a:solidFill>
              <a:srgbClr val="654a76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Franklin Gothic Medium"/>
              </a:rPr>
              <a:t>Спасибо за внимание !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pic>
        <p:nvPicPr>
          <p:cNvPr id="108" name="Рисунок 3" descr="flover_0057.gif"/>
          <p:cNvPicPr/>
          <p:nvPr/>
        </p:nvPicPr>
        <p:blipFill>
          <a:blip r:embed="rId1"/>
          <a:stretch/>
        </p:blipFill>
        <p:spPr>
          <a:xfrm>
            <a:off x="1116000" y="2997360"/>
            <a:ext cx="7056360" cy="2536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 rot="21187200">
            <a:off x="139320" y="596160"/>
            <a:ext cx="415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товность к школе </a:t>
            </a:r>
            <a:endParaRPr b="1" lang="en-US" sz="36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395280" y="1989000"/>
            <a:ext cx="30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39640" y="2060640"/>
            <a:ext cx="36007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a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339a"/>
                </a:solidFill>
                <a:latin typeface="Arial"/>
              </a:rPr>
              <a:t>Когда говорят о      "готовности к школе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9a"/>
                </a:solidFill>
                <a:latin typeface="Arial"/>
              </a:rPr>
              <a:t>то имеют в ви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a"/>
                </a:solidFill>
                <a:latin typeface="Arial"/>
              </a:rPr>
              <a:t>не отдельные умения и знания, а их определенный набор, в котором присутствуют все основ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a"/>
                </a:solidFill>
                <a:latin typeface="Arial"/>
              </a:rPr>
              <a:t>компоненты.</a:t>
            </a:r>
            <a:r>
              <a:rPr b="0" lang="ru-RU" sz="2000" spc="-1" strike="noStrike">
                <a:solidFill>
                  <a:srgbClr val="00339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лист"/>
          <p:cNvPicPr/>
          <p:nvPr/>
        </p:nvPicPr>
        <p:blipFill>
          <a:blip r:embed="rId2"/>
          <a:stretch/>
        </p:blipFill>
        <p:spPr>
          <a:xfrm>
            <a:off x="2700360" y="51577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5148360" y="297432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a"/>
                </a:solidFill>
                <a:latin typeface="Arial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784934.gif"/>
          <p:cNvPicPr/>
          <p:nvPr/>
        </p:nvPicPr>
        <p:blipFill>
          <a:blip r:embed="rId3"/>
          <a:stretch/>
        </p:blipFill>
        <p:spPr>
          <a:xfrm>
            <a:off x="4932360" y="549360"/>
            <a:ext cx="3846600" cy="5283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5357520"/>
            <a:ext cx="7772400" cy="1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3226"/>
                </a:solidFill>
                <a:latin typeface="Arial Black"/>
              </a:rPr>
              <a:t>Быть готовым к школе уже сегодня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3226"/>
                </a:solidFill>
                <a:latin typeface="Arial Black"/>
              </a:rPr>
              <a:t>Не значит уметь писать, читать, считать.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3226"/>
                </a:solidFill>
                <a:latin typeface="Arial Black"/>
              </a:rPr>
              <a:t>Быть готовым к школе — значит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3226"/>
                </a:solidFill>
                <a:latin typeface="Arial Black"/>
              </a:rPr>
              <a:t>Быть готовым всему этому научиться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f2c1f"/>
                </a:solidFill>
                <a:latin typeface="Arial"/>
              </a:rPr>
              <a:t>Наша речь </a:t>
            </a:r>
            <a:r>
              <a:rPr b="1" lang="ru-RU" sz="3600" spc="-1" strike="noStrike">
                <a:solidFill>
                  <a:srgbClr val="00339a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cf2c1f"/>
                </a:solidFill>
                <a:latin typeface="Arial"/>
              </a:rPr>
              <a:t>процесс общения</a:t>
            </a:r>
            <a:r>
              <a:rPr b="1" lang="ru-RU" sz="4000" spc="-1" strike="noStrike">
                <a:solidFill>
                  <a:srgbClr val="cf2c1f"/>
                </a:solidFill>
                <a:latin typeface="Arial"/>
              </a:rPr>
              <a:t>,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a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9a"/>
                </a:solidFill>
                <a:latin typeface="Arial"/>
              </a:rPr>
              <a:t>поэтому готовность или неготовность 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a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9a"/>
                </a:solidFill>
                <a:latin typeface="Arial"/>
              </a:rPr>
              <a:t>к обучению в школе во многом определяется уровнем  речевого развития. Ведь именно, при помощи речи устной и письменной ребенку предстоит усвоить всю систему знаний. Чем лучше у него будет развита речь 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a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9a"/>
                </a:solidFill>
                <a:latin typeface="Arial"/>
              </a:rPr>
              <a:t>до поступления в школу, тем быстрее ученик овладеет чтением и письмом.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a"/>
                </a:solidFill>
                <a:latin typeface="Franklin Gothic Medium"/>
              </a:rPr>
              <a:t>Родителям в первую очередь следует обратить внимание на:</a:t>
            </a:r>
            <a:r>
              <a:rPr b="1" lang="ru-RU" sz="4000" spc="-1" strike="noStrike">
                <a:solidFill>
                  <a:srgbClr val="00339a"/>
                </a:solidFill>
                <a:latin typeface="Franklin Gothic Medium"/>
              </a:rPr>
              <a:t> 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Правильное произношение всех звуков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Умение различать звуки речи на слух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Владение элементарными навыками. звукового анализа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Словарный запас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83226"/>
                </a:solidFill>
                <a:latin typeface="Arial"/>
              </a:rPr>
              <a:t>Г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рамматический стро</a:t>
            </a:r>
            <a:r>
              <a:rPr b="0" lang="ru-RU" sz="2800" spc="-1" strike="noStrike">
                <a:solidFill>
                  <a:srgbClr val="483226"/>
                </a:solidFill>
                <a:latin typeface="Arial"/>
              </a:rPr>
              <a:t>й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речи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Связную речь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Речевую коммуникацию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Мелкую моторику рук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64" name="Picture 4" descr="сова"/>
          <p:cNvPicPr/>
          <p:nvPr/>
        </p:nvPicPr>
        <p:blipFill>
          <a:blip r:embed="rId9"/>
          <a:stretch/>
        </p:blipFill>
        <p:spPr>
          <a:xfrm>
            <a:off x="4932360" y="4365720"/>
            <a:ext cx="2736720" cy="2292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285840" y="500040"/>
            <a:ext cx="8715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0000"/>
                </a:solidFill>
                <a:latin typeface="Arial"/>
              </a:rPr>
              <a:t>Работа логопеда в подготовительной группе состоит в следующем: в диагностике и сопровождении детей, консультировании родителей. В сентябре проходит логопедическое обследование детей. В январе – промежуточное обследование детей, в мае – итогов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0000"/>
                </a:solidFill>
                <a:latin typeface="Arial"/>
              </a:rPr>
              <a:t>Занятия с логопедом проводятся ежедневно –фронтальные и  2 – 3 раза в неделю – индивидуа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790000"/>
                </a:solidFill>
                <a:latin typeface="Arial"/>
              </a:rPr>
              <a:t>Успех коррекционной работы во многом зависит от родителей. </a:t>
            </a:r>
            <a:r>
              <a:rPr b="1" lang="ru-RU" sz="2400" spc="-1" strike="noStrike">
                <a:solidFill>
                  <a:srgbClr val="790000"/>
                </a:solidFill>
                <a:latin typeface="Arial"/>
              </a:rPr>
              <a:t>Задача логопеда </a:t>
            </a:r>
            <a:r>
              <a:rPr b="0" lang="ru-RU" sz="2400" spc="-1" strike="noStrike">
                <a:solidFill>
                  <a:srgbClr val="790000"/>
                </a:solidFill>
                <a:latin typeface="Arial"/>
              </a:rPr>
              <a:t>подготовить артикуляционный аппарат к постановке звука, поставить звук. </a:t>
            </a:r>
            <a:r>
              <a:rPr b="1" lang="ru-RU" sz="2400" spc="-1" strike="noStrike">
                <a:solidFill>
                  <a:srgbClr val="790000"/>
                </a:solidFill>
                <a:latin typeface="Arial"/>
              </a:rPr>
              <a:t>Задача родителей </a:t>
            </a:r>
            <a:r>
              <a:rPr b="0" lang="ru-RU" sz="2400" spc="-1" strike="noStrike">
                <a:solidFill>
                  <a:srgbClr val="790000"/>
                </a:solidFill>
                <a:latin typeface="Arial"/>
              </a:rPr>
              <a:t>закрепить звук в речи. Занятия с ребенком рекомендуется проводить систематически, подкрепляя ежедневными 2 – 3 – разовыми кратковременными упражн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57160" y="4000320"/>
            <a:ext cx="77724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20000"/>
                </a:solidFill>
                <a:uFillTx/>
                <a:latin typeface="Arial Black"/>
              </a:rPr>
              <a:t>Как в домашних условиях развивать мелкую моторику? </a:t>
            </a:r>
            <a:r>
              <a:rPr b="0" lang="ru-RU" sz="3200" spc="-1" strike="noStrike">
                <a:solidFill>
                  <a:srgbClr val="f20000"/>
                </a:solidFill>
                <a:latin typeface="Arial Black"/>
              </a:rPr>
              <a:t>Предложите ребёнку: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3226"/>
                </a:solidFill>
                <a:latin typeface="Times New Roman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483226"/>
                </a:solidFill>
                <a:latin typeface="Times New Roman"/>
                <a:ea typeface="Times New Roman"/>
              </a:rPr>
              <a:t>Игры с мелкими предметами (пазлы, мозаика, бусы, конструктор, шнуровки) .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3226"/>
                </a:solidFill>
                <a:latin typeface="Times New Roman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483226"/>
                </a:solidFill>
                <a:latin typeface="Times New Roman"/>
                <a:ea typeface="Times New Roman"/>
              </a:rPr>
              <a:t>Рисование, раскрашивание, штриховки, пластилин, ножницы.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Мелкая моторика рук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7929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Часто  обучение  письму  вызывает  у  детей  наибольшие  трудности,  проблемы.    Для  того    чтобы  избежать проблемы,  нужно  решить    вопрос  с  готовностью  к  письму  непосредственно  руки.</a:t>
            </a:r>
            <a:r>
              <a:rPr b="0" lang="ru-RU" sz="20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Попробуйте обводить в тетради клеточки, рисовать в них кружочки, составлять орнаменты из палочек, лепить из глины, пластилина, выполнение движений с мелкими предметами (мозаика, конструктор, нанизывание бусинок, завязывание веревочек, вырезание ножницами).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Учите ребенка правильно сидеть за столом, держать ручку, сосредотачивать внимание.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72" name="Picture 10" descr="baby44"/>
          <p:cNvPicPr/>
          <p:nvPr/>
        </p:nvPicPr>
        <p:blipFill>
          <a:blip r:embed="rId4"/>
          <a:stretch/>
        </p:blipFill>
        <p:spPr>
          <a:xfrm>
            <a:off x="7586640" y="214200"/>
            <a:ext cx="155736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/>
  <dcterms:modified xsi:type="dcterms:W3CDTF">2020-09-17T13:42:09Z</dcterms:modified>
  <cp:revision>22</cp:revision>
  <dc:subject/>
  <dc:title>Логопедическая готовность к школ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459990</vt:lpwstr>
  </property>
</Properties>
</file>