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E90-BA11-47D3-948C-041C4CD3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86A-1556-46A0-848C-65A4052D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6C3-82F3-4D27-B02D-40F41A87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BAA-9366-4919-B0E9-1782146F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A899-6379-4DBD-B6AE-DD06F2AA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0CE8-A678-4B9E-8E0B-789DF4B7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BAE6-7ABD-47EE-827F-0A9DFCCB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9E30-20F1-48EC-B4A3-E056B10A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E75D-1431-42F8-ADD3-430E3843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EEEF-3750-440C-800C-D4435513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E716-33C3-483D-9666-C005CC9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517-90B3-44B5-8EB0-F64E3ED2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65D9-3D9B-4F3B-87C4-2BFDB5C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46AC-CC04-40A0-A54F-57B33824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2D46-8FB8-4EE0-9B7C-35412D4E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F97A-06DD-427E-8BEE-4A53F1C1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FC8E-AC57-4B83-A0C4-46C5F19B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810-5F26-4197-8994-A55AC41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E0F-B9A0-4515-A0D4-868299B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57A-6355-430C-B98D-2C63EE83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85A-0778-40A0-9A19-2E501179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062-813A-4828-8946-6A813EA7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E97-5EF0-4DF2-ACC4-DE23C021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563-3C22-4EE7-9095-1D4F0B2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25920"/>
                    <a:ext cx="279360" cy="252000"/>
                    <a:chOff x="8704440" y="25920"/>
                    <a:chExt cx="279360" cy="25200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51960" y="-21600"/>
                      <a:ext cx="183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d47d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8800" y="100800"/>
                      <a:ext cx="1288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d47d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5400" y="141480"/>
                    <a:ext cx="2592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9520" y="22680"/>
                    <a:ext cx="388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31520" y="11880"/>
                    <a:ext cx="5904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9200" y="56520"/>
                    <a:ext cx="216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6480" y="198000"/>
                    <a:ext cx="579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4280" y="174960"/>
                    <a:ext cx="3456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15C4-81AD-4A17-8EF4-70A84E4826C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6680"/>
              <a:ext cx="8078760" cy="2235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8960"/>
              <a:ext cx="8078760" cy="19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8960"/>
              <a:ext cx="1203120" cy="68090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13320"/>
              <a:chOff x="7848720" y="360"/>
              <a:chExt cx="1295280" cy="63133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303640"/>
                <a:chOff x="8381880" y="360"/>
                <a:chExt cx="762120" cy="230364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69240" y="360"/>
                  <a:ext cx="279360" cy="281880"/>
                  <a:chOff x="8769240" y="360"/>
                  <a:chExt cx="279360" cy="2818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69240" y="360"/>
                    <a:ext cx="279360" cy="281880"/>
                    <a:chOff x="8769240" y="360"/>
                    <a:chExt cx="279360" cy="2818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808840" y="-39240"/>
                      <a:ext cx="2001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d47d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817120" y="98640"/>
                      <a:ext cx="14184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d47d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90560" y="182160"/>
                    <a:ext cx="2808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823960" y="82440"/>
                    <a:ext cx="41040" cy="586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96320" y="70920"/>
                    <a:ext cx="630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62200" y="117360"/>
                    <a:ext cx="252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89840" y="227160"/>
                    <a:ext cx="6444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837280" y="2192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7576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757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785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565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809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5928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376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0156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37640"/>
                <a:ext cx="828720" cy="4676040"/>
                <a:chOff x="7848720" y="1637640"/>
                <a:chExt cx="828720" cy="46760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3764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400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452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7236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235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263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3019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5588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287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90708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3388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424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610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906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89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98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69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53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737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22280"/>
              <a:ext cx="1190520" cy="1926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71880"/>
              <a:ext cx="1219320" cy="19857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46520"/>
              <a:ext cx="1231920" cy="40082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61840"/>
              <a:ext cx="979560" cy="2168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72680"/>
              <a:ext cx="914400" cy="5012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308880"/>
              <a:ext cx="909720" cy="30495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8960"/>
              <a:ext cx="576360" cy="33285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0040"/>
              <a:ext cx="300240" cy="33289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0040"/>
              <a:ext cx="88920" cy="68090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3760"/>
              <a:ext cx="1165320" cy="614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48440" y="3340800"/>
              <a:ext cx="68090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E06A-7B7F-4856-8425-1B6D975CB83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image" Target="../media/image33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ическое портфолио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552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Общие сведе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О, год рожде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лясов Сергей Николаевич, 08.01.1974 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сшее.  Окончил Мордовский государственный университет им. Н.П.Огарева в 1996 году. «Историк, преподаватель истории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удовой и педагогический стаж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щий трудовой стаж-24 года;                                            из них по специальности – 24 года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таж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боты в данной общеобразовательной организации – 23 г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13" descr=""/>
          <p:cNvPicPr/>
          <p:nvPr/>
        </p:nvPicPr>
        <p:blipFill>
          <a:blip r:embed="rId8"/>
          <a:stretch/>
        </p:blipFill>
        <p:spPr>
          <a:xfrm>
            <a:off x="5668920" y="0"/>
            <a:ext cx="3475080" cy="449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убликации в СМ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pic>
        <p:nvPicPr>
          <p:cNvPr id="225" name="Picture 2" descr="1"/>
          <p:cNvPicPr/>
          <p:nvPr/>
        </p:nvPicPr>
        <p:blipFill>
          <a:blip r:embed="rId1"/>
          <a:stretch/>
        </p:blipFill>
        <p:spPr>
          <a:xfrm>
            <a:off x="0" y="838080"/>
            <a:ext cx="1924200" cy="2819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2 "/>
          <p:cNvPicPr/>
          <p:nvPr/>
        </p:nvPicPr>
        <p:blipFill>
          <a:blip r:embed="rId2"/>
          <a:stretch/>
        </p:blipFill>
        <p:spPr>
          <a:xfrm>
            <a:off x="1752480" y="838080"/>
            <a:ext cx="228312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3 "/>
          <p:cNvPicPr/>
          <p:nvPr/>
        </p:nvPicPr>
        <p:blipFill>
          <a:blip r:embed="rId3"/>
          <a:stretch/>
        </p:blipFill>
        <p:spPr>
          <a:xfrm>
            <a:off x="0" y="2590920"/>
            <a:ext cx="1828800" cy="2360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6"/>
          <p:cNvPicPr/>
          <p:nvPr/>
        </p:nvPicPr>
        <p:blipFill>
          <a:blip r:embed="rId4"/>
          <a:stretch/>
        </p:blipFill>
        <p:spPr>
          <a:xfrm>
            <a:off x="1600200" y="2286000"/>
            <a:ext cx="2457360" cy="2287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8"/>
          <p:cNvPicPr/>
          <p:nvPr/>
        </p:nvPicPr>
        <p:blipFill>
          <a:blip r:embed="rId5"/>
          <a:stretch/>
        </p:blipFill>
        <p:spPr>
          <a:xfrm>
            <a:off x="0" y="4800600"/>
            <a:ext cx="1787400" cy="2057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12"/>
          <p:cNvPicPr/>
          <p:nvPr/>
        </p:nvPicPr>
        <p:blipFill>
          <a:blip r:embed="rId6"/>
          <a:stretch/>
        </p:blipFill>
        <p:spPr>
          <a:xfrm>
            <a:off x="3962520" y="838080"/>
            <a:ext cx="144936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13"/>
          <p:cNvPicPr/>
          <p:nvPr/>
        </p:nvPicPr>
        <p:blipFill>
          <a:blip r:embed="rId7"/>
          <a:stretch/>
        </p:blipFill>
        <p:spPr>
          <a:xfrm>
            <a:off x="5257800" y="762120"/>
            <a:ext cx="1905120" cy="2590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15"/>
          <p:cNvPicPr/>
          <p:nvPr/>
        </p:nvPicPr>
        <p:blipFill>
          <a:blip r:embed="rId8"/>
          <a:stretch/>
        </p:blipFill>
        <p:spPr>
          <a:xfrm>
            <a:off x="7086600" y="0"/>
            <a:ext cx="184644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17"/>
          <p:cNvPicPr/>
          <p:nvPr/>
        </p:nvPicPr>
        <p:blipFill>
          <a:blip r:embed="rId9"/>
          <a:stretch/>
        </p:blipFill>
        <p:spPr>
          <a:xfrm>
            <a:off x="1676520" y="4230720"/>
            <a:ext cx="1904760" cy="262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20"/>
          <p:cNvPicPr/>
          <p:nvPr/>
        </p:nvPicPr>
        <p:blipFill>
          <a:blip r:embed="rId10"/>
          <a:stretch/>
        </p:blipFill>
        <p:spPr>
          <a:xfrm>
            <a:off x="4038480" y="2514600"/>
            <a:ext cx="1784520" cy="259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21"/>
          <p:cNvPicPr/>
          <p:nvPr/>
        </p:nvPicPr>
        <p:blipFill>
          <a:blip r:embed="rId11"/>
          <a:stretch/>
        </p:blipFill>
        <p:spPr>
          <a:xfrm>
            <a:off x="3505320" y="4267080"/>
            <a:ext cx="1928520" cy="2590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22"/>
          <p:cNvPicPr/>
          <p:nvPr/>
        </p:nvPicPr>
        <p:blipFill>
          <a:blip r:embed="rId12"/>
          <a:stretch/>
        </p:blipFill>
        <p:spPr>
          <a:xfrm>
            <a:off x="5562720" y="2362320"/>
            <a:ext cx="1766880" cy="279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23"/>
          <p:cNvPicPr/>
          <p:nvPr/>
        </p:nvPicPr>
        <p:blipFill>
          <a:blip r:embed="rId13"/>
          <a:stretch/>
        </p:blipFill>
        <p:spPr>
          <a:xfrm>
            <a:off x="7209000" y="1981080"/>
            <a:ext cx="1935000" cy="2989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24"/>
          <p:cNvPicPr/>
          <p:nvPr/>
        </p:nvPicPr>
        <p:blipFill>
          <a:blip r:embed="rId14"/>
          <a:stretch/>
        </p:blipFill>
        <p:spPr>
          <a:xfrm>
            <a:off x="5334120" y="4267080"/>
            <a:ext cx="1752480" cy="259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25"/>
          <p:cNvPicPr/>
          <p:nvPr/>
        </p:nvPicPr>
        <p:blipFill>
          <a:blip r:embed="rId15"/>
          <a:stretch/>
        </p:blipFill>
        <p:spPr>
          <a:xfrm>
            <a:off x="7086600" y="4267080"/>
            <a:ext cx="2057400" cy="259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етодический фильм,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1904760"/>
            <a:ext cx="7421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ttps://vk.com/malyasov1974?w=wall462911986_68%2Fall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1600200" y="53352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Методический фильм</a:t>
            </a: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едения о повышении квалификац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5 июня по 1 июля 2019 год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ниверсальных учебных действий средствами учебных предмето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учреждение дополнительного профессионального образов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вский республиканский институт образов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С 29 ноября 2019 года по 07 декабря 2019 г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образовательные ресурсы и технологии в практике учителя истори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вский государственный педагогический институт имени М.Е.Евсевье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С 10 февраля 2020 года по 22 февраля 2020 г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сследовательской и проектной деятельности обучающихся в области истории и обществозна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вский государственный педагогический институт имени М.Е.Евсевье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2" descr="C:\Users\User\Pictures\2020-09-15\Image0021.JPG"/>
          <p:cNvPicPr/>
          <p:nvPr/>
        </p:nvPicPr>
        <p:blipFill>
          <a:blip r:embed="rId1"/>
          <a:stretch/>
        </p:blipFill>
        <p:spPr>
          <a:xfrm>
            <a:off x="4138560" y="1219320"/>
            <a:ext cx="5005440" cy="3352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962160" y="167652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Pictures\2020-09-16\Image0022.JPG"/>
          <p:cNvPicPr/>
          <p:nvPr/>
        </p:nvPicPr>
        <p:blipFill>
          <a:blip r:embed="rId3"/>
          <a:stretch/>
        </p:blipFill>
        <p:spPr>
          <a:xfrm>
            <a:off x="0" y="0"/>
            <a:ext cx="4500720" cy="3124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Users\User\Pictures\2020-09-16\Image0025.JPG"/>
          <p:cNvPicPr/>
          <p:nvPr/>
        </p:nvPicPr>
        <p:blipFill>
          <a:blip r:embed="rId4"/>
          <a:stretch/>
        </p:blipFill>
        <p:spPr>
          <a:xfrm>
            <a:off x="0" y="3678120"/>
            <a:ext cx="4537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пии документов, подтверждающие наличие ученых и почетных степеней и званий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значимые награды, грамоты, благодарственные письма, дипломы различных конкурсов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конкурса лучших учителей Российской Федерации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9 г.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Победитель Республиканского конкурса лучших учителей общеобразовательных учреждений за высокое педагогическое мастерство  и значительный вклад в образование                                                   (2012 год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аслуги. В ознаменование 1000-летияя единения мордовского народа с народами Российского государ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68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68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5" descr="C:\Users\User\Desktop\На учитель года. дополнение 2020\Наиболее значимые награды\Грамота 1.JPG"/>
          <p:cNvPicPr/>
          <p:nvPr/>
        </p:nvPicPr>
        <p:blipFill>
          <a:blip r:embed="rId1"/>
          <a:stretch/>
        </p:blipFill>
        <p:spPr>
          <a:xfrm>
            <a:off x="0" y="0"/>
            <a:ext cx="3048120" cy="4343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Users\User\Desktop\На учитель года. дополнение 2020\Наиболее значимые награды\Диплом.JPG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449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Users\User\Desktop\На учитель года. дополнение 2020\Наиболее значимые награды\Медаль ЗА ЗАСЛУГИ.JPG"/>
          <p:cNvPicPr/>
          <p:nvPr/>
        </p:nvPicPr>
        <p:blipFill>
          <a:blip r:embed="rId3"/>
          <a:stretch/>
        </p:blipFill>
        <p:spPr>
          <a:xfrm>
            <a:off x="1828800" y="3530520"/>
            <a:ext cx="45720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документы по усмотрению конкурсанта.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российского съезда учителей истории и обществознания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 г.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Грамота участника  Международной Вахты Памяти по увековечению Памяти защитников Отечества (2019 г.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Грамота з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в Республиканском конкурс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чший поисковый отря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8 “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оводитель Малясов С.Н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2" descr="C:\Users\User\Desktop\IMG_6388.JPG"/>
          <p:cNvPicPr/>
          <p:nvPr/>
        </p:nvPicPr>
        <p:blipFill>
          <a:blip r:embed="rId1"/>
          <a:stretch/>
        </p:blipFill>
        <p:spPr>
          <a:xfrm>
            <a:off x="6248520" y="2666880"/>
            <a:ext cx="2895480" cy="4191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Users\User\Pictures\2020-09-16\Image0025.JPG"/>
          <p:cNvPicPr/>
          <p:nvPr/>
        </p:nvPicPr>
        <p:blipFill>
          <a:blip r:embed="rId2"/>
          <a:stretch/>
        </p:blipFill>
        <p:spPr>
          <a:xfrm>
            <a:off x="2286000" y="38088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User\Pictures\2020-09-16\Image0027.JPG"/>
          <p:cNvPicPr/>
          <p:nvPr/>
        </p:nvPicPr>
        <p:blipFill>
          <a:blip r:embed="rId3"/>
          <a:stretch/>
        </p:blipFill>
        <p:spPr>
          <a:xfrm>
            <a:off x="0" y="2590920"/>
            <a:ext cx="2971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Методические разработ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ая программ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Публикации в С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) Методическую разработку,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160" y="5562360"/>
            <a:ext cx="865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ttps://nsportal.ru/node/4567859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C:\Users\swergey\Desktop\Image0060.JPG"/>
          <p:cNvPicPr/>
          <p:nvPr/>
        </p:nvPicPr>
        <p:blipFill>
          <a:blip r:embed="rId2"/>
          <a:stretch/>
        </p:blipFill>
        <p:spPr>
          <a:xfrm>
            <a:off x="304920" y="0"/>
            <a:ext cx="3657600" cy="5410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Users\swergey\Desktop\Image0061.JPG"/>
          <p:cNvPicPr/>
          <p:nvPr/>
        </p:nvPicPr>
        <p:blipFill>
          <a:blip r:embed="rId3"/>
          <a:stretch/>
        </p:blipFill>
        <p:spPr>
          <a:xfrm>
            <a:off x="5105520" y="0"/>
            <a:ext cx="373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9-17T19:49:52Z</dcterms:modified>
  <cp:revision>1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