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28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7.jpeg" ContentType="image/jpeg"/>
  <Override PartName="/ppt/media/image1.wmf" ContentType="image/x-wmf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4CF6-4DEC-4F7D-96BC-AA6B73BF6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02D1-3271-4B1C-9434-266384EB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5349-786A-4C79-98DB-6845ACBA9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6E0C-43FD-4FE2-925A-14D93EB3E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4FDC-346F-4DC1-99F3-536139136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C5FB-73BB-478F-ACA8-4C06C609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AC83-2B0F-472A-9FA2-F7D7DEA0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1A88-3B6C-40ED-BCA4-FBB368DC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EB3A-00E1-4163-A5C6-99356621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A573-53F9-4347-AD7A-5097D1D6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78AB-8DD8-42B0-8E38-9FD3C57A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36E2-5DA6-49C4-A4FC-D5A43BA9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8B67-F71C-4B14-800F-ECA0A9A7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2740-6F02-4E38-BBC2-73D74D29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1423-7238-49B4-AC82-1BC2E437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CF59-1A83-4B60-8F71-12A3407FB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58CF-7BB6-4254-9AEC-15672FD40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5906-96C2-4978-9CCB-F8A01C2E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C7B7-459B-4D35-B670-7939EBEB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98F0-D7EE-4EDC-BF0F-5F9E19C0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AE88-B9B6-4F75-80FE-CEFF5F2F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60DA-5BBA-4965-92A4-43B00D7E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21DE-52BC-4324-8F5A-57E0E244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BA20-1028-48D4-8ED3-8EC32997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25920"/>
                    <a:ext cx="279360" cy="252000"/>
                    <a:chOff x="8704440" y="25920"/>
                    <a:chExt cx="279360" cy="25200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51960" y="-21600"/>
                      <a:ext cx="183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7d47d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8800" y="100800"/>
                      <a:ext cx="1288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7d47d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5400" y="141480"/>
                    <a:ext cx="2592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7d47d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9520" y="22680"/>
                    <a:ext cx="388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7d47d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31520" y="11880"/>
                    <a:ext cx="5904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7d47d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9200" y="56520"/>
                    <a:ext cx="2160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7d47d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6480" y="198000"/>
                    <a:ext cx="579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7d47d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4280" y="174960"/>
                    <a:ext cx="3456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7d47d"/>
                      </a:solidFill>
                      <a:latin typeface="Arial Black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d47d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d47d"/>
              </a:solidFill>
              <a:latin typeface="Arial Black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DFBA-6E05-4969-B4B0-F9653CF86B05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6680"/>
              <a:ext cx="8078760" cy="2235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48960"/>
              <a:ext cx="8078760" cy="198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48960"/>
              <a:ext cx="1203120" cy="680904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13320"/>
              <a:chOff x="7848720" y="360"/>
              <a:chExt cx="1295280" cy="631332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303640"/>
                <a:chOff x="8381880" y="360"/>
                <a:chExt cx="762120" cy="230364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69240" y="360"/>
                  <a:ext cx="279360" cy="281880"/>
                  <a:chOff x="8769240" y="360"/>
                  <a:chExt cx="279360" cy="2818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69240" y="360"/>
                    <a:ext cx="279360" cy="281880"/>
                    <a:chOff x="8769240" y="360"/>
                    <a:chExt cx="279360" cy="2818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808840" y="-39240"/>
                      <a:ext cx="2001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7d47d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817120" y="98640"/>
                      <a:ext cx="14184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7d47d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90560" y="182160"/>
                    <a:ext cx="28080" cy="2700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7d47d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823960" y="82440"/>
                    <a:ext cx="41040" cy="586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7d47d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96320" y="70920"/>
                    <a:ext cx="630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7d47d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62200" y="117360"/>
                    <a:ext cx="2520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7d47d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89840" y="227160"/>
                    <a:ext cx="6444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7d47d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837280" y="2192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7d47d"/>
                      </a:solidFill>
                      <a:latin typeface="Arial Black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75760"/>
                  <a:ext cx="2955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7576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78520"/>
                  <a:ext cx="2955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5652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8092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5928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3764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201564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37640"/>
                <a:ext cx="828720" cy="4676040"/>
                <a:chOff x="7848720" y="1637640"/>
                <a:chExt cx="828720" cy="46760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37640"/>
                  <a:ext cx="2955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4004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45200"/>
                  <a:ext cx="2955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72360"/>
                  <a:ext cx="2955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92356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2632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301920"/>
                  <a:ext cx="2955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5588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28720"/>
                  <a:ext cx="2955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907080"/>
                  <a:ext cx="2955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33880"/>
                  <a:ext cx="2955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4244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6104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90600"/>
                  <a:ext cx="2955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6896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9800"/>
                  <a:ext cx="2955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4696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25320"/>
                  <a:ext cx="2955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73760"/>
                  <a:ext cx="2952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22280"/>
              <a:ext cx="1190520" cy="192600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71880"/>
              <a:ext cx="1219320" cy="19857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46520"/>
              <a:ext cx="1231920" cy="40082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61840"/>
              <a:ext cx="979560" cy="216864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72680"/>
              <a:ext cx="914400" cy="5012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308880"/>
              <a:ext cx="909720" cy="30495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48960"/>
              <a:ext cx="576360" cy="33285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50040"/>
              <a:ext cx="300240" cy="33289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50040"/>
              <a:ext cx="88920" cy="680904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33760"/>
              <a:ext cx="1165320" cy="614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48440" y="3340800"/>
              <a:ext cx="680904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7d47d"/>
                </a:solidFill>
                <a:latin typeface="Arial Black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d47d"/>
              </a:solidFill>
              <a:latin typeface="Arial Blac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d47d"/>
              </a:solidFill>
              <a:latin typeface="Arial Black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C8F0-1CCE-4D25-9203-E2A00309719A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image" Target="../media/image29.jpeg"/><Relationship Id="rId12" Type="http://schemas.openxmlformats.org/officeDocument/2006/relationships/image" Target="../media/image30.jpeg"/><Relationship Id="rId13" Type="http://schemas.openxmlformats.org/officeDocument/2006/relationships/image" Target="../media/image31.jpeg"/><Relationship Id="rId14" Type="http://schemas.openxmlformats.org/officeDocument/2006/relationships/image" Target="../media/image32.jpeg"/><Relationship Id="rId15" Type="http://schemas.openxmlformats.org/officeDocument/2006/relationships/image" Target="../media/image33.jpe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  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тодическое портфолио</a:t>
            </a:r>
            <a:br>
              <a:rPr sz="2800"/>
            </a:br>
            <a:r>
              <a:rPr b="1" lang="ru-RU" sz="28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5527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)Общие сведения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ИО, год рождени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Малясов Сергей Николаевич, 08.01.1974 г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разовани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ысшее.  Окончил Мордовский государственный университет им. Н.П.Огарева в 1996 году. «Историк, преподаватель истории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удовой и педагогический стаж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SzPct val="1028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Общий трудовой стаж-24 года;                                            из них по специальности – 24 года.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таж </a:t>
            </a: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работы в данной общеобразовательной организации – 23 год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Picture 13" descr=""/>
          <p:cNvPicPr/>
          <p:nvPr/>
        </p:nvPicPr>
        <p:blipFill>
          <a:blip r:embed="rId8"/>
          <a:stretch/>
        </p:blipFill>
        <p:spPr>
          <a:xfrm>
            <a:off x="5668920" y="0"/>
            <a:ext cx="3475080" cy="4497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убликации в СМИ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7d47d"/>
              </a:solidFill>
              <a:latin typeface="Arial Black"/>
            </a:endParaRPr>
          </a:p>
        </p:txBody>
      </p:sp>
      <p:pic>
        <p:nvPicPr>
          <p:cNvPr id="225" name="Picture 2" descr="1"/>
          <p:cNvPicPr/>
          <p:nvPr/>
        </p:nvPicPr>
        <p:blipFill>
          <a:blip r:embed="rId1"/>
          <a:stretch/>
        </p:blipFill>
        <p:spPr>
          <a:xfrm>
            <a:off x="0" y="838080"/>
            <a:ext cx="1924200" cy="2819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2 "/>
          <p:cNvPicPr/>
          <p:nvPr/>
        </p:nvPicPr>
        <p:blipFill>
          <a:blip r:embed="rId2"/>
          <a:stretch/>
        </p:blipFill>
        <p:spPr>
          <a:xfrm>
            <a:off x="1752480" y="838080"/>
            <a:ext cx="2283120" cy="2286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3 "/>
          <p:cNvPicPr/>
          <p:nvPr/>
        </p:nvPicPr>
        <p:blipFill>
          <a:blip r:embed="rId3"/>
          <a:stretch/>
        </p:blipFill>
        <p:spPr>
          <a:xfrm>
            <a:off x="0" y="2590920"/>
            <a:ext cx="1828800" cy="2360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6"/>
          <p:cNvPicPr/>
          <p:nvPr/>
        </p:nvPicPr>
        <p:blipFill>
          <a:blip r:embed="rId4"/>
          <a:stretch/>
        </p:blipFill>
        <p:spPr>
          <a:xfrm>
            <a:off x="1600200" y="2286000"/>
            <a:ext cx="2457360" cy="2287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8"/>
          <p:cNvPicPr/>
          <p:nvPr/>
        </p:nvPicPr>
        <p:blipFill>
          <a:blip r:embed="rId5"/>
          <a:stretch/>
        </p:blipFill>
        <p:spPr>
          <a:xfrm>
            <a:off x="0" y="4800600"/>
            <a:ext cx="1787400" cy="20574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12"/>
          <p:cNvPicPr/>
          <p:nvPr/>
        </p:nvPicPr>
        <p:blipFill>
          <a:blip r:embed="rId6"/>
          <a:stretch/>
        </p:blipFill>
        <p:spPr>
          <a:xfrm>
            <a:off x="3962520" y="838080"/>
            <a:ext cx="1449360" cy="20574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13"/>
          <p:cNvPicPr/>
          <p:nvPr/>
        </p:nvPicPr>
        <p:blipFill>
          <a:blip r:embed="rId7"/>
          <a:stretch/>
        </p:blipFill>
        <p:spPr>
          <a:xfrm>
            <a:off x="5257800" y="762120"/>
            <a:ext cx="1905120" cy="25905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15"/>
          <p:cNvPicPr/>
          <p:nvPr/>
        </p:nvPicPr>
        <p:blipFill>
          <a:blip r:embed="rId8"/>
          <a:stretch/>
        </p:blipFill>
        <p:spPr>
          <a:xfrm>
            <a:off x="7086600" y="0"/>
            <a:ext cx="1846440" cy="27432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17"/>
          <p:cNvPicPr/>
          <p:nvPr/>
        </p:nvPicPr>
        <p:blipFill>
          <a:blip r:embed="rId9"/>
          <a:stretch/>
        </p:blipFill>
        <p:spPr>
          <a:xfrm>
            <a:off x="1676520" y="4230720"/>
            <a:ext cx="1904760" cy="26272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20"/>
          <p:cNvPicPr/>
          <p:nvPr/>
        </p:nvPicPr>
        <p:blipFill>
          <a:blip r:embed="rId10"/>
          <a:stretch/>
        </p:blipFill>
        <p:spPr>
          <a:xfrm>
            <a:off x="4038480" y="2514600"/>
            <a:ext cx="1784520" cy="2590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21"/>
          <p:cNvPicPr/>
          <p:nvPr/>
        </p:nvPicPr>
        <p:blipFill>
          <a:blip r:embed="rId11"/>
          <a:stretch/>
        </p:blipFill>
        <p:spPr>
          <a:xfrm>
            <a:off x="3505320" y="4267080"/>
            <a:ext cx="1928520" cy="2590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22"/>
          <p:cNvPicPr/>
          <p:nvPr/>
        </p:nvPicPr>
        <p:blipFill>
          <a:blip r:embed="rId12"/>
          <a:stretch/>
        </p:blipFill>
        <p:spPr>
          <a:xfrm>
            <a:off x="5562720" y="2362320"/>
            <a:ext cx="1766880" cy="2793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23"/>
          <p:cNvPicPr/>
          <p:nvPr/>
        </p:nvPicPr>
        <p:blipFill>
          <a:blip r:embed="rId13"/>
          <a:stretch/>
        </p:blipFill>
        <p:spPr>
          <a:xfrm>
            <a:off x="7209000" y="1981080"/>
            <a:ext cx="1935000" cy="29894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24"/>
          <p:cNvPicPr/>
          <p:nvPr/>
        </p:nvPicPr>
        <p:blipFill>
          <a:blip r:embed="rId14"/>
          <a:stretch/>
        </p:blipFill>
        <p:spPr>
          <a:xfrm>
            <a:off x="5334120" y="4267080"/>
            <a:ext cx="1752480" cy="2590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6" descr="25"/>
          <p:cNvPicPr/>
          <p:nvPr/>
        </p:nvPicPr>
        <p:blipFill>
          <a:blip r:embed="rId15"/>
          <a:stretch/>
        </p:blipFill>
        <p:spPr>
          <a:xfrm>
            <a:off x="7086600" y="4267080"/>
            <a:ext cx="2057400" cy="2590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Методический фильм,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240" y="1904760"/>
            <a:ext cx="7421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https://vk.com/malyasov1974?w=wall462911986_68%2Fall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Прямоугольник 3"/>
          <p:cNvSpPr/>
          <p:nvPr/>
        </p:nvSpPr>
        <p:spPr>
          <a:xfrm>
            <a:off x="1600200" y="533520"/>
            <a:ext cx="50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) Методический фильм</a:t>
            </a:r>
            <a:endParaRPr b="0" lang="en-US" sz="2400" spc="-1" strike="noStrike">
              <a:solidFill>
                <a:srgbClr val="f7d47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  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</a:t>
            </a:r>
            <a:br>
              <a:rPr sz="2800"/>
            </a:br>
            <a:r>
              <a:rPr b="1" lang="ru-RU" sz="28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0"/>
            <a:ext cx="7924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ведения о повышении квалификаци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5 июня по 1 июля 2019 года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ниверсальных учебных действий средствами учебных предметов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ознани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учреждение дополнительного профессионального образовани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довский республиканский институт образовани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С 29 ноября 2019 года по 07 декабря 2019 год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ые образовательные ресурсы и технологии в практике учителя истории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ое государственное бюджетное образовательное учреждение высшего образовани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довский государственный педагогический институт имени М.Е.Евсевьев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С 10 февраля 2020 года по 22 февраля 2020 год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исследовательской и проектной деятельности обучающихся в области истории и обществознания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ое государственное бюджетное образовательное учреждение высшего образовани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довский государственный педагогический институт имени М.Е.Евсевьев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68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68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68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68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Picture 2" descr="C:\Users\User\Pictures\2020-09-15\Image0021.JPG"/>
          <p:cNvPicPr/>
          <p:nvPr/>
        </p:nvPicPr>
        <p:blipFill>
          <a:blip r:embed="rId1"/>
          <a:stretch/>
        </p:blipFill>
        <p:spPr>
          <a:xfrm>
            <a:off x="4138560" y="1219320"/>
            <a:ext cx="5005440" cy="33526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962160" y="1676520"/>
            <a:ext cx="3617640" cy="4497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C:\Users\User\Pictures\2020-09-16\Image0022.JPG"/>
          <p:cNvPicPr/>
          <p:nvPr/>
        </p:nvPicPr>
        <p:blipFill>
          <a:blip r:embed="rId3"/>
          <a:stretch/>
        </p:blipFill>
        <p:spPr>
          <a:xfrm>
            <a:off x="0" y="0"/>
            <a:ext cx="4500720" cy="3124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C:\Users\User\Pictures\2020-09-16\Image0025.JPG"/>
          <p:cNvPicPr/>
          <p:nvPr/>
        </p:nvPicPr>
        <p:blipFill>
          <a:blip r:embed="rId4"/>
          <a:stretch/>
        </p:blipFill>
        <p:spPr>
          <a:xfrm>
            <a:off x="0" y="3678120"/>
            <a:ext cx="453708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  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</a:t>
            </a:r>
            <a:br>
              <a:rPr sz="2800"/>
            </a:br>
            <a:r>
              <a:rPr b="1" lang="ru-RU" sz="28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-360" y="0"/>
            <a:ext cx="7924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пии документов, подтверждающие наличие ученых и почетных степеней и званий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иболее значимые награды, грамоты, благодарственные письма, дипломы различных конкурсов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дитель конкурса лучших учителей Российской Федерации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09 г.)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Победитель Республиканского конкурса лучших учителей общеобразовательных учреждений за высокое педагогическое мастерство  и значительный вклад в образование                                                   (2012 год)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аль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заслуги. В ознаменование 1000-летияя единения мордовского народа с народами Российского государств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12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68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68" fill="hold"/>
                                        <p:tgtEl>
                                          <p:spTgt spid="2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68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68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Picture 5" descr="C:\Users\User\Desktop\На учитель года. дополнение 2020\Наиболее значимые награды\Грамота 1.JPG"/>
          <p:cNvPicPr/>
          <p:nvPr/>
        </p:nvPicPr>
        <p:blipFill>
          <a:blip r:embed="rId1"/>
          <a:stretch/>
        </p:blipFill>
        <p:spPr>
          <a:xfrm>
            <a:off x="0" y="0"/>
            <a:ext cx="3048120" cy="4343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C:\Users\User\Desktop\На учитель года. дополнение 2020\Наиболее значимые награды\Диплом.JPG"/>
          <p:cNvPicPr/>
          <p:nvPr/>
        </p:nvPicPr>
        <p:blipFill>
          <a:blip r:embed="rId2"/>
          <a:stretch/>
        </p:blipFill>
        <p:spPr>
          <a:xfrm>
            <a:off x="6084720" y="0"/>
            <a:ext cx="3059280" cy="4497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C:\Users\User\Desktop\На учитель года. дополнение 2020\Наиболее значимые награды\Медаль ЗА ЗАСЛУГИ.JPG"/>
          <p:cNvPicPr/>
          <p:nvPr/>
        </p:nvPicPr>
        <p:blipFill>
          <a:blip r:embed="rId3"/>
          <a:stretch/>
        </p:blipFill>
        <p:spPr>
          <a:xfrm>
            <a:off x="1828800" y="3530520"/>
            <a:ext cx="457200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  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</a:t>
            </a:r>
            <a:br>
              <a:rPr sz="2800"/>
            </a:br>
            <a:r>
              <a:rPr b="1" lang="ru-RU" sz="28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-360" y="0"/>
            <a:ext cx="7924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ругие документы по усмотрению конкурсанта.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тификат участник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российского съезда учителей истории и обществознания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17 г.)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Грамота участника  Международной Вахты Памяти по увековечению Памяти защитников Отечества (2019 г.)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Грамота з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сто в Республиканском конкурсе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учший поисковый отря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18 “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уководитель Малясов С.Н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768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768" fill="hold"/>
                                        <p:tgtEl>
                                          <p:spTgt spid="2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" dur="768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" dur="768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Picture 2" descr="C:\Users\User\Desktop\IMG_6388.JPG"/>
          <p:cNvPicPr/>
          <p:nvPr/>
        </p:nvPicPr>
        <p:blipFill>
          <a:blip r:embed="rId1"/>
          <a:stretch/>
        </p:blipFill>
        <p:spPr>
          <a:xfrm>
            <a:off x="6248520" y="2666880"/>
            <a:ext cx="2895480" cy="4191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C:\Users\User\Pictures\2020-09-16\Image0025.JPG"/>
          <p:cNvPicPr/>
          <p:nvPr/>
        </p:nvPicPr>
        <p:blipFill>
          <a:blip r:embed="rId2"/>
          <a:stretch/>
        </p:blipFill>
        <p:spPr>
          <a:xfrm>
            <a:off x="2286000" y="380880"/>
            <a:ext cx="4495680" cy="3276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C:\Users\User\Pictures\2020-09-16\Image0027.JPG"/>
          <p:cNvPicPr/>
          <p:nvPr/>
        </p:nvPicPr>
        <p:blipFill>
          <a:blip r:embed="rId3"/>
          <a:stretch/>
        </p:blipFill>
        <p:spPr>
          <a:xfrm>
            <a:off x="0" y="2590920"/>
            <a:ext cx="2971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  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</a:t>
            </a:r>
            <a:br>
              <a:rPr sz="2800"/>
            </a:br>
            <a:r>
              <a:rPr b="1" lang="ru-RU" sz="28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-360" y="0"/>
            <a:ext cx="7924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) Методические разработк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ская программ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Публикации в СМ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68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68" fill="hold"/>
                                        <p:tgtEl>
                                          <p:spTgt spid="2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68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б) Методическую разработку,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160" y="5562360"/>
            <a:ext cx="865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https://nsportal.ru/node/4567859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Picture 4" descr="C:\Users\swergey\Desktop\Image0060.JPG"/>
          <p:cNvPicPr/>
          <p:nvPr/>
        </p:nvPicPr>
        <p:blipFill>
          <a:blip r:embed="rId2"/>
          <a:stretch/>
        </p:blipFill>
        <p:spPr>
          <a:xfrm>
            <a:off x="304920" y="0"/>
            <a:ext cx="3657600" cy="5410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C:\Users\swergey\Desktop\Image0061.JPG"/>
          <p:cNvPicPr/>
          <p:nvPr/>
        </p:nvPicPr>
        <p:blipFill>
          <a:blip r:embed="rId3"/>
          <a:stretch/>
        </p:blipFill>
        <p:spPr>
          <a:xfrm>
            <a:off x="5105520" y="0"/>
            <a:ext cx="37335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0-09-17T19:49:52Z</dcterms:modified>
  <cp:revision>19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