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4B9B9-1491-48CE-84D1-404201CF6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76BDA-7DFE-4E48-8B61-1D6CBABB9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4D7AE-067C-4844-A156-894E005D8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D0777-8F8D-4A94-A098-56541BBC6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C580E-74E1-4672-A799-6711648EA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AB487-60A8-465E-B75F-5E07D3DD2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F61C2-3F54-40FB-812D-A187EA837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21F34-ED88-4AD5-BA1A-DB59A80E5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838B9-9E5A-43BC-A7AA-9392AAAE0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B86A0-3344-4456-96D6-28BE146B4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DC6CF-B8A2-4FFF-A78E-7978733BD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92DE7-CD7E-4240-869B-0F41D96BE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A58BB-96F1-4FD8-8FA4-E4B31B59B6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Осенняя реалистичная фоновая тема | Бесплатно векторы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99840" y="1142640"/>
            <a:ext cx="6248520" cy="289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cc0000"/>
                </a:solidFill>
                <a:latin typeface="Times New Roman"/>
              </a:rPr>
              <a:t>Осень </a:t>
            </a:r>
            <a:br>
              <a:rPr sz="7200"/>
            </a:br>
            <a:r>
              <a:rPr b="1" lang="en-US" sz="4400" spc="-1" strike="noStrike">
                <a:solidFill>
                  <a:srgbClr val="800000"/>
                </a:solidFill>
                <a:latin typeface="Times New Roman"/>
              </a:rPr>
              <a:t>Приметы осен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4"/>
          <p:cNvSpPr/>
          <p:nvPr/>
        </p:nvSpPr>
        <p:spPr>
          <a:xfrm>
            <a:off x="5181480" y="4999320"/>
            <a:ext cx="362592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3300"/>
                </a:solidFill>
                <a:latin typeface="Times New Roman"/>
              </a:rPr>
              <a:t>Подготовил воспитатель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663300"/>
                </a:solidFill>
                <a:latin typeface="Times New Roman"/>
              </a:rPr>
              <a:t>МАДОУ ЦРР д/с № 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3300"/>
                </a:solidFill>
                <a:latin typeface="Times New Roman"/>
              </a:rPr>
              <a:t>Прохорова О.В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Осенняя реалистичная фоновая тема | Бесплатно векторы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3" descr="https://avatars.mds.yandex.net/get-pdb/2500392/eea2c789-b4d6-4c49-a0d3-83b71efbefc1/s1200?webp=false"/>
          <p:cNvPicPr/>
          <p:nvPr/>
        </p:nvPicPr>
        <p:blipFill>
          <a:blip r:embed="rId2"/>
          <a:stretch/>
        </p:blipFill>
        <p:spPr>
          <a:xfrm>
            <a:off x="304920" y="1295280"/>
            <a:ext cx="5410080" cy="411480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4"/>
          <p:cNvSpPr/>
          <p:nvPr/>
        </p:nvSpPr>
        <p:spPr>
          <a:xfrm>
            <a:off x="5791320" y="1545120"/>
            <a:ext cx="317484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Что происходит в жизни птиц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Куда и зачем они летят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Есть птицы которые на зиму улетают в теплые края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Как их называют? (перелётные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Перелётные птицы - это птицы, перелетающие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от нас осенью в тёплые края, но иногда и на север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Эти птицы - насекомоядные (насекомых едят)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питаются насекомыми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5181480" cy="8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Отлет пти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Осенняя реалистичная фоновая тема | Бесплатно векторы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320" y="22860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Как меняется жизнь животных</a:t>
            </a:r>
            <a:br>
              <a:rPr sz="2400"/>
            </a:b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 с приходом осе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5" descr="https://i0.wp.com/semeynaya-kuchka.ru/wp-content/uploads/2018/07/kartinki-osen-dla-detskogo-sada-15.jpg"/>
          <p:cNvPicPr/>
          <p:nvPr/>
        </p:nvPicPr>
        <p:blipFill>
          <a:blip r:embed="rId2"/>
          <a:stretch/>
        </p:blipFill>
        <p:spPr>
          <a:xfrm>
            <a:off x="0" y="1674720"/>
            <a:ext cx="5121360" cy="340704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7"/>
          <p:cNvSpPr/>
          <p:nvPr/>
        </p:nvSpPr>
        <p:spPr>
          <a:xfrm>
            <a:off x="5236920" y="3582720"/>
            <a:ext cx="2873880" cy="13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Times New Roman"/>
              </a:rPr>
              <a:t>Белка осенью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Times New Roman"/>
              </a:rPr>
              <a:t>без спешки припасл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3300"/>
                </a:solidFill>
                <a:latin typeface="Times New Roman"/>
              </a:rPr>
              <a:t>в дупле берёзы шишки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Times New Roman"/>
              </a:rPr>
              <a:t>жёлуди, орешки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Times New Roman"/>
              </a:rPr>
              <a:t>Не страшны теперь морозы</a:t>
            </a: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!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8"/>
          <p:cNvSpPr/>
          <p:nvPr/>
        </p:nvSpPr>
        <p:spPr>
          <a:xfrm>
            <a:off x="4952880" y="1567800"/>
            <a:ext cx="373392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Times New Roman"/>
              </a:rPr>
              <a:t>В первую очередь мышка приступае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3300"/>
                </a:solidFill>
                <a:latin typeface="Times New Roman"/>
              </a:rPr>
              <a:t>к расширению своей норки – он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3300"/>
                </a:solidFill>
                <a:latin typeface="Times New Roman"/>
              </a:rPr>
              <a:t>расширяет «спальню», так как будет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Times New Roman"/>
              </a:rPr>
              <a:t>утеплять ее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Times New Roman"/>
              </a:rPr>
              <a:t>В свои кладовые мышка начинает носить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Times New Roman"/>
              </a:rPr>
              <a:t>зерновые, семена, засушенные фрукты или трав</a:t>
            </a:r>
            <a:br>
              <a:rPr sz="1400"/>
            </a:b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Осенняя реалистичная фоновая тема | Бесплатно векторы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3"/>
          <p:cNvSpPr/>
          <p:nvPr/>
        </p:nvSpPr>
        <p:spPr>
          <a:xfrm>
            <a:off x="1166760" y="411840"/>
            <a:ext cx="705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Медведь всю зиму пит у себя в берлоге,  ёжик у себя в норе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Чтобы не проголодаться до весны, они должны накопить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много жира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а чтобы не замёрзнуть, они утепляют свои домики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Picture 4" descr="https://theslide.ru/img/thumbs/d1b61a1132fc1ba144a98ed08e22c322-800x.jpg"/>
          <p:cNvPicPr/>
          <p:nvPr/>
        </p:nvPicPr>
        <p:blipFill>
          <a:blip r:embed="rId2"/>
          <a:srcRect l="48902" t="21915" r="2291" b="21569"/>
          <a:stretch/>
        </p:blipFill>
        <p:spPr>
          <a:xfrm>
            <a:off x="380880" y="2133720"/>
            <a:ext cx="3886200" cy="33350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5" descr="https://ds04.infourok.ru/uploads/ex/1093/000df342-283792cc/img4.jpg"/>
          <p:cNvPicPr/>
          <p:nvPr/>
        </p:nvPicPr>
        <p:blipFill>
          <a:blip r:embed="rId3"/>
          <a:srcRect l="11835" t="29774" r="11335" b="4583"/>
          <a:stretch/>
        </p:blipFill>
        <p:spPr>
          <a:xfrm>
            <a:off x="4572000" y="3733920"/>
            <a:ext cx="4267080" cy="27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Осенняя реалистичная фоновая тема | Бесплатно векторы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3" descr="https://ds05.infourok.ru/uploads/ex/09f5/0007496c-03c56319/img24.jpg"/>
          <p:cNvPicPr/>
          <p:nvPr/>
        </p:nvPicPr>
        <p:blipFill>
          <a:blip r:embed="rId2"/>
          <a:srcRect l="18847" t="19034" r="39389" b="0"/>
          <a:stretch/>
        </p:blipFill>
        <p:spPr>
          <a:xfrm>
            <a:off x="5943600" y="3352680"/>
            <a:ext cx="2789280" cy="30481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4" descr="https://ds05.infourok.ru/uploads/ex/0ab2/00126db9-c21486cf/1/hello_html_m3be07f95.jpg"/>
          <p:cNvPicPr/>
          <p:nvPr/>
        </p:nvPicPr>
        <p:blipFill>
          <a:blip r:embed="rId3"/>
          <a:stretch/>
        </p:blipFill>
        <p:spPr>
          <a:xfrm>
            <a:off x="1866960" y="3894120"/>
            <a:ext cx="3583080" cy="26114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5" descr="https://cf2.ppt-online.org/files2/slide/z/z6FEwHtKGPOByRnI2Td7r98vaZlxmL1bWfgjD4pqMk/slide-3.jpg"/>
          <p:cNvPicPr/>
          <p:nvPr/>
        </p:nvPicPr>
        <p:blipFill>
          <a:blip r:embed="rId4"/>
          <a:srcRect l="19366" t="0" r="18852" b="0"/>
          <a:stretch/>
        </p:blipFill>
        <p:spPr>
          <a:xfrm>
            <a:off x="6324480" y="152280"/>
            <a:ext cx="2452680" cy="297180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6"/>
          <p:cNvSpPr/>
          <p:nvPr/>
        </p:nvSpPr>
        <p:spPr>
          <a:xfrm>
            <a:off x="304920" y="291960"/>
            <a:ext cx="533376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Чем занимаются осенью люди, вы узнаете, отгадав загадку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Что весною мы сажали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Потом летом поливали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Все, что осенью на грядках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Поспевает: вкусно, сладко!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Не зевай и собирай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Наш осенний … (Урожай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Осенняя реалистичная фоновая тема | Бесплатно векторы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4"/>
          <p:cNvSpPr/>
          <p:nvPr/>
        </p:nvSpPr>
        <p:spPr>
          <a:xfrm>
            <a:off x="1371600" y="2133720"/>
            <a:ext cx="7467480" cy="20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imes New Roman"/>
              </a:rPr>
              <a:t>Интернет ресурсы</a:t>
            </a:r>
            <a:r>
              <a:rPr b="0" lang="ru-RU" sz="18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https://yandex.ru/turbo/deti-online.com/s/stihi/osen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https://infourok.r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https://yandex.ru/search/?clid=9582&amp;text=животные%20осенью%20картинки%20для%20детей&amp;l10n=ru&amp;lr=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Осенняя реалистичная фоновая тема | Бесплатно векторы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70842795"/>
          <p:cNvPicPr/>
          <p:nvPr/>
        </p:nvPicPr>
        <p:blipFill>
          <a:blip r:embed="rId2"/>
          <a:stretch/>
        </p:blipFill>
        <p:spPr>
          <a:xfrm>
            <a:off x="304920" y="533520"/>
            <a:ext cx="6019560" cy="48258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9"/>
          <p:cNvSpPr/>
          <p:nvPr/>
        </p:nvSpPr>
        <p:spPr>
          <a:xfrm>
            <a:off x="6193800" y="987120"/>
            <a:ext cx="2739600" cy="316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  <a:ea typeface="Times New Roman"/>
              </a:rPr>
              <a:t>Осень на лис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  <a:ea typeface="Times New Roman"/>
              </a:rPr>
              <a:t>Смотрите все: во всей красе</a:t>
            </a:r>
            <a:br>
              <a:rPr sz="1400"/>
            </a:br>
            <a:r>
              <a:rPr b="1" lang="en-US" sz="1400" spc="-1" strike="noStrike">
                <a:solidFill>
                  <a:srgbClr val="003300"/>
                </a:solidFill>
                <a:latin typeface="Arial"/>
                <a:ea typeface="Times New Roman"/>
              </a:rPr>
              <a:t>Несётся осень на лисе.</a:t>
            </a:r>
            <a:br>
              <a:rPr sz="1400"/>
            </a:br>
            <a:r>
              <a:rPr b="1" lang="en-US" sz="1400" spc="-1" strike="noStrike">
                <a:solidFill>
                  <a:srgbClr val="003300"/>
                </a:solidFill>
                <a:latin typeface="Arial"/>
                <a:ea typeface="Times New Roman"/>
              </a:rPr>
              <a:t>И где лиса махнет хвостом,</a:t>
            </a:r>
            <a:br>
              <a:rPr sz="1400"/>
            </a:br>
            <a:r>
              <a:rPr b="1" lang="en-US" sz="1400" spc="-1" strike="noStrike">
                <a:solidFill>
                  <a:srgbClr val="003300"/>
                </a:solidFill>
                <a:latin typeface="Arial"/>
                <a:ea typeface="Times New Roman"/>
              </a:rPr>
              <a:t>Рыжеет все на месте том:</a:t>
            </a:r>
            <a:br>
              <a:rPr sz="1400"/>
            </a:br>
            <a:r>
              <a:rPr b="1" lang="en-US" sz="1400" spc="-1" strike="noStrike">
                <a:solidFill>
                  <a:srgbClr val="003300"/>
                </a:solidFill>
                <a:latin typeface="Arial"/>
                <a:ea typeface="Times New Roman"/>
              </a:rPr>
              <a:t>Окрасит рыжей кистью</a:t>
            </a:r>
            <a:br>
              <a:rPr sz="1400"/>
            </a:br>
            <a:r>
              <a:rPr b="1" lang="en-US" sz="1400" spc="-1" strike="noStrike">
                <a:solidFill>
                  <a:srgbClr val="003300"/>
                </a:solidFill>
                <a:latin typeface="Arial"/>
                <a:ea typeface="Times New Roman"/>
              </a:rPr>
              <a:t>Она траву и листья.</a:t>
            </a:r>
            <a:br>
              <a:rPr sz="1400"/>
            </a:br>
            <a:r>
              <a:rPr b="1" lang="en-US" sz="1400" spc="-1" strike="noStrike">
                <a:solidFill>
                  <a:srgbClr val="003300"/>
                </a:solidFill>
                <a:latin typeface="Arial"/>
                <a:ea typeface="Times New Roman"/>
              </a:rPr>
              <a:t>И станут рыжими кусты,</a:t>
            </a:r>
            <a:br>
              <a:rPr sz="1400"/>
            </a:br>
            <a:r>
              <a:rPr b="1" lang="en-US" sz="1400" spc="-1" strike="noStrike">
                <a:solidFill>
                  <a:srgbClr val="003300"/>
                </a:solidFill>
                <a:latin typeface="Arial"/>
                <a:ea typeface="Times New Roman"/>
              </a:rPr>
              <a:t>Тропинки, улицы, мосты,</a:t>
            </a:r>
            <a:br>
              <a:rPr sz="1400"/>
            </a:br>
            <a:r>
              <a:rPr b="1" lang="en-US" sz="1400" spc="-1" strike="noStrike">
                <a:solidFill>
                  <a:srgbClr val="003300"/>
                </a:solidFill>
                <a:latin typeface="Arial"/>
                <a:ea typeface="Times New Roman"/>
              </a:rPr>
              <a:t>Дома и поздние цветы…</a:t>
            </a:r>
            <a:br>
              <a:rPr sz="1400"/>
            </a:br>
            <a:r>
              <a:rPr b="1" lang="en-US" sz="1400" spc="-1" strike="noStrike">
                <a:solidFill>
                  <a:srgbClr val="003300"/>
                </a:solidFill>
                <a:latin typeface="Arial"/>
                <a:ea typeface="Times New Roman"/>
              </a:rPr>
              <a:t>Смотри: не порыжей и ты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Автор: Н. Волков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Осенняя реалистичная фоновая тема | Бесплатно векторы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3880" y="45684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00"/>
                </a:solidFill>
                <a:latin typeface="Times New Roman"/>
              </a:rPr>
              <a:t>Какая бывает осень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0" descr="1999"/>
          <p:cNvPicPr/>
          <p:nvPr/>
        </p:nvPicPr>
        <p:blipFill>
          <a:blip r:embed="rId2"/>
          <a:srcRect l="8071" t="0" r="22488" b="14999"/>
          <a:stretch/>
        </p:blipFill>
        <p:spPr>
          <a:xfrm>
            <a:off x="457200" y="2209680"/>
            <a:ext cx="2333520" cy="22291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1" descr="osen-zheltaya-listva-derevya"/>
          <p:cNvPicPr/>
          <p:nvPr/>
        </p:nvPicPr>
        <p:blipFill>
          <a:blip r:embed="rId3"/>
          <a:stretch/>
        </p:blipFill>
        <p:spPr>
          <a:xfrm>
            <a:off x="3581280" y="2209680"/>
            <a:ext cx="2021040" cy="22100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2" descr="unnamed"/>
          <p:cNvPicPr/>
          <p:nvPr/>
        </p:nvPicPr>
        <p:blipFill>
          <a:blip r:embed="rId4"/>
          <a:stretch/>
        </p:blipFill>
        <p:spPr>
          <a:xfrm>
            <a:off x="6248520" y="2209680"/>
            <a:ext cx="2438280" cy="223704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13"/>
          <p:cNvSpPr/>
          <p:nvPr/>
        </p:nvSpPr>
        <p:spPr>
          <a:xfrm>
            <a:off x="611280" y="4723560"/>
            <a:ext cx="163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00"/>
                </a:solidFill>
                <a:latin typeface="Times New Roman"/>
              </a:rPr>
              <a:t>Ранняя осень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14"/>
          <p:cNvSpPr/>
          <p:nvPr/>
        </p:nvSpPr>
        <p:spPr>
          <a:xfrm>
            <a:off x="3686400" y="4723560"/>
            <a:ext cx="163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Times New Roman"/>
              </a:rPr>
              <a:t>Золотая осен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15"/>
          <p:cNvSpPr/>
          <p:nvPr/>
        </p:nvSpPr>
        <p:spPr>
          <a:xfrm>
            <a:off x="6266160" y="4647600"/>
            <a:ext cx="16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Times New Roman"/>
              </a:rPr>
              <a:t>Поздняя осен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16" descr="1999"/>
          <p:cNvPicPr/>
          <p:nvPr/>
        </p:nvPicPr>
        <p:blipFill>
          <a:blip r:embed="rId5"/>
          <a:srcRect l="8071" t="0" r="22488" b="14999"/>
          <a:stretch/>
        </p:blipFill>
        <p:spPr>
          <a:xfrm>
            <a:off x="457200" y="2209680"/>
            <a:ext cx="2333520" cy="22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Осенняя реалистичная фоновая тема | Бесплатно векторы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AutoShape 4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5" descr="img_user_file_5825c43943928_2"/>
          <p:cNvPicPr/>
          <p:nvPr/>
        </p:nvPicPr>
        <p:blipFill>
          <a:blip r:embed="rId2"/>
          <a:stretch/>
        </p:blipFill>
        <p:spPr>
          <a:xfrm>
            <a:off x="1371600" y="1371600"/>
            <a:ext cx="7238880" cy="495612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47560" y="274680"/>
            <a:ext cx="693396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Times New Roman"/>
              </a:rPr>
              <a:t>Запомни название осенних месяце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Осенняя реалистичная фоновая тема | Бесплатно векторы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3"/>
          <p:cNvSpPr/>
          <p:nvPr/>
        </p:nvSpPr>
        <p:spPr>
          <a:xfrm>
            <a:off x="2590920" y="5133960"/>
            <a:ext cx="5181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00"/>
                </a:solidFill>
                <a:latin typeface="Times New Roman"/>
              </a:rPr>
              <a:t>Если на деревьях листья пожелтели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00"/>
                </a:solidFill>
                <a:latin typeface="Times New Roman"/>
              </a:rPr>
              <a:t>Если в край далеки птицы улетели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00"/>
                </a:solidFill>
                <a:latin typeface="Times New Roman"/>
              </a:rPr>
              <a:t>Если небо хмурое, если дождик льется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00"/>
                </a:solidFill>
                <a:latin typeface="Times New Roman"/>
              </a:rPr>
              <a:t>Это время года осенью зовется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3600" spc="-1" strike="noStrike">
                <a:solidFill>
                  <a:srgbClr val="008000"/>
                </a:solidFill>
                <a:latin typeface="Times New Roman"/>
              </a:rPr>
              <a:t>Ранняя осень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5" descr="1999"/>
          <p:cNvPicPr/>
          <p:nvPr/>
        </p:nvPicPr>
        <p:blipFill>
          <a:blip r:embed="rId2"/>
          <a:srcRect l="8071" t="0" r="22488" b="14999"/>
          <a:stretch/>
        </p:blipFill>
        <p:spPr>
          <a:xfrm>
            <a:off x="1371600" y="1295280"/>
            <a:ext cx="6781680" cy="377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Осенняя реалистичная фоновая тема | Бесплатно векторы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" descr="osen-zheltaya-listva-derevya"/>
          <p:cNvPicPr/>
          <p:nvPr/>
        </p:nvPicPr>
        <p:blipFill>
          <a:blip r:embed="rId2"/>
          <a:stretch/>
        </p:blipFill>
        <p:spPr>
          <a:xfrm>
            <a:off x="304920" y="1341360"/>
            <a:ext cx="5029200" cy="47545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904760" y="304920"/>
            <a:ext cx="480060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00"/>
                </a:solidFill>
                <a:latin typeface="Times New Roman"/>
              </a:rPr>
              <a:t>Золотая осен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5334120" y="1633320"/>
            <a:ext cx="3809880" cy="41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Смотрите все: во всей красе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Несётся осень на лисе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И где лиса махнет хвостом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Рыжеет все на месте том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Окрасит рыжей кистью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Она траву и листья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И станут рыжими кусты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Тропинки, улицы, мосты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Дома и поздние цветы…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Смотри: не порыжей и ты!</a:t>
            </a: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66"/>
                </a:solidFill>
                <a:latin typeface="Times New Roman"/>
              </a:rPr>
              <a:t>-Подумаем почему осень называют золотой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С наступлением осени, солнечные лучи светят не так ярко и деревьям не хватает солнечного света. Листочки начинают менять свой цве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Осенняя реалистичная фоновая тема | Бесплатно векторы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981080" y="152280"/>
            <a:ext cx="50292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Поздняя осен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4"/>
          <p:cNvSpPr/>
          <p:nvPr/>
        </p:nvSpPr>
        <p:spPr>
          <a:xfrm>
            <a:off x="5964480" y="2514960"/>
            <a:ext cx="29588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Times New Roman"/>
              </a:rPr>
              <a:t>Поздняя осень!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Times New Roman"/>
              </a:rPr>
              <a:t>Руки мерзнут в ноябре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Times New Roman"/>
              </a:rPr>
              <a:t>Холод, ветер на дворе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Times New Roman"/>
              </a:rPr>
              <a:t>Осень поздняя несет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Times New Roman"/>
              </a:rPr>
              <a:t>Первый снег и первый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Times New Roman"/>
              </a:rPr>
              <a:t>лед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5" descr="11796"/>
          <p:cNvPicPr/>
          <p:nvPr/>
        </p:nvPicPr>
        <p:blipFill>
          <a:blip r:embed="rId2"/>
          <a:stretch/>
        </p:blipFill>
        <p:spPr>
          <a:xfrm>
            <a:off x="182520" y="1371600"/>
            <a:ext cx="5684760" cy="47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Осенняя реалистичная фоновая тема | Бесплатно векторы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99840" y="2743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Times New Roman"/>
              </a:rPr>
              <a:t>Природные явл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Картотека по развитию речи (младшая группа) на тему: Стихотворения про  осень для детей младшей группы ( 3 - 4лет). | Социальная сеть работников  образования"/>
          <p:cNvPicPr/>
          <p:nvPr/>
        </p:nvPicPr>
        <p:blipFill>
          <a:blip r:embed="rId2"/>
          <a:stretch/>
        </p:blipFill>
        <p:spPr>
          <a:xfrm>
            <a:off x="304920" y="1981080"/>
            <a:ext cx="1876320" cy="27529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img5"/>
          <p:cNvPicPr/>
          <p:nvPr/>
        </p:nvPicPr>
        <p:blipFill>
          <a:blip r:embed="rId3"/>
          <a:stretch/>
        </p:blipFill>
        <p:spPr>
          <a:xfrm>
            <a:off x="3124080" y="1981080"/>
            <a:ext cx="2514600" cy="28195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11796"/>
          <p:cNvPicPr/>
          <p:nvPr/>
        </p:nvPicPr>
        <p:blipFill>
          <a:blip r:embed="rId4"/>
          <a:stretch/>
        </p:blipFill>
        <p:spPr>
          <a:xfrm>
            <a:off x="6324480" y="1981080"/>
            <a:ext cx="2519640" cy="274320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7"/>
          <p:cNvSpPr/>
          <p:nvPr/>
        </p:nvSpPr>
        <p:spPr>
          <a:xfrm>
            <a:off x="242280" y="5028480"/>
            <a:ext cx="18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Часто идут дожди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8"/>
          <p:cNvSpPr/>
          <p:nvPr/>
        </p:nvSpPr>
        <p:spPr>
          <a:xfrm>
            <a:off x="3048120" y="4798440"/>
            <a:ext cx="27432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Появляются туманы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Туман — это облако у поверхности земл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Образуется от перемены температуры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По ночам и рано утром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9"/>
          <p:cNvSpPr/>
          <p:nvPr/>
        </p:nvSpPr>
        <p:spPr>
          <a:xfrm>
            <a:off x="6081840" y="4798440"/>
            <a:ext cx="306216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Поздняя осень не радует нас яркими краскам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Скоро зима. В конце осени можно увидеть первую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корочку изо льда на лужицах, первые снежинки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Осенняя реалистичная фоновая тема | Бесплатно векторы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3" descr="efcb5d6df766ac45767d2df63d035195ad54a1c9"/>
          <p:cNvPicPr/>
          <p:nvPr/>
        </p:nvPicPr>
        <p:blipFill>
          <a:blip r:embed="rId2"/>
          <a:stretch/>
        </p:blipFill>
        <p:spPr>
          <a:xfrm>
            <a:off x="609480" y="1219320"/>
            <a:ext cx="5253120" cy="518148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5"/>
          <p:cNvSpPr/>
          <p:nvPr/>
        </p:nvSpPr>
        <p:spPr>
          <a:xfrm>
            <a:off x="6248520" y="558360"/>
            <a:ext cx="2666880" cy="55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По ночам и рано утром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Листья в воздухе кружатся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Тихо на траву ложатся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Сбрасывает листья сад —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Это просто... (листопад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66"/>
                </a:solidFill>
                <a:latin typeface="Times New Roman"/>
              </a:rPr>
              <a:t>-Что такое листопад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С деревьев,  кружась в прохладном осеннем воздухе, облетают листья. Подует ветер, и листья закружатся в пестром хороводе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66"/>
                </a:solidFill>
                <a:latin typeface="Times New Roman"/>
              </a:rPr>
              <a:t>Осенью листья осыпаются, потому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66"/>
                </a:solidFill>
                <a:latin typeface="Times New Roman"/>
              </a:rPr>
              <a:t>что деревья и кустарники готовятся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66"/>
                </a:solidFill>
                <a:latin typeface="Times New Roman"/>
              </a:rPr>
              <a:t>к долгому зимнему сну. В листьях за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66"/>
                </a:solidFill>
                <a:latin typeface="Times New Roman"/>
              </a:rPr>
              <a:t>лето накапливается немало вредных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66"/>
                </a:solidFill>
                <a:latin typeface="Times New Roman"/>
              </a:rPr>
              <a:t>веществ. Опадая, они освобождают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66"/>
                </a:solidFill>
                <a:latin typeface="Times New Roman"/>
              </a:rPr>
              <a:t>деревья от ядов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880" y="228240"/>
            <a:ext cx="464832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cc00"/>
                </a:solidFill>
                <a:latin typeface="Times New Roman"/>
              </a:rPr>
              <a:t>Листопад</a:t>
            </a:r>
            <a:r>
              <a:rPr b="1" lang="en-US" sz="4000" spc="-1" strike="noStrike">
                <a:solidFill>
                  <a:srgbClr val="8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9-12T10:48:11Z</dcterms:created>
  <dc:creator>Oksana</dc:creator>
  <dc:description/>
  <dc:language>en-US</dc:language>
  <cp:lastModifiedBy>Oksana</cp:lastModifiedBy>
  <dcterms:modified xsi:type="dcterms:W3CDTF">2020-09-17T19:04:27Z</dcterms:modified>
  <cp:revision>3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