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73E-F596-4537-95BE-5E9CC28F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23E-C50D-4EB1-96B6-B7172DB4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D3A-D34B-4329-A23A-54FFF831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D93-2C92-4434-AD38-217E6C57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E33-98F5-46A8-94C5-D597CAAB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E13-0202-46B0-ABD3-252998BB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194-6499-4FDF-BC92-F5258FD9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026-3E61-4F23-A304-BE33C557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9F9-50EE-4814-BA58-EABD138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84C-0D4C-43D9-9811-2030618D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546-3E37-42BC-9D0F-CE5B8FD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F33-D7DE-4815-A87F-C4D9B979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5A4B-2743-4A45-A9FC-A84AB0FAB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1426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Осень </a:t>
            </a:r>
            <a:br>
              <a:rPr sz="7200"/>
            </a:b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Приметы ос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81480" y="4999320"/>
            <a:ext cx="3625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Подготовил воспит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ДОУ ЦРР д/с №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Прохорова О.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https://avatars.mds.yandex.net/get-pdb/2500392/eea2c789-b4d6-4c49-a0d3-83b71efbefc1/s1200?webp=false"/>
          <p:cNvPicPr/>
          <p:nvPr/>
        </p:nvPicPr>
        <p:blipFill>
          <a:blip r:embed="rId2"/>
          <a:stretch/>
        </p:blipFill>
        <p:spPr>
          <a:xfrm>
            <a:off x="304920" y="1295280"/>
            <a:ext cx="54100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791320" y="1545120"/>
            <a:ext cx="3174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Что происходит в жизни птиц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Куда и зачем они летя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Есть птицы которые на зиму улетают в теплые кра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Как их называют? (перелётны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ерелётные птицы - это птицы, перелетающ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от нас осенью в тёплые края, но иногда и на севе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Эти птицы - насекомоядные (насекомых едят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итаются насекомыми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1814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Отлет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Как меняется жизнь животных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с приходом ос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s://i0.wp.com/semeynaya-kuchka.ru/wp-content/uploads/2018/07/kartinki-osen-dla-detskogo-sada-15.jpg"/>
          <p:cNvPicPr/>
          <p:nvPr/>
        </p:nvPicPr>
        <p:blipFill>
          <a:blip r:embed="rId2"/>
          <a:stretch/>
        </p:blipFill>
        <p:spPr>
          <a:xfrm>
            <a:off x="0" y="1674720"/>
            <a:ext cx="5121360" cy="3407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5236920" y="3582720"/>
            <a:ext cx="2873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Белка осень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без спешки припас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в дупле берёзы шишк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жёлуди, ореш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Не страшны теперь морозы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952880" y="1567800"/>
            <a:ext cx="373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В первую очередь мышка приступа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к расширению своей норки – 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расширяет «спальню», так как буде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утеплять е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В свои кладовые мышка начинает нос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зерновые, семена, засушенные фрукты или трав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166760" y="411840"/>
            <a:ext cx="705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Медведь всю зиму пит у себя в берлоге,  ёжик у себя в но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Чтобы не проголодаться до весны, они должны накопи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много жир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а чтобы не замёрзнуть, они утепляют свои домики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https://theslide.ru/img/thumbs/d1b61a1132fc1ba144a98ed08e22c322-800x.jpg"/>
          <p:cNvPicPr/>
          <p:nvPr/>
        </p:nvPicPr>
        <p:blipFill>
          <a:blip r:embed="rId2"/>
          <a:srcRect l="48902" t="21915" r="2291" b="21569"/>
          <a:stretch/>
        </p:blipFill>
        <p:spPr>
          <a:xfrm>
            <a:off x="380880" y="2133720"/>
            <a:ext cx="3886200" cy="3335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s://ds04.infourok.ru/uploads/ex/1093/000df342-283792cc/img4.jpg"/>
          <p:cNvPicPr/>
          <p:nvPr/>
        </p:nvPicPr>
        <p:blipFill>
          <a:blip r:embed="rId3"/>
          <a:srcRect l="11835" t="29774" r="11335" b="4583"/>
          <a:stretch/>
        </p:blipFill>
        <p:spPr>
          <a:xfrm>
            <a:off x="4572000" y="3733920"/>
            <a:ext cx="42670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https://ds05.infourok.ru/uploads/ex/09f5/0007496c-03c56319/img24.jpg"/>
          <p:cNvPicPr/>
          <p:nvPr/>
        </p:nvPicPr>
        <p:blipFill>
          <a:blip r:embed="rId2"/>
          <a:srcRect l="18847" t="19034" r="39389" b="0"/>
          <a:stretch/>
        </p:blipFill>
        <p:spPr>
          <a:xfrm>
            <a:off x="5943600" y="3352680"/>
            <a:ext cx="278928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s://ds05.infourok.ru/uploads/ex/0ab2/00126db9-c21486cf/1/hello_html_m3be07f95.jpg"/>
          <p:cNvPicPr/>
          <p:nvPr/>
        </p:nvPicPr>
        <p:blipFill>
          <a:blip r:embed="rId3"/>
          <a:stretch/>
        </p:blipFill>
        <p:spPr>
          <a:xfrm>
            <a:off x="1866960" y="3894120"/>
            <a:ext cx="3583080" cy="261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ttps://cf2.ppt-online.org/files2/slide/z/z6FEwHtKGPOByRnI2Td7r98vaZlxmL1bWfgjD4pqMk/slide-3.jpg"/>
          <p:cNvPicPr/>
          <p:nvPr/>
        </p:nvPicPr>
        <p:blipFill>
          <a:blip r:embed="rId4"/>
          <a:srcRect l="19366" t="0" r="18852" b="0"/>
          <a:stretch/>
        </p:blipFill>
        <p:spPr>
          <a:xfrm>
            <a:off x="6324480" y="152280"/>
            <a:ext cx="245268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04920" y="291960"/>
            <a:ext cx="5333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Чем занимаются осенью люди, вы узнаете, отгадав загадк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Что весною мы сажал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отом летом поливал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се, что осенью на грядка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оспевает: вкусно, сладко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Не зевай и собира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Наш осенний … (Урожа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1371600" y="2133720"/>
            <a:ext cx="7467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нтернет ресурс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andex.ru/turbo/deti-online.com/s/stihi/os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infourok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andex.ru/search/?clid=9582&amp;text=животные%20осенью%20картинки%20для%20детей&amp;l10n=ru&amp;lr=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70842795"/>
          <p:cNvPicPr/>
          <p:nvPr/>
        </p:nvPicPr>
        <p:blipFill>
          <a:blip r:embed="rId2"/>
          <a:stretch/>
        </p:blipFill>
        <p:spPr>
          <a:xfrm>
            <a:off x="304920" y="533520"/>
            <a:ext cx="6019560" cy="4825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6193800" y="987120"/>
            <a:ext cx="27396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Осень на ли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Смотрите все: во всей красе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Несётся осень на лисе.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И где лиса махнет хвостом,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Рыжеет все на месте том: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Окрасит рыжей кистью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Она траву и листья.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И станут рыжими кусты,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Тропинки, улицы, мосты,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Дома и поздние цветы…</a:t>
            </a:r>
            <a:br>
              <a:rPr sz="1400"/>
            </a:b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Смотри: не порыжей и ты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втор: Н. Волк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Какая бывает осен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1999"/>
          <p:cNvPicPr/>
          <p:nvPr/>
        </p:nvPicPr>
        <p:blipFill>
          <a:blip r:embed="rId2"/>
          <a:srcRect l="8071" t="0" r="22488" b="14999"/>
          <a:stretch/>
        </p:blipFill>
        <p:spPr>
          <a:xfrm>
            <a:off x="457200" y="2209680"/>
            <a:ext cx="2333520" cy="222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osen-zheltaya-listva-derevya"/>
          <p:cNvPicPr/>
          <p:nvPr/>
        </p:nvPicPr>
        <p:blipFill>
          <a:blip r:embed="rId3"/>
          <a:stretch/>
        </p:blipFill>
        <p:spPr>
          <a:xfrm>
            <a:off x="3581280" y="2209680"/>
            <a:ext cx="2021040" cy="221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unnamed"/>
          <p:cNvPicPr/>
          <p:nvPr/>
        </p:nvPicPr>
        <p:blipFill>
          <a:blip r:embed="rId4"/>
          <a:stretch/>
        </p:blipFill>
        <p:spPr>
          <a:xfrm>
            <a:off x="6248520" y="2209680"/>
            <a:ext cx="2438280" cy="2237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611280" y="47235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Ранняя осен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3686400" y="47235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Золотая ос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6266160" y="464760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Поздняя ос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6" descr="1999"/>
          <p:cNvPicPr/>
          <p:nvPr/>
        </p:nvPicPr>
        <p:blipFill>
          <a:blip r:embed="rId5"/>
          <a:srcRect l="8071" t="0" r="22488" b="14999"/>
          <a:stretch/>
        </p:blipFill>
        <p:spPr>
          <a:xfrm>
            <a:off x="457200" y="2209680"/>
            <a:ext cx="23335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img_user_file_5825c43943928_2"/>
          <p:cNvPicPr/>
          <p:nvPr/>
        </p:nvPicPr>
        <p:blipFill>
          <a:blip r:embed="rId2"/>
          <a:stretch/>
        </p:blipFill>
        <p:spPr>
          <a:xfrm>
            <a:off x="1371600" y="1371600"/>
            <a:ext cx="7238880" cy="495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6933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Запомни название осенних меся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590920" y="5133960"/>
            <a:ext cx="518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Если на деревьях листья пожелтел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Если в край далеки птицы улетел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Если небо хмурое, если дождик льется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Это время года осенью зове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Ранняя осен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1999"/>
          <p:cNvPicPr/>
          <p:nvPr/>
        </p:nvPicPr>
        <p:blipFill>
          <a:blip r:embed="rId2"/>
          <a:srcRect l="8071" t="0" r="22488" b="14999"/>
          <a:stretch/>
        </p:blipFill>
        <p:spPr>
          <a:xfrm>
            <a:off x="1371600" y="1295280"/>
            <a:ext cx="67816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osen-zheltaya-listva-derevya"/>
          <p:cNvPicPr/>
          <p:nvPr/>
        </p:nvPicPr>
        <p:blipFill>
          <a:blip r:embed="rId2"/>
          <a:stretch/>
        </p:blipFill>
        <p:spPr>
          <a:xfrm>
            <a:off x="304920" y="1341360"/>
            <a:ext cx="5029200" cy="4754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4800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Золотая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334120" y="1633320"/>
            <a:ext cx="38098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Смотрите все: во всей крас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Несётся осень на лис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где лиса махнет хвост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Рыжеет все на месте то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Окрасит рыжей кисть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Она траву и листь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станут рыжими куст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Тропинки, улицы, мост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Дома и поздние цветы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Смотри: не порыжей и ты!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-Подумаем почему осень называют золотой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С наступлением осени, солнечные лучи светят не так ярко и деревьям не хватает солнечного света. Листочки начинают менять свой ц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оздняя о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964480" y="2514960"/>
            <a:ext cx="295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Поздняя осень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Руки мерзнут в ноябр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олод, ветер на двор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Осень поздняя нес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Первый снег и перв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ле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11796"/>
          <p:cNvPicPr/>
          <p:nvPr/>
        </p:nvPicPr>
        <p:blipFill>
          <a:blip r:embed="rId2"/>
          <a:stretch/>
        </p:blipFill>
        <p:spPr>
          <a:xfrm>
            <a:off x="182520" y="1371600"/>
            <a:ext cx="568476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Природны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Картотека по развитию речи (младшая группа) на тему: Стихотворения про  осень для детей младшей группы ( 3 - 4лет). | Социальная сеть работников  образования"/>
          <p:cNvPicPr/>
          <p:nvPr/>
        </p:nvPicPr>
        <p:blipFill>
          <a:blip r:embed="rId2"/>
          <a:stretch/>
        </p:blipFill>
        <p:spPr>
          <a:xfrm>
            <a:off x="304920" y="1981080"/>
            <a:ext cx="1876320" cy="275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mg5"/>
          <p:cNvPicPr/>
          <p:nvPr/>
        </p:nvPicPr>
        <p:blipFill>
          <a:blip r:embed="rId3"/>
          <a:stretch/>
        </p:blipFill>
        <p:spPr>
          <a:xfrm>
            <a:off x="3124080" y="198108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11796"/>
          <p:cNvPicPr/>
          <p:nvPr/>
        </p:nvPicPr>
        <p:blipFill>
          <a:blip r:embed="rId4"/>
          <a:stretch/>
        </p:blipFill>
        <p:spPr>
          <a:xfrm>
            <a:off x="6324480" y="1981080"/>
            <a:ext cx="251964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242280" y="50284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Часто идут дож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048120" y="4798440"/>
            <a:ext cx="27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Появляются тума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Туман — это облако у поверхности зем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Образуется от перемены температур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По ночам и рано утр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081840" y="4798440"/>
            <a:ext cx="3062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Поздняя осень не радует нас яркими крас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Скоро зима. В конце осени можно увидеть перву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корочку изо льда на лужицах, первые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Осенняя реалистичная фоновая тема | Бесплатно вект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efcb5d6df766ac45767d2df63d035195ad54a1c9"/>
          <p:cNvPicPr/>
          <p:nvPr/>
        </p:nvPicPr>
        <p:blipFill>
          <a:blip r:embed="rId2"/>
          <a:stretch/>
        </p:blipFill>
        <p:spPr>
          <a:xfrm>
            <a:off x="609480" y="1219320"/>
            <a:ext cx="5253120" cy="5181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6248520" y="558360"/>
            <a:ext cx="266688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ночам и рано утр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истья в воздухе кружа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ихо на траву ложатс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брасывает листья сад —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 просто... (листопа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-Что такое листопад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С деревьев,  кружась в прохладном осеннем воздухе, облетают листья. Подует ветер, и листья закружатся в пестром хороводе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Осенью листья осыпаются, потом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что деревья и кустарники готовя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к долгому зимнему сну. В листьях з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лето накапливается немало вред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веществ. Опадая, они освобождаю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деревья от я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648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Times New Roman"/>
              </a:rPr>
              <a:t>Листопад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2T10:48:11Z</dcterms:created>
  <dc:creator>Oksana</dc:creator>
  <dc:description/>
  <dc:language>en-US</dc:language>
  <cp:lastModifiedBy>Oksana</cp:lastModifiedBy>
  <dcterms:modified xsi:type="dcterms:W3CDTF">2020-09-17T19:04:2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