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F03-66AD-43CA-995C-34E60BB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4CE-52D7-4166-ACBE-29F53C9A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C5A-8ACF-4C41-B998-52B21C09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ED9-3BE4-4F58-9ACA-21B7A9E1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E506-9EFD-4EC4-8984-CFC61642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EEA27-A5A8-4423-8E84-F52C3A3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FD791-F3E8-4153-8BCE-991E00F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6CAA1-8584-4E6D-A78F-5C6F385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39529-E9A3-44C3-86AD-C3C1E8D6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57AC-A72B-43A6-8270-D933CDAD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7BF4C-CA2F-4896-9E8F-3E7EA57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523-40E7-45A2-9051-E7D0F7D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AE333-1CA5-4FE1-9F4C-0A537FB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AAD5-061B-4A45-9CED-75A6D88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26BC-76ED-4E0C-AC2B-05ECDA7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5A71-23A7-4F94-9EA6-46A5AC46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AAE6-136D-45B2-8222-9E2DEDC4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6DA-8B47-49DD-B4A8-2CFDAFD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D76-F71F-4A14-9C52-08246811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3F0-818F-472D-B20F-2AE2079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53C-5685-4253-932A-6749F2B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87A-4883-491F-B781-B7D9035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6A8-7B47-4011-9045-FB33D24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3F3-978F-44CA-99DE-D149D98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0760" cy="19778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0760" cy="48736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5480" cy="853920"/>
            <a:chOff x="0" y="6019920"/>
            <a:chExt cx="7845480" cy="8539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0080" cy="8474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898800" cy="853920"/>
              <a:chOff x="3946680" y="6019920"/>
              <a:chExt cx="3898800" cy="8539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7880" cy="8427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1960" cy="623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7240" cy="4269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3360" cy="1252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08640" cy="8460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6360" cy="458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4160" cy="7887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09440" cy="939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2360" cy="25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0720" cy="936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5560" cy="3254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fld id="{6AAF70E1-3335-48C7-9317-E6D51808E3A9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1120" cy="6855120"/>
            <a:chOff x="-6480" y="20520"/>
            <a:chExt cx="9141120" cy="685512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1120" cy="1978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1120" cy="48736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0440" cy="847800"/>
            <a:chOff x="-1440" y="6033960"/>
            <a:chExt cx="7840440" cy="8478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78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4120" cy="847800"/>
              <a:chOff x="3944880" y="6033960"/>
              <a:chExt cx="3894120" cy="8478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360" y="6045120"/>
                <a:ext cx="1574640" cy="8366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3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6880" cy="4269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52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08640" cy="846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6360" cy="458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4160" cy="7887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09440" cy="939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2360" cy="25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0720" cy="936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5560" cy="3254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2263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fld id="{22BF9E16-0F40-4D5C-864E-8DE68B4C1D76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 Школы №1 г.Королёв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5В» класс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нитель проек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рокова Надеж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Зыкова Н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ивительное число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434040" cy="342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003640" y="49309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а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3141720"/>
          <a:ext cx="22352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22352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067280" y="2637000"/>
            <a:ext cx="3476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ц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с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л колес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улка из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вместо с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, что такое число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интересно число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ить собранный материал в виде иллюстрированной през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951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 проект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02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рать информацию о числ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 разных источ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работать эту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ть иллюстрации к тексту и оформить всё, как единое цел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 что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720" y="3716280"/>
          <a:ext cx="14223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3716280"/>
                    <a:ext cx="14223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788000" y="3933720"/>
          <a:ext cx="19047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933720"/>
                    <a:ext cx="190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08000" y="3789360"/>
            <a:ext cx="2448000" cy="1909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268280"/>
            <a:ext cx="66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с древних времён люди заметили, что длина любой окружности и её диаметр связаны друг с другом: будь то колесо или будь то гороши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заметили, что длина окружности больше её диаметра в одно и то же количество ра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1280" y="3573360"/>
          <a:ext cx="1439640" cy="217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3573360"/>
                    <a:ext cx="14396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древние учёные представляли это чис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19700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е известные примерные значения были получен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5120" y="1844640"/>
            <a:ext cx="20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рхим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 до н.э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3240" y="1844640"/>
            <a:ext cx="6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70160" y="3932280"/>
            <a:ext cx="30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Клавдий Птолем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 до н.э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30520" y="4508640"/>
            <a:ext cx="8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3860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Цзу Чунч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9240" y="4653000"/>
            <a:ext cx="8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363680" cy="1871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1415880" cy="1728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16720" y="1916280"/>
            <a:ext cx="143676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куда такое назва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7840" y="150480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добства вычислений примерно 300 лет назад учёные решили дать имя этому знач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637000"/>
            <a:ext cx="381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рали одну из букв греческого  алфавита: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933720"/>
            <a:ext cx="54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Число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- это отно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лины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её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диаметр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2133720"/>
            <a:ext cx="9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6000" y="3573360"/>
          <a:ext cx="304812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573360"/>
                    <a:ext cx="304812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значение имеет «число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1197000"/>
            <a:ext cx="338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несложных расчёт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,1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ри целых и четырнадцать сотых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2349360"/>
            <a:ext cx="3384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амых сложных вычислений достаточн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415926535897932384626433832795028841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3789360"/>
            <a:ext cx="32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е компьютеры рассчитали точность д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иллион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ков после запя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5383080" cy="471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277812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их вычислениях применяется «число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842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езд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де есть что-то круглое или закруглённое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ительство и архитек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2565360"/>
            <a:ext cx="28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ка и астроно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2160" y="4076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1760400" cy="268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232000" cy="16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211640" y="4437000"/>
          <a:ext cx="147960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437000"/>
                    <a:ext cx="14796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есть интересные факты вокруг «числа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076640"/>
            <a:ext cx="416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нь рожденья любог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нас скрыт внутри самого чис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й день рождения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88 14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484280"/>
            <a:ext cx="3990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числ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день рожд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24000" y="2701800"/>
            <a:ext cx="2401920" cy="1257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59280" y="1628640"/>
            <a:ext cx="40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нём сочиняют стихи и снимают филь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му ставят памя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2623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2T17:49:57Z</dcterms:created>
  <dc:creator>user</dc:creator>
  <dc:description/>
  <dc:language>en-US</dc:language>
  <cp:lastModifiedBy/>
  <dcterms:modified xsi:type="dcterms:W3CDTF">2020-09-17T14:35:40Z</dcterms:modified>
  <cp:revision>57</cp:revision>
  <dc:subject/>
  <dc:title>Слайд 1</dc:title>
</cp:coreProperties>
</file>