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4C1-A86D-41B4-AA09-651C89A1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8A9-1477-40BF-AB74-5B4DA066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C14-0A00-4AE5-86ED-BFE13D8B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DDD-3349-45D7-8BB9-AB3F79C2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678E-B531-49CC-B0BE-F12050BB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A8C1-E5BB-4817-9F16-ADB46BE5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5EFA-8114-472D-8914-9019EA44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A93C-D194-42EB-B6AD-B77FF4D6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3205-5CF0-4F02-AA6B-E815543F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4531-61FE-472D-885C-B6B33258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C757-15B8-44DF-9D97-5E00B146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98E-8B62-446D-88D5-D95DEF58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7415-DF88-4336-A813-84C59BE3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692F-A12C-44F9-8FA0-610FC12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334A-AC53-4C0D-8E5E-7DAFD07B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195D-F80B-427C-9E75-C9CD6EB5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9B52-6EA2-451A-A2A9-3C4695E1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A510-45B9-4019-A6A0-2FC163AA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4D20E-07DA-419E-B00A-0F015D14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AA9C-7B1A-45E1-9D39-6D6CB23F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1B9D-A813-4E06-A1FF-2FB533C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3BA3-0A18-443D-A48A-9167DE16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3A4-C328-495B-89F2-421EA9F7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9CD6-092C-401F-81DC-9CC9A225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8450-C9B8-41FF-AF50-FEBAC73D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4411-86EA-4B38-B4D2-9941AF54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E2FA-ED93-4457-BAD6-EE3FF4AB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D736-06AE-4606-B97B-346DC390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8875-7558-4E8E-A697-15A25826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98233-4DAE-4CB7-95C5-5618A84D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EADE9-B032-4405-83A2-38539A10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294C-8F37-4A3B-9D7F-D01E40EF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4203-7C6F-4DDC-BB8A-592D12FA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EDF-A2C1-4BB1-9A85-BBDBD59A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EF21C-3F86-4736-A8F8-C88F5134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2A07D-0F9F-402B-BCB0-76130097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ADFDC-277A-430E-9BC5-6CE4818D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16F5E-5DE8-4AAD-BEA3-57898E6B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A1FC-A57D-49A0-8B94-602C8D7D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56218-7AC0-48A5-8861-1A5F37C8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AA363-B5B7-4F70-B86E-CCD1D4EF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B5A2-1145-4D02-B50A-CC797DE4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DA6FF-1261-4566-B30F-7A2E3304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90E-310B-4414-AE33-BE2D4607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0A5-88C6-4C7C-AD66-C2D9A93D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B6E-A321-4CA5-9166-6F15744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3E3-A33B-4952-9385-AB7D08D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523-3F8C-44C7-A249-19100ED1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D391-0919-4E9F-B6D9-C7E92D6DA8F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DF85-4AC0-4D73-9087-0FD9254CB6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CD59-0C0C-42C6-812F-C5C919418A0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29FE-ED3D-486A-ACE8-91AD01027ED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Гимнастика для гла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85480" y="785520"/>
            <a:ext cx="864396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пражнение 13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идя, при закрытых веках. Голова неподвижна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1-поднять глаза кверху; 2-опустить глаза книзу; 3-повернуть глаза вправо; 4-повернуть глаза влево. Повторить 6-8 раз. Упражнение развивает способность глазных мышц к статическому напряжению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пражнение 14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тоя. Ноги на ширине плеч. 1-опустить голову, посмотреть на носок левой ноги; 2-поднять голову, посмотреть в правый верхний угол комнаты; 3-опустить голову, посмотреть на носок правой ноги; 4-поднять голову, посмотреть в левый верхний угол комнаты. Повторить 3-4 раза. Упражнение способствует улучшению координации движений глаз и головы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пражнение 15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тоя. 1-вытянуть руки вперед на ширину плеч и на уровне глаз; 2-посмотреть в правый верхний угол комнаты; 3-перевести взор на кончики пальцев за левой руки; 4-посмотреть в левый верхний угол комнаты;       5- перевести взор на кончики пальцев правой руки. Повторить 3-4 раза. Упражнение развивает сложные координационные движения глаз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пражнение 16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тоя. 1 -смотреть    вдаль (на стену),2-мысленно разделить расстояние до стены на две равные части, наметить соответствующую точку и перевести взор на эту точку; 3-мысленно разделить расстояние до точки пополам, наметить вторую точку и перевести на нее взор; 4-мысленно разделить расстояние до второй точки пополам, наметить третью точку и перевести на нее взор. Повторить 8-10 раз. Упражнение развивает способность к оценке расстояний и координирует работу внутренней и наружных мышц глаз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ключ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90% информации об окружающем мире мы получаем от зрения - это уникальный дар природы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тандартные заболевания зрения - близорукость, дальнозоркость, астигматизм - есть не что иное, как аномалии рефракции глаза. Смотрите: изображение, которое мы видим, на самом деле отпечатывается на сетчатке глаза, куда его посылают световые лучи, исходящие от самого предмета. Оно должно оказаться в самом центре сетчатки; только в этом случае можно сказать, что у человека хорошее зрение. Однако некоторые могут видеть значительно дальше и острее, чем обычные люди, и зрение у них значительно выше нормы. Если же у человека нарушается прозрачность оптических частей глаза, таких как хрусталик, роговица, то зрение "садится", то есть оказывается ниже нормы. Это происходит потому, что на сетчатку попадает нечеткое изображение, каким оно в итоге и предстает человек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рение - главное связующее звено между человеком и окружающим его миром. Разве можно относиться к нему так безалаберно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ботиться о здоровом зрении нужно как можно раньше и тщательнее. Для этого нужно всего лишь регулярно проходить обследование и соблюдать несложные правил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вед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0040" y="14288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идячий образ жизни, долговременная работа с вычислительной техникой, малоподвижность, постоянное пребывание в помещении, нервные расстройства и т.д. – все это может привести к сильным осложнениям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иопии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стигматизму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слоению сетчатой оболочки и другим проблемам со зрение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Рисунок 3" descr="1226171714_51.jpg"/>
          <p:cNvPicPr/>
          <p:nvPr/>
        </p:nvPicPr>
        <p:blipFill>
          <a:blip r:embed="rId1"/>
          <a:stretch/>
        </p:blipFill>
        <p:spPr>
          <a:xfrm>
            <a:off x="2857680" y="4572000"/>
            <a:ext cx="264312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9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поддержания достойного уровня зрения применяются методики расслабления и коррекции зрения, число которых достаточно велик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 избежание проблем со зрением рекомендуе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ения для глаз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гулярное посещение специалис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3" descr="5900.jpg"/>
          <p:cNvPicPr/>
          <p:nvPr/>
        </p:nvPicPr>
        <p:blipFill>
          <a:blip r:embed="rId1"/>
          <a:stretch/>
        </p:blipFill>
        <p:spPr>
          <a:xfrm>
            <a:off x="3000240" y="46432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13840" y="856800"/>
            <a:ext cx="8472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ледует обратить внимание, что упражнения для глаз, как и любой другой вид гимнастики, несут пользу лишь в том случае, если выполнять их правильно, регулярно и длительно. Лишь соблюдение этих правил помогут достичь Вам желаемого результат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4" descr="pic00218.jpg"/>
          <p:cNvPicPr/>
          <p:nvPr/>
        </p:nvPicPr>
        <p:blipFill>
          <a:blip r:embed="rId1"/>
          <a:stretch/>
        </p:blipFill>
        <p:spPr>
          <a:xfrm>
            <a:off x="642960" y="2714760"/>
            <a:ext cx="2786040" cy="1620720"/>
          </a:xfrm>
          <a:prstGeom prst="rect">
            <a:avLst/>
          </a:prstGeom>
          <a:ln w="0">
            <a:noFill/>
          </a:ln>
        </p:spPr>
      </p:pic>
      <p:sp>
        <p:nvSpPr>
          <p:cNvPr id="203" name="Стрелка вправо с вырезом 5"/>
          <p:cNvSpPr/>
          <p:nvPr/>
        </p:nvSpPr>
        <p:spPr>
          <a:xfrm>
            <a:off x="3571920" y="3357720"/>
            <a:ext cx="1500120" cy="500040"/>
          </a:xfrm>
          <a:custGeom>
            <a:avLst/>
            <a:gdLst>
              <a:gd name="textAreaLeft" fmla="*/ 124920 w 1500120"/>
              <a:gd name="textAreaRight" fmla="*/ 1375200 w 150012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8" descr="1202902118_82303.jpg"/>
          <p:cNvPicPr/>
          <p:nvPr/>
        </p:nvPicPr>
        <p:blipFill>
          <a:blip r:embed="rId2"/>
          <a:stretch/>
        </p:blipFill>
        <p:spPr>
          <a:xfrm>
            <a:off x="5143680" y="2928960"/>
            <a:ext cx="3254040" cy="14288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9"/>
          <p:cNvSpPr/>
          <p:nvPr/>
        </p:nvSpPr>
        <p:spPr>
          <a:xfrm>
            <a:off x="1285920" y="46432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что Вам нравится б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500040" y="52149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лее Вам будут предложены комплексы упражнений для поддержания красоты и здоровья Ваших глаз. Выберите тот, который подходит именно Вам или ежедневно меняйте упражнени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Упражнения для глаз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(гимнастика по Колпакову С.П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164268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.п.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сидя на стуле, выпрямив спину. Согнутые в локтях руки поставьте на стол. Закройте глаза и приложите к ним пальцы. Все упражнения выполняйте с закрытыми глазами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дленно поднимите глаз кверху и задержите их в этом положении, сосчитав до 5. Затем медленно посмотрите вперед на счет 1. Повторите движение глаз вверх и вперед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верните глаза влево, затем вправо с  максимальной амплитудой, фиксируя их в этих положениях на счет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верните глаза влево с максимальной амплитудой на счет до 1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верните глаза вправо с максимальной амплитудой на счет до 1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смотрите вперед. На счет 1 сведите глаза к переносице и указательными пальцами помогите довести это движение до того момента, когда почувствуете напряжение в мышцах глаз. На счет до 5 разведите глаза в разные стороны и также помогите пальцами довести это движение до того момента, когда почувствуете напряжение в мышцах глаз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жмурьтесь и задержитесь в таком положении на счет до 6. Затем расслабьте мимические мышцы лица, откройте глаза и сохраните это положение на счет до 3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42920" y="500040"/>
            <a:ext cx="85723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ждое упражнение повторите в первый день 3 раза, во второй-5 раз, в третий – по 7 раз. Затем число повторений уменьшайте: на 4й день каждое упражнение выполняйте по 5 раз, на пятый— по 3 раза. Схематически количество повторений упражнений, выполняемых в течение 5 дней, можно представить следующим образом: 3-5-7-5-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сли глаза начнут побаливать, надо сделать перерыв, пока боль не исчезнет. После этого выполнять упражнения с меньшим числом повторений:3-5-5-3-3.  Весь комплекс ( упражнений для глаз) надо выполнять 5-10 дней, а страдающим близорукостью- 10-12 дней. Курс следует проводить один раз в месяц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Рисунок 6" descr="1.jpg"/>
          <p:cNvPicPr/>
          <p:nvPr/>
        </p:nvPicPr>
        <p:blipFill>
          <a:blip r:embed="rId1"/>
          <a:stretch/>
        </p:blipFill>
        <p:spPr>
          <a:xfrm>
            <a:off x="4000680" y="3714840"/>
            <a:ext cx="1500120" cy="2255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анжела\Рабочий стол\презентация\hvan_88.jpg"/>
          <p:cNvPicPr/>
          <p:nvPr/>
        </p:nvPicPr>
        <p:blipFill>
          <a:blip r:embed="rId2"/>
          <a:stretch/>
        </p:blipFill>
        <p:spPr>
          <a:xfrm>
            <a:off x="6357960" y="4286160"/>
            <a:ext cx="2089080" cy="1490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Documents and Settings\анжела\Рабочий стол\презентация\hvan_86.jpg"/>
          <p:cNvPicPr/>
          <p:nvPr/>
        </p:nvPicPr>
        <p:blipFill>
          <a:blip r:embed="rId3"/>
          <a:stretch/>
        </p:blipFill>
        <p:spPr>
          <a:xfrm>
            <a:off x="785880" y="4286160"/>
            <a:ext cx="26463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Гимнастика для гла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07136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ыполняется сидя. Крепко зажмурить глаза на 3-5 секунд. Затем открыть глаза на 3-5 секунд. Повторить 6-8 раз. Упражнение укрепляет мышцы век, способствует улучшению кровообращения и расслаблению мышц глаз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2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идя. Быстро моргать в течение 1-2 минут. Упражнение способствует улучшению кровообращ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3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тоя. 1 -смотреть вдаль прямо перед собой 2-3 секунды; 2-поставить палец руки по средней линии лица на расстоянии 25-30 сантиметров от глаз; 3-перевести взор на конец пальца и смотреть на него 3-5 секунд; 4-опустить руку. Повторить 10-12 раз. Упражнение снижает утомление аккомодационной мышцы и облегчает зрительную работу на близком расстоян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4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идя. 1-закрыть веки; 2-массировать их с помощью круговых движений пальца (верхнее веко - от носа к наружному краю глаза, нижнее веко - от наружного края к носу, затем наоборот). Повторять в течение 1 минуты. Упражнение расслабляет мышцы и улучшает кровообращ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Гимнастика для гла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85480" y="7858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пражнение 5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тоя. 1-поставить палец правой руки по средней линии лица на расстоянии 25-30 сантиметров от глаз; 2-смотреть двумя глазами на конец пальца 3-5 секунд; 3-прикрыть ладонью левой руки левый глаз на 3-5 секунд; 4-убрать ладонь, смотреть двумя глазами на конец пальца 3-5 секунд; 5-поставить палец левой руки по средней линии лица на расстоянии 25-30 сантиметров от глаз; 6-смотреть двумя глазами на конец пальца 3-5 секунд; 7-прикрыть ладонью правой руки правый глаз на 3-5 секунд; 8 -убрать ладонь, смотреть двумя глазами на конец пальца 3-5 секунд. Повторить 5-6 раз. Упражнение способствует объединенной работе обоих глаз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Упражнение 6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тоя. Голова неподвижна. 1 -отвести полусогнутую правую руку в сторону; 2-медленно передвигать палец справа налево и следить глазами за пальцем; 3-медленно передвигать палец полусогнутой руки слева направо и следить глазами за пальцем. Повторить 10-12 раз. Упражнение укрепляет мышцы глаза горизонтального действия и совершенствует их координацию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Упражнение 7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идя. 1 - тремя пальцами каждой руки легко нажать на верхнее веко соответствующего глаза; 2-спустя 1-2 секунды снять пальцы с век. Повторить 3-4 раза. Упражнение улучшает циркуляцию внутриглазной жидкости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Упражнение 8.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ыполняется сидя. 1-смотреть вдаль прямо перед собой 2-3 секунды; 2-перевести взор на кончик носа на 3-5 секунд. Повторить 6-8 раз. Упражнение развивает способность длительно удерживать взор на близких предметах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Гимнастика для гла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85480" y="785520"/>
            <a:ext cx="864396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9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ыполняется стоя. Голова неподвижна. 1 –поднять полусогнутую правую руку вверх; 2-медленно передвигать палец сверху вниз и следить за ним глазами; 3-медленно передвигать палец снизу вверх и следить за ним глазами. Повторить 10-12 раз. Упражнение укрепляет мышцы глаза вертикального действия и совершенствует их координацию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10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идя, Голова неподвижна. 1-вытянуть полусогнутую руку вперед и вправо; 2 -производить рукой на расстоянии 40-50 см от глаз медленные круговые движения по часовой стрелке и следить при этом глазами за концом пальца; 3, 4-проделать то же упражнение левой рукой, совершая ею круговые движения против часовой стрелки. Повторить 3-6 раз. Упражнение развивает координацию сложных движений глаз и способствует укреплению вестибулярного аппарат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Упражнение 11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тоя. Голова неподвижна. 1-поднять глаза кверху; 2-опустить их книзу 3-повернуть глаза в правую сторону; 4-повернуть глаза в левую сторону. Повторить 6-8 раз. Упражнение совершенствует сложные движения глаз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жнение 12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полняется сидя. Голова неподвижна. 1 -поднять глаза кверху; 2-сделать ими круговые движения по часовой стрелке; 3-сделать круговые движения против часовой стрелки. Повторить 3-6 раз. Упражнение   способствует развитию сложных движений глаз и повышает устойчивость вестибулярных реакц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5-02-23T19:31:29Z</dcterms:modified>
  <cp:revision>92</cp:revision>
  <dc:subject/>
  <dc:title>Упражнения для глаз</dc:title>
</cp:coreProperties>
</file>