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DC9-194F-4023-93B7-1DEDE2DC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39C-0F3B-4330-BEC7-5119F28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A33-E8FF-4270-AA6A-20B56FBC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76C-2E38-4BED-9D4C-4FA9C44E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6CA-E6C1-4D23-BE61-26CAA36E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E8D7-D9BF-4F2B-AADD-0794C78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BA68-0C52-4537-B83A-3EC7101F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B96-4CFD-475E-88E4-7CC53FF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E7E-E149-4A45-A125-7CD6F86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00EA-E956-4393-99CD-8D5CF1BA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7751-D335-4CC0-8C7E-E04CCE4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FFB-C552-4A72-9399-78642CE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B4D-B65E-4F4C-80C2-EAE9843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BB4-AA83-427A-8478-E1A8692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E7B2-83AD-420A-8BCF-CD8E2A0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B24-0740-4313-912E-09E4B770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28B4-C45D-467D-9527-442557EB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D65B-1549-44ED-BF5D-2D0F3988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10DD-261C-4C55-9E07-0B0953E5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9077-2FAF-42FF-B9CC-0DA232B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F82D-AE6A-40EC-923C-9EF95BB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9061-1C86-4198-8F77-F80858B8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B6E-0912-452B-9064-C6FEEBD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B4BB-1FD5-4472-8EE2-55FAAE3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3022-7D7F-47D8-BE22-E3A3260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596F-4C45-4C78-8684-00263E6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326F-4940-4FBA-8B8F-0BBF126A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FD0F-A237-4D65-8AC3-4C2B8C3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34F6-FA51-4656-9544-E8036E8C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E5A8-2278-4DC8-A810-7DCD3BC5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C434-EE03-4B2D-BD24-875CBAF2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BF29-A031-4298-BDE5-62D150A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B5CC-AF95-4633-840D-596CA0C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1EE-7A53-4B90-87A9-79DA027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518A-2205-421F-874E-A270614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9831-CEEC-453E-A10B-FFD1BB4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B21F-F082-43BB-B02E-10FDB28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BE8A-3730-4F16-8BD4-B07CEA9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165F-8B7A-4602-8C91-A68A734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C003-0C30-43D8-8FE9-EF2DF9A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7B16-C556-4409-9C2A-5ABC6E0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0760-04D3-4700-8457-9E7ACD08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E827-80F4-44FD-96B5-AC3CD173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DF9-303E-4A36-B0E5-B422BD0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D17-E0C6-44E7-8ED0-1A935DA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58E-E500-4120-805D-A73B35D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EB1-2E5F-4B1D-93B7-0D010A8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3F5-7020-474F-ADFE-3AF405C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562-6283-4588-A6BB-F9E7D1F257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57A0-B610-4349-9811-F877D2A6DE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64AF-8D57-4C64-BC78-F169A2DF7E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C7CF-6552-4DBC-8E3C-C7B4D8CAEF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5480" y="785520"/>
            <a:ext cx="864396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3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, при закрытых веках. Голова неподвижна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-поднять глаза кверху; 2-опустить глаза книзу; 3-повернуть глаза вправо; 4-повернуть глаза влево. Повторить 6-8 раз. Упражнение развивает способность глазных мышц к статическому напряжению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4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Ноги на ширине плеч. 1-опустить голову, посмотреть на носок левой ноги; 2-поднять голову, посмотреть в правый верхний угол комнаты; 3-опустить голову, посмотреть на носок правой ноги; 4-поднять голову, посмотреть в левый верхний угол комнаты. Повторить 3-4 раза. Упражнение способствует улучшению координации движений глаз и голов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5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-вытянуть руки вперед на ширину плеч и на уровне глаз; 2-посмотреть в правый верхний угол комнаты; 3-перевести взор на кончики пальцев за левой руки; 4-посмотреть в левый верхний угол комнаты;       5- перевести взор на кончики пальцев правой руки. Повторить 3-4 раза. Упражнение развивает сложные координационные движения глаз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6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 -смотреть    вдаль (на стену),2-мысленно разделить расстояние до стены на две равные части, наметить соответствующую точку и перевести взор на эту точку; 3-мысленно разделить расстояние до точки пополам, наметить вторую точку и перевести на нее взор; 4-мысленно разделить расстояние до второй точки пополам, наметить третью точку и перевести на нее взор. Повторить 8-10 раз. Упражнение развивает способность к оценке расстояний и координирует работу внутренней и наружных мышц глаз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90% информации об окружающем мире мы получаем от зрения - это уникальный дар природ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андартные заболевания зрения - близорукость, дальнозоркость, астигматизм - есть не что иное, как аномалии рефракции глаза. Смотрите: изображение, которое мы видим, на самом деле отпечатывается на сетчатке глаза, куда его посылают световые лучи, исходящие от самого предмета. Оно должно оказаться в самом центре сетчатки; только в этом случае можно сказать, что у человека хорошее зрение. Однако некоторые могут видеть значительно дальше и острее, чем обычные люди, и зрение у них значительно выше нормы. Если же у человека нарушается прозрачность оптических частей глаза, таких как хрусталик, роговица, то зрение "садится", то есть оказывается ниже нормы. Это происходит потому, что на сетчатку попадает нечеткое изображение, каким оно в итоге и предстает челове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рение - главное связующее звено между человеком и окружающим его миром. Разве можно относиться к нему так безалаберно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ботиться о здоровом зрении нужно как можно раньше и тщательнее. Для этого нужно всего лишь регулярно проходить обследование и соблюдать несложные правил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дячий образ жизни, долговременная работа с вычислительной техникой, малоподвижность, постоянное пребывание в помещении, нервные расстройства и т.д. – все это может привести к сильным осложнениям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оп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стигматизму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слоению сетчатой оболочки и другим проблемам со зр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3" descr="1226171714_51.jpg"/>
          <p:cNvPicPr/>
          <p:nvPr/>
        </p:nvPicPr>
        <p:blipFill>
          <a:blip r:embed="rId1"/>
          <a:stretch/>
        </p:blipFill>
        <p:spPr>
          <a:xfrm>
            <a:off x="2857680" y="4572000"/>
            <a:ext cx="26431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оддержания достойного уровня зрения применяются методики расслабления и коррекции зрения, число которых достаточно вели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 избежание проблем со зрением рекоменду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ения для глаз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улярное посещение специали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5900.jpg"/>
          <p:cNvPicPr/>
          <p:nvPr/>
        </p:nvPicPr>
        <p:blipFill>
          <a:blip r:embed="rId1"/>
          <a:stretch/>
        </p:blipFill>
        <p:spPr>
          <a:xfrm>
            <a:off x="3000240" y="46432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13840" y="856800"/>
            <a:ext cx="8472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ледует обратить внимание, что упражнения для глаз, как и любой другой вид гимнастики, несут пользу лишь в том случае, если выполнять их правильно, регулярно и длительно. Лишь соблюдение этих правил помогут достичь Вам желаемого результат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4" descr="pic00218.jpg"/>
          <p:cNvPicPr/>
          <p:nvPr/>
        </p:nvPicPr>
        <p:blipFill>
          <a:blip r:embed="rId1"/>
          <a:stretch/>
        </p:blipFill>
        <p:spPr>
          <a:xfrm>
            <a:off x="642960" y="2714760"/>
            <a:ext cx="2786040" cy="1620720"/>
          </a:xfrm>
          <a:prstGeom prst="rect">
            <a:avLst/>
          </a:prstGeom>
          <a:ln w="0">
            <a:noFill/>
          </a:ln>
        </p:spPr>
      </p:pic>
      <p:sp>
        <p:nvSpPr>
          <p:cNvPr id="203" name="Стрелка вправо с вырезом 5"/>
          <p:cNvSpPr/>
          <p:nvPr/>
        </p:nvSpPr>
        <p:spPr>
          <a:xfrm>
            <a:off x="3571920" y="3357720"/>
            <a:ext cx="1500120" cy="500040"/>
          </a:xfrm>
          <a:custGeom>
            <a:avLst/>
            <a:gdLst>
              <a:gd name="textAreaLeft" fmla="*/ 124920 w 1500120"/>
              <a:gd name="textAreaRight" fmla="*/ 1375200 w 15001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8" descr="1202902118_82303.jpg"/>
          <p:cNvPicPr/>
          <p:nvPr/>
        </p:nvPicPr>
        <p:blipFill>
          <a:blip r:embed="rId2"/>
          <a:stretch/>
        </p:blipFill>
        <p:spPr>
          <a:xfrm>
            <a:off x="5143680" y="2928960"/>
            <a:ext cx="3254040" cy="142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1285920" y="46432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что Вам нравится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500040" y="52149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лее Вам будут предложены комплексы упражнений для поддержания красоты и здоровья Ваших глаз. Выберите тот, который подходит именно Вам или ежедневно меняйте упражнени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пражнения для глаз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гимнастика по Колпакову С.П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16426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.п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сидя на стуле, выпрямив спину. Согнутые в локтях руки поставьте на стол. Закройте глаза и приложите к ним пальцы. Все упражнения выполняйте с закрытыми глазами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ленно поднимите глаз кверху и задержите их в этом положении, сосчитав до 5. Затем медленно посмотрите вперед на счет 1. Повторите движение глаз вверх и впере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лево, затем вправо с  максимальной амплитудой, фиксируя их в этих положениях на счет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лево с максимальной амплитудой на счет до 1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право с максимальной амплитудой на счет до 1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смотрите вперед. На счет 1 сведите глаза к переносице и указательными пальцами помогите довести это движение до того момента, когда почувствуете напряжение в мышцах глаз. На счет до 5 разведите глаза в разные стороны и также помогите пальцами довести это движение до того момента, когда почувствуете напряжение в мышцах гла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жмурьтесь и задержитесь в таком положении на счет до 6. Затем расслабьте мимические мышцы лица, откройте глаза и сохраните это положение на счет до 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42920" y="500040"/>
            <a:ext cx="8572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ждое упражнение повторите в первый день 3 раза, во второй-5 раз, в третий – по 7 раз. Затем число повторений уменьшайте: на 4й день каждое упражнение выполняйте по 5 раз, на пятый— по 3 раза. Схематически количество повторений упражнений, выполняемых в течение 5 дней, можно представить следующим образом: 3-5-7-5-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сли глаза начнут побаливать, надо сделать перерыв, пока боль не исчезнет. После этого выполнять упражнения с меньшим числом повторений:3-5-5-3-3.  Весь комплекс ( упражнений для глаз) надо выполнять 5-10 дней, а страдающим близорукостью- 10-12 дней. Курс следует проводить один раз в месяц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6" descr="1.jpg"/>
          <p:cNvPicPr/>
          <p:nvPr/>
        </p:nvPicPr>
        <p:blipFill>
          <a:blip r:embed="rId1"/>
          <a:stretch/>
        </p:blipFill>
        <p:spPr>
          <a:xfrm>
            <a:off x="4000680" y="3714840"/>
            <a:ext cx="1500120" cy="2255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анжела\Рабочий стол\презентация\hvan_88.jpg"/>
          <p:cNvPicPr/>
          <p:nvPr/>
        </p:nvPicPr>
        <p:blipFill>
          <a:blip r:embed="rId2"/>
          <a:stretch/>
        </p:blipFill>
        <p:spPr>
          <a:xfrm>
            <a:off x="6357960" y="4286160"/>
            <a:ext cx="2089080" cy="149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анжела\Рабочий стол\презентация\hvan_86.jpg"/>
          <p:cNvPicPr/>
          <p:nvPr/>
        </p:nvPicPr>
        <p:blipFill>
          <a:blip r:embed="rId3"/>
          <a:stretch/>
        </p:blipFill>
        <p:spPr>
          <a:xfrm>
            <a:off x="785880" y="4286160"/>
            <a:ext cx="26463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07136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ыполняется сидя. Крепко зажмурить глаза на 3-5 секунд. Затем открыть глаза на 3-5 секунд. Повторить 6-8 раз. Упражнение укрепляет мышцы век, способствует улучшению кровообращения и расслаблению мышц глаз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2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Быстро моргать в течение 1-2 минут. Упражнение способствует улучшению кровообращ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3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тоя. 1 -смотреть вдаль прямо перед собой 2-3 секунды; 2-поставить палец руки по средней линии лица на расстоянии 25-30 сантиметров от глаз; 3-перевести взор на конец пальца и смотреть на него 3-5 секунд; 4-опустить руку. Повторить 10-12 раз. Упражнение снижает утомление аккомодационной мышцы и облегчает зрительную работу на близком расстоян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4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1-закрыть веки; 2-массировать их с помощью круговых движений пальца (верхнее веко - от носа к наружному краю глаза, нижнее веко - от наружного края к носу, затем наоборот). Повторять в течение 1 минуты. Упражнение расслабляет мышцы и улучшает кровообращ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7858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5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-поставить палец правой руки по средней линии лица на расстоянии 25-30 сантиметров от глаз; 2-смотреть двумя глазами на конец пальца 3-5 секунд; 3-прикрыть ладонью левой руки левый глаз на 3-5 секунд; 4-убрать ладонь, смотреть двумя глазами на конец пальца 3-5 секунд; 5-поставить палец левой руки по средней линии лица на расстоянии 25-30 сантиметров от глаз; 6-смотреть двумя глазами на конец пальца 3-5 секунд; 7-прикрыть ладонью правой руки правый глаз на 3-5 секунд; 8 -убрать ладонь, смотреть двумя глазами на конец пальца 3-5 секунд. Повторить 5-6 раз. Упражнение способствует объединенной работе обоих глаз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6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Голова неподвижна. 1 -отвести полусогнутую правую руку в сторону; 2-медленно передвигать палец справа налево и следить глазами за пальцем; 3-медленно передвигать палец полусогнутой руки слева направо и следить глазами за пальцем. Повторить 10-12 раз. Упражнение укрепляет мышцы глаза горизонтального действия и совершенствует их координацию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7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. 1 - тремя пальцами каждой руки легко нажать на верхнее веко соответствующего глаза; 2-спустя 1-2 секунды снять пальцы с век. Повторить 3-4 раза. Упражнение улучшает циркуляцию внутриглазной жидкост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8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. 1-смотреть вдаль прямо перед собой 2-3 секунды; 2-перевести взор на кончик носа на 3-5 секунд. Повторить 6-8 раз. Упражнение развивает способность длительно удерживать взор на близких предметах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480" y="785520"/>
            <a:ext cx="864396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9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ыполняется стоя. Голова неподвижна. 1 –поднять полусогнутую правую руку вверх; 2-медленно передвигать палец сверху вниз и следить за ним глазами; 3-медленно передвигать палец снизу вверх и следить за ним глазами. Повторить 10-12 раз. Упражнение укрепляет мышцы глаза вертикального действия и совершенствует их координацию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0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, Голова неподвижна. 1-вытянуть полусогнутую руку вперед и вправо; 2 -производить рукой на расстоянии 40-50 см от глаз медленные круговые движения по часовой стрелке и следить при этом глазами за концом пальца; 3, 4-проделать то же упражнение левой рукой, совершая ею круговые движения против часовой стрелки. Повторить 3-6 раз. Упражнение развивает координацию сложных движений глаз и способствует укреплению вестибулярного аппарат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Упражнение 11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тоя. Голова неподвижна. 1-поднять глаза кверху; 2-опустить их книзу 3-повернуть глаза в правую сторону; 4-повернуть глаза в левую сторону. Повторить 6-8 раз. Упражнение совершенствует сложные движения глаз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2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Голова неподвижна. 1 -поднять глаза кверху; 2-сделать ими круговые движения по часовой стрелке; 3-сделать круговые движения против часовой стрелки. Повторить 3-6 раз. Упражнение   способствует развитию сложных движений глаз и повышает устойчивость вестибулярных реакц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2-23T19:31:29Z</dcterms:modified>
  <cp:revision>92</cp:revision>
  <dc:subject/>
  <dc:title>Упражнения для глаз</dc:title>
</cp:coreProperties>
</file>