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9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8DD-60FC-488E-A344-361881EA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579-E36C-4B85-9BED-3FAE3A44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E78-B511-4FAC-8531-B2A0A5F1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5DD-EA59-4884-9233-55984A9A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3CA-2387-4591-AEAB-200B1859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75A-7BDF-4B2B-A4DB-F146793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89F-9211-44C7-A8F8-AE320DD8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D36-9448-47FA-AC30-121FF4B2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2A3-680F-4BFB-9AA3-7E66348E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2BB-189C-40DA-9809-EED47FF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AEF-AD54-405A-A9E3-B58A858E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546-2AE0-49FA-9F8E-794F528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D2A6-C635-4004-BBE1-D56F7B423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857840" y="4000680"/>
            <a:ext cx="3889440" cy="2595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9" descr=""/>
          <p:cNvPicPr/>
          <p:nvPr/>
        </p:nvPicPr>
        <p:blipFill>
          <a:blip r:embed="rId3"/>
          <a:stretch/>
        </p:blipFill>
        <p:spPr>
          <a:xfrm>
            <a:off x="1925640" y="212760"/>
            <a:ext cx="6858000" cy="348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0" y="1503360"/>
            <a:ext cx="35719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LENOVО\Desktop\img20.jpg"/>
          <p:cNvPicPr/>
          <p:nvPr/>
        </p:nvPicPr>
        <p:blipFill>
          <a:blip r:embed="rId2"/>
          <a:srcRect l="3962" t="0" r="36674" b="0"/>
          <a:stretch/>
        </p:blipFill>
        <p:spPr>
          <a:xfrm>
            <a:off x="4000680" y="857160"/>
            <a:ext cx="4760640" cy="6000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14200" y="3929040"/>
            <a:ext cx="3714840" cy="2531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ва года провел Мефодий в тюрьме, но не отказался от славянских кн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extBox 6" descr=""/>
          <p:cNvPicPr/>
          <p:nvPr/>
        </p:nvPicPr>
        <p:blipFill>
          <a:blip r:embed="rId3"/>
          <a:stretch/>
        </p:blipFill>
        <p:spPr>
          <a:xfrm>
            <a:off x="2664000" y="-30240"/>
            <a:ext cx="33159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LENOVО\Desktop\img_phpxGhhLK_Den-slavyanskoj-pismennosti-i-kultury_25.jpg"/>
          <p:cNvPicPr/>
          <p:nvPr/>
        </p:nvPicPr>
        <p:blipFill>
          <a:blip r:embed="rId2"/>
          <a:srcRect l="0" t="23050" r="0" b="0"/>
          <a:stretch/>
        </p:blipFill>
        <p:spPr>
          <a:xfrm>
            <a:off x="500040" y="1785960"/>
            <a:ext cx="8128080" cy="46911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8" descr=""/>
          <p:cNvPicPr/>
          <p:nvPr/>
        </p:nvPicPr>
        <p:blipFill>
          <a:blip r:embed="rId3"/>
          <a:stretch/>
        </p:blipFill>
        <p:spPr>
          <a:xfrm>
            <a:off x="1359000" y="212760"/>
            <a:ext cx="73580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4" descr=""/>
          <p:cNvPicPr/>
          <p:nvPr/>
        </p:nvPicPr>
        <p:blipFill>
          <a:blip r:embed="rId2"/>
          <a:stretch/>
        </p:blipFill>
        <p:spPr>
          <a:xfrm>
            <a:off x="2498760" y="212760"/>
            <a:ext cx="6072120" cy="111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LENOVО\Desktop\99997980_5158259_img429.jpg"/>
          <p:cNvPicPr/>
          <p:nvPr/>
        </p:nvPicPr>
        <p:blipFill>
          <a:blip r:embed="rId3"/>
          <a:stretch/>
        </p:blipFill>
        <p:spPr>
          <a:xfrm>
            <a:off x="2462040" y="1482840"/>
            <a:ext cx="611064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LENOVО\Desktop\photo_1149_big_1000x1000_caf.jpg"/>
          <p:cNvPicPr/>
          <p:nvPr/>
        </p:nvPicPr>
        <p:blipFill>
          <a:blip r:embed="rId2"/>
          <a:stretch/>
        </p:blipFill>
        <p:spPr>
          <a:xfrm>
            <a:off x="0" y="0"/>
            <a:ext cx="3776760" cy="264312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5" descr=""/>
          <p:cNvPicPr/>
          <p:nvPr/>
        </p:nvPicPr>
        <p:blipFill>
          <a:blip r:embed="rId3"/>
          <a:stretch/>
        </p:blipFill>
        <p:spPr>
          <a:xfrm>
            <a:off x="-49320" y="2687760"/>
            <a:ext cx="3597480" cy="75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LENOVО\Desktop\imgpreviewа.jpg"/>
          <p:cNvPicPr/>
          <p:nvPr/>
        </p:nvPicPr>
        <p:blipFill>
          <a:blip r:embed="rId4"/>
          <a:stretch/>
        </p:blipFill>
        <p:spPr>
          <a:xfrm>
            <a:off x="0" y="3357720"/>
            <a:ext cx="3652920" cy="229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TextBox 7" descr=""/>
          <p:cNvPicPr/>
          <p:nvPr/>
        </p:nvPicPr>
        <p:blipFill>
          <a:blip r:embed="rId5"/>
          <a:stretch/>
        </p:blipFill>
        <p:spPr>
          <a:xfrm>
            <a:off x="237960" y="5694480"/>
            <a:ext cx="3237120" cy="74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LENOVО\Desktop\img9.jpg"/>
          <p:cNvPicPr/>
          <p:nvPr/>
        </p:nvPicPr>
        <p:blipFill>
          <a:blip r:embed="rId6"/>
          <a:srcRect l="0" t="0" r="0" b="11085"/>
          <a:stretch/>
        </p:blipFill>
        <p:spPr>
          <a:xfrm>
            <a:off x="3714840" y="1143000"/>
            <a:ext cx="54291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LENOVО\Desktop\0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193920" y="0"/>
            <a:ext cx="60008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Text Box 6" descr=""/>
          <p:cNvPicPr/>
          <p:nvPr/>
        </p:nvPicPr>
        <p:blipFill>
          <a:blip r:embed="rId3"/>
          <a:stretch/>
        </p:blipFill>
        <p:spPr>
          <a:xfrm>
            <a:off x="274680" y="1487520"/>
            <a:ext cx="26877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428760" y="928800"/>
            <a:ext cx="3786120" cy="5046480"/>
          </a:xfrm>
          <a:prstGeom prst="rect">
            <a:avLst/>
          </a:prstGeom>
          <a:ln w="0">
            <a:noFill/>
          </a:ln>
        </p:spPr>
      </p:pic>
      <p:pic>
        <p:nvPicPr>
          <p:cNvPr id="124" name="Text Box 7" descr=""/>
          <p:cNvPicPr/>
          <p:nvPr/>
        </p:nvPicPr>
        <p:blipFill>
          <a:blip r:embed="rId3"/>
          <a:stretch/>
        </p:blipFill>
        <p:spPr>
          <a:xfrm>
            <a:off x="4370400" y="-42840"/>
            <a:ext cx="440856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3301920" y="692280"/>
            <a:ext cx="4778280" cy="3584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187280" y="4657680"/>
            <a:ext cx="7417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Храм святых равноапостольных Кирилла и Мефодия в Москве.      Памятник перед хра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484360" y="836640"/>
            <a:ext cx="5861160" cy="33004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022560" y="43369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просветителям в Коло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2411280" y="428760"/>
            <a:ext cx="5478480" cy="4130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564000" y="48020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л и Мефодий на ик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333600" cy="40388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4500720" y="3010320"/>
            <a:ext cx="40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знаю букв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– это достояни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итесь, усердно, земляне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одобает разумным людя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игайте мироздани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ите слово убеждённо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– дар Божи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зайте, вникайте…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ущего свет постич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4427640" y="1484280"/>
            <a:ext cx="352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празднико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glag1"/>
          <p:cNvPicPr/>
          <p:nvPr/>
        </p:nvPicPr>
        <p:blipFill>
          <a:blip r:embed="rId2"/>
          <a:stretch/>
        </p:blipFill>
        <p:spPr>
          <a:xfrm>
            <a:off x="1523880" y="2357280"/>
            <a:ext cx="5921640" cy="420876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6" descr=""/>
          <p:cNvPicPr/>
          <p:nvPr/>
        </p:nvPicPr>
        <p:blipFill>
          <a:blip r:embed="rId3"/>
          <a:stretch/>
        </p:blipFill>
        <p:spPr>
          <a:xfrm>
            <a:off x="596880" y="371520"/>
            <a:ext cx="7419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4762440" cy="5295960"/>
          </a:xfrm>
          <a:prstGeom prst="rect">
            <a:avLst/>
          </a:prstGeom>
          <a:ln w="0">
            <a:noFill/>
          </a:ln>
        </p:spPr>
      </p:pic>
      <p:pic>
        <p:nvPicPr>
          <p:cNvPr id="60" name="Text Box 6" descr=""/>
          <p:cNvPicPr/>
          <p:nvPr/>
        </p:nvPicPr>
        <p:blipFill>
          <a:blip r:embed="rId3"/>
          <a:stretch/>
        </p:blipFill>
        <p:spPr>
          <a:xfrm>
            <a:off x="291960" y="1450800"/>
            <a:ext cx="3530880" cy="1938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410080" y="6019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406728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428760" y="1643040"/>
            <a:ext cx="388620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ири́лл (в миру Константи́н, по прозвищу Фило́соф, 827—869, Ри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 Мефо́дий (в миру Михаи́л; 815—885, Велеград, Моравия) (греч. </a:t>
            </a:r>
            <a:r>
              <a:rPr b="1" lang="el-GR" sz="2000" spc="-1" strike="noStrike">
                <a:solidFill>
                  <a:srgbClr val="663300"/>
                </a:solidFill>
                <a:latin typeface="Arial"/>
              </a:rPr>
              <a:t>Κύριλλος καὶ Μεθόδιος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ст.-слав. Кѷрї́ллъ и Меѳо́дї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ратья из города Солуни (Салоники) — реформаторы славянской азбуки и создатели церковнославянского язы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оповедники христи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2571840" y="21420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ратья Кирилл и Мефодий и славянская азбу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2643120" y="214200"/>
            <a:ext cx="5500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2071800" y="21420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здник славянской письменности 24 мая 1992 года в Москве на Славянской площади состоялось торжественное открытие памятника святым Кириллу и Мефодию работы скульптора Клыкова Вячеслава Михайл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547640" y="1785960"/>
            <a:ext cx="6762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LENOVО\Desktop\img4.jpg"/>
          <p:cNvPicPr/>
          <p:nvPr/>
        </p:nvPicPr>
        <p:blipFill>
          <a:blip r:embed="rId2"/>
          <a:stretch/>
        </p:blipFill>
        <p:spPr>
          <a:xfrm>
            <a:off x="0" y="0"/>
            <a:ext cx="871524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LENOVО\Desktop\img_user_file_59359277ae67e_2.jpg"/>
          <p:cNvPicPr/>
          <p:nvPr/>
        </p:nvPicPr>
        <p:blipFill>
          <a:blip r:embed="rId2"/>
          <a:stretch/>
        </p:blipFill>
        <p:spPr>
          <a:xfrm>
            <a:off x="0" y="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LENOVО\Desktop\slavyanskaya_azbuka2.png"/>
          <p:cNvPicPr/>
          <p:nvPr/>
        </p:nvPicPr>
        <p:blipFill>
          <a:blip r:embed="rId2"/>
          <a:stretch/>
        </p:blipFill>
        <p:spPr>
          <a:xfrm>
            <a:off x="30240" y="1071720"/>
            <a:ext cx="9113760" cy="55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357280" y="28584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ирилл и Мефодий в Ри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5:34:07Z</dcterms:created>
  <dc:creator>User</dc:creator>
  <dc:description/>
  <dc:language>en-US</dc:language>
  <cp:lastModifiedBy>Ольга</cp:lastModifiedBy>
  <dcterms:modified xsi:type="dcterms:W3CDTF">2020-09-18T11:15:39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