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86C-1FD4-466F-9A46-D7915595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EF0-00A6-441F-8F59-731587EF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A2B-D6F7-4889-A843-BED70FE7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74D-65B8-41AF-8232-D2E0C71C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3BBD-EF5D-45E8-8681-BA521F17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9E1E-C499-4D61-8E85-ED09B503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1780-BDF0-4219-9C54-721617E5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59A6-BB29-4788-B83A-BD1D7E93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2704-78F1-4105-97CA-FDFD0615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D4C5-52C6-48D7-85E3-6B1B9800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A666-2259-4AA8-B343-B44280A1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B83-C1A5-4A13-B893-D3F7FF99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1551-8AF4-4086-8CAC-D9DF01F3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AADA-AC57-4518-B10E-BBF033D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7876-C332-4F6A-8CA0-4ACCE5B7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A126-1867-49A0-A879-4B00766D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E7C4-9053-4896-8C08-5937C5A7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53C-0FED-4355-B806-842A895E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8BC-D697-45FE-B977-8DABA6B7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E62-495E-4244-914D-B1214E1D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EF3-D636-43E8-8059-F4154C8C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315-3E41-4F76-B83E-7D49495A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9B1-C7A3-41B6-81AC-7133C14E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A15-9587-40D1-B198-36DAF59B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9F59-7F9F-44A1-ACFB-E6C829C80D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6ACE-BB4B-4CC1-8A29-9B192C3D1E4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501040" cy="74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ация детей в детском саду</a:t>
            </a:r>
            <a:br>
              <a:rPr sz="5400"/>
            </a:br>
            <a:br>
              <a:rPr sz="2400"/>
            </a:br>
            <a:br>
              <a:rPr sz="1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банова Гульнара Хами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i.jpg"/>
          <p:cNvPicPr/>
          <p:nvPr/>
        </p:nvPicPr>
        <p:blipFill>
          <a:blip r:embed="rId1"/>
          <a:stretch/>
        </p:blipFill>
        <p:spPr>
          <a:xfrm>
            <a:off x="539640" y="256536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268200" y="0"/>
            <a:ext cx="8515440" cy="449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D:\Работа в саду\детский сад для распечатки\детский сад\34.png"/>
          <p:cNvPicPr/>
          <p:nvPr/>
        </p:nvPicPr>
        <p:blipFill>
          <a:blip r:embed="rId2"/>
          <a:stretch/>
        </p:blipFill>
        <p:spPr>
          <a:xfrm>
            <a:off x="5643720" y="3500280"/>
            <a:ext cx="29127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14200" y="285840"/>
            <a:ext cx="8715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ложите на время все нововведен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одходящий момент, чтобы менять няню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ать в квартире ремонт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раивать кроху в новый кружок и т.д.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а родителей состоит в том, чтобы создать дома спокойную обстанов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удьте с ним вдвое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те или почитайте вмес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пешите домой после сади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уляйте на детской площадке или просто побродите, сопровождая прогулку веселой беседо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дите прошедший ден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лушайте ребенка, ответьте на все вопросы и поддержите, если произошла малейшая неприя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212760" y="500040"/>
            <a:ext cx="8570880" cy="927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9680" y="14997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роха возбужден и неуправляем, не пытайтесь приструнить его фразами типа: «Если ты не успокоишься, отведу тебя обратно в детский садик!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формируйте образ детского сада как места, которым наказываю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ерпеливы, проявляйте понимание и проницательность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чень скоро детский сад превратится для малыша в уютный, хорошо знакомый и привычный мир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57120" y="254520"/>
            <a:ext cx="8786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изнаки успешной адаптации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ый сон. Засыпает как обычно, по ночам не просыпается, не плачет, не просыпается во с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ий аппе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поведение. Дома ведет себя как обычно – не цепляется за маму, не бегает, не капризнича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ко просыпается по утр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ь желание идти в детский с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D:\Работа в саду\детский сад для распечатки\детский сад\35.png"/>
          <p:cNvPicPr/>
          <p:nvPr/>
        </p:nvPicPr>
        <p:blipFill>
          <a:blip r:embed="rId1"/>
          <a:stretch/>
        </p:blipFill>
        <p:spPr>
          <a:xfrm>
            <a:off x="6230880" y="4214880"/>
            <a:ext cx="2913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85840" y="241920"/>
            <a:ext cx="85723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изнаки дизадаптации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сна. Плохо засыпает, часто просыпается по ночам, разговаривает во сне, много ворочается, чаще встает по ночам на горш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аппетита. Отказывается от еды, есть мало, жалуется на боли в жив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ение вялости, каприз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ение агрессивности, часто меняется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стал чаще бол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214200" y="168840"/>
            <a:ext cx="89298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Факторы, мешающие адаптации ребенка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шком сильная зависимость ребенка от ма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резмерная тревожность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елание взрослых давать самостоятельность малыш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ребенка в духе вседозвол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енность малы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в доме адекв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ышу режима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D:\Работа в саду\детский сад для распечатки\детский сад\37.png"/>
          <p:cNvPicPr/>
          <p:nvPr/>
        </p:nvPicPr>
        <p:blipFill>
          <a:blip r:embed="rId1"/>
          <a:stretch/>
        </p:blipFill>
        <p:spPr>
          <a:xfrm>
            <a:off x="6087960" y="4071960"/>
            <a:ext cx="30560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71680" y="10249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Будьте терпеливы, проявляйте понимание и проницательность. И очень скоро детский сад превратится для малыша в уютный, хорошо знакомый и привычный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D:\Работа в саду\детский сад для распечатки\детский сад\38.png"/>
          <p:cNvPicPr/>
          <p:nvPr/>
        </p:nvPicPr>
        <p:blipFill>
          <a:blip r:embed="rId1"/>
          <a:stretch/>
        </p:blipFill>
        <p:spPr>
          <a:xfrm>
            <a:off x="5214960" y="3587760"/>
            <a:ext cx="32702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37872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ш малыш - «наше сокровище, наше счастье, свет наш в окошке» - уже немного подрос, начал ходить, бегать и говорить. Пора отдавать в детский са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привыкает к посещению детского сада в течении одного-двух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юбая адаптация идет на двух уровн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Работа в саду\детский сад для распечатки\детский сад\сборка (28).png"/>
          <p:cNvPicPr/>
          <p:nvPr/>
        </p:nvPicPr>
        <p:blipFill>
          <a:blip r:embed="rId1"/>
          <a:stretch/>
        </p:blipFill>
        <p:spPr>
          <a:xfrm>
            <a:off x="3786120" y="3444840"/>
            <a:ext cx="53578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500040" y="214200"/>
            <a:ext cx="8215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физическ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уровне малышу надо привыкн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овому режиму - определенному, заданному ритму жизни, новым нагрузкам ( необходимо сидеть, слушать, выполнять просьб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само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сти уед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й пище, новым помещениям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сихологическ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уровне малышу стоит привыкн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отсутствию значимого взрослого (мамы, папы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в одиночку справляться со своими пробле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ьшому количеству новых людей и необходимости с ними взаимодейств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отстаивать свое лич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214200" y="282600"/>
            <a:ext cx="8715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К ДЕТСКОМУ САДУ: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УСТА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 ребенком сложно справиться вечером после садика, то основная причина такого его поведения – устал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орванность от мамы и присутствие вокруг большого количества чужих людей – основные источники напряжения для кро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дома он живет по одним правилам, а в садике они в большей или меньшей степени отличаются от домаш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день ему приходится переключаться то на ваш стиль общения, то на стиль общения воспит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отливым родителям нужно смягчить ту травмирующую ситуацию, которую испытывает ребенок, и помочь ему адаптироваться, снять напряжение после пребывания в детском са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71960" y="4500720"/>
            <a:ext cx="523800" cy="571320"/>
          </a:xfrm>
          <a:prstGeom prst="downArrow">
            <a:avLst>
              <a:gd name="adj1" fmla="val 50000"/>
              <a:gd name="adj2" fmla="val 38650"/>
            </a:avLst>
          </a:prstGeom>
          <a:solidFill>
            <a:srgbClr val="ff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59720" y="3034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357120" y="357120"/>
            <a:ext cx="85726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К ДЕТСКОМУ САДУ: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в жизни ребенка чрезвычайно важен                 Резкая его смена – это ст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йте режим вашего садика и начинайте постепенно вводить его дома, адаптировать к нему ребенка. Хорошо, если вы сделали это за месяц-полтора до того, как малыш впервые окажется в саду. Ребенку будет от этого только лучше, ведь все детские сады функционируют в одном режиме, рекомендованном педиат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детскими неврол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5"/>
          <p:cNvSpPr/>
          <p:nvPr/>
        </p:nvSpPr>
        <p:spPr>
          <a:xfrm>
            <a:off x="6286680" y="1143000"/>
            <a:ext cx="100008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D:\Работа в саду\детский сад для распечатки\детский сад\30.png"/>
          <p:cNvPicPr/>
          <p:nvPr/>
        </p:nvPicPr>
        <p:blipFill>
          <a:blip r:embed="rId1"/>
          <a:stretch/>
        </p:blipFill>
        <p:spPr>
          <a:xfrm>
            <a:off x="5857920" y="4500720"/>
            <a:ext cx="2556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244440" y="158760"/>
            <a:ext cx="8472600" cy="6338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право 2"/>
          <p:cNvSpPr/>
          <p:nvPr/>
        </p:nvSpPr>
        <p:spPr>
          <a:xfrm>
            <a:off x="4643280" y="2643120"/>
            <a:ext cx="1071720" cy="785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"/>
          <p:cNvSpPr/>
          <p:nvPr/>
        </p:nvSpPr>
        <p:spPr>
          <a:xfrm>
            <a:off x="4000680" y="3714840"/>
            <a:ext cx="785520" cy="8571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85840" y="99972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пробуждение ребенка – самостоятель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будят  в фазе глубокого сна, то он просыпается не сразу, тяжело, часто капризничает, бывает вял и пассив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удите малыша на 10 минут пораньше, позвольте ему немного понежиться в постели до полного пробужд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йте в садик только ту одежду, в которой ребенок сможет чувствовать себя раскованно и свобод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должна быть просто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бенок мог самостоятель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снимать и надевать е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1" descr="D:\Работа в саду\детский сад для распечатки\детский сад\44.png"/>
          <p:cNvPicPr/>
          <p:nvPr/>
        </p:nvPicPr>
        <p:blipFill>
          <a:blip r:embed="rId1"/>
          <a:stretch/>
        </p:blipFill>
        <p:spPr>
          <a:xfrm>
            <a:off x="6000840" y="415908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112" name="Заголовок 4" descr=""/>
          <p:cNvPicPr/>
          <p:nvPr/>
        </p:nvPicPr>
        <p:blipFill>
          <a:blip r:embed="rId2"/>
          <a:stretch/>
        </p:blipFill>
        <p:spPr>
          <a:xfrm>
            <a:off x="426960" y="426960"/>
            <a:ext cx="829008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1432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, чтобы малыш умывался, одевался, засыпал и аккуратно ел за общим столом, пользуясь вилкой и ложкой, пил из чашк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ребенок мог обходиться без посторонней помощи в туалете и сообщать взрослым о такой необходим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лучше эти навыки развиты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меньший эмоциональный 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дискомфорт  ребено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ет вдали от мамы в незнакомом коллектив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Стрелка вниз 3"/>
          <p:cNvSpPr/>
          <p:nvPr/>
        </p:nvSpPr>
        <p:spPr>
          <a:xfrm>
            <a:off x="3786120" y="3714840"/>
            <a:ext cx="857160" cy="10000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D:\Работа в саду\детский сад для распечатки\детский сад\46.png"/>
          <p:cNvPicPr/>
          <p:nvPr/>
        </p:nvPicPr>
        <p:blipFill>
          <a:blip r:embed="rId2"/>
          <a:stretch/>
        </p:blipFill>
        <p:spPr>
          <a:xfrm>
            <a:off x="5500800" y="3214800"/>
            <a:ext cx="33415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534520" cy="207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85840" y="2428920"/>
            <a:ext cx="8215200" cy="3571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обратите на организацию полноценного отдыха ребен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водить его в гости, поздно возвращаться домой, принимать у себя друзе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 возвращении домой из садика ребенок часто засыпает раньше обычного, но при этом не просыпается рано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необходимо больш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ть для восстановления си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Стрелка вправо 3"/>
          <p:cNvSpPr/>
          <p:nvPr/>
        </p:nvSpPr>
        <p:spPr>
          <a:xfrm>
            <a:off x="500040" y="507204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D:\Работа в саду\детский сад для распечатки\детский сад\39.png"/>
          <p:cNvPicPr/>
          <p:nvPr/>
        </p:nvPicPr>
        <p:blipFill>
          <a:blip r:embed="rId2"/>
          <a:stretch/>
        </p:blipFill>
        <p:spPr>
          <a:xfrm>
            <a:off x="5857920" y="450072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5:05:21Z</dcterms:created>
  <dc:creator>IRONMANN (AKA SHAMAN)</dc:creator>
  <dc:description/>
  <dc:language>en-US</dc:language>
  <cp:lastModifiedBy>OFICE 1</cp:lastModifiedBy>
  <dcterms:modified xsi:type="dcterms:W3CDTF">2020-09-18T07:01:53Z</dcterms:modified>
  <cp:revision>10</cp:revision>
  <dc:subject/>
  <dc:title>Слайд 1</dc:title>
</cp:coreProperties>
</file>