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AE1-5F91-4B08-B813-A464720F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8E4-A6F9-4698-AC26-B75BF835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0E0-DBCE-4F2C-A352-0DB5B758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B47-4A38-4156-962D-A4E55A1D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1FFF-9949-4490-9DF2-BD378044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113F-1184-408E-88A7-176663D2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7C67-D453-4975-A194-87D24F96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6881-F962-41B9-9474-2F81A9BF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8990-4FEE-4616-8D59-4C0DEEE2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4CB3-D958-483C-84F6-37DA1C7C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BB3C-F32E-4246-9497-9C3E035A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281-136B-465B-A618-5C6DE717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F9D9-20C8-4C7F-802E-171FDFD3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03C9-E935-480E-87C6-08E04E02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3345-CA17-4E4C-A98B-43460A7C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960C-9A20-4FBA-84B6-B1E787BA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D45C-8217-44BF-A945-6A42EF48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12F-7DDD-4856-A47F-7692ABD8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758-4292-4E18-A038-72C26C65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7EE-92EA-42C8-8E35-DEA037CD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27B-F6CE-4563-96AC-89D0EC02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294-5B40-43FC-BFC9-965359F1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116-C02D-46E4-A426-1E274904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7D1-B707-4F3A-8358-F10FE923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5C0C-6FE4-45D2-9863-CC46D7258E5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31C3-26D6-464F-A11E-7BFB7598A56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501040" cy="74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ация детей в детском саду</a:t>
            </a:r>
            <a:br>
              <a:rPr sz="5400"/>
            </a:br>
            <a:br>
              <a:rPr sz="2400"/>
            </a:br>
            <a:br>
              <a:rPr sz="1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банова Гульнара Хамит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i.jpg"/>
          <p:cNvPicPr/>
          <p:nvPr/>
        </p:nvPicPr>
        <p:blipFill>
          <a:blip r:embed="rId1"/>
          <a:stretch/>
        </p:blipFill>
        <p:spPr>
          <a:xfrm>
            <a:off x="539640" y="256536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268200" y="0"/>
            <a:ext cx="8515440" cy="449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D:\Работа в саду\детский сад для распечатки\детский сад\34.png"/>
          <p:cNvPicPr/>
          <p:nvPr/>
        </p:nvPicPr>
        <p:blipFill>
          <a:blip r:embed="rId2"/>
          <a:stretch/>
        </p:blipFill>
        <p:spPr>
          <a:xfrm>
            <a:off x="5643720" y="3500280"/>
            <a:ext cx="29127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214200" y="285840"/>
            <a:ext cx="8715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ложите на время все нововведени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одходящий момент, чтобы менять няню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лать в квартире ремонт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раивать кроху в новый кружок и т.д.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а родителей состоит в том, чтобы создать дома спокойную обстановку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будьте с ним вдвое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те или почитайте вмес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спешите домой после сади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гуляйте на детской площадке или просто побродите, сопровождая прогулку веселой беседо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судите прошедший ден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лушайте ребенка, ответьте на все вопросы и поддержите, если произошла малейшая неприя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212760" y="500040"/>
            <a:ext cx="8570880" cy="927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9680" y="149976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роха возбужден и неуправляем, не пытайтесь приструнить его фразами типа: «Если ты не успокоишься, отведу тебя обратно в детский садик!»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формируйте образ детского сада как места, которым наказывают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ерпеливы, проявляйте понимание и проницательность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чень скоро детский сад превратится для малыша в уютный, хорошо знакомый и привычный мир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57120" y="254520"/>
            <a:ext cx="8786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изнаки успешной адаптации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ый сон. Засыпает как обычно, по ночам не просыпается, не плачет, не просыпается во с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ий аппе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ое поведение. Дома ведет себя как обычно – не цепляется за маму, не бегает, не капризнича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ое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ко просыпается по утр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ь желание идти в детский с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D:\Работа в саду\детский сад для распечатки\детский сад\35.png"/>
          <p:cNvPicPr/>
          <p:nvPr/>
        </p:nvPicPr>
        <p:blipFill>
          <a:blip r:embed="rId1"/>
          <a:stretch/>
        </p:blipFill>
        <p:spPr>
          <a:xfrm>
            <a:off x="6230880" y="4214880"/>
            <a:ext cx="2913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85840" y="241920"/>
            <a:ext cx="85723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изнаки дизадаптации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сна. Плохо засыпает, часто просыпается по ночам, разговаривает во сне, много ворочается, чаще встает по ночам на горш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аппетита. Отказывается от еды, есть мало, жалуется на боли в жив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вление вялости, каприз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вление агрессивности, часто меняется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стал чаще бол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214200" y="168840"/>
            <a:ext cx="89298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Факторы, мешающие адаптации ребенка к детскому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ишком сильная зависимость ребенка от ма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резмерная тревожность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елание взрослых давать самостоятельность малыш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ребенка в духе вседозвол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енность малыш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в доме адеква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ышу режима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D:\Работа в саду\детский сад для распечатки\детский сад\37.png"/>
          <p:cNvPicPr/>
          <p:nvPr/>
        </p:nvPicPr>
        <p:blipFill>
          <a:blip r:embed="rId1"/>
          <a:stretch/>
        </p:blipFill>
        <p:spPr>
          <a:xfrm>
            <a:off x="6087960" y="4071960"/>
            <a:ext cx="30560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571680" y="10249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Будьте терпеливы, проявляйте понимание и проницательность. И очень скоро детский сад превратится для малыша в уютный, хорошо знакомый и привычный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D:\Работа в саду\детский сад для распечатки\детский сад\38.png"/>
          <p:cNvPicPr/>
          <p:nvPr/>
        </p:nvPicPr>
        <p:blipFill>
          <a:blip r:embed="rId1"/>
          <a:stretch/>
        </p:blipFill>
        <p:spPr>
          <a:xfrm>
            <a:off x="5214960" y="3587760"/>
            <a:ext cx="32702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37872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ш малыш - «наше сокровище, наше счастье, свет наш в окошке» - уже немного подрос, начал ходить, бегать и говорить. Пора отдавать в детский са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привыкает к посещению детского сада в течении одного-двух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юбая адаптация идет на двух уровн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Работа в саду\детский сад для распечатки\детский сад\сборка (28).png"/>
          <p:cNvPicPr/>
          <p:nvPr/>
        </p:nvPicPr>
        <p:blipFill>
          <a:blip r:embed="rId1"/>
          <a:stretch/>
        </p:blipFill>
        <p:spPr>
          <a:xfrm>
            <a:off x="3786120" y="3444840"/>
            <a:ext cx="53578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500040" y="214200"/>
            <a:ext cx="82152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физическо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уровне малышу надо привыкн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новому режиму - определенному, заданному ритму жизни, новым нагрузкам ( необходимо сидеть, слушать, выполнять просьб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само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сти уеди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й пище, новым помещениям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сихологическо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уровне малышу стоит привыкн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отсутствию значимого взрослого (мамы, папы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в одиночку справляться со своими проблем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ьшому количеству новых людей и необходимости с ними взаимодейство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сти отстаивать свое личное простр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214200" y="282600"/>
            <a:ext cx="87156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ДАПТАЦИЯ К ДЕТСКОМУ САДУ: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УСТА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с ребенком сложно справиться вечером после садика, то основная причина такого его поведения – усталос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орванность от мамы и присутствие вокруг большого количества чужих людей – основные источники напряжения для кро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ме того, дома он живет по одним правилам, а в садике они в большей или меньшей степени отличаются от домашн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день ему приходится переключаться то на ваш стиль общения, то на стиль общения воспита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отливым родителям нужно смягчить ту травмирующую ситуацию, которую испытывает ребенок, и помочь ему адаптироваться, снять напряжение после пребывания в детском са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71960" y="4500720"/>
            <a:ext cx="523800" cy="571320"/>
          </a:xfrm>
          <a:prstGeom prst="downArrow">
            <a:avLst>
              <a:gd name="adj1" fmla="val 50000"/>
              <a:gd name="adj2" fmla="val 38650"/>
            </a:avLst>
          </a:prstGeom>
          <a:solidFill>
            <a:srgbClr val="ff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59720" y="3034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357120" y="357120"/>
            <a:ext cx="857268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АДАПТАЦИЯ К ДЕТСКОМУ САДУ: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в жизни ребенка чрезвычайно важен                 Резкая его смена – это ст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найте режим вашего садика и начинайте постепенно вводить его дома, адаптировать к нему ребенка. Хорошо, если вы сделали это за месяц-полтора до того, как малыш впервые окажется в саду. Ребенку будет от этого только лучше, ведь все детские сады функционируют в одном режиме, рекомендованном педиатр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детскими неврол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право 5"/>
          <p:cNvSpPr/>
          <p:nvPr/>
        </p:nvSpPr>
        <p:spPr>
          <a:xfrm>
            <a:off x="6286680" y="1143000"/>
            <a:ext cx="100008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D:\Работа в саду\детский сад для распечатки\детский сад\30.png"/>
          <p:cNvPicPr/>
          <p:nvPr/>
        </p:nvPicPr>
        <p:blipFill>
          <a:blip r:embed="rId1"/>
          <a:stretch/>
        </p:blipFill>
        <p:spPr>
          <a:xfrm>
            <a:off x="5857920" y="4500720"/>
            <a:ext cx="255600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244440" y="158760"/>
            <a:ext cx="8472600" cy="6338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право 2"/>
          <p:cNvSpPr/>
          <p:nvPr/>
        </p:nvSpPr>
        <p:spPr>
          <a:xfrm>
            <a:off x="4643280" y="2643120"/>
            <a:ext cx="1071720" cy="7858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"/>
          <p:cNvSpPr/>
          <p:nvPr/>
        </p:nvSpPr>
        <p:spPr>
          <a:xfrm>
            <a:off x="4000680" y="3714840"/>
            <a:ext cx="785520" cy="8571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85840" y="99972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пробуждение ребенка – самостоятель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а будят  в фазе глубокого сна, то он просыпается не сразу, тяжело, часто капризничает, бывает вял и пассив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удите малыша на 10 минут пораньше, позвольте ему немного понежиться в постели до полного пробужд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йте в садик только ту одежду, в которой ребенок сможет чувствовать себя раскованно и свобод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должна быть просто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ебенок мог самостоятель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снимать и надевать е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1" descr="D:\Работа в саду\детский сад для распечатки\детский сад\44.png"/>
          <p:cNvPicPr/>
          <p:nvPr/>
        </p:nvPicPr>
        <p:blipFill>
          <a:blip r:embed="rId1"/>
          <a:stretch/>
        </p:blipFill>
        <p:spPr>
          <a:xfrm>
            <a:off x="6000840" y="415908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112" name="Заголовок 4" descr=""/>
          <p:cNvPicPr/>
          <p:nvPr/>
        </p:nvPicPr>
        <p:blipFill>
          <a:blip r:embed="rId2"/>
          <a:stretch/>
        </p:blipFill>
        <p:spPr>
          <a:xfrm>
            <a:off x="426960" y="426960"/>
            <a:ext cx="829008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1432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, чтобы малыш умывался, одевался, засыпал и аккуратно ел за общим столом, пользуясь вилкой и ложкой, пил из чашк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ребенок мог обходиться без посторонней помощи в туалете и сообщать взрослым о такой необходим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лучше эти навыки развиты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меньший эмоциональный 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дискомфорт  ребено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ет вдали от мамы в незнакомом коллектив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Стрелка вниз 3"/>
          <p:cNvSpPr/>
          <p:nvPr/>
        </p:nvSpPr>
        <p:spPr>
          <a:xfrm>
            <a:off x="3786120" y="3714840"/>
            <a:ext cx="857160" cy="100008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D:\Работа в саду\детский сад для распечатки\детский сад\46.png"/>
          <p:cNvPicPr/>
          <p:nvPr/>
        </p:nvPicPr>
        <p:blipFill>
          <a:blip r:embed="rId2"/>
          <a:stretch/>
        </p:blipFill>
        <p:spPr>
          <a:xfrm>
            <a:off x="5500800" y="3214800"/>
            <a:ext cx="33415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396720" y="212760"/>
            <a:ext cx="8534520" cy="207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85840" y="2428920"/>
            <a:ext cx="8215200" cy="3571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обратите на организацию полноценного отдыха ребен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водить его в гости, поздно возвращаться домой, принимать у себя друзей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 возвращении домой из садика ребенок часто засыпает раньше обычного, но при этом не просыпается рано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необходимо больш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ть для восстановления си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Стрелка вправо 3"/>
          <p:cNvSpPr/>
          <p:nvPr/>
        </p:nvSpPr>
        <p:spPr>
          <a:xfrm>
            <a:off x="500040" y="5072040"/>
            <a:ext cx="928800" cy="5716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D:\Работа в саду\детский сад для распечатки\детский сад\39.png"/>
          <p:cNvPicPr/>
          <p:nvPr/>
        </p:nvPicPr>
        <p:blipFill>
          <a:blip r:embed="rId2"/>
          <a:stretch/>
        </p:blipFill>
        <p:spPr>
          <a:xfrm>
            <a:off x="5857920" y="450072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5:05:21Z</dcterms:created>
  <dc:creator>IRONMANN (AKA SHAMAN)</dc:creator>
  <dc:description/>
  <dc:language>en-US</dc:language>
  <cp:lastModifiedBy>OFICE 1</cp:lastModifiedBy>
  <dcterms:modified xsi:type="dcterms:W3CDTF">2020-09-18T07:01:53Z</dcterms:modified>
  <cp:revision>10</cp:revision>
  <dc:subject/>
  <dc:title>Слайд 1</dc:title>
</cp:coreProperties>
</file>