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787B-015A-4CA7-8354-5A1660042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40E4-0074-4720-B8BD-87047768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558F-1AB9-470A-9D97-0D502A8AF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8038-5D53-43E2-8687-502AF62F5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AB97-EBCD-4D1E-A23C-18783485C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568C-8507-4461-B285-8505ED71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6A38-1A4F-45F3-9F44-ADDD68F5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99034-6954-4D2F-9DE3-E210849A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16E0-62D5-4433-A0B7-F993BE7C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4972-733C-4502-BDBB-32D8292A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7456-0512-4870-AB43-F56311E3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2B8E-9FD9-487E-AA7C-06DFCE51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5E76-539E-4D66-A52E-AE31FD74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87FA-39AB-4FDA-9D11-4695C1D2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DE6B-C87B-42EE-9875-806452BC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676A-0BEF-4D93-9AD4-AB0C48D93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2DCA-3145-4A34-9829-327F1C31A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104E-1D83-43C7-961F-8EAFAD66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5395-46DE-4FB4-AF6B-2D8B6B06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B4B0-D134-4072-B115-FC10167B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508B-2DE7-4131-B34E-2EEB5025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8450-9840-4446-87EC-961F7F35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1423-2F43-49FE-90A1-AF35653B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8B49-B853-4FA4-ADE9-402EF7EB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7766-E96F-41E7-80C6-2676EA67536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08C9-78A6-47BD-9549-F6C28042D5B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6600"/>
                </a:solidFill>
                <a:latin typeface="Arial Black"/>
              </a:rPr>
              <a:t>Бюджет семьи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рок СБО 8 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ель Мухина З.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920" y="620640"/>
            <a:ext cx="85946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. ПРЕДМЕТЫ ЛИЧНОЙ ГИГИЕН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2. ВЕЛОСИПЕ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3. ДИС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4. ЕД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5. ИГРУШ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6. ПОХОД В КИ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7. ПЛАТА ЗА ЭЛЕКТРОЭНЕРГИЮ, ГАЗ,ВОД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8. ТРАНСПОР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9. КОМПЬЮТЕ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0. НОВАЯ МЕБЕЛ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1. ОБУВЬ, ОДЕЖ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2. ОТДЫХ НА МО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Organization Chart 8"/>
          <p:cNvGrpSpPr/>
          <p:nvPr/>
        </p:nvGrpSpPr>
        <p:grpSpPr>
          <a:xfrm>
            <a:off x="395280" y="549360"/>
            <a:ext cx="8255520" cy="6001920"/>
            <a:chOff x="395280" y="549360"/>
            <a:chExt cx="8255520" cy="6001920"/>
          </a:xfrm>
        </p:grpSpPr>
        <p:cxnSp>
          <p:nvCxnSpPr>
            <p:cNvPr id="153" name="_s1028"/>
            <p:cNvCxnSpPr>
              <a:stCxn id="154" idx="0"/>
              <a:endCxn id="155" idx="2"/>
            </p:cNvCxnSpPr>
            <p:nvPr/>
          </p:nvCxnSpPr>
          <p:spPr>
            <a:xfrm flipV="1" rot="16200000">
              <a:off x="5034240" y="2438640"/>
              <a:ext cx="1200960" cy="2222640"/>
            </a:xfrm>
            <a:prstGeom prst="bentConnector3">
              <a:avLst>
                <a:gd name="adj1" fmla="val 1160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6" name="_s1029"/>
            <p:cNvCxnSpPr>
              <a:stCxn id="157" idx="0"/>
              <a:endCxn id="155" idx="2"/>
            </p:cNvCxnSpPr>
            <p:nvPr/>
          </p:nvCxnSpPr>
          <p:spPr>
            <a:xfrm flipH="1" flipV="1" rot="5400000">
              <a:off x="2811240" y="2438280"/>
              <a:ext cx="1200960" cy="2223720"/>
            </a:xfrm>
            <a:prstGeom prst="bentConnector3">
              <a:avLst>
                <a:gd name="adj1" fmla="val 11604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55" name="_s1030"/>
            <p:cNvSpPr/>
            <p:nvPr/>
          </p:nvSpPr>
          <p:spPr>
            <a:xfrm>
              <a:off x="2618280" y="549360"/>
              <a:ext cx="3810240" cy="2400840"/>
            </a:xfrm>
            <a:prstGeom prst="roundRect">
              <a:avLst>
                <a:gd name="adj" fmla="val 16667"/>
              </a:avLst>
            </a:prstGeom>
            <a:solidFill>
              <a:srgbClr val="f05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сновные статьи 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Arial"/>
                  <a:ea typeface="Arial"/>
                </a:rPr>
                <a:t>расходов 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Arial"/>
                  <a:ea typeface="Arial"/>
                </a:rPr>
                <a:t>семейного 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Arial"/>
                  <a:ea typeface="Arial"/>
                </a:rPr>
                <a:t>бюджета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_s1031"/>
            <p:cNvSpPr/>
            <p:nvPr/>
          </p:nvSpPr>
          <p:spPr>
            <a:xfrm>
              <a:off x="395280" y="4150440"/>
              <a:ext cx="3810240" cy="2400840"/>
            </a:xfrm>
            <a:prstGeom prst="roundRect">
              <a:avLst>
                <a:gd name="adj" fmla="val 16667"/>
              </a:avLst>
            </a:prstGeom>
            <a:solidFill>
              <a:srgbClr val="f05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БЯЗАТЕЛЬНЫЕ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_s1032"/>
            <p:cNvSpPr/>
            <p:nvPr/>
          </p:nvSpPr>
          <p:spPr>
            <a:xfrm>
              <a:off x="4840560" y="4150440"/>
              <a:ext cx="3810240" cy="2400840"/>
            </a:xfrm>
            <a:prstGeom prst="roundRect">
              <a:avLst>
                <a:gd name="adj" fmla="val 16667"/>
              </a:avLst>
            </a:prstGeom>
            <a:solidFill>
              <a:srgbClr val="f05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Arial"/>
                  <a:ea typeface="Arial"/>
                </a:rPr>
                <a:t>ТЕКУЩИЕ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4"/>
          <p:cNvSpPr/>
          <p:nvPr/>
        </p:nvSpPr>
        <p:spPr>
          <a:xfrm>
            <a:off x="2340000" y="2421000"/>
            <a:ext cx="2232000" cy="647640"/>
          </a:xfrm>
          <a:prstGeom prst="flowChartProcess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6227640" y="3573360"/>
            <a:ext cx="2232000" cy="647640"/>
          </a:xfrm>
          <a:prstGeom prst="flowChartProcess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2411280" y="3573360"/>
            <a:ext cx="2232000" cy="647640"/>
          </a:xfrm>
          <a:prstGeom prst="flowChartProcess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7"/>
          <p:cNvSpPr/>
          <p:nvPr/>
        </p:nvSpPr>
        <p:spPr>
          <a:xfrm>
            <a:off x="6156360" y="4797360"/>
            <a:ext cx="2232000" cy="647640"/>
          </a:xfrm>
          <a:prstGeom prst="flowChartProcess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8"/>
          <p:cNvSpPr/>
          <p:nvPr/>
        </p:nvSpPr>
        <p:spPr>
          <a:xfrm>
            <a:off x="2411280" y="4797360"/>
            <a:ext cx="2232000" cy="647640"/>
          </a:xfrm>
          <a:prstGeom prst="flowChartProcess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9"/>
          <p:cNvSpPr/>
          <p:nvPr/>
        </p:nvSpPr>
        <p:spPr>
          <a:xfrm>
            <a:off x="6156360" y="2421000"/>
            <a:ext cx="2232000" cy="647640"/>
          </a:xfrm>
          <a:prstGeom prst="flowChartProcess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WordArt 10"/>
          <p:cNvSpPr txBox="1"/>
          <p:nvPr/>
        </p:nvSpPr>
        <p:spPr>
          <a:xfrm>
            <a:off x="2556000" y="2492280"/>
            <a:ext cx="1771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оходы</a:t>
            </a:r>
            <a:endParaRPr b="1" lang="en-US" sz="1800" spc="1" strike="noStrike">
              <a:ln w="0">
                <a:noFill/>
              </a:ln>
              <a:solidFill>
                <a:srgbClr val="ff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WordArt 12"/>
          <p:cNvSpPr txBox="1"/>
          <p:nvPr/>
        </p:nvSpPr>
        <p:spPr>
          <a:xfrm>
            <a:off x="2627280" y="3645000"/>
            <a:ext cx="17715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оходы</a:t>
            </a:r>
            <a:endParaRPr b="1" lang="en-US" sz="1800" spc="1" strike="noStrike">
              <a:ln w="0">
                <a:noFill/>
              </a:ln>
              <a:solidFill>
                <a:srgbClr val="ff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6" name="WordArt 13"/>
          <p:cNvSpPr txBox="1"/>
          <p:nvPr/>
        </p:nvSpPr>
        <p:spPr>
          <a:xfrm>
            <a:off x="2627280" y="4869000"/>
            <a:ext cx="17715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оходы</a:t>
            </a:r>
            <a:endParaRPr b="1" lang="en-US" sz="1800" spc="1" strike="noStrike">
              <a:ln w="0">
                <a:noFill/>
              </a:ln>
              <a:solidFill>
                <a:srgbClr val="ff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7" name="WordArt 14"/>
          <p:cNvSpPr txBox="1"/>
          <p:nvPr/>
        </p:nvSpPr>
        <p:spPr>
          <a:xfrm>
            <a:off x="6300720" y="2492280"/>
            <a:ext cx="2000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асходы</a:t>
            </a:r>
            <a:endParaRPr b="1" lang="en-US" sz="1800" spc="1" strike="noStrike">
              <a:ln w="0">
                <a:noFill/>
              </a:ln>
              <a:solidFill>
                <a:srgbClr val="ff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8" name="WordArt 15"/>
          <p:cNvSpPr txBox="1"/>
          <p:nvPr/>
        </p:nvSpPr>
        <p:spPr>
          <a:xfrm>
            <a:off x="6300720" y="3645000"/>
            <a:ext cx="2000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асходы</a:t>
            </a:r>
            <a:endParaRPr b="1" lang="en-US" sz="1800" spc="1" strike="noStrike">
              <a:ln w="0">
                <a:noFill/>
              </a:ln>
              <a:solidFill>
                <a:srgbClr val="ff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9" name="WordArt 16"/>
          <p:cNvSpPr txBox="1"/>
          <p:nvPr/>
        </p:nvSpPr>
        <p:spPr>
          <a:xfrm>
            <a:off x="6227640" y="4869000"/>
            <a:ext cx="20005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асходы</a:t>
            </a:r>
            <a:endParaRPr b="1" lang="en-US" sz="1800" spc="1" strike="noStrike">
              <a:ln w="0">
                <a:noFill/>
              </a:ln>
              <a:solidFill>
                <a:srgbClr val="ff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WordArt 17"/>
          <p:cNvSpPr txBox="1"/>
          <p:nvPr/>
        </p:nvSpPr>
        <p:spPr>
          <a:xfrm>
            <a:off x="2195640" y="692280"/>
            <a:ext cx="220320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9933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оходы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9933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1" name="WordArt 19"/>
          <p:cNvSpPr txBox="1"/>
          <p:nvPr/>
        </p:nvSpPr>
        <p:spPr>
          <a:xfrm>
            <a:off x="5796000" y="692280"/>
            <a:ext cx="237636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ffffff"/>
                  </a:solidFill>
                  <a:miter/>
                </a:ln>
                <a:solidFill>
                  <a:srgbClr val="9933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асходы</a:t>
            </a:r>
            <a:endParaRPr b="1" lang="en-US" sz="1800" spc="1" strike="noStrike">
              <a:ln w="15840">
                <a:solidFill>
                  <a:srgbClr val="ffffff"/>
                </a:solidFill>
                <a:miter/>
              </a:ln>
              <a:solidFill>
                <a:srgbClr val="9933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2" name="WordArt 20"/>
          <p:cNvSpPr txBox="1"/>
          <p:nvPr/>
        </p:nvSpPr>
        <p:spPr>
          <a:xfrm>
            <a:off x="4788000" y="404640"/>
            <a:ext cx="6364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?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cc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3" name="WordArt 22"/>
          <p:cNvSpPr txBox="1"/>
          <p:nvPr/>
        </p:nvSpPr>
        <p:spPr>
          <a:xfrm>
            <a:off x="5076720" y="2637000"/>
            <a:ext cx="55584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</a:t>
            </a:r>
            <a:endParaRPr b="0" lang="en-US" sz="5400" spc="1" strike="noStrike">
              <a:ln w="0">
                <a:noFill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4" name="WordArt 23"/>
          <p:cNvSpPr txBox="1"/>
          <p:nvPr/>
        </p:nvSpPr>
        <p:spPr>
          <a:xfrm>
            <a:off x="5076720" y="3573360"/>
            <a:ext cx="555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&gt;</a:t>
            </a:r>
            <a:endParaRPr b="0" lang="en-US" sz="5400" spc="1" strike="noStrike">
              <a:ln w="0">
                <a:noFill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5" name="WordArt 24"/>
          <p:cNvSpPr txBox="1"/>
          <p:nvPr/>
        </p:nvSpPr>
        <p:spPr>
          <a:xfrm>
            <a:off x="5076720" y="4869000"/>
            <a:ext cx="606600" cy="46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&lt;</a:t>
            </a:r>
            <a:endParaRPr b="0" lang="en-US" sz="5400" spc="1" strike="noStrike">
              <a:ln w="0">
                <a:noFill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6" name="Picture 2" descr="C:\Documents and Settings\Администратор.F59FA5ACC2E24C5\Local Settings\Temporary Internet Files\Content.IE5\U5ILINYH\MPj04089570000[1].jpg"/>
          <p:cNvPicPr/>
          <p:nvPr/>
        </p:nvPicPr>
        <p:blipFill>
          <a:blip r:embed="rId1"/>
          <a:stretch/>
        </p:blipFill>
        <p:spPr>
          <a:xfrm>
            <a:off x="0" y="42840"/>
            <a:ext cx="2048040" cy="138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Как можно сократить расходы семьи?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2421000"/>
            <a:ext cx="800748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Экономить электроэнергию, вод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Бережно относиться к одежде, обув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Отказаться от предметов роскош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Иметь приусадебный участок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 и подсобное хозяй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Скругленный прямоугольник 4"/>
          <p:cNvSpPr/>
          <p:nvPr/>
        </p:nvSpPr>
        <p:spPr>
          <a:xfrm>
            <a:off x="250920" y="189000"/>
            <a:ext cx="8715240" cy="6429240"/>
          </a:xfrm>
          <a:prstGeom prst="roundRect">
            <a:avLst>
              <a:gd name="adj" fmla="val 16667"/>
            </a:avLst>
          </a:prstGeom>
          <a:solidFill>
            <a:srgbClr val="fff3e3"/>
          </a:solidFill>
          <a:ln w="25560">
            <a:solidFill>
              <a:srgbClr val="4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Скругленный прямоугольник 13"/>
          <p:cNvSpPr/>
          <p:nvPr/>
        </p:nvSpPr>
        <p:spPr>
          <a:xfrm>
            <a:off x="571680" y="428760"/>
            <a:ext cx="2571480" cy="714240"/>
          </a:xfrm>
          <a:prstGeom prst="roundRect">
            <a:avLst>
              <a:gd name="adj" fmla="val 16667"/>
            </a:avLst>
          </a:prstGeom>
          <a:solidFill>
            <a:srgbClr val="ffa347"/>
          </a:solidFill>
          <a:ln w="25560">
            <a:solidFill>
              <a:srgbClr val="4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1208"/>
                </a:solidFill>
                <a:latin typeface="Times New Roman"/>
                <a:ea typeface="Times New Roman"/>
              </a:rPr>
              <a:t>ДОХ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Скругленный прямоугольник 14"/>
          <p:cNvSpPr/>
          <p:nvPr/>
        </p:nvSpPr>
        <p:spPr>
          <a:xfrm>
            <a:off x="6000840" y="428760"/>
            <a:ext cx="2571840" cy="7142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4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1208"/>
                </a:solidFill>
                <a:latin typeface="Times New Roman"/>
                <a:ea typeface="Times New Roman"/>
              </a:rPr>
              <a:t>РАСХ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Скругленный прямоугольник 11"/>
          <p:cNvSpPr/>
          <p:nvPr/>
        </p:nvSpPr>
        <p:spPr>
          <a:xfrm>
            <a:off x="3203640" y="5229360"/>
            <a:ext cx="2714400" cy="714240"/>
          </a:xfrm>
          <a:prstGeom prst="roundRect">
            <a:avLst>
              <a:gd name="adj" fmla="val 16667"/>
            </a:avLst>
          </a:prstGeom>
          <a:solidFill>
            <a:srgbClr val="ffeed4"/>
          </a:solidFill>
          <a:ln w="25560">
            <a:solidFill>
              <a:srgbClr val="4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f1208"/>
                </a:solidFill>
                <a:latin typeface="Times New Roman"/>
                <a:ea typeface="Times New Roman"/>
              </a:rPr>
              <a:t>ПОСОБ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Скругленный прямоугольник 18"/>
          <p:cNvSpPr/>
          <p:nvPr/>
        </p:nvSpPr>
        <p:spPr>
          <a:xfrm>
            <a:off x="3286080" y="4572000"/>
            <a:ext cx="2714760" cy="714240"/>
          </a:xfrm>
          <a:prstGeom prst="roundRect">
            <a:avLst>
              <a:gd name="adj" fmla="val 16667"/>
            </a:avLst>
          </a:prstGeom>
          <a:solidFill>
            <a:srgbClr val="ffeed4"/>
          </a:solidFill>
          <a:ln w="25560">
            <a:solidFill>
              <a:srgbClr val="4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f1208"/>
                </a:solidFill>
                <a:latin typeface="Times New Roman"/>
                <a:ea typeface="Times New Roman"/>
              </a:rPr>
              <a:t>РЕМО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f1208"/>
                </a:solidFill>
                <a:latin typeface="Times New Roman"/>
                <a:ea typeface="Times New Roman"/>
              </a:rPr>
              <a:t>КВАРТИ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Скругленный прямоугольник 17"/>
          <p:cNvSpPr/>
          <p:nvPr/>
        </p:nvSpPr>
        <p:spPr>
          <a:xfrm>
            <a:off x="3286080" y="4071960"/>
            <a:ext cx="2714760" cy="714240"/>
          </a:xfrm>
          <a:prstGeom prst="roundRect">
            <a:avLst>
              <a:gd name="adj" fmla="val 16667"/>
            </a:avLst>
          </a:prstGeom>
          <a:solidFill>
            <a:srgbClr val="ffeed4"/>
          </a:solidFill>
          <a:ln w="25560">
            <a:solidFill>
              <a:srgbClr val="4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f1208"/>
                </a:solidFill>
                <a:latin typeface="Times New Roman"/>
                <a:ea typeface="Times New Roman"/>
              </a:rPr>
              <a:t>ТРАНСПОР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Скругленный прямоугольник 16"/>
          <p:cNvSpPr/>
          <p:nvPr/>
        </p:nvSpPr>
        <p:spPr>
          <a:xfrm>
            <a:off x="3286080" y="3571920"/>
            <a:ext cx="2714760" cy="714240"/>
          </a:xfrm>
          <a:prstGeom prst="roundRect">
            <a:avLst>
              <a:gd name="adj" fmla="val 16667"/>
            </a:avLst>
          </a:prstGeom>
          <a:solidFill>
            <a:srgbClr val="ffeed4"/>
          </a:solidFill>
          <a:ln w="25560">
            <a:solidFill>
              <a:srgbClr val="4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f1208"/>
                </a:solidFill>
                <a:latin typeface="Times New Roman"/>
                <a:ea typeface="Times New Roman"/>
              </a:rPr>
              <a:t>ОДЕЖ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Скругленный прямоугольник 10"/>
          <p:cNvSpPr/>
          <p:nvPr/>
        </p:nvSpPr>
        <p:spPr>
          <a:xfrm>
            <a:off x="3286080" y="3071880"/>
            <a:ext cx="2714760" cy="714240"/>
          </a:xfrm>
          <a:prstGeom prst="roundRect">
            <a:avLst>
              <a:gd name="adj" fmla="val 16667"/>
            </a:avLst>
          </a:prstGeom>
          <a:solidFill>
            <a:srgbClr val="ffeed4"/>
          </a:solidFill>
          <a:ln w="25560">
            <a:solidFill>
              <a:srgbClr val="4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f1208"/>
                </a:solidFill>
                <a:latin typeface="Times New Roman"/>
                <a:ea typeface="Times New Roman"/>
              </a:rPr>
              <a:t>СТИПЕНД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Скругленный прямоугольник 9"/>
          <p:cNvSpPr/>
          <p:nvPr/>
        </p:nvSpPr>
        <p:spPr>
          <a:xfrm>
            <a:off x="3286080" y="2571840"/>
            <a:ext cx="2714760" cy="714240"/>
          </a:xfrm>
          <a:prstGeom prst="roundRect">
            <a:avLst>
              <a:gd name="adj" fmla="val 16667"/>
            </a:avLst>
          </a:prstGeom>
          <a:solidFill>
            <a:srgbClr val="ffeed4"/>
          </a:solidFill>
          <a:ln w="25560">
            <a:solidFill>
              <a:srgbClr val="4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f1208"/>
                </a:solidFill>
                <a:latin typeface="Times New Roman"/>
                <a:ea typeface="Times New Roman"/>
              </a:rPr>
              <a:t>КОМ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f1208"/>
                </a:solidFill>
                <a:latin typeface="Times New Roman"/>
                <a:ea typeface="Times New Roman"/>
              </a:rPr>
              <a:t>ПЛАТЕЖ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Скругленный прямоугольник 8"/>
          <p:cNvSpPr/>
          <p:nvPr/>
        </p:nvSpPr>
        <p:spPr>
          <a:xfrm>
            <a:off x="3286080" y="2071800"/>
            <a:ext cx="2714760" cy="714240"/>
          </a:xfrm>
          <a:prstGeom prst="roundRect">
            <a:avLst>
              <a:gd name="adj" fmla="val 16667"/>
            </a:avLst>
          </a:prstGeom>
          <a:solidFill>
            <a:srgbClr val="ffeed4"/>
          </a:solidFill>
          <a:ln w="25560">
            <a:solidFill>
              <a:srgbClr val="4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f1208"/>
                </a:solidFill>
                <a:latin typeface="Times New Roman"/>
                <a:ea typeface="Times New Roman"/>
              </a:rPr>
              <a:t>ПЕНС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Скругленный прямоугольник 7"/>
          <p:cNvSpPr/>
          <p:nvPr/>
        </p:nvSpPr>
        <p:spPr>
          <a:xfrm>
            <a:off x="3286080" y="1571760"/>
            <a:ext cx="2714760" cy="714240"/>
          </a:xfrm>
          <a:prstGeom prst="roundRect">
            <a:avLst>
              <a:gd name="adj" fmla="val 16667"/>
            </a:avLst>
          </a:prstGeom>
          <a:solidFill>
            <a:srgbClr val="ffeed4"/>
          </a:solidFill>
          <a:ln w="25560">
            <a:solidFill>
              <a:srgbClr val="4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f1208"/>
                </a:solidFill>
                <a:latin typeface="Times New Roman"/>
                <a:ea typeface="Times New Roman"/>
              </a:rPr>
              <a:t>Е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Скругленный прямоугольник 2"/>
          <p:cNvSpPr/>
          <p:nvPr/>
        </p:nvSpPr>
        <p:spPr>
          <a:xfrm>
            <a:off x="3286080" y="1071720"/>
            <a:ext cx="2714760" cy="714240"/>
          </a:xfrm>
          <a:prstGeom prst="roundRect">
            <a:avLst>
              <a:gd name="adj" fmla="val 16667"/>
            </a:avLst>
          </a:prstGeom>
          <a:solidFill>
            <a:srgbClr val="ffeed4"/>
          </a:solidFill>
          <a:ln w="25560">
            <a:solidFill>
              <a:srgbClr val="4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f1208"/>
                </a:solidFill>
                <a:latin typeface="Times New Roman"/>
                <a:ea typeface="Times New Roman"/>
              </a:rPr>
              <a:t>ЗАРПЛА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48555E-006 L -0.29132 0.02914 E">
                                      <p:cBhvr>
                                        <p:cTn id="223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9132 -0.04185 E">
                                      <p:cBhvr>
                                        <p:cTn id="231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1988 L -0.29132 0.00925 E">
                                      <p:cBhvr>
                                        <p:cTn id="239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9132 -0.06289 E">
                                      <p:cBhvr>
                                        <p:cTn id="247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2104 L -0.29132 -0.0104 E">
                                      <p:cBhvr>
                                        <p:cTn id="255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111 L 0.29132 -0.08323 E">
                                      <p:cBhvr>
                                        <p:cTn id="263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9132 -0.03145 E">
                                      <p:cBhvr>
                                        <p:cTn id="271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0.01227 L 0.2915 0.01412 E">
                                      <p:cBhvr>
                                        <p:cTn id="279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819 -0.04166 L -0.28229 -0.20949 E">
                                      <p:cBhvr>
                                        <p:cTn id="287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СЛОВАРЬ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ЮДЖ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Х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РПЛАТ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НС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ИПЕНД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ОБ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260280"/>
            <a:ext cx="80074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1) Из чего складывается бюдже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д) из заработной платы, пенсии и стипенд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б) из доходов и расход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г) из дене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2) Деньги, которые поступают в бюджет семьи эт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я) расход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е) процент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ю) дохо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3)</a:t>
            </a: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Как называются деньги, которые получают пожилые люди?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а) баран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д) пенс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м) стипенд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4) Деньги, которые тратятся из бюджета эт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ш) доход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ж) расход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х) прибыл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5) Лучшим считается бюджет, в которо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         </a:t>
            </a: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е) доходы больше расход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         </a:t>
            </a: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и) доходы равны расход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         </a:t>
            </a: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а) доходы меньше расход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6) Зарплата, пенсия, стипендия – это разные виды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т) доход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п) расход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6600"/>
                </a:solidFill>
                <a:latin typeface="Arial Black"/>
              </a:rPr>
              <a:t>О</a:t>
            </a:r>
            <a:r>
              <a:rPr b="1" i="1" lang="ru-RU" sz="4400" spc="-1" strike="noStrike">
                <a:solidFill>
                  <a:srgbClr val="cc6600"/>
                </a:solidFill>
                <a:latin typeface="Arial Black"/>
              </a:rPr>
              <a:t>ЦЕНКИ ЗА УРОК: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50 шустриков и больше  – ОЦЕНКА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30-40 шустриков – ОЦЕНКА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ru-RU" sz="40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МЕНЬШЕ 3О шустриков – ОЦЕНКА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904760"/>
            <a:ext cx="8377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Мне больше всего удалось .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Я  могу себя похвалить за…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Я  могу похвалить одноклассников за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Я научился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а уроке мне было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4"/>
          <p:cNvSpPr txBox="1"/>
          <p:nvPr/>
        </p:nvSpPr>
        <p:spPr>
          <a:xfrm rot="20894400">
            <a:off x="1258920" y="1700280"/>
            <a:ext cx="669780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68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68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68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68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68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БОТУ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68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90720" y="3573000"/>
            <a:ext cx="6781680" cy="21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5:7=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29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6*7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4:6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7-12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6*3+13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84360" y="620640"/>
          <a:ext cx="7559640" cy="2309760"/>
        </p:xfrm>
        <a:graphic>
          <a:graphicData uri="http://schemas.openxmlformats.org/drawingml/2006/table">
            <a:tbl>
              <a:tblPr/>
              <a:tblGrid>
                <a:gridCol w="1260360"/>
                <a:gridCol w="1258920"/>
                <a:gridCol w="1260360"/>
                <a:gridCol w="1260360"/>
                <a:gridCol w="1258920"/>
                <a:gridCol w="1260720"/>
              </a:tblGrid>
              <a:tr h="103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127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ю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  <p:sp>
        <p:nvSpPr>
          <p:cNvPr id="103" name="Rectangle 54"/>
          <p:cNvSpPr/>
          <p:nvPr/>
        </p:nvSpPr>
        <p:spPr>
          <a:xfrm>
            <a:off x="2843280" y="35733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55"/>
          <p:cNvSpPr/>
          <p:nvPr/>
        </p:nvSpPr>
        <p:spPr>
          <a:xfrm>
            <a:off x="3132000" y="4005360"/>
            <a:ext cx="360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56"/>
          <p:cNvSpPr/>
          <p:nvPr/>
        </p:nvSpPr>
        <p:spPr>
          <a:xfrm>
            <a:off x="2627280" y="4437000"/>
            <a:ext cx="432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57"/>
          <p:cNvSpPr/>
          <p:nvPr/>
        </p:nvSpPr>
        <p:spPr>
          <a:xfrm>
            <a:off x="2771640" y="4869000"/>
            <a:ext cx="360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58"/>
          <p:cNvSpPr/>
          <p:nvPr/>
        </p:nvSpPr>
        <p:spPr>
          <a:xfrm>
            <a:off x="2916360" y="52293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59"/>
          <p:cNvSpPr/>
          <p:nvPr/>
        </p:nvSpPr>
        <p:spPr>
          <a:xfrm>
            <a:off x="2987640" y="5661000"/>
            <a:ext cx="360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c6600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838080" y="1905120"/>
          <a:ext cx="7334280" cy="2892240"/>
        </p:xfrm>
        <a:graphic>
          <a:graphicData uri="http://schemas.openxmlformats.org/drawingml/2006/table">
            <a:tbl>
              <a:tblPr/>
              <a:tblGrid>
                <a:gridCol w="1222560"/>
                <a:gridCol w="1222200"/>
                <a:gridCol w="1222560"/>
                <a:gridCol w="1222200"/>
                <a:gridCol w="1222560"/>
                <a:gridCol w="1222200"/>
              </a:tblGrid>
              <a:tr h="12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159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Ю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6600"/>
                </a:solidFill>
                <a:latin typeface="Arial Black"/>
              </a:rPr>
              <a:t>Тема урока:</a:t>
            </a:r>
            <a:br>
              <a:rPr sz="5400"/>
            </a:br>
            <a:r>
              <a:rPr b="1" lang="ru-RU" sz="5400" spc="-1" strike="noStrike">
                <a:solidFill>
                  <a:srgbClr val="cc6600"/>
                </a:solidFill>
                <a:latin typeface="Arial Black"/>
              </a:rPr>
              <a:t>«БЮДЖЕТ СЕМЬИ» 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Documents and Settings\Администратор.F59FA5ACC2E24C5\Local Settings\Temporary Internet Files\Content.IE5\U5ILINYH\MPj04089570000[1].jpg"/>
          <p:cNvPicPr/>
          <p:nvPr/>
        </p:nvPicPr>
        <p:blipFill>
          <a:blip r:embed="rId1"/>
          <a:stretch/>
        </p:blipFill>
        <p:spPr>
          <a:xfrm>
            <a:off x="0" y="42840"/>
            <a:ext cx="2048040" cy="1381932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7"/>
          <p:cNvSpPr/>
          <p:nvPr/>
        </p:nvSpPr>
        <p:spPr>
          <a:xfrm>
            <a:off x="2700360" y="2205000"/>
            <a:ext cx="5761080" cy="1873440"/>
          </a:xfrm>
          <a:prstGeom prst="wedgeEllipseCallout">
            <a:avLst>
              <a:gd name="adj1" fmla="val -35837"/>
              <a:gd name="adj2" fmla="val 56865"/>
            </a:avLst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WordArt 4"/>
          <p:cNvSpPr txBox="1"/>
          <p:nvPr/>
        </p:nvSpPr>
        <p:spPr>
          <a:xfrm>
            <a:off x="3132000" y="2492280"/>
            <a:ext cx="4567320" cy="120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емейный бюдж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AutoShape 5"/>
          <p:cNvSpPr/>
          <p:nvPr/>
        </p:nvSpPr>
        <p:spPr>
          <a:xfrm rot="1143000">
            <a:off x="4211640" y="333360"/>
            <a:ext cx="2952720" cy="1584360"/>
          </a:xfrm>
          <a:custGeom>
            <a:avLst/>
            <a:gdLst>
              <a:gd name="textAreaLeft" fmla="*/ 516600 w 2952720"/>
              <a:gd name="textAreaRight" fmla="*/ 2140920 w 2952720"/>
              <a:gd name="textAreaTop" fmla="*/ 212040 h 1584360"/>
              <a:gd name="textAreaBottom" fmla="*/ 1372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 rot="1153800">
            <a:off x="4716000" y="4581360"/>
            <a:ext cx="3456000" cy="1657440"/>
          </a:xfrm>
          <a:custGeom>
            <a:avLst/>
            <a:gdLst>
              <a:gd name="textAreaLeft" fmla="*/ 604800 w 3456000"/>
              <a:gd name="textAreaRight" fmla="*/ 2505600 w 3456000"/>
              <a:gd name="textAreaTop" fmla="*/ 221760 h 1657440"/>
              <a:gd name="textAreaBottom" fmla="*/ 1435680 h 165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9"/>
          <p:cNvSpPr txBox="1"/>
          <p:nvPr/>
        </p:nvSpPr>
        <p:spPr>
          <a:xfrm>
            <a:off x="6588000" y="4149720"/>
            <a:ext cx="2287800" cy="82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99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сходы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99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9" name="WordArt 8"/>
          <p:cNvSpPr txBox="1"/>
          <p:nvPr/>
        </p:nvSpPr>
        <p:spPr>
          <a:xfrm>
            <a:off x="1979640" y="1197000"/>
            <a:ext cx="2376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99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оходы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99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0" y="0"/>
            <a:ext cx="1547640" cy="6858000"/>
            <a:chOff x="0" y="0"/>
            <a:chExt cx="1547640" cy="6858000"/>
          </a:xfrm>
        </p:grpSpPr>
        <p:sp>
          <p:nvSpPr>
            <p:cNvPr id="121" name="Rectangle 3"/>
            <p:cNvSpPr/>
            <p:nvPr/>
          </p:nvSpPr>
          <p:spPr>
            <a:xfrm>
              <a:off x="0" y="0"/>
              <a:ext cx="884520" cy="685800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AutoShape 4"/>
            <p:cNvSpPr/>
            <p:nvPr/>
          </p:nvSpPr>
          <p:spPr>
            <a:xfrm>
              <a:off x="221040" y="1416960"/>
              <a:ext cx="1326600" cy="2309760"/>
            </a:xfrm>
            <a:custGeom>
              <a:avLst/>
              <a:gdLst>
                <a:gd name="textAreaLeft" fmla="*/ 194040 w 1326600"/>
                <a:gd name="textAreaRight" fmla="*/ 1132560 w 1326600"/>
                <a:gd name="textAreaTop" fmla="*/ 194040 h 2309760"/>
                <a:gd name="textAreaBottom" fmla="*/ 2115720 h 2309760"/>
              </a:gdLst>
              <a:ahLst/>
              <a:rect l="textAreaLeft" t="textAreaTop" r="textAreaRight" b="textAreaBottom"/>
              <a:pathLst>
                <a:path w="21600" h="37604">
                  <a:moveTo>
                    <a:pt x="10800" y="0"/>
                  </a:moveTo>
                  <a:arcTo wR="10800" hR="10800" stAng="16200000" swAng="-5400000"/>
                  <a:lnTo>
                    <a:pt x="0" y="26804"/>
                  </a:lnTo>
                  <a:arcTo wR="10800" hR="10800" stAng="10800000" swAng="-5400000"/>
                  <a:lnTo>
                    <a:pt x="10800" y="3760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3" name="Picture 5" descr="мама"/>
          <p:cNvPicPr/>
          <p:nvPr/>
        </p:nvPicPr>
        <p:blipFill>
          <a:blip r:embed="rId1"/>
          <a:stretch/>
        </p:blipFill>
        <p:spPr>
          <a:xfrm>
            <a:off x="250920" y="549360"/>
            <a:ext cx="1817640" cy="3279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оля"/>
          <p:cNvPicPr/>
          <p:nvPr/>
        </p:nvPicPr>
        <p:blipFill>
          <a:blip r:embed="rId2"/>
          <a:stretch/>
        </p:blipFill>
        <p:spPr>
          <a:xfrm>
            <a:off x="4067280" y="3933720"/>
            <a:ext cx="1863720" cy="2502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папа"/>
          <p:cNvPicPr/>
          <p:nvPr/>
        </p:nvPicPr>
        <p:blipFill>
          <a:blip r:embed="rId3"/>
          <a:stretch/>
        </p:blipFill>
        <p:spPr>
          <a:xfrm>
            <a:off x="1692360" y="189000"/>
            <a:ext cx="2374920" cy="3411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бабушка"/>
          <p:cNvPicPr/>
          <p:nvPr/>
        </p:nvPicPr>
        <p:blipFill>
          <a:blip r:embed="rId4"/>
          <a:stretch/>
        </p:blipFill>
        <p:spPr>
          <a:xfrm>
            <a:off x="7020000" y="620640"/>
            <a:ext cx="1908000" cy="2851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дедушка"/>
          <p:cNvPicPr/>
          <p:nvPr/>
        </p:nvPicPr>
        <p:blipFill>
          <a:blip r:embed="rId5"/>
          <a:stretch/>
        </p:blipFill>
        <p:spPr>
          <a:xfrm>
            <a:off x="4788000" y="692280"/>
            <a:ext cx="2673360" cy="321300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12"/>
          <p:cNvSpPr/>
          <p:nvPr/>
        </p:nvSpPr>
        <p:spPr>
          <a:xfrm rot="9179400">
            <a:off x="349200" y="3599640"/>
            <a:ext cx="2787840" cy="1295640"/>
          </a:xfrm>
          <a:prstGeom prst="wedgeRoundRectCallout">
            <a:avLst>
              <a:gd name="adj1" fmla="val -40907"/>
              <a:gd name="adj2" fmla="val 67592"/>
              <a:gd name="adj3" fmla="val 16667"/>
            </a:avLst>
          </a:prstGeom>
          <a:solidFill>
            <a:srgbClr val="fbfda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13"/>
          <p:cNvSpPr/>
          <p:nvPr/>
        </p:nvSpPr>
        <p:spPr>
          <a:xfrm rot="9179400">
            <a:off x="6011280" y="3284640"/>
            <a:ext cx="2592360" cy="1157040"/>
          </a:xfrm>
          <a:prstGeom prst="wedgeRoundRectCallout">
            <a:avLst>
              <a:gd name="adj1" fmla="val -38671"/>
              <a:gd name="adj2" fmla="val 108310"/>
              <a:gd name="adj3" fmla="val 16667"/>
            </a:avLst>
          </a:prstGeom>
          <a:solidFill>
            <a:srgbClr val="fbfda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14"/>
          <p:cNvSpPr/>
          <p:nvPr/>
        </p:nvSpPr>
        <p:spPr>
          <a:xfrm rot="12416400">
            <a:off x="1979280" y="5157000"/>
            <a:ext cx="2389320" cy="863640"/>
          </a:xfrm>
          <a:prstGeom prst="wedgeRoundRectCallout">
            <a:avLst>
              <a:gd name="adj1" fmla="val -82763"/>
              <a:gd name="adj2" fmla="val -28277"/>
              <a:gd name="adj3" fmla="val 16667"/>
            </a:avLst>
          </a:prstGeom>
          <a:solidFill>
            <a:srgbClr val="fbfda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WordArt 15"/>
          <p:cNvSpPr txBox="1"/>
          <p:nvPr/>
        </p:nvSpPr>
        <p:spPr>
          <a:xfrm rot="19873800">
            <a:off x="441000" y="3827520"/>
            <a:ext cx="2502000" cy="6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ЗАРПЛА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</p:txBody>
      </p:sp>
      <p:sp>
        <p:nvSpPr>
          <p:cNvPr id="132" name="WordArt 16"/>
          <p:cNvSpPr txBox="1"/>
          <p:nvPr/>
        </p:nvSpPr>
        <p:spPr>
          <a:xfrm rot="20005800">
            <a:off x="6227640" y="3789000"/>
            <a:ext cx="2360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пенс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133" name="WordArt 17"/>
          <p:cNvSpPr txBox="1"/>
          <p:nvPr/>
        </p:nvSpPr>
        <p:spPr>
          <a:xfrm rot="1547400">
            <a:off x="2050560" y="5373720"/>
            <a:ext cx="2232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СОБ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34" name="AutoShape 14"/>
          <p:cNvSpPr/>
          <p:nvPr/>
        </p:nvSpPr>
        <p:spPr>
          <a:xfrm rot="19944000">
            <a:off x="6012000" y="5229360"/>
            <a:ext cx="2388960" cy="863640"/>
          </a:xfrm>
          <a:prstGeom prst="wedgeRoundRectCallout">
            <a:avLst>
              <a:gd name="adj1" fmla="val -82763"/>
              <a:gd name="adj2" fmla="val -28277"/>
              <a:gd name="adj3" fmla="val 16667"/>
            </a:avLst>
          </a:prstGeom>
          <a:solidFill>
            <a:srgbClr val="fbfda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WordArt 17"/>
          <p:cNvSpPr txBox="1"/>
          <p:nvPr/>
        </p:nvSpPr>
        <p:spPr>
          <a:xfrm rot="20018400">
            <a:off x="6300720" y="5300280"/>
            <a:ext cx="193212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ТИПЕНД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2843280" y="3716280"/>
            <a:ext cx="3673440" cy="273708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4"/>
          <p:cNvSpPr/>
          <p:nvPr/>
        </p:nvSpPr>
        <p:spPr>
          <a:xfrm>
            <a:off x="179280" y="2637000"/>
            <a:ext cx="3673440" cy="1368360"/>
          </a:xfrm>
          <a:custGeom>
            <a:avLst/>
            <a:gdLst>
              <a:gd name="textAreaLeft" fmla="*/ 537840 w 3673440"/>
              <a:gd name="textAreaRight" fmla="*/ 3135600 w 3673440"/>
              <a:gd name="textAreaTop" fmla="*/ 200160 h 1368360"/>
              <a:gd name="textAreaBottom" fmla="*/ 1168200 h 136836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83" y="5399"/>
                  <a:pt x="5493" y="7716"/>
                  <a:pt x="5402" y="10631"/>
                </a:cubicBezTo>
                <a:lnTo>
                  <a:pt x="5" y="10462"/>
                </a:lnTo>
                <a:cubicBezTo>
                  <a:pt x="187" y="4632"/>
                  <a:pt x="4966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468360" y="404640"/>
            <a:ext cx="8280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Arial"/>
                <a:ea typeface="Arial"/>
              </a:rPr>
              <a:t>        </a:t>
            </a:r>
            <a:r>
              <a:rPr b="1" lang="ru-RU" sz="2800" spc="-1" strike="noStrike">
                <a:solidFill>
                  <a:srgbClr val="6600ff"/>
                </a:solidFill>
                <a:latin typeface="Arial"/>
                <a:ea typeface="Arial"/>
              </a:rPr>
              <a:t>Семейный бюджет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  <a:ea typeface="Arial"/>
              </a:rPr>
              <a:t> – это доходы и расходы семьи за определённый период времени (неделю, месяц, год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179280" y="4005360"/>
            <a:ext cx="266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еньги, которые зарабатывают члены одной семь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1476360" y="2565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ох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C:\Documents and Settings\Администратор.F59FA5ACC2E24C5\Local Settings\Temporary Internet Files\Content.IE5\U5ILINYH\MPj04089570000[1].jpg"/>
          <p:cNvPicPr/>
          <p:nvPr/>
        </p:nvPicPr>
        <p:blipFill>
          <a:blip r:embed="rId1"/>
          <a:stretch/>
        </p:blipFill>
        <p:spPr>
          <a:xfrm>
            <a:off x="0" y="42840"/>
            <a:ext cx="2048040" cy="138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2174760" y="189000"/>
          <a:ext cx="6718320" cy="6554880"/>
        </p:xfrm>
        <a:graphic>
          <a:graphicData uri="http://schemas.openxmlformats.org/drawingml/2006/table">
            <a:tbl>
              <a:tblPr/>
              <a:tblGrid>
                <a:gridCol w="3529080"/>
                <a:gridCol w="3189240"/>
              </a:tblGrid>
              <a:tr h="825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48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Семейный бюджет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cc66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cc66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6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6633"/>
                          </a:solidFill>
                          <a:latin typeface="Monotype Corsiva"/>
                          <a:ea typeface="Times New Roman"/>
                        </a:rPr>
                        <a:t>  </a:t>
                      </a:r>
                      <a:r>
                        <a:rPr b="1" lang="en-US" sz="4000" spc="-1" strike="noStrike">
                          <a:solidFill>
                            <a:srgbClr val="996633"/>
                          </a:solidFill>
                          <a:latin typeface="Monotype Corsiva"/>
                          <a:ea typeface="Times New Roman"/>
                        </a:rPr>
                        <a:t> </a:t>
                      </a:r>
                      <a:r>
                        <a:rPr b="1" lang="ru-RU" sz="4000" spc="-1" strike="noStrike">
                          <a:solidFill>
                            <a:srgbClr val="660066"/>
                          </a:solidFill>
                          <a:latin typeface="Monotype Corsiva"/>
                          <a:ea typeface="Times New Roman"/>
                        </a:rPr>
                        <a:t>зарплата пенсия стипендия пособие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660066"/>
                          </a:solidFill>
                          <a:latin typeface="Monotype Corsiva"/>
                          <a:ea typeface="Times New Roman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660066"/>
                          </a:solidFill>
                          <a:latin typeface="Monotype Corsiva"/>
                          <a:ea typeface="Times New Roman"/>
                        </a:rPr>
                        <a:t>  </a:t>
                      </a:r>
                      <a:r>
                        <a:rPr b="1" lang="ru-RU" sz="4000" spc="-1" strike="noStrike">
                          <a:solidFill>
                            <a:srgbClr val="660066"/>
                          </a:solidFill>
                          <a:latin typeface="Monotype Corsiva"/>
                          <a:ea typeface="Times New Roman"/>
                        </a:rPr>
                        <a:t>прибыль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WordArt 26"/>
          <p:cNvSpPr txBox="1"/>
          <p:nvPr/>
        </p:nvSpPr>
        <p:spPr>
          <a:xfrm>
            <a:off x="6443640" y="2708280"/>
            <a:ext cx="172872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3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?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3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Семейный бюджет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2340000" y="3500280"/>
            <a:ext cx="4392720" cy="28641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8"/>
          <p:cNvSpPr/>
          <p:nvPr/>
        </p:nvSpPr>
        <p:spPr>
          <a:xfrm>
            <a:off x="6948360" y="4292640"/>
            <a:ext cx="19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затраты  денежных средств в сем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9"/>
          <p:cNvSpPr/>
          <p:nvPr/>
        </p:nvSpPr>
        <p:spPr>
          <a:xfrm>
            <a:off x="900000" y="2205000"/>
            <a:ext cx="3240360" cy="1368360"/>
          </a:xfrm>
          <a:custGeom>
            <a:avLst/>
            <a:gdLst>
              <a:gd name="textAreaLeft" fmla="*/ 567000 w 3240360"/>
              <a:gd name="textAreaRight" fmla="*/ 2349360 w 3240360"/>
              <a:gd name="textAreaTop" fmla="*/ 183240 h 1368360"/>
              <a:gd name="textAreaBottom" fmla="*/ 11851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х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11"/>
          <p:cNvSpPr/>
          <p:nvPr/>
        </p:nvSpPr>
        <p:spPr>
          <a:xfrm>
            <a:off x="5148360" y="2060640"/>
            <a:ext cx="3168720" cy="1512720"/>
          </a:xfrm>
          <a:custGeom>
            <a:avLst/>
            <a:gdLst>
              <a:gd name="textAreaLeft" fmla="*/ 554400 w 3168720"/>
              <a:gd name="textAreaRight" fmla="*/ 2297520 w 3168720"/>
              <a:gd name="textAreaTop" fmla="*/ 202680 h 1512720"/>
              <a:gd name="textAreaBottom" fmla="*/ 131004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х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6T08:42:15Z</dcterms:created>
  <dc:creator>Admin</dc:creator>
  <dc:description/>
  <dc:language>en-US</dc:language>
  <cp:lastModifiedBy>777</cp:lastModifiedBy>
  <dcterms:modified xsi:type="dcterms:W3CDTF">2015-09-25T07:50:48Z</dcterms:modified>
  <cp:revision>27</cp:revision>
  <dc:subject/>
  <dc:title>БЮДЖЕТ СЕМЬИ ОТК УРОК</dc:title>
</cp:coreProperties>
</file>