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5.jpeg" ContentType="image/jpeg"/>
  <Override PartName="/ppt/media/image35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BCD-410E-4275-8619-9E5608D1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402-CD68-401E-ADD5-0FE8FE3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004-B456-4734-B234-39330B52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AF3-F6B5-442C-959C-B17B1280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5BFD-6CC0-4CA5-B088-75F629D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DA53-83E0-469A-9E78-E0EF75B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AF4-C544-4345-92BF-4A5F80E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D8CE-BC7B-439E-B53B-7B399D41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230-BC2A-474D-9FF0-38F2EA4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DBA8-0B43-4C8D-BB06-97B99DF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116F-2C87-40EA-A99A-8441694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48D-C718-47E5-8E59-BAFDC2D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3E69-36F5-4EF3-9E2A-77990A7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FDE-1126-4AD7-AE96-8D4640A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EDAD-A3D2-48E9-A0BE-77A38F66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AD8C-5641-45DF-B61A-636EE006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E088-B905-477A-AF65-C1C52F3E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924C-13F3-4353-AFC2-C8CC4C16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19B6-1A09-44BD-A74F-A406A0DC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ED94-35B5-4D57-A6F5-71686B2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5793-0DAF-46F6-8E07-CEE056E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1365-D782-47F1-9AD0-8235E56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10D-8A44-43B2-ABE1-646F1EC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BFB5-D666-4463-89A8-DF86E79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F2EA-B64D-4C5D-8ACB-89D2A6E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0A72-578D-4D40-9F6D-65CB3B7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3820-17D5-482D-925A-7B1A479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B695-022B-41A2-A476-5D3B906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DBA4-6B6C-4D4F-A98A-E20B9DA7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215E-9351-4304-AB03-D7F3B391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AA79-7A0D-4C18-8B4C-3BC08BE0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56D7-FB07-491C-BA69-5049CBA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366F-0C31-4D22-83E5-39BBF9F9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D2D-AC69-4B4F-B71B-AC0A0D0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23DF-6CC9-4537-8E4D-75D8EE1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0CA7-A3A3-407C-B41C-CD6B9CF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01AB-13E7-4330-B4FA-823D4D1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8859-5B7B-48A6-AE86-B0A4170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56AF-8CE1-4127-9A54-9048B58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64D6-19B7-4884-9A25-9879CA0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EA73-9D35-46AD-A600-7E135CE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DE74-1BD5-4351-974B-05B78A84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E1FC-A764-40EF-AD6B-25DE5BD0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791-FD35-4441-AE71-60D7828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4E7-A807-4219-9D08-DA4E12B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AEC-A663-4B2A-9AA0-2A4843D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20F-7BF2-4B32-A8BC-01E956B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982-DF73-4E03-95DF-781DDA8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C7601-074F-4A60-AF79-A3034A53DD4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27726-C920-4E02-8C7F-272F5925BD3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09FA4-BCB1-4F0E-B603-6DFB22ECA26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50A64-4113-4146-B0F3-03E7F810C06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5"/>
          <p:cNvSpPr txBox="1"/>
          <p:nvPr/>
        </p:nvSpPr>
        <p:spPr>
          <a:xfrm>
            <a:off x="990720" y="2895480"/>
            <a:ext cx="7162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гостях  у  сказ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1447920" y="7621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90400" y="276120"/>
            <a:ext cx="7105680" cy="94716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то попил воды и стал козленочком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70560" y="23097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4120" y="22557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Иванушка- дурач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450800" y="4743360"/>
            <a:ext cx="20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Брате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вануш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562720" y="475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3191040" y="2878200"/>
            <a:ext cx="1152360" cy="1720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7010280" y="270360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3"/>
          <a:stretch/>
        </p:blipFill>
        <p:spPr>
          <a:xfrm>
            <a:off x="3389400" y="4992840"/>
            <a:ext cx="1163520" cy="1685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4"/>
          <a:stretch/>
        </p:blipFill>
        <p:spPr>
          <a:xfrm>
            <a:off x="7280280" y="5151600"/>
            <a:ext cx="1482840" cy="16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26584"/>
          <p:cNvPicPr/>
          <p:nvPr/>
        </p:nvPicPr>
        <p:blipFill>
          <a:blip r:embed="rId1"/>
          <a:stretch/>
        </p:blipFill>
        <p:spPr>
          <a:xfrm>
            <a:off x="0" y="0"/>
            <a:ext cx="9144000" cy="845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сказки все время лежал на печ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58640" y="250344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856840" y="24271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004760" y="434340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Соловей-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збойни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5851440" y="43210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Цар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7566120" y="4578480"/>
            <a:ext cx="157788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2789280" y="4502160"/>
            <a:ext cx="1973160" cy="2355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4579920" y="2506680"/>
            <a:ext cx="12333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4"/>
          <a:stretch/>
        </p:blipFill>
        <p:spPr>
          <a:xfrm>
            <a:off x="3006720" y="2678040"/>
            <a:ext cx="1403280" cy="182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1003282188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прогнал лису из дома зайчик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29320" y="2427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оба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02040" y="23511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петуш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27160" y="434340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бы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699160" y="43387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гуси-лебед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2543040" y="2617920"/>
            <a:ext cx="1708200" cy="24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"/>
          <p:cNvPicPr/>
          <p:nvPr/>
        </p:nvPicPr>
        <p:blipFill>
          <a:blip r:embed="rId2"/>
          <a:stretch/>
        </p:blipFill>
        <p:spPr>
          <a:xfrm>
            <a:off x="7013520" y="2232000"/>
            <a:ext cx="2076480" cy="2365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"/>
          <p:cNvPicPr/>
          <p:nvPr/>
        </p:nvPicPr>
        <p:blipFill>
          <a:blip r:embed="rId3"/>
          <a:stretch/>
        </p:blipFill>
        <p:spPr>
          <a:xfrm>
            <a:off x="2543040" y="4456080"/>
            <a:ext cx="1641600" cy="2335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4"/>
          <a:stretch/>
        </p:blipFill>
        <p:spPr>
          <a:xfrm>
            <a:off x="6553080" y="4722840"/>
            <a:ext cx="2536920" cy="2165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0" y="304812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Прямоугольник 1" descr=""/>
          <p:cNvPicPr/>
          <p:nvPr/>
        </p:nvPicPr>
        <p:blipFill>
          <a:blip r:embed="rId3"/>
          <a:stretch/>
        </p:blipFill>
        <p:spPr>
          <a:xfrm>
            <a:off x="2425680" y="2968560"/>
            <a:ext cx="429264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609480" y="685800"/>
            <a:ext cx="7620120" cy="70344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разрушил теремок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671400" y="23234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л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5486400" y="2398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Носор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825120" y="425592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Медве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626440" y="4332240"/>
            <a:ext cx="19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Бегемо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5622840" y="2905200"/>
            <a:ext cx="1524240" cy="1293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1173240" y="5030640"/>
            <a:ext cx="1523880" cy="13431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5486400" y="5018040"/>
            <a:ext cx="2043000" cy="1490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"/>
          <p:cNvPicPr/>
          <p:nvPr/>
        </p:nvPicPr>
        <p:blipFill>
          <a:blip r:embed="rId4"/>
          <a:stretch/>
        </p:blipFill>
        <p:spPr>
          <a:xfrm>
            <a:off x="666720" y="2809800"/>
            <a:ext cx="2057400" cy="152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ниги Мир hi-te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380880"/>
            <a:ext cx="8381880" cy="192240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в сказке вместо удочки использовал свой хвост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53720" y="2960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мыш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851440" y="289548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лоша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22920" y="475632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лис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851440" y="475632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вол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1287360" y="555156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"/>
          <p:cNvPicPr/>
          <p:nvPr/>
        </p:nvPicPr>
        <p:blipFill>
          <a:blip r:embed="rId2"/>
          <a:stretch/>
        </p:blipFill>
        <p:spPr>
          <a:xfrm>
            <a:off x="1363680" y="3435480"/>
            <a:ext cx="1447920" cy="1569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"/>
          <p:cNvPicPr/>
          <p:nvPr/>
        </p:nvPicPr>
        <p:blipFill>
          <a:blip r:embed="rId3"/>
          <a:stretch/>
        </p:blipFill>
        <p:spPr>
          <a:xfrm>
            <a:off x="5757840" y="3456000"/>
            <a:ext cx="2038320" cy="1380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4"/>
          <a:stretch/>
        </p:blipFill>
        <p:spPr>
          <a:xfrm>
            <a:off x="6159600" y="5275440"/>
            <a:ext cx="1346040" cy="14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04920" y="609480"/>
            <a:ext cx="845820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во настоящее имя       Царевны- лягушки?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914400" y="25034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. Василиса Разум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29200" y="243828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Василис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Прекрас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14400" y="426708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3. Василиса Премудр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057640" y="4210200"/>
            <a:ext cx="30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. Василиса Прелест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2629080" y="2967120"/>
            <a:ext cx="1760400" cy="13158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2"/>
          <a:stretch/>
        </p:blipFill>
        <p:spPr>
          <a:xfrm>
            <a:off x="7162920" y="2746440"/>
            <a:ext cx="1447560" cy="1755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2344680" y="4844880"/>
            <a:ext cx="19335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4"/>
          <a:stretch/>
        </p:blipFill>
        <p:spPr>
          <a:xfrm>
            <a:off x="7299360" y="4844880"/>
            <a:ext cx="1311120" cy="18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Царевна-лягушка - Кни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228600"/>
            <a:ext cx="9144000" cy="21967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ого первым встречает героиня сказки "Гуси-лебеди", отправившаяся на поиски брат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900720" y="30798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р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634720" y="30607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Бабу Яг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898560" y="485136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яблон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643360" y="485136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п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898560" y="3598920"/>
            <a:ext cx="1879560" cy="1344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6819840" y="3321000"/>
            <a:ext cx="1927440" cy="2336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3"/>
          <a:stretch/>
        </p:blipFill>
        <p:spPr>
          <a:xfrm>
            <a:off x="5632560" y="5370480"/>
            <a:ext cx="1904760" cy="1471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"/>
          <p:cNvPicPr/>
          <p:nvPr/>
        </p:nvPicPr>
        <p:blipFill>
          <a:blip r:embed="rId4"/>
          <a:stretch/>
        </p:blipFill>
        <p:spPr>
          <a:xfrm>
            <a:off x="2766960" y="4749840"/>
            <a:ext cx="181944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7857833125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45:50Z</dcterms:created>
  <dc:creator>Дом</dc:creator>
  <dc:description/>
  <dc:language>en-US</dc:language>
  <cp:lastModifiedBy>Ванюшка</cp:lastModifiedBy>
  <dcterms:modified xsi:type="dcterms:W3CDTF">2017-05-25T18:50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