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5.jpeg" ContentType="image/jpeg"/>
  <Override PartName="/ppt/media/image35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10C-0149-4929-BAAC-F6352D22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C47-CAC9-4934-BD06-65D9544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3C8-0039-4ACE-A1E0-07F70036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6DF-6CD9-4B60-A72E-41D00A88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B164-DB4B-4609-8798-44F11364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E8B0-3B16-4778-94B4-61DC76B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3EC1-04C3-4DCE-90F2-9A15C193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7DB6-BB92-4C19-8D19-3128AB92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E63C-802D-4515-B3EF-DD38E80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1EEF-87D5-4295-829A-5E4F04F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3F7C-FBF2-4035-AB91-FB0BA6D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1FD-31B0-4C12-A604-A918E5C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349-BC9D-44B5-962C-FDDB703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1997-DC45-4D9C-955E-5D4E397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365-741F-4614-9C91-5EC5DCB7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CA8-24C5-45EC-9443-5232817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D71-07E1-4EA2-963D-FBCEB2B2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E1C8-7DA3-4C6D-9C3A-0613AD3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02DD-8656-4007-B112-0ABBA5A2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5AFD-2E99-45F8-98A5-6B331361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1F13-BCC2-4B10-A57B-57ADCD7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AE82-234E-4253-A460-33AF5106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B9B-9E4B-47E8-BFF5-4B7D150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200B-7E01-4AD7-995C-3BBA8E1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FC64-1B2F-4FD8-BA1B-ABD6D6E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023F-FF99-4C86-9CA3-B19417F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DA38-6852-47A9-957D-6C54EAA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E26D-BA6A-402B-A735-27068EB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F0E5-16E2-4DAF-868E-11CA3035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D197-866E-49EB-9616-A8A95EFC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6ED5-C404-4202-9072-3ED3170B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99BA-8594-4724-A60D-617FFCB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7A7B-8D22-48A2-BDF8-901E05E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249-B918-4E6F-8AC4-53FE348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84E6-9621-4CA3-B5EF-A66707DA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E877-A5D1-490F-A182-1D9C80D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AB01-78BC-4052-A32A-A168121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93B0-FD87-48A8-A688-26914A8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14C4-B2D9-43E6-B2F4-1CDDA13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58E0-F95E-4336-A9BB-20C395D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9067-278C-4AB8-A361-477A0C4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932A-A0D6-494E-8956-5CC4868A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6161-D38C-4A54-A530-FB93A42F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090-A91F-4E6E-AE26-CD0C1C0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C5C-6558-4C40-9CFF-96F0D7C3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E1E-FB86-49C7-90BD-75A153A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036-6A5E-44D8-8956-640B635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347-5F40-4C2A-9F82-01C7806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FD768-D61E-44D0-B3AD-143490274D0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303F9-8A62-4914-9389-C8919BDE2DE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AF016-81F2-42F5-9A4C-6E45DBD19FD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C0C47-9291-4A6E-A7A7-CB0B14C4F84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5"/>
          <p:cNvSpPr txBox="1"/>
          <p:nvPr/>
        </p:nvSpPr>
        <p:spPr>
          <a:xfrm>
            <a:off x="990720" y="2895480"/>
            <a:ext cx="7162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гостях  у  сказ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1447920" y="7621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90400" y="276120"/>
            <a:ext cx="7105680" cy="94716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то попил воды и стал козленочком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970560" y="23097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334120" y="22557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Иванушка- дурач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450800" y="4743360"/>
            <a:ext cx="20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Брате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вануш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562720" y="475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3191040" y="2878200"/>
            <a:ext cx="1152360" cy="1720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7010280" y="270360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3"/>
          <a:stretch/>
        </p:blipFill>
        <p:spPr>
          <a:xfrm>
            <a:off x="3389400" y="4992840"/>
            <a:ext cx="1163520" cy="1685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4"/>
          <a:stretch/>
        </p:blipFill>
        <p:spPr>
          <a:xfrm>
            <a:off x="7280280" y="5151600"/>
            <a:ext cx="1482840" cy="16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26584"/>
          <p:cNvPicPr/>
          <p:nvPr/>
        </p:nvPicPr>
        <p:blipFill>
          <a:blip r:embed="rId1"/>
          <a:stretch/>
        </p:blipFill>
        <p:spPr>
          <a:xfrm>
            <a:off x="0" y="0"/>
            <a:ext cx="9144000" cy="845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сказки все время лежал на печи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358640" y="250344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Емел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856840" y="24271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Иван-Цареви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004760" y="434340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Соловей-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збойни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5851440" y="43210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Цар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7566120" y="4578480"/>
            <a:ext cx="157788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2789280" y="4502160"/>
            <a:ext cx="1973160" cy="2355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4579920" y="2506680"/>
            <a:ext cx="1233360" cy="2071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4"/>
          <a:stretch/>
        </p:blipFill>
        <p:spPr>
          <a:xfrm>
            <a:off x="3006720" y="2678040"/>
            <a:ext cx="1403280" cy="182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1003282188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914400" y="533520"/>
            <a:ext cx="769608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прогнал лису из дома зайчик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29320" y="2427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обак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02040" y="23511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петушо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27160" y="434340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бы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699160" y="43387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гуси-лебед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2543040" y="2617920"/>
            <a:ext cx="1708200" cy="24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"/>
          <p:cNvPicPr/>
          <p:nvPr/>
        </p:nvPicPr>
        <p:blipFill>
          <a:blip r:embed="rId2"/>
          <a:stretch/>
        </p:blipFill>
        <p:spPr>
          <a:xfrm>
            <a:off x="7013520" y="2232000"/>
            <a:ext cx="2076480" cy="2365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"/>
          <p:cNvPicPr/>
          <p:nvPr/>
        </p:nvPicPr>
        <p:blipFill>
          <a:blip r:embed="rId3"/>
          <a:stretch/>
        </p:blipFill>
        <p:spPr>
          <a:xfrm>
            <a:off x="2543040" y="4456080"/>
            <a:ext cx="1641600" cy="2335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"/>
          <p:cNvPicPr/>
          <p:nvPr/>
        </p:nvPicPr>
        <p:blipFill>
          <a:blip r:embed="rId4"/>
          <a:stretch/>
        </p:blipFill>
        <p:spPr>
          <a:xfrm>
            <a:off x="6553080" y="4722840"/>
            <a:ext cx="2536920" cy="2165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0" y="304812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Прямоугольник 1" descr=""/>
          <p:cNvPicPr/>
          <p:nvPr/>
        </p:nvPicPr>
        <p:blipFill>
          <a:blip r:embed="rId3"/>
          <a:stretch/>
        </p:blipFill>
        <p:spPr>
          <a:xfrm>
            <a:off x="2425680" y="2968560"/>
            <a:ext cx="429264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609480" y="685800"/>
            <a:ext cx="7620120" cy="70344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то разрушил теремок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671400" y="23234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Сло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5486400" y="2398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Носор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825120" y="425592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Медве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626440" y="4332240"/>
            <a:ext cx="19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Бегемо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5622840" y="2905200"/>
            <a:ext cx="1524240" cy="1293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1173240" y="5030640"/>
            <a:ext cx="1523880" cy="13431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3"/>
          <a:stretch/>
        </p:blipFill>
        <p:spPr>
          <a:xfrm>
            <a:off x="5486400" y="5018040"/>
            <a:ext cx="2043000" cy="1490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"/>
          <p:cNvPicPr/>
          <p:nvPr/>
        </p:nvPicPr>
        <p:blipFill>
          <a:blip r:embed="rId4"/>
          <a:stretch/>
        </p:blipFill>
        <p:spPr>
          <a:xfrm>
            <a:off x="666720" y="2809800"/>
            <a:ext cx="2057400" cy="1528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ниги Мир hi-te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380880"/>
            <a:ext cx="8381880" cy="192240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й герой в сказке вместо удочки использовал свой хвост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53720" y="2960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мыш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851440" y="289548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лошадь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22920" y="475632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лис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851440" y="475632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волк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1287360" y="555156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2" descr=""/>
          <p:cNvPicPr/>
          <p:nvPr/>
        </p:nvPicPr>
        <p:blipFill>
          <a:blip r:embed="rId2"/>
          <a:stretch/>
        </p:blipFill>
        <p:spPr>
          <a:xfrm>
            <a:off x="1363680" y="3435480"/>
            <a:ext cx="1447920" cy="15699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"/>
          <p:cNvPicPr/>
          <p:nvPr/>
        </p:nvPicPr>
        <p:blipFill>
          <a:blip r:embed="rId3"/>
          <a:stretch/>
        </p:blipFill>
        <p:spPr>
          <a:xfrm>
            <a:off x="5757840" y="3456000"/>
            <a:ext cx="2038320" cy="1380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4"/>
          <a:stretch/>
        </p:blipFill>
        <p:spPr>
          <a:xfrm>
            <a:off x="6159600" y="5275440"/>
            <a:ext cx="1346040" cy="14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04920" y="609480"/>
            <a:ext cx="8458200" cy="13129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аково настоящее имя       Царевны- лягушки?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914400" y="25034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1. Василиса Разум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29200" y="243828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Василис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Прекрас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14400" y="4267080"/>
            <a:ext cx="28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3. Василиса Премудр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057640" y="4210200"/>
            <a:ext cx="30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4. Василиса Прелестна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2629080" y="2967120"/>
            <a:ext cx="1760400" cy="13158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2"/>
          <a:stretch/>
        </p:blipFill>
        <p:spPr>
          <a:xfrm>
            <a:off x="7162920" y="2746440"/>
            <a:ext cx="1447560" cy="1755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2344680" y="4844880"/>
            <a:ext cx="19335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4"/>
          <a:stretch/>
        </p:blipFill>
        <p:spPr>
          <a:xfrm>
            <a:off x="7299360" y="4844880"/>
            <a:ext cx="1311120" cy="18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Царевна-лягушка - Кни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228600"/>
            <a:ext cx="9144000" cy="2196720"/>
          </a:xfrm>
          <a:prstGeom prst="rect">
            <a:avLst/>
          </a:prstGeom>
          <a:gradFill rotWithShape="0">
            <a:gsLst>
              <a:gs pos="0">
                <a:srgbClr val="e80eb9"/>
              </a:gs>
              <a:gs pos="100000">
                <a:srgbClr val="fc8380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Кого первым встречает героиня сказки "Гуси-лебеди", отправившаяся на поиски брата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900720" y="307980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1. р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634720" y="30607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2. Бабу Яг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898560" y="485136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3. яблон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643360" y="485136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4. печ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898560" y="3598920"/>
            <a:ext cx="1879560" cy="1344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6819840" y="3321000"/>
            <a:ext cx="1927440" cy="2336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3"/>
          <a:stretch/>
        </p:blipFill>
        <p:spPr>
          <a:xfrm>
            <a:off x="5632560" y="5370480"/>
            <a:ext cx="1904760" cy="1471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"/>
          <p:cNvPicPr/>
          <p:nvPr/>
        </p:nvPicPr>
        <p:blipFill>
          <a:blip r:embed="rId4"/>
          <a:stretch/>
        </p:blipFill>
        <p:spPr>
          <a:xfrm>
            <a:off x="2766960" y="4749840"/>
            <a:ext cx="181944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7857833125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45:50Z</dcterms:created>
  <dc:creator>Дом</dc:creator>
  <dc:description/>
  <dc:language>en-US</dc:language>
  <cp:lastModifiedBy>Ванюшка</cp:lastModifiedBy>
  <dcterms:modified xsi:type="dcterms:W3CDTF">2017-05-25T18:50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