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829-53A1-45AF-A042-C50EBC0C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831-D008-4320-8812-6DDEFAF8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B48-544B-48E3-A07B-A15A84F9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7DE-0924-4D9E-9416-951BB65E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09A-B676-4165-B640-F8FCC2C0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E36-0644-4493-8A7B-60F9415E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B17-B06D-4E56-B154-51487C81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C8C-C411-4825-8688-391668EA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259-047E-44B4-9408-98B6BE2E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5A7-17E6-4742-A8B6-03D97589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CBC-8E80-4939-898A-F1095F7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E23-8DF5-432E-84E1-6F9AEA5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0819-721B-42DB-906E-623F7A5700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rosv.ru/umk/ork/info.aspx?ob_no=20321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mo.mosreg.ru/userdata/141870.pn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29528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867280" y="609300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хина З.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318440" y="1295280"/>
            <a:ext cx="182556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28600" y="4038480"/>
            <a:ext cx="190332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prosv.ru/Attachment.aspx?Id=9181">
            <a:hlinkClick r:id="rId3"/>
          </p:cNvPr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724280" y="4038480"/>
            <a:ext cx="197172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2514600" y="4038480"/>
            <a:ext cx="177012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0" y="1295280"/>
            <a:ext cx="179712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3"/>
          <p:cNvSpPr/>
          <p:nvPr/>
        </p:nvSpPr>
        <p:spPr>
          <a:xfrm>
            <a:off x="2049120" y="1511280"/>
            <a:ext cx="5139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сновы православной культур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ы мировых религиозных культур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сновы светской этик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ы исламской культур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новы буддийской культур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Основы иудейской культур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с «Основы религиозных культу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ветской этики» включает в себя 6 модул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7"/>
          <a:stretch/>
        </p:blipFill>
        <p:spPr>
          <a:xfrm>
            <a:off x="7086600" y="4114800"/>
            <a:ext cx="185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656560" cy="1554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152280" y="1676520"/>
            <a:ext cx="861084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ть то, что обучение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о на воспитание ребенка  и опирается на нравственные ценности семьи в воспит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вано помочь ребенку понять, какие нравственные основания стали основой развития культурной среды, в которой он жив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о на формирование понимания ребенком значения религиозных и светских традиций для современной жизни народов многонациональной России и своей сопричастности н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cc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ие обучения не в поглощении информации, а  в формировании нравственного поведения ребенка на основе понимания и усвоения духовно-нравственных ценностей общества, в котором он жив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а комплексного учебного кур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Основы религиозных культур и светской этики» (34 час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4 класс, четвертая четверть (17 час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1. Введение. Духовные ценности и нравственные идеалы в жизни человека и общества (1 ча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2. Основы религиозных культур и светской этики. Часть 1. (16 часов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5 класс, первая четверть (17 час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3. Основы религиозных культур и светской этики. Часть 2. (12 час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4. Духовные традиции многонационального народа России (5 час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Блок 1. Духовные ценности и нравственные идеалы в жизни человека и общества. </a:t>
            </a: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Блок 4. Духовные традиции многонационального народа Росси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ки 1 и 4 посвящены патриотическим ценностям и нравственному содержанию межкультурного и межконфессионального диалога как фактора общественного согласия. Уроки в рамках этих блоков проводятся для всего класса вмес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 учителя возможно также проведение совместных завершающих уроков в блоке 2, связанных с презентациями творческих проектов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Блок 4. Духовные традиции многонационального народа Росс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Блок 4 - итоговый, обобщающий и оценочный. Предусматривает подготовку и презентацию творческих проектов на основе изученного материала. В ходе подготовки проекта учащиеся получают возможность обобщить ранее изученный материал, освоить его еще раз, но уже в активной, творческой форме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ходе презентации проектов все учащиеся класса получают возможность ознакомиться с основным содержание всех 6 модулей, узнать о других духовных и культурных традициях России от своих одноклассник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b3b3b"/>
                </a:solidFill>
                <a:uFillTx/>
                <a:latin typeface="Tahoma"/>
              </a:rPr>
              <a:t>Комплексный учебный курс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b3b3b"/>
                </a:solidFill>
                <a:uFillTx/>
                <a:latin typeface="Tahoma"/>
              </a:rPr>
              <a:t>«Основы религиозных культур и светской эти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«Прошу обеспечить решение организационных и финансовых вопросов, касающихся введения … с 2012 года во всех субъектах Российской Федерации в общеобразовательных учреждениях новых предмет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православной культу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исламской культу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буддийской культу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иудейской культу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основы мировых религиозных культу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и основы светской э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для изучения учащимися по их выбору или по выбору их родителей (законных представителей)» с 4-ой четверти 2011 – 2012 учебного года в общеобразовательных учреждениях всех субъектов Российской Федерации пройдет введение комплексного учебного курса «Основы религиозных культур и светской этик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Из  поручения Президента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ahoma"/>
              </a:rPr>
              <a:t>Д.А. Медведева от 21 июля 2009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74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Нормативно-правовая основа курса:</a:t>
            </a:r>
            <a:r>
              <a:rPr b="0" lang="ru-RU" sz="3200" spc="-1" strike="noStrike">
                <a:solidFill>
                  <a:srgbClr val="3b3b3b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b3b3b"/>
                </a:solidFill>
                <a:latin typeface="Tahoma"/>
              </a:rPr>
              <a:t>- 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Конституция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Российской Федераци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b3b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законы Российской Федерации 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«Об образовании», «Об основных гарантиях прав ребенка в Российской Федерации»;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b3b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Федеральный закон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 «О свободе совести и религиозных объединениях»,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b3b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Поручение Президента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Российской Федерации от 02 августа 2009 г. № Пр – 2009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b3b"/>
                </a:solidFill>
                <a:latin typeface="Tahoma"/>
              </a:rPr>
              <a:t>- </a:t>
            </a:r>
            <a:r>
              <a:rPr b="0" lang="ru-RU" sz="2800" spc="-1" strike="noStrike" u="sng">
                <a:solidFill>
                  <a:srgbClr val="3b3b3b"/>
                </a:solidFill>
                <a:uFillTx/>
                <a:latin typeface="Tahoma"/>
                <a:ea typeface="Tahoma"/>
              </a:rPr>
              <a:t>Распоряжение Председателя Правительства</a:t>
            </a:r>
            <a:r>
              <a:rPr b="0" lang="ru-RU" sz="2800" spc="-1" strike="noStrike">
                <a:solidFill>
                  <a:srgbClr val="3b3b3b"/>
                </a:solidFill>
                <a:latin typeface="Tahoma"/>
                <a:ea typeface="Tahoma"/>
              </a:rPr>
              <a:t> Российской Федерации  от   11 августа 2009 г. (ВП-П44-4632).</a:t>
            </a:r>
            <a:r>
              <a:rPr b="0" lang="ru-RU" sz="3200" spc="-1" strike="noStrike">
                <a:solidFill>
                  <a:srgbClr val="3b3b3b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чиная с 2012 года  преподавание комплексного учебного курса будет осуществляться на постоянной основе во всех субъектах Российской Федераци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457200"/>
            <a:ext cx="8229600" cy="61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й закон «О свободе совести и о религиозных объединениях», а также Закон Российской Федерации «Об образовании» устанавливают, 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о должно обеспечивать светский характ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разования в государственных и муниципальных образовательных учрежден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609480"/>
            <a:ext cx="914400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Федеральным законом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«О свободе совести и религиозных объединениях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статья 5) закреплен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аво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одителей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бучать детей религии вне образовательной программ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(под обучением религии понимается преподавание основ вероучения)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иказ Минобразования Росси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 1 июля 2003 г. № 2833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 предоставлении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сударственными и муниципальными учреждениям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лигиозным организациям возможности обучать детей религии вне рамок образовательных програм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» (зарегистрирован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инюсте России 5 августа 2003 г. № 4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Основы религиозных культур и светской этики» -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ультурологический курс, направленный на развитие у школьников  4-5 классов представлений о нравственных идеалах и ценностях, составляющих основу религиозных и светских традиций многонациональной культуры России, на понимание их значения в жизни современного общества, а также своей сопричастности к ним.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b3b"/>
                </a:solidFill>
                <a:latin typeface="Tahoma"/>
                <a:ea typeface="Tahoma"/>
              </a:rPr>
              <a:t>Цель учебного курса</a:t>
            </a:r>
            <a:r>
              <a:rPr b="0" lang="ru-RU" sz="3600" spc="-1" strike="noStrike">
                <a:solidFill>
                  <a:srgbClr val="3b3b3b"/>
                </a:solidFill>
                <a:latin typeface="Tahoma"/>
                <a:ea typeface="Tahoma"/>
              </a:rPr>
              <a:t> </a:t>
            </a:r>
            <a:r>
              <a:rPr b="1" lang="ru-RU" sz="3600" spc="-1" strike="noStrike">
                <a:solidFill>
                  <a:srgbClr val="3b3b3b"/>
                </a:solidFill>
                <a:latin typeface="Tahoma"/>
                <a:ea typeface="Tahoma"/>
              </a:rPr>
              <a:t>ОРКСЭ </a:t>
            </a:r>
            <a:r>
              <a:rPr b="0" lang="ru-RU" sz="3600" spc="-1" strike="noStrike">
                <a:solidFill>
                  <a:srgbClr val="3b3b3b"/>
                </a:solidFill>
                <a:latin typeface="Tahoma"/>
                <a:ea typeface="Tahoma"/>
              </a:rPr>
              <a:t>– формирование у младшего подростка мотивации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дачи комплексного учебного курса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«Основы религиозных культур и светской этик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знакомство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развитие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обобщение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развитие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введения курса ОРКСЭ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2280" y="1895400"/>
            <a:ext cx="8534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облюден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конституционных принципов светского характера Российского государств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Взаимодейств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органов исполнительной власти субъектов Российской Федерации, осуществляющие управление в сфере образования, с религиозными организациям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одейств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межконфессиональному сотрудничеству и взаимному уважению на местах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4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Институты учета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запросов граждан на изучение их детьми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снов культуры религий и светской этик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8:25:24Z</dcterms:created>
  <dc:creator>User</dc:creator>
  <dc:description/>
  <dc:language>en-US</dc:language>
  <cp:lastModifiedBy>777</cp:lastModifiedBy>
  <dcterms:modified xsi:type="dcterms:W3CDTF">2020-09-15T10:44:00Z</dcterms:modified>
  <cp:revision>5</cp:revision>
  <dc:subject/>
  <dc:title>Презентация PowerPoint</dc:title>
</cp:coreProperties>
</file>