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4BB-8042-49BD-9475-72BF4567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38C-6201-4A5A-9908-10E41CB6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BE3-51B1-4B94-86FF-9907BF75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517-B96D-4DC0-A41E-E5CE9DB6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D2A-F70E-43FC-9D3D-8C883198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01E-7CC1-4B60-8061-9F9CF5CC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C4D-C51E-4E4C-A61E-F421194B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C543-6480-412A-827C-E30B1640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34B-BD86-4CC0-A868-6FF29875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937-B691-4300-974B-F986E854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10F-1546-4888-808C-8C952D89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FC7-8825-471D-A390-86E11035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7C11-CCBA-4EF8-A072-B3A0CD48E2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rosv.ru/umk/ork/info.aspx?ob_no=20321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mo.mosreg.ru/userdata/141870.png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29528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867280" y="6093000"/>
            <a:ext cx="22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хина З.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318440" y="1295280"/>
            <a:ext cx="182556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228600" y="4038480"/>
            <a:ext cx="1903320" cy="281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www.prosv.ru/Attachment.aspx?Id=9181">
            <a:hlinkClick r:id="rId3"/>
          </p:cNvPr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4724280" y="4038480"/>
            <a:ext cx="1971720" cy="28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2514600" y="4038480"/>
            <a:ext cx="177012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0" y="1295280"/>
            <a:ext cx="179712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3"/>
          <p:cNvSpPr/>
          <p:nvPr/>
        </p:nvSpPr>
        <p:spPr>
          <a:xfrm>
            <a:off x="2049120" y="1511280"/>
            <a:ext cx="5139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сновы православной культур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сновы мировых религиозных культур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сновы светской этик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новы исламской культур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сновы буддийской культур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Основы иудейской культур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рс «Основы религиозных культу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ветской этики» включает в себя 6 модул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7"/>
          <a:stretch/>
        </p:blipFill>
        <p:spPr>
          <a:xfrm>
            <a:off x="7086600" y="4114800"/>
            <a:ext cx="1851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479840" y="306396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656560" cy="1554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152280" y="1676520"/>
            <a:ext cx="8610840" cy="54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ывать то, что обучение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cc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авлено на воспитание ребенка  и опирается на нравственные ценности семьи в воспита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cc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cc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звано помочь ребенку понять, какие нравственные основания стали основой развития культурной среды, в которой он живе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cc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cc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авлено на формирование понимания ребенком значения религиозных и светских традиций для современной жизни народов многонациональной России и своей сопричастности н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cc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cc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начение обучения не в поглощении информации, а  в формировании нравственного поведения ребенка на основе понимания и усвоения духовно-нравственных ценностей общества, в котором он жив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а комплексного учебного курс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Основы религиозных культур и светской этики» (34 часа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4 класс, четвертая четверть (17 час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лок 1. Введение. Духовные ценности и нравственные идеалы в жизни человека и общества (1 ча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лок 2. Основы религиозных культур и светской этики. Часть 1. (16 часов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5 класс, первая четверть (17 час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лок 3. Основы религиозных культур и светской этики. Часть 2. (12 час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лок 4. Духовные традиции многонационального народа России (5 час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Блок 1. Духовные ценности и нравственные идеалы в жизни человека и общества. </a:t>
            </a:r>
            <a:br>
              <a:rPr sz="2300"/>
            </a:b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Блок 4. Духовные традиции многонационального народа России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оки 1 и 4 посвящены патриотическим ценностям и нравственному содержанию межкультурного и межконфессионального диалога как фактора общественного согласия. Уроки в рамках этих блоков проводятся для всего класса вмес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желанию учителя возможно также проведение совместных завершающих уроков в блоке 2, связанных с презентациями творческих проектов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Блок 4. Духовные традиции многонационального народа Росси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Блок 4 - итоговый, обобщающий и оценочный. Предусматривает подготовку и презентацию творческих проектов на основе изученного материала. В ходе подготовки проекта учащиеся получают возможность обобщить ранее изученный материал, освоить его еще раз, но уже в активной, творческой форме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 ходе презентации проектов все учащиеся класса получают возможность ознакомиться с основным содержание всех 6 модулей, узнать о других духовных и культурных традициях России от своих одноклассник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9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b3b3b"/>
                </a:solidFill>
                <a:uFillTx/>
                <a:latin typeface="Tahoma"/>
              </a:rPr>
              <a:t>Комплексный учебный курс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b3b3b"/>
                </a:solidFill>
                <a:uFillTx/>
                <a:latin typeface="Tahoma"/>
              </a:rPr>
              <a:t>«Основы религиозных культур и светской эти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«Прошу обеспечить решение организационных и финансовых вопросов, касающихся введения … с 2012 года во всех субъектах Российской Федерации в общеобразовательных учреждениях новых предмет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основы православной культур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основы исламской культур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основы буддийской культур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основы иудейской культур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основы мировых религиозных культу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и основы светской э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для изучения учащимися по их выбору или по выбору их родителей (законных представителей)» с 4-ой четверти 2011 – 2012 учебного года в общеобразовательных учреждениях всех субъектов Российской Федерации пройдет введение комплексного учебного курса «Основы религиозных культур и светской этик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Из  поручения Президента Российской Федерац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Д.А. Медведева от 21 июля 2009 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74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b3b3b"/>
                </a:solidFill>
                <a:uFillTx/>
                <a:latin typeface="Tahoma"/>
                <a:ea typeface="Tahoma"/>
              </a:rPr>
              <a:t>Нормативно-правовая основа курса:</a:t>
            </a:r>
            <a:r>
              <a:rPr b="0" lang="ru-RU" sz="3200" spc="-1" strike="noStrike">
                <a:solidFill>
                  <a:srgbClr val="3b3b3b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b3b3b"/>
                </a:solidFill>
                <a:latin typeface="Tahoma"/>
              </a:rPr>
              <a:t>- </a:t>
            </a:r>
            <a:r>
              <a:rPr b="0" lang="ru-RU" sz="2800" spc="-1" strike="noStrike" u="sng">
                <a:solidFill>
                  <a:srgbClr val="3b3b3b"/>
                </a:solidFill>
                <a:uFillTx/>
                <a:latin typeface="Tahoma"/>
                <a:ea typeface="Tahoma"/>
              </a:rPr>
              <a:t>Конституция</a:t>
            </a:r>
            <a:r>
              <a:rPr b="0" lang="ru-RU" sz="2800" spc="-1" strike="noStrike">
                <a:solidFill>
                  <a:srgbClr val="3b3b3b"/>
                </a:solidFill>
                <a:latin typeface="Tahoma"/>
                <a:ea typeface="Tahoma"/>
              </a:rPr>
              <a:t> Российской Федераци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b3b3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3b3b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b3b3b"/>
                </a:solidFill>
                <a:latin typeface="Tahoma"/>
                <a:ea typeface="Tahoma"/>
              </a:rPr>
              <a:t>законы Российской Федерации </a:t>
            </a:r>
            <a:r>
              <a:rPr b="0" lang="ru-RU" sz="2800" spc="-1" strike="noStrike" u="sng">
                <a:solidFill>
                  <a:srgbClr val="3b3b3b"/>
                </a:solidFill>
                <a:uFillTx/>
                <a:latin typeface="Tahoma"/>
                <a:ea typeface="Tahoma"/>
              </a:rPr>
              <a:t>«Об образовании», «Об основных гарантиях прав ребенка в Российской Федерации»;</a:t>
            </a:r>
            <a:r>
              <a:rPr b="0" lang="ru-RU" sz="2800" spc="-1" strike="noStrike">
                <a:solidFill>
                  <a:srgbClr val="3b3b3b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b3b3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3b3b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b3b3b"/>
                </a:solidFill>
                <a:latin typeface="Tahoma"/>
                <a:ea typeface="Tahoma"/>
              </a:rPr>
              <a:t>Федеральный закон</a:t>
            </a:r>
            <a:r>
              <a:rPr b="0" lang="ru-RU" sz="2800" spc="-1" strike="noStrike" u="sng">
                <a:solidFill>
                  <a:srgbClr val="3b3b3b"/>
                </a:solidFill>
                <a:uFillTx/>
                <a:latin typeface="Tahoma"/>
                <a:ea typeface="Tahoma"/>
              </a:rPr>
              <a:t> «О свободе совести и религиозных объединениях»,</a:t>
            </a:r>
            <a:r>
              <a:rPr b="0" lang="ru-RU" sz="2800" spc="-1" strike="noStrike">
                <a:solidFill>
                  <a:srgbClr val="3b3b3b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b3b3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3b3b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3b3b3b"/>
                </a:solidFill>
                <a:uFillTx/>
                <a:latin typeface="Tahoma"/>
                <a:ea typeface="Tahoma"/>
              </a:rPr>
              <a:t>Поручение Президента</a:t>
            </a:r>
            <a:r>
              <a:rPr b="0" lang="ru-RU" sz="2800" spc="-1" strike="noStrike">
                <a:solidFill>
                  <a:srgbClr val="3b3b3b"/>
                </a:solidFill>
                <a:latin typeface="Tahoma"/>
                <a:ea typeface="Tahoma"/>
              </a:rPr>
              <a:t> Российской Федерации от 02 августа 2009 г. № Пр – 2009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3b3b"/>
                </a:solidFill>
                <a:latin typeface="Tahoma"/>
              </a:rPr>
              <a:t>- </a:t>
            </a:r>
            <a:r>
              <a:rPr b="0" lang="ru-RU" sz="2800" spc="-1" strike="noStrike" u="sng">
                <a:solidFill>
                  <a:srgbClr val="3b3b3b"/>
                </a:solidFill>
                <a:uFillTx/>
                <a:latin typeface="Tahoma"/>
                <a:ea typeface="Tahoma"/>
              </a:rPr>
              <a:t>Распоряжение Председателя Правительства</a:t>
            </a:r>
            <a:r>
              <a:rPr b="0" lang="ru-RU" sz="2800" spc="-1" strike="noStrike">
                <a:solidFill>
                  <a:srgbClr val="3b3b3b"/>
                </a:solidFill>
                <a:latin typeface="Tahoma"/>
                <a:ea typeface="Tahoma"/>
              </a:rPr>
              <a:t> Российской Федерации  от   11 августа 2009 г. (ВП-П44-4632).</a:t>
            </a:r>
            <a:r>
              <a:rPr b="0" lang="ru-RU" sz="3200" spc="-1" strike="noStrike">
                <a:solidFill>
                  <a:srgbClr val="3b3b3b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чиная с 2012 года  преподавание комплексного учебного курса будет осуществляться на постоянной основе во всех субъектах Российской Федерации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457200"/>
            <a:ext cx="822960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едеральный закон «О свободе совести и о религиозных объединениях», а также Закон Российской Федерации «Об образовании» устанавливают, чт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о должно обеспечивать светский характе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бразования в государственных и муниципальных образовательных учреждения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609480"/>
            <a:ext cx="914400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Федеральным законом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«О свободе совести и религиозных объединениях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(статья 5) закреплено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раво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одителей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бучать детей религии вне образовательной программ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 Black"/>
              </a:rPr>
              <a:t>(под обучением религии понимается преподавание основ вероучения)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риказ Минобразования Росси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 1 июля 2003 г. № 2833 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 предоставлении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осударственными и муниципальными учреждениям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лигиозным организациям возможности обучать детей религии вне рамок образовательных программ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» (зарегистрирован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инюсте России 5 августа 2003 г. № 4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Основы религиозных культур и светской этики» -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ультурологический курс, направленный на развитие у школьников  4-5 классов представлений о нравственных идеалах и ценностях, составляющих основу религиозных и светских традиций многонациональной культуры России, на понимание их значения в жизни современного общества, а также своей сопричастности к ним.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380880"/>
            <a:ext cx="914400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3b3b"/>
                </a:solidFill>
                <a:latin typeface="Tahoma"/>
                <a:ea typeface="Tahoma"/>
              </a:rPr>
              <a:t>Цель учебного курса</a:t>
            </a:r>
            <a:r>
              <a:rPr b="0" lang="ru-RU" sz="3600" spc="-1" strike="noStrike">
                <a:solidFill>
                  <a:srgbClr val="3b3b3b"/>
                </a:solidFill>
                <a:latin typeface="Tahoma"/>
                <a:ea typeface="Tahoma"/>
              </a:rPr>
              <a:t> </a:t>
            </a:r>
            <a:r>
              <a:rPr b="1" lang="ru-RU" sz="3600" spc="-1" strike="noStrike">
                <a:solidFill>
                  <a:srgbClr val="3b3b3b"/>
                </a:solidFill>
                <a:latin typeface="Tahoma"/>
                <a:ea typeface="Tahoma"/>
              </a:rPr>
              <a:t>ОРКСЭ </a:t>
            </a:r>
            <a:r>
              <a:rPr b="0" lang="ru-RU" sz="3600" spc="-1" strike="noStrike">
                <a:solidFill>
                  <a:srgbClr val="3b3b3b"/>
                </a:solidFill>
                <a:latin typeface="Tahoma"/>
                <a:ea typeface="Tahoma"/>
              </a:rPr>
              <a:t>– формирование у младшего подростка мотивации к осознанному нравственному поведению, основанному на знании и уважении культурных и религиозных традиций многонационального народа России, а также к диалогу с представителями других культур и мировоззрений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дачи комплексного учебного курса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«Основы религиозных культур и светской этик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знакомство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обучающихся с основами православной, мусульманской, буддийской, иудейской культур, основами мировых религиозных культур и светской этики;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развитие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представлений младшего подростка о значении нравственных норм и ценностей для достойной жизни личности, семьи, общества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обобщение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знаний, понятий и представлений о духовной культуре и морали, полученных обучающимися в начальной школе, и формирование у них ценностно-смысловых мировоззренческих основ, обеспечивающих целостное восприятие отечественной истории и культуры при изучении гуманитарных предметов на ступени основной школы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развитие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пособностей младших школьников к общению в полиэтнической и многоконфессиональной среде на основе взаимного уважения и диалога во имя общественного мира и согласия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введения курса ОРКСЭ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52280" y="1895400"/>
            <a:ext cx="85345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Соблюдени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конституционных принципов светского характера Российского государств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2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Взаимодействи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органов исполнительной власти субъектов Российской Федерации, осуществляющие управление в сфере образования, с религиозными организациям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3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Содействи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межконфессиональному сотрудничеству и взаимному уважению на местах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4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Институты учет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запросов граждан на изучение их детьми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снов культуры религий и светской этики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8:25:24Z</dcterms:created>
  <dc:creator>User</dc:creator>
  <dc:description/>
  <dc:language>en-US</dc:language>
  <cp:lastModifiedBy>777</cp:lastModifiedBy>
  <dcterms:modified xsi:type="dcterms:W3CDTF">2020-09-15T10:44:00Z</dcterms:modified>
  <cp:revision>5</cp:revision>
  <dc:subject/>
  <dc:title>Презентация PowerPoint</dc:title>
</cp:coreProperties>
</file>