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1E6-E994-4402-BBB9-78A79638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05C-D920-4434-B363-2791E2BD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2BB-B36B-4A14-AD4A-C6DA9DA5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A42-D647-4AB5-A59E-251CB054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31FD-AB9B-4131-9DEF-4552022B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794-42DA-4FE2-83C8-2EBB97EE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F57F-3378-4015-B8DE-D123832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174D-4263-49C9-B7A7-F97B8093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5E6D-7EF7-49AF-824A-19E6B577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E77C-CC62-4CC6-90F4-22DE1D88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EDE4-0B9A-4B2B-A0A6-236A325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A53-97F2-497C-9951-8D764BC4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2B7-8CB5-4B6D-8EB3-D65BB3C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F892-8643-4546-8534-3838CD1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1A02-48A6-4E8D-BFDB-457DD2E8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8189-62DA-4217-8743-D902918E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A437-56A5-445A-BE39-2BF73FBE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44E-D03B-4876-8A4B-11EE3F47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25D-4D38-4618-9A59-8D62DC8E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058-4601-4D9D-AE2B-CD283130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714-C4C1-44E4-B2DF-B96F856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250-2243-45EB-80DB-B84300B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69F-BEBE-4332-8B5D-5D73D86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115-108A-4418-A40E-92645C7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4B2D-1983-4C15-9593-29B8FE2177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2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26C9-5CB9-4BFC-AA47-7CBC5E610E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«В гостях у светофор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Бойкова О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еще есть знаки – добрые друзья, укажут направлень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шего движе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Хомченко Елена\Desktop\33_5_37_1_b.gif"/>
          <p:cNvPicPr/>
          <p:nvPr/>
        </p:nvPicPr>
        <p:blipFill>
          <a:blip r:embed="rId1"/>
          <a:stretch/>
        </p:blipFill>
        <p:spPr>
          <a:xfrm>
            <a:off x="6372360" y="2781360"/>
            <a:ext cx="1860480" cy="186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Хомченко Елена\Desktop\5.36.2.png"/>
          <p:cNvPicPr/>
          <p:nvPr/>
        </p:nvPicPr>
        <p:blipFill>
          <a:blip r:embed="rId2"/>
          <a:stretch/>
        </p:blipFill>
        <p:spPr>
          <a:xfrm>
            <a:off x="684360" y="2852640"/>
            <a:ext cx="197316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Хомченко Елена\Desktop\5.35.2.png"/>
          <p:cNvPicPr/>
          <p:nvPr/>
        </p:nvPicPr>
        <p:blipFill>
          <a:blip r:embed="rId3"/>
          <a:stretch/>
        </p:blipFill>
        <p:spPr>
          <a:xfrm>
            <a:off x="3635280" y="285264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Хомченко Елена\Desktop\4.14.png"/>
          <p:cNvPicPr/>
          <p:nvPr/>
        </p:nvPicPr>
        <p:blipFill>
          <a:blip r:embed="rId4"/>
          <a:stretch/>
        </p:blipFill>
        <p:spPr>
          <a:xfrm>
            <a:off x="2195640" y="4653000"/>
            <a:ext cx="207648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Users\Хомченко Елена\Desktop\i (2).jpg"/>
          <p:cNvPicPr/>
          <p:nvPr/>
        </p:nvPicPr>
        <p:blipFill>
          <a:blip r:embed="rId5"/>
          <a:stretch/>
        </p:blipFill>
        <p:spPr>
          <a:xfrm>
            <a:off x="5003640" y="4724280"/>
            <a:ext cx="173052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поесть, заправиться, поспат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как в деревню к бабушке поп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Хомченко Елена\Desktop\знак.gif"/>
          <p:cNvPicPr/>
          <p:nvPr/>
        </p:nvPicPr>
        <p:blipFill>
          <a:blip r:embed="rId1"/>
          <a:stretch/>
        </p:blipFill>
        <p:spPr>
          <a:xfrm>
            <a:off x="961920" y="2637000"/>
            <a:ext cx="1582920" cy="22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Хомченко Елена\Desktop\знак (3).jpg"/>
          <p:cNvPicPr/>
          <p:nvPr/>
        </p:nvPicPr>
        <p:blipFill>
          <a:blip r:embed="rId2"/>
          <a:stretch/>
        </p:blipFill>
        <p:spPr>
          <a:xfrm>
            <a:off x="2771640" y="4005360"/>
            <a:ext cx="148140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Хомченко Елена\Desktop\6.16.png"/>
          <p:cNvPicPr/>
          <p:nvPr/>
        </p:nvPicPr>
        <p:blipFill>
          <a:blip r:embed="rId3"/>
          <a:stretch/>
        </p:blipFill>
        <p:spPr>
          <a:xfrm>
            <a:off x="4643280" y="2670120"/>
            <a:ext cx="1513080" cy="218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Хомченко Елена\Desktop\6.5.png"/>
          <p:cNvPicPr/>
          <p:nvPr/>
        </p:nvPicPr>
        <p:blipFill>
          <a:blip r:embed="rId4"/>
          <a:stretch/>
        </p:blipFill>
        <p:spPr>
          <a:xfrm>
            <a:off x="6516720" y="4005360"/>
            <a:ext cx="167652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збуку город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помни всегда,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чтоб не случилась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 тобою бед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ых на свете немало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е бы их выучить нам не мешало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 основные из правил движень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ть как таблицу должны умножень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ьно переходить дорогу на перекрестке помогает «Трехглазый командир улицы» –</a:t>
            </a:r>
            <a:br>
              <a:rPr sz="4000"/>
            </a:br>
            <a:r>
              <a:rPr b="0" lang="ru-RU" sz="5400" spc="-1" strike="noStrike">
                <a:solidFill>
                  <a:srgbClr val="e46c0a"/>
                </a:solidFill>
                <a:latin typeface="Calibri"/>
              </a:rPr>
              <a:t>светофо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Хомченко Елена\Desktop\2857588.jpg"/>
          <p:cNvPicPr/>
          <p:nvPr/>
        </p:nvPicPr>
        <p:blipFill>
          <a:blip r:embed="rId1"/>
          <a:stretch/>
        </p:blipFill>
        <p:spPr>
          <a:xfrm>
            <a:off x="2771640" y="2924280"/>
            <a:ext cx="40500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5280" y="259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Красный цвет –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опасность рядом,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стой, не двигайся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и жди, никогда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под красным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взглядом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на дорогу не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иди !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Хомченко Елена\Desktop\кр..jpg"/>
          <p:cNvPicPr/>
          <p:nvPr/>
        </p:nvPicPr>
        <p:blipFill>
          <a:blip r:embed="rId1"/>
          <a:stretch/>
        </p:blipFill>
        <p:spPr>
          <a:xfrm>
            <a:off x="5796000" y="1341360"/>
            <a:ext cx="19447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73440" y="26028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Желтый светит 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к переменам,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говорит : 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«Постой, сейчас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Загорится очень скоро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Светофора желтый глаз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Хомченко Елена\Desktop\tema06.01_im05.jpg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460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8173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Перейти дорогу можно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лишь когда зелёный 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свет  загорится,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          объясняя: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«Все, иди, машин тут 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                 нет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Хомченко Елена\Desktop\зел.jpg"/>
          <p:cNvPicPr/>
          <p:nvPr/>
        </p:nvPicPr>
        <p:blipFill>
          <a:blip r:embed="rId1"/>
          <a:stretch/>
        </p:blipFill>
        <p:spPr>
          <a:xfrm>
            <a:off x="395280" y="0"/>
            <a:ext cx="18730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900000" y="1130400"/>
            <a:ext cx="7272360" cy="499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расном треугольнике знаки осторожные, они предупреждают, к вниманью призываю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2" descr="http://mdou24balahna.edusite.ru/images/znak4.png"/>
          <p:cNvPicPr/>
          <p:nvPr/>
        </p:nvPicPr>
        <p:blipFill>
          <a:blip r:embed="rId1"/>
          <a:stretch/>
        </p:blipFill>
        <p:spPr>
          <a:xfrm>
            <a:off x="1203480" y="227016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Хомченко Елена\Desktop\33_1_27_b.gif"/>
          <p:cNvPicPr/>
          <p:nvPr/>
        </p:nvPicPr>
        <p:blipFill>
          <a:blip r:embed="rId2"/>
          <a:stretch/>
        </p:blipFill>
        <p:spPr>
          <a:xfrm>
            <a:off x="5719680" y="4202280"/>
            <a:ext cx="2266920" cy="199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Хомченко Елена\Desktop\знак (2).gif"/>
          <p:cNvPicPr/>
          <p:nvPr/>
        </p:nvPicPr>
        <p:blipFill>
          <a:blip r:embed="rId3"/>
          <a:stretch/>
        </p:blipFill>
        <p:spPr>
          <a:xfrm>
            <a:off x="5719680" y="2266920"/>
            <a:ext cx="2238480" cy="192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Хомченко Елена\Desktop\33_1_34_b.gif"/>
          <p:cNvPicPr/>
          <p:nvPr/>
        </p:nvPicPr>
        <p:blipFill>
          <a:blip r:embed="rId4"/>
          <a:stretch/>
        </p:blipFill>
        <p:spPr>
          <a:xfrm>
            <a:off x="1203480" y="4186080"/>
            <a:ext cx="2233440" cy="196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рещают знаки разное движенье, обгоны, поворот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в красные кружоч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обводит их нар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Хомченко Елена\Desktop\знак (2).jpg"/>
          <p:cNvPicPr/>
          <p:nvPr/>
        </p:nvPicPr>
        <p:blipFill>
          <a:blip r:embed="rId1"/>
          <a:stretch/>
        </p:blipFill>
        <p:spPr>
          <a:xfrm>
            <a:off x="971640" y="2852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Хомченко Елена\Desktop\i.jpg"/>
          <p:cNvPicPr/>
          <p:nvPr/>
        </p:nvPicPr>
        <p:blipFill>
          <a:blip r:embed="rId2"/>
          <a:stretch/>
        </p:blipFill>
        <p:spPr>
          <a:xfrm>
            <a:off x="6372360" y="2852640"/>
            <a:ext cx="190476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3"/>
          <a:stretch/>
        </p:blipFill>
        <p:spPr>
          <a:xfrm>
            <a:off x="4757760" y="4381560"/>
            <a:ext cx="1946160" cy="1860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http://mdou24balahna.edusite.ru/images/znak9.png"/>
          <p:cNvPicPr/>
          <p:nvPr/>
        </p:nvPicPr>
        <p:blipFill>
          <a:blip r:embed="rId4"/>
          <a:stretch/>
        </p:blipFill>
        <p:spPr>
          <a:xfrm>
            <a:off x="2548080" y="431172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User</cp:lastModifiedBy>
  <dcterms:modified xsi:type="dcterms:W3CDTF">2015-09-25T14:12:43Z</dcterms:modified>
  <cp:revision>25</cp:revision>
  <dc:subject/>
  <dc:title>Слайд 1</dc:title>
</cp:coreProperties>
</file>