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F0B-105B-4F9D-8949-0EA24176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419-1DD3-4CCD-BE49-A0D50217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FA4-804F-43E8-A8C2-141A0127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1BE-6CD5-4905-9161-0C4223C0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BB01-327F-43FA-AC50-72082FD3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C02-B138-4986-AF12-1C8E8A5A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FE7D-89E7-46E4-A64C-2A1C8FC8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A980-BBBF-42B8-85F5-F886704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4C42-D1DD-4925-B8CB-FCD77366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6CD6-57E7-411B-A7AE-2137AFF3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2E0E-D3B7-4B58-9AB6-7583A186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E1D-80C6-4464-A2B2-6A0DD88D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A9DF-42B7-4DBE-AC96-7B9000C2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D909-39A4-452C-AE64-5B6FA716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87DA-729D-48AF-AD8F-72C5382B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14AC-4FB9-41B8-8F7C-086C03D1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BC3E-30D0-441D-BD9B-35DD3595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FC6-4BFD-4CAF-8DE0-3C4C0802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0D3-2D15-4951-9272-3DC8F26A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4B3-7242-44F7-8946-E062177E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003-44A0-4D04-B1D9-F1B81F88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9CB-8661-4986-B675-2C08B4C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31E-21F2-4B05-B399-3EEB89A4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409-4864-4F0E-AC3A-3044ED4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B3A4-5D11-42D4-A23D-8EC2D990B5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2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D638-1F15-45DF-A378-A35BCDCC1C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Классный час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«В гостях у светофор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Бойкова О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еще есть знаки – добрые друзья, укажут направлень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шего движен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Хомченко Елена\Desktop\33_5_37_1_b.gif"/>
          <p:cNvPicPr/>
          <p:nvPr/>
        </p:nvPicPr>
        <p:blipFill>
          <a:blip r:embed="rId1"/>
          <a:stretch/>
        </p:blipFill>
        <p:spPr>
          <a:xfrm>
            <a:off x="6372360" y="2781360"/>
            <a:ext cx="1860480" cy="186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Хомченко Елена\Desktop\5.36.2.png"/>
          <p:cNvPicPr/>
          <p:nvPr/>
        </p:nvPicPr>
        <p:blipFill>
          <a:blip r:embed="rId2"/>
          <a:stretch/>
        </p:blipFill>
        <p:spPr>
          <a:xfrm>
            <a:off x="684360" y="2852640"/>
            <a:ext cx="197316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Хомченко Елена\Desktop\5.35.2.png"/>
          <p:cNvPicPr/>
          <p:nvPr/>
        </p:nvPicPr>
        <p:blipFill>
          <a:blip r:embed="rId3"/>
          <a:stretch/>
        </p:blipFill>
        <p:spPr>
          <a:xfrm>
            <a:off x="3635280" y="285264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Хомченко Елена\Desktop\4.14.png"/>
          <p:cNvPicPr/>
          <p:nvPr/>
        </p:nvPicPr>
        <p:blipFill>
          <a:blip r:embed="rId4"/>
          <a:stretch/>
        </p:blipFill>
        <p:spPr>
          <a:xfrm>
            <a:off x="2195640" y="4653000"/>
            <a:ext cx="207648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Users\Хомченко Елена\Desktop\i (2).jpg"/>
          <p:cNvPicPr/>
          <p:nvPr/>
        </p:nvPicPr>
        <p:blipFill>
          <a:blip r:embed="rId5"/>
          <a:stretch/>
        </p:blipFill>
        <p:spPr>
          <a:xfrm>
            <a:off x="5003640" y="4724280"/>
            <a:ext cx="1730520" cy="1719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поесть, заправиться, поспат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как в деревню к бабушке поп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Хомченко Елена\Desktop\знак.gif"/>
          <p:cNvPicPr/>
          <p:nvPr/>
        </p:nvPicPr>
        <p:blipFill>
          <a:blip r:embed="rId1"/>
          <a:stretch/>
        </p:blipFill>
        <p:spPr>
          <a:xfrm>
            <a:off x="961920" y="2637000"/>
            <a:ext cx="1582920" cy="22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Хомченко Елена\Desktop\знак (3).jpg"/>
          <p:cNvPicPr/>
          <p:nvPr/>
        </p:nvPicPr>
        <p:blipFill>
          <a:blip r:embed="rId2"/>
          <a:stretch/>
        </p:blipFill>
        <p:spPr>
          <a:xfrm>
            <a:off x="2771640" y="4005360"/>
            <a:ext cx="148140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Хомченко Елена\Desktop\6.16.png"/>
          <p:cNvPicPr/>
          <p:nvPr/>
        </p:nvPicPr>
        <p:blipFill>
          <a:blip r:embed="rId3"/>
          <a:stretch/>
        </p:blipFill>
        <p:spPr>
          <a:xfrm>
            <a:off x="4643280" y="2670120"/>
            <a:ext cx="1513080" cy="218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Хомченко Елена\Desktop\6.5.png"/>
          <p:cNvPicPr/>
          <p:nvPr/>
        </p:nvPicPr>
        <p:blipFill>
          <a:blip r:embed="rId4"/>
          <a:stretch/>
        </p:blipFill>
        <p:spPr>
          <a:xfrm>
            <a:off x="6516720" y="4005360"/>
            <a:ext cx="167652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Азбуку города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помни всегда,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чтоб не случилась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 тобою бед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 дорожных на свете немало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е бы их выучить нам не мешало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 основные из правил движень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ть как таблицу должны умножень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ьно переходить дорогу на перекрестке помогает «Трехглазый командир улицы» –</a:t>
            </a:r>
            <a:br>
              <a:rPr sz="4000"/>
            </a:br>
            <a:r>
              <a:rPr b="0" lang="ru-RU" sz="5400" spc="-1" strike="noStrike">
                <a:solidFill>
                  <a:srgbClr val="e46c0a"/>
                </a:solidFill>
                <a:latin typeface="Calibri"/>
              </a:rPr>
              <a:t>светофо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Хомченко Елена\Desktop\2857588.jpg"/>
          <p:cNvPicPr/>
          <p:nvPr/>
        </p:nvPicPr>
        <p:blipFill>
          <a:blip r:embed="rId1"/>
          <a:stretch/>
        </p:blipFill>
        <p:spPr>
          <a:xfrm>
            <a:off x="2771640" y="2924280"/>
            <a:ext cx="40500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5280" y="25992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Красный цвет –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опасность рядом,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стой, не двигайся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и жди, никогда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под красным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взглядом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на дорогу не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иди !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Хомченко Елена\Desktop\кр..jpg"/>
          <p:cNvPicPr/>
          <p:nvPr/>
        </p:nvPicPr>
        <p:blipFill>
          <a:blip r:embed="rId1"/>
          <a:stretch/>
        </p:blipFill>
        <p:spPr>
          <a:xfrm>
            <a:off x="5796000" y="1341360"/>
            <a:ext cx="194472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73440" y="26028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Желтый светит 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к переменам,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говорит : 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«Постой, сейчас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Загорится очень скоро</a:t>
            </a:r>
            <a:br>
              <a:rPr sz="2900"/>
            </a:br>
            <a:r>
              <a:rPr b="0" lang="ru-RU" sz="2900" spc="-1" strike="noStrike">
                <a:solidFill>
                  <a:srgbClr val="e46c0a"/>
                </a:solidFill>
                <a:latin typeface="Calibri"/>
              </a:rPr>
              <a:t>Светофора желтый глаз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Хомченко Елена\Desktop\tema06.01_im05.jpg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460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8173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Перейти дорогу можно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лишь когда зелёный 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свет  загорится,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          объясняя: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«Все, иди, машин тут 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                 нет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Хомченко Елена\Desktop\зел.jpg"/>
          <p:cNvPicPr/>
          <p:nvPr/>
        </p:nvPicPr>
        <p:blipFill>
          <a:blip r:embed="rId1"/>
          <a:stretch/>
        </p:blipFill>
        <p:spPr>
          <a:xfrm>
            <a:off x="395280" y="0"/>
            <a:ext cx="18730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900000" y="1130400"/>
            <a:ext cx="7272360" cy="4992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красном треугольнике знаки осторожные, они предупреждают, к вниманью призываю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2" descr="http://mdou24balahna.edusite.ru/images/znak4.png"/>
          <p:cNvPicPr/>
          <p:nvPr/>
        </p:nvPicPr>
        <p:blipFill>
          <a:blip r:embed="rId1"/>
          <a:stretch/>
        </p:blipFill>
        <p:spPr>
          <a:xfrm>
            <a:off x="1203480" y="2270160"/>
            <a:ext cx="1928520" cy="192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Хомченко Елена\Desktop\33_1_27_b.gif"/>
          <p:cNvPicPr/>
          <p:nvPr/>
        </p:nvPicPr>
        <p:blipFill>
          <a:blip r:embed="rId2"/>
          <a:stretch/>
        </p:blipFill>
        <p:spPr>
          <a:xfrm>
            <a:off x="5719680" y="4202280"/>
            <a:ext cx="2266920" cy="199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Хомченко Елена\Desktop\знак (2).gif"/>
          <p:cNvPicPr/>
          <p:nvPr/>
        </p:nvPicPr>
        <p:blipFill>
          <a:blip r:embed="rId3"/>
          <a:stretch/>
        </p:blipFill>
        <p:spPr>
          <a:xfrm>
            <a:off x="5719680" y="2266920"/>
            <a:ext cx="2238480" cy="192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Хомченко Елена\Desktop\33_1_34_b.gif"/>
          <p:cNvPicPr/>
          <p:nvPr/>
        </p:nvPicPr>
        <p:blipFill>
          <a:blip r:embed="rId4"/>
          <a:stretch/>
        </p:blipFill>
        <p:spPr>
          <a:xfrm>
            <a:off x="1203480" y="4186080"/>
            <a:ext cx="2233440" cy="1962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рещают знаки разное движенье, обгоны, поворот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в красные кружоч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обводит их нар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Хомченко Елена\Desktop\знак (2).jpg"/>
          <p:cNvPicPr/>
          <p:nvPr/>
        </p:nvPicPr>
        <p:blipFill>
          <a:blip r:embed="rId1"/>
          <a:stretch/>
        </p:blipFill>
        <p:spPr>
          <a:xfrm>
            <a:off x="971640" y="285264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Хомченко Елена\Desktop\i.jpg"/>
          <p:cNvPicPr/>
          <p:nvPr/>
        </p:nvPicPr>
        <p:blipFill>
          <a:blip r:embed="rId2"/>
          <a:stretch/>
        </p:blipFill>
        <p:spPr>
          <a:xfrm>
            <a:off x="6372360" y="2852640"/>
            <a:ext cx="1904760" cy="1871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3"/>
          <a:stretch/>
        </p:blipFill>
        <p:spPr>
          <a:xfrm>
            <a:off x="4757760" y="4381560"/>
            <a:ext cx="1946160" cy="1860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http://mdou24balahna.edusite.ru/images/znak9.png"/>
          <p:cNvPicPr/>
          <p:nvPr/>
        </p:nvPicPr>
        <p:blipFill>
          <a:blip r:embed="rId4"/>
          <a:stretch/>
        </p:blipFill>
        <p:spPr>
          <a:xfrm>
            <a:off x="2548080" y="431172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User</cp:lastModifiedBy>
  <dcterms:modified xsi:type="dcterms:W3CDTF">2015-09-25T14:12:43Z</dcterms:modified>
  <cp:revision>25</cp:revision>
  <dc:subject/>
  <dc:title>Слайд 1</dc:title>
</cp:coreProperties>
</file>