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12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7.png" ContentType="image/png"/>
  <Override PartName="/ppt/media/image3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0CA6-10EB-468B-B21B-8D5C30FB3A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1B0-AE74-4C23-8F22-1FD492ED1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49A-4738-4770-A7D9-60D3FFC5F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422-0022-4D1C-9342-165DEBF5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2CA-AFE9-4A30-B359-566A25C9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913-6558-412F-8EDF-64B0F1C7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123-DBEE-4439-8C55-5FE8A9AD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FFB-7E8E-44AB-8A53-31612E64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960-F531-4FDE-B507-A9A1472A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41A-6317-4110-BA2A-161EEE9D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E64-55FF-4DD1-A191-96394D15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F81-B498-4CBF-821A-6DCDC0BB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DCF-3758-4568-BB1F-1301CE7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F3B-875C-499A-82BB-EC19141A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BEC-540B-4A30-9963-AB353771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19D-928F-4909-858B-5E1A4D9DA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5440" y="6500880"/>
            <a:ext cx="167328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12760" y="1212840"/>
            <a:ext cx="8570880" cy="5284800"/>
            <a:chOff x="212760" y="1212840"/>
            <a:chExt cx="8570880" cy="528480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12760" y="1212840"/>
              <a:ext cx="857088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12760" y="1212840"/>
            <a:ext cx="8570880" cy="5284800"/>
            <a:chOff x="212760" y="1212840"/>
            <a:chExt cx="8570880" cy="528480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12760" y="1212840"/>
              <a:ext cx="857088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13"/>
          <p:cNvGrpSpPr/>
          <p:nvPr/>
        </p:nvGrpSpPr>
        <p:grpSpPr>
          <a:xfrm>
            <a:off x="212760" y="1212840"/>
            <a:ext cx="8570880" cy="5284800"/>
            <a:chOff x="212760" y="1212840"/>
            <a:chExt cx="8570880" cy="5284800"/>
          </a:xfrm>
        </p:grpSpPr>
        <p:pic>
          <p:nvPicPr>
            <p:cNvPr id="1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12760" y="1212840"/>
              <a:ext cx="857088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36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050920" y="4076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руглякова Елена Владими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оспитатель,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I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кв. катег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14360" y="603360"/>
            <a:ext cx="777240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extBox 1" descr=""/>
          <p:cNvPicPr/>
          <p:nvPr/>
        </p:nvPicPr>
        <p:blipFill>
          <a:blip r:embed="rId1"/>
          <a:stretch/>
        </p:blipFill>
        <p:spPr>
          <a:xfrm>
            <a:off x="480960" y="414360"/>
            <a:ext cx="4883040" cy="2030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http://im3-tub-ru.yandex.net/i?id=f7b4356bc6ad018fc622c214e1a57c82-70-144&amp;n=21"/>
          <p:cNvPicPr/>
          <p:nvPr/>
        </p:nvPicPr>
        <p:blipFill>
          <a:blip r:embed="rId2"/>
          <a:stretch/>
        </p:blipFill>
        <p:spPr>
          <a:xfrm>
            <a:off x="4430880" y="1989000"/>
            <a:ext cx="3093840" cy="4680000"/>
          </a:xfrm>
          <a:prstGeom prst="rect">
            <a:avLst/>
          </a:prstGeom>
          <a:ln w="0">
            <a:noFill/>
          </a:ln>
        </p:spPr>
      </p:pic>
      <p:pic>
        <p:nvPicPr>
          <p:cNvPr id="404" name="v_gostyakh_u_skazki_-_minusovka_-_v_gostyakh_u_skazki_(zaycev.net).mp3" descr=""/>
          <p:cNvPicPr/>
          <p:nvPr/>
        </p:nvPicPr>
        <p:blipFill>
          <a:blip r:embed="rId3"/>
          <a:stretch/>
        </p:blipFill>
        <p:spPr>
          <a:xfrm>
            <a:off x="8317080" y="6059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http://im2-tub-ru.yandex.net/i?id=750da27fbceba385210374e82ba1102a-53-144&amp;n=21"/>
          <p:cNvPicPr/>
          <p:nvPr/>
        </p:nvPicPr>
        <p:blipFill>
          <a:blip r:embed="rId1"/>
          <a:stretch/>
        </p:blipFill>
        <p:spPr>
          <a:xfrm>
            <a:off x="1187280" y="692280"/>
            <a:ext cx="583272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http://im3-tub-ru.yandex.net/i?id=91e32886cf783990f9c9e2a531a967bc-79-144&amp;n=21"/>
          <p:cNvPicPr/>
          <p:nvPr/>
        </p:nvPicPr>
        <p:blipFill>
          <a:blip r:embed="rId1"/>
          <a:stretch/>
        </p:blipFill>
        <p:spPr>
          <a:xfrm>
            <a:off x="190440" y="1268280"/>
            <a:ext cx="4248360" cy="42483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2" descr="http://im0-tub-ru.yandex.net/i?id=a857491712a2602aa0f1105a26b8543d-50-144&amp;n=21"/>
          <p:cNvPicPr/>
          <p:nvPr/>
        </p:nvPicPr>
        <p:blipFill>
          <a:blip r:embed="rId2"/>
          <a:stretch/>
        </p:blipFill>
        <p:spPr>
          <a:xfrm>
            <a:off x="4889520" y="2205000"/>
            <a:ext cx="3960720" cy="43196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65851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Угадай, из какой сказ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85800" y="2693880"/>
            <a:ext cx="77724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2" descr="&amp;Acy;&amp;jcy;&amp;bcy;&amp;ocy;&amp;lcy;&amp;icy;&amp;tcy;. &amp;Kcy;&amp;ocy;&amp;rcy;&amp;ncy;&amp;iecy;&amp;jcy; &amp;CHcy;&amp;ucy;&amp;kcy;&amp;ocy;&amp;vcy;&amp;scy;&amp;kcy;&amp;icy;&amp;jcy; LEO-shop.com.ua &amp;Icy;&amp;ncy;&amp;tcy;&amp;iecy;&amp;rcy;&amp;ncy;&amp;iecy;&amp;tcy; &amp;mcy;&amp;acy;&amp;gcy;&amp;acy;&amp;zcy;&amp;icy;&amp;ncy; &amp;dcy;&amp;iecy;&amp;tcy;&amp;scy;&amp;kcy;&amp;ocy;&amp;jcy; &amp;ocy;&amp;dcy;&amp;iecy;&amp;zhcy;&amp;dcy;&amp;ycy;"/>
          <p:cNvPicPr/>
          <p:nvPr/>
        </p:nvPicPr>
        <p:blipFill>
          <a:blip r:embed="rId2"/>
          <a:stretch/>
        </p:blipFill>
        <p:spPr>
          <a:xfrm>
            <a:off x="250920" y="404640"/>
            <a:ext cx="3112920" cy="3024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0-tub-ru.yandex.net/i?id=7d507fb789a5841ea5eb80bee3848c93-41-144&amp;n=21"/>
          <p:cNvPicPr/>
          <p:nvPr/>
        </p:nvPicPr>
        <p:blipFill>
          <a:blip r:embed="rId3"/>
          <a:stretch/>
        </p:blipFill>
        <p:spPr>
          <a:xfrm>
            <a:off x="395280" y="3494160"/>
            <a:ext cx="3384720" cy="3284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http://im1-tub-ru.yandex.net/i?id=793f54245b6211a2986142f35a96b8f4-25-144&amp;n=21"/>
          <p:cNvPicPr/>
          <p:nvPr/>
        </p:nvPicPr>
        <p:blipFill>
          <a:blip r:embed="rId4"/>
          <a:stretch/>
        </p:blipFill>
        <p:spPr>
          <a:xfrm>
            <a:off x="4716360" y="299880"/>
            <a:ext cx="3857760" cy="2944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http://im3-tub-ru.yandex.net/i?id=2a6d34d45fbb2b9e6d0eeabc06761fc6-95-144&amp;n=21"/>
          <p:cNvPicPr/>
          <p:nvPr/>
        </p:nvPicPr>
        <p:blipFill>
          <a:blip r:embed="rId5"/>
          <a:stretch/>
        </p:blipFill>
        <p:spPr>
          <a:xfrm>
            <a:off x="5505480" y="3062160"/>
            <a:ext cx="3387600" cy="3716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http://im3-tub-ru.yandex.net/i?id=e2916a7b0a2d5af667fd5a8e60d0e7f8-74-144&amp;n=21"/>
          <p:cNvPicPr/>
          <p:nvPr/>
        </p:nvPicPr>
        <p:blipFill>
          <a:blip r:embed="rId6"/>
          <a:stretch/>
        </p:blipFill>
        <p:spPr>
          <a:xfrm>
            <a:off x="2087640" y="1773360"/>
            <a:ext cx="4429080" cy="3816360"/>
          </a:xfrm>
          <a:prstGeom prst="rect">
            <a:avLst/>
          </a:prstGeom>
          <a:ln w="0">
            <a:noFill/>
          </a:ln>
        </p:spPr>
      </p:pic>
      <p:pic>
        <p:nvPicPr>
          <p:cNvPr id="415" name="В гостях у сказки.mp3" descr=""/>
          <p:cNvPicPr/>
          <p:nvPr/>
        </p:nvPicPr>
        <p:blipFill>
          <a:blip r:embed="rId7"/>
          <a:stretch/>
        </p:blipFill>
        <p:spPr>
          <a:xfrm>
            <a:off x="8283600" y="61578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202039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324000" y="404640"/>
            <a:ext cx="374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ыгун-трусишка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Хвост-коротышка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Глазки с косинко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шки вдоль спинки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дежка в два цвета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 зиму, на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&amp;Lcy;&amp;icy;&amp;scy;&amp;acy; &amp;icy; &amp;zcy;&amp;acy;&amp;yacy;&amp;tscy; - &amp;Kcy;&amp;acy;&amp;rcy;&amp;tcy;&amp;icy;&amp;ncy;&amp;kcy;&amp;acy; 163/161"/>
          <p:cNvPicPr/>
          <p:nvPr/>
        </p:nvPicPr>
        <p:blipFill>
          <a:blip r:embed="rId1"/>
          <a:stretch/>
        </p:blipFill>
        <p:spPr>
          <a:xfrm>
            <a:off x="4284720" y="1628640"/>
            <a:ext cx="3166920" cy="4824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5520" y="648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Назови второе имя сказочного геро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http://im0-tub-ru.yandex.net/i?id=71309134e7c61154fcf5d468d0e2bf93-103-144&amp;n=21"/>
          <p:cNvPicPr/>
          <p:nvPr/>
        </p:nvPicPr>
        <p:blipFill>
          <a:blip r:embed="rId1"/>
          <a:stretch/>
        </p:blipFill>
        <p:spPr>
          <a:xfrm>
            <a:off x="527040" y="838080"/>
            <a:ext cx="1657440" cy="2778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&amp;IEcy;&amp;scy;&amp;lcy;&amp;icy; &amp;ncy;&amp;acy; &amp;dcy;&amp;ocy;&amp;lcy;&amp;zhcy;&amp;ncy;&amp;ocy;&amp;scy;&amp;tcy;&amp;icy; &amp;Lcy;&amp;softcy;&amp;vcy;&amp;acy; . &amp;Ocy;&amp;scy;&amp;iecy;&amp;lcy;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2"/>
          <a:stretch/>
        </p:blipFill>
        <p:spPr>
          <a:xfrm>
            <a:off x="2765520" y="1274760"/>
            <a:ext cx="2933640" cy="4070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http://im0-tub-ru.yandex.net/i?id=3d08b1d995c5217c1b98ce9f6588ceb1-29-144&amp;n=24"/>
          <p:cNvPicPr/>
          <p:nvPr/>
        </p:nvPicPr>
        <p:blipFill>
          <a:blip r:embed="rId3"/>
          <a:stretch/>
        </p:blipFill>
        <p:spPr>
          <a:xfrm>
            <a:off x="5916600" y="3913200"/>
            <a:ext cx="2664000" cy="2735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http://im0-tub-ru.yandex.net/i?id=3ea0cbeada19d5aa94042820a2971b14-30-144&amp;n=21"/>
          <p:cNvPicPr/>
          <p:nvPr/>
        </p:nvPicPr>
        <p:blipFill>
          <a:blip r:embed="rId4"/>
          <a:stretch/>
        </p:blipFill>
        <p:spPr>
          <a:xfrm>
            <a:off x="5940360" y="843120"/>
            <a:ext cx="2879640" cy="28731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2" descr="http://im1-tub-ru.yandex.net/i?id=1232de670bfad288b06aa695308ea714-139-144&amp;n=21"/>
          <p:cNvPicPr/>
          <p:nvPr/>
        </p:nvPicPr>
        <p:blipFill>
          <a:blip r:embed="rId5"/>
          <a:stretch/>
        </p:blipFill>
        <p:spPr>
          <a:xfrm>
            <a:off x="360360" y="3860640"/>
            <a:ext cx="2400480" cy="279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4" descr="http://im1-tub-ru.yandex.net/i?id=d5ab5ba8575a8fb771bc85b2ae333a9d-85-144&amp;n=21"/>
          <p:cNvPicPr/>
          <p:nvPr/>
        </p:nvPicPr>
        <p:blipFill>
          <a:blip r:embed="rId1"/>
          <a:stretch/>
        </p:blipFill>
        <p:spPr>
          <a:xfrm>
            <a:off x="3348000" y="620640"/>
            <a:ext cx="2303640" cy="4361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http://im0-tub-ru.yandex.net/i?id=eadd8577a06487eca1e6388538f38b05-42-144&amp;n=21"/>
          <p:cNvPicPr/>
          <p:nvPr/>
        </p:nvPicPr>
        <p:blipFill>
          <a:blip r:embed="rId2"/>
          <a:stretch/>
        </p:blipFill>
        <p:spPr>
          <a:xfrm>
            <a:off x="5411880" y="2584440"/>
            <a:ext cx="3043080" cy="3403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http://im0-tub-ru.yandex.net/i?id=78583573ebec3052b5c505a028ad3aad-56-144&amp;n=24"/>
          <p:cNvPicPr/>
          <p:nvPr/>
        </p:nvPicPr>
        <p:blipFill>
          <a:blip r:embed="rId3"/>
          <a:stretch/>
        </p:blipFill>
        <p:spPr>
          <a:xfrm>
            <a:off x="684360" y="2584440"/>
            <a:ext cx="317808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http://im1-tub-ru.yandex.net/i?id=d1bcc6398e0b92509cb83706c088a0fa-30-144&amp;n=21"/>
          <p:cNvPicPr/>
          <p:nvPr/>
        </p:nvPicPr>
        <p:blipFill>
          <a:blip r:embed="rId1"/>
          <a:stretch/>
        </p:blipFill>
        <p:spPr>
          <a:xfrm>
            <a:off x="1187280" y="1268280"/>
            <a:ext cx="68184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36680" y="277920"/>
            <a:ext cx="29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haroni"/>
              </a:rPr>
              <a:t>Теле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&amp;Kcy;&amp;ucy;&amp;rcy;&amp;scy;&amp;kcy; &amp;acy;&amp;fcy;&amp;icy;&amp;shcy;&amp;acy; - &amp;pcy;&amp;rcy;&amp;ocy;&amp;scy;&amp;mcy;&amp;ocy;&amp;tcy;&amp;rcy; &amp;acy;&amp;ncy;&amp;ocy;&amp;ncy;&amp;scy;&amp;acy; &amp;Vcy;&amp;ocy;&amp;lcy;&amp;kcy; &amp;icy; &amp;scy;&amp;iecy;&amp;mcy;&amp;iecy;&amp;rcy;&amp;ocy; &amp;kcy;&amp;ocy;&amp;zcy;&amp;lcy;&amp;yacy;&amp;tcy; &amp;Mcy;&amp;ocy;&amp;yacy; &amp;rcy;&amp;iecy;&amp;kcy;&amp;lcy;&amp;acy;&amp;mcy;&amp;acy;"/>
          <p:cNvPicPr/>
          <p:nvPr/>
        </p:nvPicPr>
        <p:blipFill>
          <a:blip r:embed="rId1"/>
          <a:stretch/>
        </p:blipFill>
        <p:spPr>
          <a:xfrm>
            <a:off x="353880" y="907920"/>
            <a:ext cx="3426120" cy="2737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&amp;Scy;&amp;tcy;&amp;icy;&amp;khcy;&amp;icy; &amp;Zcy;&amp;acy;&amp;pcy;&amp;icy;&amp;scy;&amp;icy; &amp;vcy; &amp;rcy;&amp;ucy;&amp;bcy;&amp;rcy;&amp;icy;&amp;kcy;&amp;iecy; &amp;Scy;&amp;tcy;&amp;icy;&amp;khcy;&amp;icy; &amp;Ucy; &amp;Pcy;&amp;ucy;&amp;tcy;&amp;icy; &amp;ncy;&amp;iecy;&amp;tcy; &amp;kcy;&amp;ocy;&amp;ncy;&amp;tscy;&amp;acy; : LiveInternet…"/>
          <p:cNvPicPr/>
          <p:nvPr/>
        </p:nvPicPr>
        <p:blipFill>
          <a:blip r:embed="rId2"/>
          <a:stretch/>
        </p:blipFill>
        <p:spPr>
          <a:xfrm>
            <a:off x="5540400" y="268200"/>
            <a:ext cx="2571840" cy="2895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http://im0-tub-ru.yandex.net/i?id=eadd8577a06487eca1e6388538f38b05-42-144&amp;n=21"/>
          <p:cNvPicPr/>
          <p:nvPr/>
        </p:nvPicPr>
        <p:blipFill>
          <a:blip r:embed="rId3"/>
          <a:stretch/>
        </p:blipFill>
        <p:spPr>
          <a:xfrm>
            <a:off x="5784840" y="3500280"/>
            <a:ext cx="2508120" cy="3211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im1-tub-ru.yandex.net/i?id=89ecf77b24c1ec5c7347f26ee52c02c5-100-144&amp;n=21"/>
          <p:cNvPicPr/>
          <p:nvPr/>
        </p:nvPicPr>
        <p:blipFill>
          <a:blip r:embed="rId4"/>
          <a:stretch/>
        </p:blipFill>
        <p:spPr>
          <a:xfrm>
            <a:off x="436680" y="3789360"/>
            <a:ext cx="3254400" cy="280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http://im0-tub-ru.yandex.net/i?id=0b8c9b5f18dbb75ca864fa38919199af-43-144&amp;n=24"/>
          <p:cNvPicPr/>
          <p:nvPr/>
        </p:nvPicPr>
        <p:blipFill>
          <a:blip r:embed="rId5"/>
          <a:stretch/>
        </p:blipFill>
        <p:spPr>
          <a:xfrm>
            <a:off x="2843280" y="2060640"/>
            <a:ext cx="3181320" cy="3638520"/>
          </a:xfrm>
          <a:prstGeom prst="rect">
            <a:avLst/>
          </a:prstGeom>
          <a:ln w="0">
            <a:noFill/>
          </a:ln>
        </p:spPr>
      </p:pic>
      <p:pic>
        <p:nvPicPr>
          <p:cNvPr id="434" name="В гостях у сказки.mp3" descr=""/>
          <p:cNvPicPr/>
          <p:nvPr/>
        </p:nvPicPr>
        <p:blipFill>
          <a:blip r:embed="rId6"/>
          <a:stretch/>
        </p:blipFill>
        <p:spPr>
          <a:xfrm>
            <a:off x="131760" y="268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202039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14" descr="http://im1-tub-ru.yandex.net/i?id=d5ab5ba8575a8fb771bc85b2ae333a9d-85-144&amp;n=21"/>
          <p:cNvPicPr/>
          <p:nvPr/>
        </p:nvPicPr>
        <p:blipFill>
          <a:blip r:embed="rId1"/>
          <a:stretch/>
        </p:blipFill>
        <p:spPr>
          <a:xfrm>
            <a:off x="523800" y="765000"/>
            <a:ext cx="2247840" cy="43596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3200400" cy="3432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http://im1-tub-ru.yandex.net/i?id=873346921362ebd79ea667bc956c00b6-23-144&amp;n=21"/>
          <p:cNvPicPr/>
          <p:nvPr/>
        </p:nvPicPr>
        <p:blipFill>
          <a:blip r:embed="rId3"/>
          <a:stretch/>
        </p:blipFill>
        <p:spPr>
          <a:xfrm>
            <a:off x="5364000" y="431640"/>
            <a:ext cx="2953080" cy="3306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4753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В дремучем лесу затерялась избушка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 избушке живёт непростая старушка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Берёт помело, да в ступу садится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 тут же над лесом взлетает, как птиц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6" descr="http://im3-tub-ru.yandex.net/i?id=bcbbaf9630a0737988e75f56adae5d49-08-144&amp;n=21"/>
          <p:cNvPicPr/>
          <p:nvPr/>
        </p:nvPicPr>
        <p:blipFill>
          <a:blip r:embed="rId1"/>
          <a:stretch/>
        </p:blipFill>
        <p:spPr>
          <a:xfrm>
            <a:off x="2771640" y="2205000"/>
            <a:ext cx="4680000" cy="4464000"/>
          </a:xfrm>
          <a:prstGeom prst="rect">
            <a:avLst/>
          </a:prstGeom>
          <a:ln w="0">
            <a:noFill/>
          </a:ln>
        </p:spPr>
      </p:pic>
      <p:pic>
        <p:nvPicPr>
          <p:cNvPr id="384" name="В гостях у сказки.mp3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02039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http://im3-tub-ru.yandex.net/i?id=20b05b17183989b0b8923a321471711e-56-144&amp;n=21"/>
          <p:cNvPicPr/>
          <p:nvPr/>
        </p:nvPicPr>
        <p:blipFill>
          <a:blip r:embed="rId1"/>
          <a:stretch/>
        </p:blipFill>
        <p:spPr>
          <a:xfrm>
            <a:off x="1258920" y="333360"/>
            <a:ext cx="5008680" cy="6264360"/>
          </a:xfrm>
          <a:prstGeom prst="rect">
            <a:avLst/>
          </a:prstGeom>
          <a:ln w="0">
            <a:noFill/>
          </a:ln>
        </p:spPr>
      </p:pic>
      <p:pic>
        <p:nvPicPr>
          <p:cNvPr id="439" name="звук грома.mp3" descr=""/>
          <p:cNvPicPr/>
          <p:nvPr/>
        </p:nvPicPr>
        <p:blipFill>
          <a:blip r:embed="rId2"/>
          <a:stretch/>
        </p:blipFill>
        <p:spPr>
          <a:xfrm>
            <a:off x="39528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6952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http://im1-tub-ru.yandex.net/i?id=77279f28c4dc9ef63aced5d5fe1124a6-55-144&amp;n=21"/>
          <p:cNvPicPr/>
          <p:nvPr/>
        </p:nvPicPr>
        <p:blipFill>
          <a:blip r:embed="rId1"/>
          <a:stretch/>
        </p:blipFill>
        <p:spPr>
          <a:xfrm>
            <a:off x="179280" y="1197000"/>
            <a:ext cx="3168720" cy="446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im1-tub-ru.yandex.net/i?id=d30560f23d473baa1aa33b9e813c4393-29-144&amp;n=21"/>
          <p:cNvPicPr/>
          <p:nvPr/>
        </p:nvPicPr>
        <p:blipFill>
          <a:blip r:embed="rId2"/>
          <a:stretch/>
        </p:blipFill>
        <p:spPr>
          <a:xfrm>
            <a:off x="3708360" y="227160"/>
            <a:ext cx="3175200" cy="4319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http://im1-tub-ru.yandex.net/i?id=e256eebfc30b4ad67d6772d28d0d9a69-98-144&amp;n=24"/>
          <p:cNvPicPr/>
          <p:nvPr/>
        </p:nvPicPr>
        <p:blipFill>
          <a:blip r:embed="rId3"/>
          <a:stretch/>
        </p:blipFill>
        <p:spPr>
          <a:xfrm>
            <a:off x="5940360" y="1969920"/>
            <a:ext cx="3024360" cy="3470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http://im3-tub-ru.yandex.net/i?id=8225fa3ad16fe6cdb4e07322513362c7-130-144&amp;n=21"/>
          <p:cNvPicPr/>
          <p:nvPr/>
        </p:nvPicPr>
        <p:blipFill>
          <a:blip r:embed="rId4"/>
          <a:stretch/>
        </p:blipFill>
        <p:spPr>
          <a:xfrm>
            <a:off x="1979640" y="2986200"/>
            <a:ext cx="3600360" cy="3538440"/>
          </a:xfrm>
          <a:prstGeom prst="rect">
            <a:avLst/>
          </a:prstGeom>
          <a:ln w="0">
            <a:noFill/>
          </a:ln>
        </p:spPr>
      </p:pic>
      <p:pic>
        <p:nvPicPr>
          <p:cNvPr id="444" name="танец маленьких утят.mp3" descr=""/>
          <p:cNvPicPr/>
          <p:nvPr/>
        </p:nvPicPr>
        <p:blipFill>
          <a:blip r:embed="rId5"/>
          <a:stretch/>
        </p:blipFill>
        <p:spPr>
          <a:xfrm>
            <a:off x="395280" y="227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73056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im0-tub-ru.yandex.net/i?id=f269e8f8183549eead1206a04e897f61-50-144&amp;n=21"/>
          <p:cNvPicPr/>
          <p:nvPr/>
        </p:nvPicPr>
        <p:blipFill>
          <a:blip r:embed="rId1"/>
          <a:stretch/>
        </p:blipFill>
        <p:spPr>
          <a:xfrm>
            <a:off x="179280" y="239760"/>
            <a:ext cx="4464000" cy="6480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&amp;bcy;&amp;acy;&amp;bcy;&amp;acy; &amp;YAcy;&amp;gcy;&amp;acy; - &amp;Tcy;&amp;acy;&amp;tcy;&amp;softcy;&amp;yacy;&amp;ncy;&amp;acy; &amp;Vcy;&amp;acy;&amp;scy;&amp;icy;&amp;lcy;&amp;softcy;&amp;iecy;&amp;vcy;&amp;ncy;&amp;acy; &amp;CHcy;&amp;iecy;&amp;rcy;&amp;tcy;&amp;ocy;&amp;vcy;&amp;acy;"/>
          <p:cNvPicPr/>
          <p:nvPr/>
        </p:nvPicPr>
        <p:blipFill>
          <a:blip r:embed="rId2"/>
          <a:stretch/>
        </p:blipFill>
        <p:spPr>
          <a:xfrm>
            <a:off x="5364000" y="907920"/>
            <a:ext cx="2808360" cy="4249800"/>
          </a:xfrm>
          <a:prstGeom prst="rect">
            <a:avLst/>
          </a:prstGeom>
          <a:ln w="0">
            <a:noFill/>
          </a:ln>
        </p:spPr>
      </p:pic>
      <p:pic>
        <p:nvPicPr>
          <p:cNvPr id="387" name="В гостях у сказки.mp3" descr=""/>
          <p:cNvPicPr/>
          <p:nvPr/>
        </p:nvPicPr>
        <p:blipFill>
          <a:blip r:embed="rId3"/>
          <a:stretch/>
        </p:blipFill>
        <p:spPr>
          <a:xfrm>
            <a:off x="249120" y="228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2039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74328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Летом ходит без дорог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зле сосен и берёз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 зимой он спит в берлоге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т мороза прячет нос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н в берлоге спит зимо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 большущею сос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 когда придёт весна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осыпается от с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4" descr="http://im0-tub-ru.yandex.net/i?id=a0e64508e5b6f5ae45bd98e59753b088-101-144&amp;n=21"/>
          <p:cNvPicPr/>
          <p:nvPr/>
        </p:nvPicPr>
        <p:blipFill>
          <a:blip r:embed="rId1"/>
          <a:stretch/>
        </p:blipFill>
        <p:spPr>
          <a:xfrm>
            <a:off x="4894200" y="1133640"/>
            <a:ext cx="3384720" cy="55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Отгадайте сказочные загад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Не лежалось на окошк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Покатилось по дорожке.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&amp;Scy;&amp;kcy;&amp;icy;&amp;dcy;&amp;kcy;&amp;icy; - &amp;Acy;&amp;kcy;&amp;tscy;&amp;icy;&amp;icy;, &amp;kcy;&amp;ocy;&amp;ncy;&amp;kcy;&amp;ucy;&amp;rcy;&amp;scy;&amp;ycy;, &amp;pcy;&amp;rcy;&amp;icy;&amp;zcy;&amp;ycy; - &amp;scy;&amp;ocy;&amp;ocy;&amp;bcy;&amp;shchcy;&amp;iecy;&amp;scy;&amp;tcy;&amp;vcy;&amp;ocy; - 45 - Babyblog…"/>
          <p:cNvPicPr/>
          <p:nvPr/>
        </p:nvPicPr>
        <p:blipFill>
          <a:blip r:embed="rId1"/>
          <a:stretch/>
        </p:blipFill>
        <p:spPr>
          <a:xfrm>
            <a:off x="3708360" y="292428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539640" y="40464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шка дом себе на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шка добрая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доме том, в конце кон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ало множество жильцов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http://im0-tub-ru.yandex.net/i?id=de5945ddd52c6ba3051c10f451b24852-06-144&amp;n=21"/>
          <p:cNvPicPr/>
          <p:nvPr/>
        </p:nvPicPr>
        <p:blipFill>
          <a:blip r:embed="rId1"/>
          <a:stretch/>
        </p:blipFill>
        <p:spPr>
          <a:xfrm>
            <a:off x="3995640" y="2227320"/>
            <a:ext cx="4321440" cy="4449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468360" y="404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4211640" y="396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Кто работать не хот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А играл и песни п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К братцу третьему 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Прибежали в нов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От волка хитрого спас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Но долго хвостиком тряс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Сказка известна любому ребё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И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http://im3-tub-ru.yandex.net/i?id=ff88db5f6af6defc7f85581e2f647592-106-144&amp;n=21"/>
          <p:cNvPicPr/>
          <p:nvPr/>
        </p:nvPicPr>
        <p:blipFill>
          <a:blip r:embed="rId1"/>
          <a:stretch/>
        </p:blipFill>
        <p:spPr>
          <a:xfrm>
            <a:off x="250920" y="2637000"/>
            <a:ext cx="36734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3564000" y="25236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т ни речки, ни пру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де воды нап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чень вкусная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ямке от копыт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http://im0-tub-ru.yandex.net/i?id=0e8eb1ce4fb2452c4c03a6e980db22d3-79-144&amp;n=21"/>
          <p:cNvPicPr/>
          <p:nvPr/>
        </p:nvPicPr>
        <p:blipFill>
          <a:blip r:embed="rId1"/>
          <a:stretch/>
        </p:blipFill>
        <p:spPr>
          <a:xfrm>
            <a:off x="417600" y="2637000"/>
            <a:ext cx="49356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496800" y="54936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Arial"/>
              </a:rPr>
              <a:t>Бабушка девочку очень любила,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Arial"/>
              </a:rPr>
              <a:t>Шапочку красную ей подарила.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Arial"/>
              </a:rPr>
              <a:t>Девочка имя забыла свое.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Arial"/>
              </a:rPr>
              <a:t>А ну, подскажите имя е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http://im3-tub-ru.yandex.net/i?id=cc292ed303dca83995aa3731f1883ce6-19-144&amp;n=21"/>
          <p:cNvPicPr/>
          <p:nvPr/>
        </p:nvPicPr>
        <p:blipFill>
          <a:blip r:embed="rId1"/>
          <a:stretch/>
        </p:blipFill>
        <p:spPr>
          <a:xfrm>
            <a:off x="4067280" y="2363760"/>
            <a:ext cx="3313080" cy="4378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20:57Z</dcterms:created>
  <dc:creator>Федотова Виктория Александровна</dc:creator>
  <dc:description/>
  <dc:language>en-US</dc:language>
  <cp:lastModifiedBy>Elena</cp:lastModifiedBy>
  <dcterms:modified xsi:type="dcterms:W3CDTF">2020-09-16T07:50:53Z</dcterms:modified>
  <cp:revision>29</cp:revision>
  <dc:subject/>
  <dc:title>Слайд 1</dc:title>
</cp:coreProperties>
</file>