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57E-FB40-456B-8158-3EC6A85A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474-644E-4770-8E94-C19FDEA8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2C8-F537-4643-B82B-FC7C171C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A4B-0E1E-49E0-A6A4-3D9B7E45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1375-344C-4498-904D-32F41C9A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1210-58AC-4802-B289-F035A18E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82E4-A505-445E-8F08-812DF05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2E29-CA0A-40AC-866B-3AB95DC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80CD-F9CA-43EB-8E98-F935D06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50FC-C9DF-40C7-B893-27A53D7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7E4C-530F-4DCF-8F36-E2951F1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CB2-E351-4BD2-822A-E3CB69E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5857-6F7D-4B43-92C1-B37E309A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CCA5-CC0F-42CB-ABF1-B346FB7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9DE0-193A-4473-9CCF-48C64683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4AEF-F3CC-464A-88B7-9F1D7696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0CA1-675C-4282-8ACE-814C3E11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F765-4D80-4AEC-9D22-7FCA4DFA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FEC0-17DF-4A0C-9E06-C7670E23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7A39-D5F0-4D4D-9BFC-FF4A0415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7E16-02E1-459C-A35F-9EB7B8A8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6DE5C-B757-4713-9A10-85ED00DD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9DF-FABE-4AD6-B769-CC25C427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7FDE-518C-4C02-8E51-60853B27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05BB-A006-42EA-AEFA-3B8D7F20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335A-DD5A-4655-BB36-A12EE65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D430-118B-4EA6-AABF-848593DA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52CC3-2198-442E-B083-523B6AA9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3E16-DABB-49B7-B332-81083F37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B7B8-B942-4B2D-8899-AE488D3D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E93A-A27D-44E0-A865-982FA45D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358C-D48B-4EF4-83FA-BF3A7BDB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3A5D-E6D4-4738-AF9E-9963B2E1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D0C-0BC0-462F-A7BA-B868470F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D3763-144E-49EC-B7E8-3E7D4989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5A01-5BD3-4845-BD26-D6275ED1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14CB-DC85-46F0-A957-871B87E9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0F3AC-682A-45F2-A7FD-C504D5A3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5FACA-8502-4FAA-8E9C-2D1E6136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730F-93C5-4790-8787-A8BDE5F3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5910A-9361-4BDD-B7FF-E9C04DB6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28A1-64BF-4D4F-BC26-D27BD987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BF70-607F-4139-86A1-FAF5CF01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D10-50E0-42B4-9438-DE3FEEA0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80E-2CB2-4EEF-A3E4-A0015D1B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194-02A9-4DCE-9E7E-7B0C2411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629-C37D-4D24-9F1A-B7FDC094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86D-73A0-41CA-8347-AF045338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083F-DD54-46D4-AEEE-CB01E89B0A2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2780-E87F-4D05-88F9-09035565E33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DABF-8749-4B3F-AF5B-EA74F2CA057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D470-5965-483D-8DF3-77A85EC41BC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109520" y="901800"/>
            <a:ext cx="7826400" cy="31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8560" y="4292280"/>
            <a:ext cx="72342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    Шмелева Наталия Анатольев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Основой партнёрства выступают принципы добровольности, долговременности и взаимной ответственности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D:\Users\Администратор\Desktop\с родителями\PA310118.JPG"/>
          <p:cNvPicPr/>
          <p:nvPr/>
        </p:nvPicPr>
        <p:blipFill>
          <a:blip r:embed="rId1"/>
          <a:stretch/>
        </p:blipFill>
        <p:spPr>
          <a:xfrm>
            <a:off x="1728720" y="2060640"/>
            <a:ext cx="56865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Овал 1"/>
          <p:cNvSpPr/>
          <p:nvPr/>
        </p:nvSpPr>
        <p:spPr>
          <a:xfrm>
            <a:off x="3419640" y="2781360"/>
            <a:ext cx="2376360" cy="100800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179280" y="3645000"/>
            <a:ext cx="3024360" cy="158436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эффективности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468360" y="1989000"/>
            <a:ext cx="2519280" cy="100836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обратной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203640" y="907920"/>
            <a:ext cx="2736720" cy="86544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преем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6227640" y="1916280"/>
            <a:ext cx="2376720" cy="100800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гуманн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6227640" y="3500280"/>
            <a:ext cx="2376720" cy="936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открыт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348000" y="4437000"/>
            <a:ext cx="2808360" cy="144000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индивидуального подхода к каждой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62080" y="1073160"/>
            <a:ext cx="858996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85680" y="2054160"/>
            <a:ext cx="88995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841248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onstantia"/>
              </a:rPr>
              <a:t>Современная модель социального партнерства ДОО и семей воспитанников понимается как процесс межличностного общения, результатом которого является формирование у родителей осознанного отношения к собственным взглядам и установкам в воспитании ребенка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D:\Users\Администратор\Desktop\с родителями\P3050311.JPG"/>
          <p:cNvPicPr/>
          <p:nvPr/>
        </p:nvPicPr>
        <p:blipFill>
          <a:blip r:embed="rId1"/>
          <a:stretch/>
        </p:blipFill>
        <p:spPr>
          <a:xfrm>
            <a:off x="2827440" y="3603600"/>
            <a:ext cx="5162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Овал 2"/>
          <p:cNvSpPr/>
          <p:nvPr/>
        </p:nvSpPr>
        <p:spPr>
          <a:xfrm>
            <a:off x="2916360" y="1484280"/>
            <a:ext cx="4176720" cy="86508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артн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"/>
          <p:cNvSpPr/>
          <p:nvPr/>
        </p:nvSpPr>
        <p:spPr>
          <a:xfrm>
            <a:off x="324000" y="3213000"/>
            <a:ext cx="4103640" cy="2232000"/>
          </a:xfrm>
          <a:prstGeom prst="ellips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заимовыгодное констру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6"/>
          <p:cNvSpPr/>
          <p:nvPr/>
        </p:nvSpPr>
        <p:spPr>
          <a:xfrm>
            <a:off x="4788000" y="3284640"/>
            <a:ext cx="4105080" cy="2089080"/>
          </a:xfrm>
          <a:prstGeom prst="ellips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знание ответственности сторон за 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8"/>
          <p:cNvSpPr/>
          <p:nvPr/>
        </p:nvSpPr>
        <p:spPr>
          <a:xfrm flipH="1">
            <a:off x="2771280" y="2421000"/>
            <a:ext cx="792360" cy="64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10"/>
          <p:cNvSpPr/>
          <p:nvPr/>
        </p:nvSpPr>
        <p:spPr>
          <a:xfrm>
            <a:off x="5940360" y="2421000"/>
            <a:ext cx="792360" cy="64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2268360" y="907920"/>
            <a:ext cx="4248360" cy="5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Классификация   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684360" y="1989000"/>
            <a:ext cx="2374920" cy="71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Родители-активисты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3203640" y="1989000"/>
            <a:ext cx="2663640" cy="71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Родители-статисты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611280" y="3357720"/>
            <a:ext cx="2520720" cy="26636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высокий уровень воспитательных возможностей, поддержка ребёнка, желание участвовать в жизни ДОО и искренний интерес к образовательному проце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3276720" y="3357720"/>
            <a:ext cx="2663640" cy="26636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средний уровень воспитательных возможностей по отношению к своему ребёнку, равнодушие, безучастность, нежелание что-либо делать по отношению к Д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9"/>
          <p:cNvSpPr/>
          <p:nvPr/>
        </p:nvSpPr>
        <p:spPr>
          <a:xfrm flipH="1">
            <a:off x="2555640" y="1557360"/>
            <a:ext cx="144360" cy="358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1"/>
          <p:cNvSpPr/>
          <p:nvPr/>
        </p:nvSpPr>
        <p:spPr>
          <a:xfrm>
            <a:off x="4572000" y="1557360"/>
            <a:ext cx="0" cy="431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3"/>
          <p:cNvSpPr/>
          <p:nvPr/>
        </p:nvSpPr>
        <p:spPr>
          <a:xfrm>
            <a:off x="1979640" y="2852640"/>
            <a:ext cx="0" cy="36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5"/>
          <p:cNvSpPr/>
          <p:nvPr/>
        </p:nvSpPr>
        <p:spPr>
          <a:xfrm>
            <a:off x="4572000" y="2852640"/>
            <a:ext cx="0" cy="432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6012000" y="1989000"/>
            <a:ext cx="2520720" cy="71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Родители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6084720" y="3357720"/>
            <a:ext cx="2519640" cy="26636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характерно пренебрежение к ребёнку, неумение и нежелание выполнять свои родительские обязанности, зачастую аморальны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2"/>
          <p:cNvSpPr/>
          <p:nvPr/>
        </p:nvSpPr>
        <p:spPr>
          <a:xfrm>
            <a:off x="6156360" y="1557360"/>
            <a:ext cx="360360" cy="358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26"/>
          <p:cNvSpPr/>
          <p:nvPr/>
        </p:nvSpPr>
        <p:spPr>
          <a:xfrm>
            <a:off x="7308720" y="2852640"/>
            <a:ext cx="0" cy="36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Главная цель: </a:t>
            </a:r>
            <a:r>
              <a:rPr b="0" lang="ru-RU" sz="4000" spc="-1" strike="noStrike">
                <a:solidFill>
                  <a:srgbClr val="04617b"/>
                </a:solidFill>
                <a:latin typeface="Constantia"/>
              </a:rPr>
              <a:t>установление партнёрских отношений, определение более приемлемых и удобных форм работы, переход на взаимодоверие со стороны родителей и ДОО, разделение ответственности за общее дело.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250920" y="1268280"/>
            <a:ext cx="4537080" cy="865440"/>
          </a:xfrm>
          <a:prstGeom prst="rect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onstantia"/>
              </a:rPr>
              <a:t>педагогически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4788000" y="1268280"/>
            <a:ext cx="4105080" cy="865440"/>
          </a:xfrm>
          <a:prstGeom prst="rect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250920" y="2205000"/>
            <a:ext cx="4681440" cy="3960720"/>
          </a:xfrm>
          <a:prstGeom prst="rect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становится более свободным, гибким, дифференцированным, гуманным со стороны педагогического коллектива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4788000" y="2205000"/>
            <a:ext cx="4105080" cy="3960720"/>
          </a:xfrm>
          <a:prstGeom prst="rect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onstantia"/>
              </a:rPr>
              <a:t>ориентируются на сотрудничество и взаимодействие с родителями и ближайшими социальными институ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826920" y="1413000"/>
            <a:ext cx="777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Социальное партнерство— взаимовыгодное взаимодействие различных секторов общества, направленное на решение социальных проблем, обеспечение устойчивого развития социальных отношений и повышение качества жизни, осуществляемое в рамках действующего законодатель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141408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- достижение единых ценностных ориентаций у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-признание значимости социальной и педагогической роли семьи в жизни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повышение педагогической, психологической и правовой грамотности родителей в воспитании и обучении детей дошкольного возрас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повышение уровня включенности родителей в деятельность дошко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эмоциональная взаимоподдержка, комфорт, атмосфера взаимопонимания, общность интерес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участие родителей в контроле за деятельностью дошко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сотрудничество родителей </a:t>
            </a: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неорганизованных детей</a:t>
            </a: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раннего  и старшего  дошкольного  возраста с  учрежд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- активизировать воспитательные возможности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-привлечь  родителей к участию  в образовательном процессе дошкольного учрежд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1:44:26Z</dcterms:created>
  <dc:creator>nfedina</dc:creator>
  <dc:description/>
  <dc:language>en-US</dc:language>
  <cp:lastModifiedBy>User</cp:lastModifiedBy>
  <dcterms:modified xsi:type="dcterms:W3CDTF">2015-10-15T20:00:53Z</dcterms:modified>
  <cp:revision>130</cp:revision>
  <dc:subject/>
  <dc:title>Организация образовательного процесса в соответствии с ФГТ</dc:title>
</cp:coreProperties>
</file>