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CBA-59F5-4EA6-9902-C7195DA5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193-A3DB-4509-9F9F-1989BD7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D5C-2FF9-465D-A8F1-DB7EBA02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470-A39E-4B77-8E54-AA1FF60F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1E6-BAE0-4216-9FDF-572386E0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C94-CE2F-45D0-BF06-805C169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A97-AF6E-470F-B193-2D6A663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9183-217B-432D-9715-20FA752F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A620-6969-408D-A1E1-98C449D5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100D-050B-4381-B830-FC726B5B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BA7-E46A-4231-9D30-11606F8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1B0-0C30-4E30-BCD2-09990DB7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D99C-E37C-4302-9040-797D434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BBFC-B31D-44C3-9151-BF0099E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4045-5795-4FC8-8C0A-E03BCA3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7B47-5E2E-48F8-B0CA-BB5D48E6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FD26-D1BF-44A7-9F98-F8EB98B0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4F67-1E5B-4633-B19D-9F37A8C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5611-9D17-405C-8D4D-753FC9E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DB82-3DC1-4E52-8E45-80E9AEF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C5AF-AC4F-4FB5-90CD-AA5B760E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8244-F1EE-4E9A-A7C4-BB7B0956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C9C-2704-46AF-A0CB-E23105E5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BF1C-CBAA-4BB2-BA00-D180F12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F3DF-3A38-4BBC-8E09-3FC0803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C24D-AD63-4A1A-8DC4-B821C0B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5AA5-166C-4F0D-9E96-04C53B09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D112-31EC-4977-A965-F46E66D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BB34-3A26-4A61-95D2-3580519A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9E32-4507-44C9-AFBB-4ED66470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0966-9B3D-426A-9910-7714CD3B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B435-E147-444C-ADF1-081298B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8C04-BC9F-4822-8174-3D5D7C6C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7CB-0B22-4726-AB90-2247F29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AC1D-FA27-4743-A6A2-2A83174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2BEA-9117-4CD6-B2A2-BCEEFBC6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027E-7614-42D6-886A-674E3978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0882-66A6-4AEA-9D94-D92381F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F97A-FEC4-4032-A3C5-C118ABB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D7ED-C229-4D9B-96D1-B05A820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1BD2-F5C9-45D7-8D48-0937404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C9234-D873-405D-A380-F60C8D34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F2C5-2DFB-4FDF-858E-EBB81075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707-3E74-4B8D-A27C-29D0F30A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9E6-BA32-4ACD-BC9C-77869B0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2E1-3439-42CF-B977-4A1D19F3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4EB-D901-4948-B032-E8F77F48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9AF-4C52-4C9E-AE6A-D59B72E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882-5127-4E4D-B04B-B7FCE894235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5E4-DB47-4438-BE91-28888739CF3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F796-1BE0-4C6F-90AE-434E139254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F50C-F877-4C1C-85EE-ED1DCD58C7F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109520" y="901800"/>
            <a:ext cx="7826400" cy="3109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8560" y="4292280"/>
            <a:ext cx="72342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    Шмелева Наталия Анатолье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Основой партнёрства выступают принципы добровольности, долговременности и взаимной ответственности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D:\Users\Администратор\Desktop\с родителями\PA310118.JPG"/>
          <p:cNvPicPr/>
          <p:nvPr/>
        </p:nvPicPr>
        <p:blipFill>
          <a:blip r:embed="rId1"/>
          <a:stretch/>
        </p:blipFill>
        <p:spPr>
          <a:xfrm>
            <a:off x="1728720" y="2060640"/>
            <a:ext cx="56865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вал 1"/>
          <p:cNvSpPr/>
          <p:nvPr/>
        </p:nvSpPr>
        <p:spPr>
          <a:xfrm>
            <a:off x="3419640" y="2781360"/>
            <a:ext cx="2376360" cy="1008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179280" y="3645000"/>
            <a:ext cx="3024360" cy="15843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эффективности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68360" y="1989000"/>
            <a:ext cx="2519280" cy="10083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обрат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203640" y="907920"/>
            <a:ext cx="2736720" cy="86544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преем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6227640" y="1916280"/>
            <a:ext cx="2376720" cy="1008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гуман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6227640" y="3500280"/>
            <a:ext cx="2376720" cy="936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открыт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348000" y="4437000"/>
            <a:ext cx="2808360" cy="1440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инцип индивидуального подхода к каждой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62080" y="1073160"/>
            <a:ext cx="85899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85680" y="2054160"/>
            <a:ext cx="88995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84124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onstantia"/>
              </a:rPr>
              <a:t>Современная модель социального партнерства ДОО и семей воспитанников понимается как процесс межличностного общения, результатом которого является формирование у родителей осознанного отношения к собственным взглядам и установкам в воспитании ребенка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D:\Users\Администратор\Desktop\с родителями\P3050311.JPG"/>
          <p:cNvPicPr/>
          <p:nvPr/>
        </p:nvPicPr>
        <p:blipFill>
          <a:blip r:embed="rId1"/>
          <a:stretch/>
        </p:blipFill>
        <p:spPr>
          <a:xfrm>
            <a:off x="2827440" y="3603600"/>
            <a:ext cx="5162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Овал 2"/>
          <p:cNvSpPr/>
          <p:nvPr/>
        </p:nvSpPr>
        <p:spPr>
          <a:xfrm>
            <a:off x="2916360" y="1484280"/>
            <a:ext cx="4176720" cy="865080"/>
          </a:xfrm>
          <a:prstGeom prst="ellipse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артн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"/>
          <p:cNvSpPr/>
          <p:nvPr/>
        </p:nvSpPr>
        <p:spPr>
          <a:xfrm>
            <a:off x="324000" y="3213000"/>
            <a:ext cx="4103640" cy="2232000"/>
          </a:xfrm>
          <a:prstGeom prst="ellips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заимовыгодное констру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6"/>
          <p:cNvSpPr/>
          <p:nvPr/>
        </p:nvSpPr>
        <p:spPr>
          <a:xfrm>
            <a:off x="4788000" y="3284640"/>
            <a:ext cx="4105080" cy="2089080"/>
          </a:xfrm>
          <a:prstGeom prst="ellips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знание ответственности сторон за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8"/>
          <p:cNvSpPr/>
          <p:nvPr/>
        </p:nvSpPr>
        <p:spPr>
          <a:xfrm flipH="1">
            <a:off x="2771280" y="2421000"/>
            <a:ext cx="792360" cy="64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10"/>
          <p:cNvSpPr/>
          <p:nvPr/>
        </p:nvSpPr>
        <p:spPr>
          <a:xfrm>
            <a:off x="5940360" y="2421000"/>
            <a:ext cx="792360" cy="64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2268360" y="907920"/>
            <a:ext cx="4248360" cy="5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Классификация   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684360" y="1989000"/>
            <a:ext cx="237492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Родители-активисты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3203640" y="1989000"/>
            <a:ext cx="2663640" cy="71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Родители-статисты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11280" y="3357720"/>
            <a:ext cx="2520720" cy="26636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высокий уровень воспитательных возможностей, поддержка ребёнка, желание участвовать в жизни ДОО и искренний интерес к образовательному проце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3276720" y="3357720"/>
            <a:ext cx="2663640" cy="26636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средний уровень воспитательных возможностей по отношению к своему ребёнку, равнодушие, безучастность, нежелание что-либо делать по отношению к Д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9"/>
          <p:cNvSpPr/>
          <p:nvPr/>
        </p:nvSpPr>
        <p:spPr>
          <a:xfrm flipH="1">
            <a:off x="2555640" y="1557360"/>
            <a:ext cx="14436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1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3"/>
          <p:cNvSpPr/>
          <p:nvPr/>
        </p:nvSpPr>
        <p:spPr>
          <a:xfrm>
            <a:off x="1979640" y="28526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5"/>
          <p:cNvSpPr/>
          <p:nvPr/>
        </p:nvSpPr>
        <p:spPr>
          <a:xfrm>
            <a:off x="4572000" y="2852640"/>
            <a:ext cx="0" cy="432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6012000" y="1989000"/>
            <a:ext cx="2520720" cy="71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Родители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6084720" y="3357720"/>
            <a:ext cx="2519640" cy="2663640"/>
          </a:xfrm>
          <a:prstGeom prst="rect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характерно пренебрежение к ребёнку, неумение и нежелание выполнять свои родительские обязанности, зачастую аморальн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2"/>
          <p:cNvSpPr/>
          <p:nvPr/>
        </p:nvSpPr>
        <p:spPr>
          <a:xfrm>
            <a:off x="6156360" y="1557360"/>
            <a:ext cx="36036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6"/>
          <p:cNvSpPr/>
          <p:nvPr/>
        </p:nvSpPr>
        <p:spPr>
          <a:xfrm>
            <a:off x="7308720" y="2852640"/>
            <a:ext cx="0" cy="36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Главная цель: </a:t>
            </a:r>
            <a:r>
              <a:rPr b="0" lang="ru-RU" sz="4000" spc="-1" strike="noStrike">
                <a:solidFill>
                  <a:srgbClr val="04617b"/>
                </a:solidFill>
                <a:latin typeface="Constantia"/>
              </a:rPr>
              <a:t>установление партнёрских отношений, определение более приемлемых и удобных форм работы, переход на взаимодоверие со стороны родителей и ДОО, разделение ответственности за общее дело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50920" y="1268280"/>
            <a:ext cx="4537080" cy="865440"/>
          </a:xfrm>
          <a:prstGeom prst="rect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onstantia"/>
              </a:rPr>
              <a:t>педагогически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4788000" y="1268280"/>
            <a:ext cx="4105080" cy="865440"/>
          </a:xfrm>
          <a:prstGeom prst="rect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250920" y="2205000"/>
            <a:ext cx="4681440" cy="3960720"/>
          </a:xfrm>
          <a:prstGeom prst="rect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становится более свободным, гибким, дифференцированным, гуманным со стороны педагогического коллектива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4788000" y="2205000"/>
            <a:ext cx="4105080" cy="3960720"/>
          </a:xfrm>
          <a:prstGeom prst="rect">
            <a:avLst/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onstantia"/>
              </a:rPr>
              <a:t>ориентируются на сотрудничество и взаимодействие с родителями и ближайшими социальными институ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826920" y="141300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  <a:ea typeface="Times New Roman"/>
              </a:rPr>
              <a:t>Социальное партнерство— взаимовыгодное взаимодействие различных секторов общества, направленное на решение социальных проблем, обеспечение устойчивого развития социальных отношений и повышение качества жизни, осуществляемое в рамках действующего законодатель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141408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 достижение единых ценностных ориентаций у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признание значимости социальной и педагогической роли семьи в жизни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повышение педагогической, психологической и правовой грамотности родителей в воспитании и обучении детей дошкольного возрас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повышение уровня включенности родителей в деятельность дошко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эмоциональная взаимоподдержка, комфорт, атмосфера взаимопонимания, общность интерес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участие родителей в контроле за деятельностью дошкольного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сотрудничество родителей </a:t>
            </a: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неорганизованных детей</a:t>
            </a:r>
            <a:r>
              <a:rPr b="0" lang="ru-RU" sz="2000" spc="-1" strike="noStrike">
                <a:solidFill>
                  <a:srgbClr val="0076a3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 раннего  и старшего  дошкольного  возраста с  учреж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 активизировать воспитательные возможности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Times New Roman"/>
                <a:ea typeface="Calibri"/>
              </a:rPr>
              <a:t>-привлечь  родителей к участию  в образовательном процессе дошкольного учрежд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1:44:26Z</dcterms:created>
  <dc:creator>nfedina</dc:creator>
  <dc:description/>
  <dc:language>en-US</dc:language>
  <cp:lastModifiedBy>User</cp:lastModifiedBy>
  <dcterms:modified xsi:type="dcterms:W3CDTF">2015-10-15T20:00:53Z</dcterms:modified>
  <cp:revision>130</cp:revision>
  <dc:subject/>
  <dc:title>Организация образовательного процесса в соответствии с ФГТ</dc:title>
</cp:coreProperties>
</file>