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0B82D-7173-49D4-B4A7-B471B47212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89735-E686-4CBF-8AB7-8C82E275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E1319-0407-4127-88A5-B9326840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C02E8-2AEF-4E1B-92D8-7E9113F740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1159D-04F1-4B56-BD9A-58F0965E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F33A3-D6A9-464C-962C-52D7917F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DCB1F-6498-4580-8943-7D5F1ED4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3ADBB-8C1E-454E-B798-3B3F27C2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44F9F-C36B-4D55-9507-26658391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630EB-0061-4FD4-93A7-5F7B3FD5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8CAB2-62A9-4CFF-95F3-A95E2BFD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402B5-4EEF-4486-A674-E2ED8503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96D959-9423-4289-82E2-4D56504FF5F0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333360"/>
            <a:ext cx="7772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устыни Афр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Оази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24360" y="1484280"/>
            <a:ext cx="47624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амыми плодородными районами пустынь являются оазисы. Они находятся рядом с естественными источниками воды или там, где подземные воды расположены близко к поверхности земл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0" y="-171360"/>
            <a:ext cx="9078840" cy="7200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ИРАЖ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2997360"/>
            <a:ext cx="526716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ойный воздух в пустыне приводит к возникнове-нию миражей, которыми очень часто бывают обмануты путешествен-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Calibri"/>
              </a:rPr>
              <a:t>Живот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0920" y="2997360"/>
            <a:ext cx="568980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Животный мир небогат. Повсеместно распрост-ранены лисица – фенёк, антилопы,  газели, верблюды. Много грызунов и пресмыкающихся, ведущих в основном ночной образ жизни, так как днём они скрываются в нора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dur="indefinite" fill="hold">
                      <p:stCondLst>
                        <p:cond delay="indefinite"/>
                      </p:stCondLst>
                      <p:childTnLst>
                        <p:par>
                          <p:cTn id="2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4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745080" y="0"/>
            <a:ext cx="5398920" cy="4076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-4680"/>
            <a:ext cx="5435640" cy="4076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Calibri"/>
              </a:rPr>
              <a:t>Скорпионы.  Гие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0" y="3141720"/>
            <a:ext cx="4950000" cy="3770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427640" y="3071880"/>
            <a:ext cx="4968720" cy="3786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468360" y="-4419720"/>
            <a:ext cx="86868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0612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bacc6"/>
                </a:solidFill>
                <a:latin typeface="Calibri"/>
              </a:rPr>
              <a:t>Спрингб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79280" y="-52560"/>
            <a:ext cx="4606920" cy="6909120"/>
            <a:chOff x="179280" y="-52560"/>
            <a:chExt cx="4606920" cy="6909120"/>
          </a:xfrm>
        </p:grpSpPr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179280" y="-52560"/>
              <a:ext cx="4606920" cy="69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79280" y="-52560"/>
              <a:ext cx="4606920" cy="69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dur="indefinite" fill="hold">
                      <p:stCondLst>
                        <p:cond delay="indefinite"/>
                      </p:stCondLst>
                      <p:childTnLst>
                        <p:par>
                          <p:cTn id="2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908000" y="17640"/>
            <a:ext cx="4678560" cy="6752880"/>
            <a:chOff x="1908000" y="17640"/>
            <a:chExt cx="4678560" cy="675288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rcRect l="6613" t="8504" r="6141" b="7559"/>
            <a:stretch/>
          </p:blipFill>
          <p:spPr>
            <a:xfrm>
              <a:off x="1908000" y="17640"/>
              <a:ext cx="4678560" cy="67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908000" y="17640"/>
              <a:ext cx="4678560" cy="67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Лисица - фен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dur="indefinite" fill="hold">
                      <p:stCondLst>
                        <p:cond delay="indefinite"/>
                      </p:stCondLst>
                      <p:childTnLst>
                        <p:par>
                          <p:cTn id="3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dur="indefinite" fill="hold">
                      <p:stCondLst>
                        <p:cond delay="indefinite"/>
                      </p:stCondLst>
                      <p:childTnLst>
                        <p:par>
                          <p:cTn id="3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0" y="0"/>
              <a:ext cx="914256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ук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1916280"/>
            <a:ext cx="5003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 пугливые и неуловимые мелкие существа, предпочитающие труднодоступные мес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амый маленький из дукеров - голубой дукер . Он весит всего до 4 кг, а рост его едва достигает 35 см! Проще говоря, по размерам это животное не отличить от обычной кош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dur="indefinite" fill="hold">
                      <p:stCondLst>
                        <p:cond delay="indefinite"/>
                      </p:stCondLst>
                      <p:childTnLst>
                        <p:par>
                          <p:cTn id="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dur="indefinite" fill="hold">
                      <p:stCondLst>
                        <p:cond delay="indefinite"/>
                      </p:stCondLst>
                      <p:childTnLst>
                        <p:par>
                          <p:cTn id="3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476360" y="106200"/>
            <a:ext cx="6191280" cy="6645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Имп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9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547640" y="92160"/>
            <a:ext cx="5470560" cy="6764400"/>
            <a:chOff x="1547640" y="92160"/>
            <a:chExt cx="5470560" cy="676440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1547640" y="92160"/>
              <a:ext cx="5470560" cy="676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547640" y="92160"/>
              <a:ext cx="5470560" cy="67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Ориб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dur="indefinite" fill="hold">
                      <p:stCondLst>
                        <p:cond delay="indefinite"/>
                      </p:stCondLst>
                      <p:childTnLst>
                        <p:par>
                          <p:cTn id="3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dur="indefinite" fill="hold">
                      <p:stCondLst>
                        <p:cond delay="indefinite"/>
                      </p:stCondLst>
                      <p:childTnLst>
                        <p:par>
                          <p:cTn id="3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63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арак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dur="indefinite" fill="hold">
                      <p:stCondLst>
                        <p:cond delay="indefinite"/>
                      </p:stCondLst>
                      <p:childTnLst>
                        <p:par>
                          <p:cTn id="3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3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dur="indefinite" fill="hold">
                      <p:stCondLst>
                        <p:cond delay="indefinite"/>
                      </p:stCondLst>
                      <p:childTnLst>
                        <p:par>
                          <p:cTn id="3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-95400" y="0"/>
            <a:ext cx="9237960" cy="6927840"/>
            <a:chOff x="-95400" y="0"/>
            <a:chExt cx="9237960" cy="692784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-95400" y="0"/>
              <a:ext cx="9237960" cy="692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-95400" y="0"/>
              <a:ext cx="9237960" cy="69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0"/>
            <a:ext cx="9142560" cy="7122960"/>
            <a:chOff x="0" y="0"/>
            <a:chExt cx="9142560" cy="712296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2560" cy="712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0"/>
              <a:ext cx="9142560" cy="71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dur="indefinite" fill="hold">
                      <p:stCondLst>
                        <p:cond delay="indefinite"/>
                      </p:stCondLst>
                      <p:childTnLst>
                        <p:par>
                          <p:cTn id="3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5280" y="-3240"/>
            <a:ext cx="8964720" cy="6594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1125360"/>
            <a:ext cx="584352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она тропических пустынь (Сахара, Кала-хари, Намиб)  занимает огромную площадь  - около 40 %.   Они протягиваются от 15 до 35  в северном полушарии, и от 20 до 35 в южном .Тропический пояс, крайняя сухость воздуха, высокая амплитуда температур (до 30  С), раскаленный зной сменяется пронизывающей ночной прохладой, практически нет осадков, в пустыне Намиб осадки выпадают в виде росы, а дождей не бывает по несколько лет. Сильные песчаные и пыльные бури. Почвы песчаные, каменистые, неплодородные. Встречаются сероземы, солонцы и солонча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60280"/>
            <a:ext cx="381456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Клим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Тропический поя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Тропические воздушные массы – сухие и жар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Monotype Corsiva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+3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 С     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Monotype Corsiva"/>
              </a:rPr>
              <a:t>я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+16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Осадков менее 100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189000"/>
            <a:ext cx="403236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Поч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Bookman Old Style"/>
              </a:rPr>
              <a:t>Тропические пусты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Мало перегно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Много минеральных сол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Из-за отсутствия дождей соли из почв не вымываются. При искусственном орошении на таких почвах можно получать хорошие урожа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" y="4508640"/>
            <a:ext cx="4105080" cy="2004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0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-1179360"/>
            <a:ext cx="9144000" cy="9246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889308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« Растительность весьма скудная и имеет специфические приспособления  либо к улавливанию воды, либо к уменьшению испарения (мощная корневая система, колючки вместо листьев). Это саксаулы, молочаи. В оазисах – финиковая пальма. Удивительным растением – эндемиком  пустыни Намиб является растение осьминог – вельвичия. Это дерево карлик, его ствол толщиной до 1 м  наполовину погружен в землю и возвышается над почвой на 0,5 м. От ствола отходят два плотных кожистых широких листа длиной до шести метров, шириной до 1 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373720"/>
            <a:ext cx="8064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Раст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3240"/>
            <a:ext cx="9142560" cy="6856200"/>
            <a:chOff x="0" y="3240"/>
            <a:chExt cx="9142560" cy="685620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0" y="3240"/>
              <a:ext cx="9142560" cy="68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0" y="3240"/>
              <a:ext cx="9142560" cy="68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-84240"/>
            <a:ext cx="9229680" cy="6942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Вельвич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лочай - растение пусты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95280" y="1484280"/>
            <a:ext cx="4175280" cy="4848120"/>
            <a:chOff x="395280" y="1484280"/>
            <a:chExt cx="4175280" cy="484812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395280" y="1484280"/>
              <a:ext cx="4175280" cy="48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95280" y="1484280"/>
              <a:ext cx="4175280" cy="48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038480" y="1484280"/>
            <a:ext cx="5105520" cy="4878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-108000" y="0"/>
            <a:ext cx="9250560" cy="6937200"/>
            <a:chOff x="-108000" y="0"/>
            <a:chExt cx="9250560" cy="6937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-108000" y="0"/>
              <a:ext cx="9250560" cy="693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-108000" y="0"/>
              <a:ext cx="9250560" cy="69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аль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979640" y="1341360"/>
            <a:ext cx="4543560" cy="5469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19280" y="1219320"/>
            <a:ext cx="7535880" cy="5638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-1189080" y="-65160"/>
            <a:ext cx="10331640" cy="6921720"/>
            <a:chOff x="-1189080" y="-65160"/>
            <a:chExt cx="10331640" cy="692172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1189080" y="-65160"/>
              <a:ext cx="10331640" cy="692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-1189080" y="-65160"/>
              <a:ext cx="10331640" cy="69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Колючие растения - какту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5440" y="1413000"/>
            <a:ext cx="8112240" cy="5445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5:42:40Z</dcterms:created>
  <dc:creator>ирина</dc:creator>
  <dc:description/>
  <dc:language>en-US</dc:language>
  <cp:lastModifiedBy>ирина</cp:lastModifiedBy>
  <dcterms:modified xsi:type="dcterms:W3CDTF">2011-04-07T16:50:47Z</dcterms:modified>
  <cp:revision>19</cp:revision>
  <dc:subject/>
  <dc:title>Пустыни Африки</dc:title>
</cp:coreProperties>
</file>