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1E66-5561-4DCD-B6CA-CE0BAC4D8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39BB-F673-48F7-87E7-936B05A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0130-226A-4F17-B3EC-56BB40E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08BF-1038-4A60-8692-51E9A3ACB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11C9-5078-4BAB-981A-A60386D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BF8D-A454-4E07-8573-10770089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FC30-DC04-4A63-813F-9217115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F52F-10CB-4D0C-9F2B-BC4C8AD1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C29B-0726-478C-AB72-AEE5E509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066A-3F91-4418-9907-DF138E2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2E84-455A-4E30-B095-ABC087E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949A-F8B8-4F72-8371-5A2E7135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298B99-438A-4B76-A7A8-812C11C0AA7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3336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ази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1484280"/>
            <a:ext cx="4762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ыми плодородными районами пустынь являются оазисы. Они находятся рядом с естественными источниками воды или там, где подземные воды расположены близко к поверхности зем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078840" cy="72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Р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997360"/>
            <a:ext cx="526716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ойный воздух в пустыне приводит к возникнове-нию миражей, которыми очень часто бывают обмануты путешествен-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997360"/>
            <a:ext cx="568980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ивотный мир небогат. Повсеместно распрост-ранены лисица – фенёк, антилопы,  газели, верблюды. Много грызунов и пресмыкающихся, ведущих в основном ночной образ жизни, так как днём они скрываются в нор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45080" y="0"/>
            <a:ext cx="5398920" cy="40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-4680"/>
            <a:ext cx="543564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Скорпионы.  Ги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4950000" cy="377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427640" y="3071880"/>
            <a:ext cx="4968720" cy="37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468360" y="-4419720"/>
            <a:ext cx="86868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061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bacc6"/>
                </a:solidFill>
                <a:latin typeface="Calibri"/>
              </a:rPr>
              <a:t>Спринг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9280" y="-52560"/>
            <a:ext cx="4606920" cy="6909120"/>
            <a:chOff x="179280" y="-52560"/>
            <a:chExt cx="4606920" cy="690912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179280" y="-52560"/>
              <a:ext cx="4606920" cy="69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9280" y="-52560"/>
              <a:ext cx="4606920" cy="69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08000" y="17640"/>
            <a:ext cx="4678560" cy="6752880"/>
            <a:chOff x="1908000" y="17640"/>
            <a:chExt cx="4678560" cy="67528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6613" t="8504" r="6141" b="7559"/>
            <a:stretch/>
          </p:blipFill>
          <p:spPr>
            <a:xfrm>
              <a:off x="1908000" y="17640"/>
              <a:ext cx="4678560" cy="67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08000" y="17640"/>
              <a:ext cx="4678560" cy="67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исица - фен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ук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91628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 пугливые и неуловимые мелкие существа, предпочитающие труднодоступные ме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ый маленький из дукеров - голубой дукер . Он весит всего до 4 кг, а рост его едва достигает 35 см! Проще говоря, по размерам это животное не отличить от обычной ко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360" y="106200"/>
            <a:ext cx="6191280" cy="6645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мп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547640" y="92160"/>
            <a:ext cx="5470560" cy="6764400"/>
            <a:chOff x="1547640" y="92160"/>
            <a:chExt cx="5470560" cy="67644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547640" y="92160"/>
              <a:ext cx="5470560" cy="67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47640" y="92160"/>
              <a:ext cx="5470560" cy="67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риб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арак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95400" y="0"/>
            <a:ext cx="9237960" cy="6927840"/>
            <a:chOff x="-95400" y="0"/>
            <a:chExt cx="9237960" cy="69278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-95400" y="0"/>
              <a:ext cx="9237960" cy="69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-95400" y="0"/>
              <a:ext cx="9237960" cy="69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9142560" cy="7122960"/>
            <a:chOff x="0" y="0"/>
            <a:chExt cx="9142560" cy="71229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71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2560" cy="71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280" y="-3240"/>
            <a:ext cx="8964720" cy="659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125360"/>
            <a:ext cx="58435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она тропических пустынь (Сахара, Кала-хари, Намиб)  занимает огромную площадь  - около 40 %.   Они протягиваются от 15 до 35  в северном полушарии, и от 20 до 35 в южном .Тропический пояс, крайняя сухость воздуха, высокая амплитуда температур (до 30  С), раскаленный зной сменяется пронизывающей ночной прохладой, практически нет осадков, в пустыне Намиб осадки выпадают в виде росы, а дождей не бывает по несколько лет. Сильные песчаные и пыльные бури. Почвы песчаные, каменистые, неплодородные. Встречаются сероземы, солонцы и солонча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38145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ропически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ропические воздушные массы – сухие и жар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+3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С 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Monotype Corsiva"/>
              </a:rPr>
              <a:t>я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+16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садков менее 100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89000"/>
            <a:ext cx="4032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Тропические пусты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Мало перегн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Много минеральных со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з-за отсутствия дождей соли из почв не вымываются. При искусственном орошении на таких почвах можно получать хорошие урож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4105080" cy="200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179360"/>
            <a:ext cx="9144000" cy="924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88930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 Растительность весьма скудная и имеет специфические приспособления  либо к улавливанию воды, либо к уменьшению испарения (мощная корневая система, колючки вместо листьев). Это саксаулы, молочаи. В оазисах – финиковая пальма. Удивительным растением – эндемиком  пустыни Намиб является растение осьминог – вельвичия. Это дерево карлик, его ствол толщиной до 1 м  наполовину погружен в землю и возвышается над почвой на 0,5 м. От ствола отходят два плотных кожистых широких листа длиной до шести метров, шириной до 1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37372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Раст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3240"/>
            <a:ext cx="9142560" cy="6856200"/>
            <a:chOff x="0" y="3240"/>
            <a:chExt cx="9142560" cy="68562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3240"/>
              <a:ext cx="914256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3240"/>
              <a:ext cx="914256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-84240"/>
            <a:ext cx="9229680" cy="694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ельвич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ай - растени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1484280"/>
            <a:ext cx="4175280" cy="4848120"/>
            <a:chOff x="395280" y="1484280"/>
            <a:chExt cx="4175280" cy="48481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41752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95280" y="1484280"/>
              <a:ext cx="4175280" cy="48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038480" y="1484280"/>
            <a:ext cx="5105520" cy="487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08000" y="0"/>
            <a:ext cx="9250560" cy="6937200"/>
            <a:chOff x="-108000" y="0"/>
            <a:chExt cx="9250560" cy="6937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-108000" y="0"/>
              <a:ext cx="9250560" cy="69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08000" y="0"/>
              <a:ext cx="9250560" cy="69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ль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543560" cy="5469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19280" y="1219320"/>
            <a:ext cx="7535880" cy="563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189080" y="-65160"/>
            <a:ext cx="10331640" cy="6921720"/>
            <a:chOff x="-1189080" y="-65160"/>
            <a:chExt cx="10331640" cy="692172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1189080" y="-65160"/>
              <a:ext cx="10331640" cy="69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-1189080" y="-65160"/>
              <a:ext cx="10331640" cy="69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Колючие растения - какту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440" y="1413000"/>
            <a:ext cx="811224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42:40Z</dcterms:created>
  <dc:creator>ирина</dc:creator>
  <dc:description/>
  <dc:language>en-US</dc:language>
  <cp:lastModifiedBy>ирина</cp:lastModifiedBy>
  <dcterms:modified xsi:type="dcterms:W3CDTF">2011-04-07T16:50:47Z</dcterms:modified>
  <cp:revision>19</cp:revision>
  <dc:subject/>
  <dc:title>Пустыни Африки</dc:title>
</cp:coreProperties>
</file>