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D56-1A34-40EA-8BF2-3D818187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39D-A9C8-47B9-8EA9-F98ADEC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63D-DC32-4F98-A1FF-CDFF15EC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D08-9FAC-442B-9B82-AE4B1351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D86-594E-4D24-AE78-DE3DE5BD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956F-6DF4-473D-990C-2D51DD5C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03ED-0D63-4E80-98CB-456091F2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61A-E918-4829-BDD4-5978266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2535-6E68-470A-BC86-E7ABD6A7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26BA-0EBD-4304-8F63-03090DF6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F7A3-11A1-4582-B6C2-AE249F6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978-9C81-4306-8B9E-D9F37128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4A75-3F50-4906-9942-3FFE873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6769-4F42-4DC0-A230-F6CFC20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8DB6-995C-4036-BEF7-B72B05B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7107-FFC0-4B15-A7A3-04FA97EF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D7FC-5528-4E74-AE67-E5516FBD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CB6-2EAB-42F1-B268-AB6A36E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006-3551-4343-8BD6-FE40217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2DC-A873-4F70-B391-F7BD1B05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555-81B6-4AAF-B830-6BE4CCA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765-4F84-4C8A-AC3E-3D460D4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173-14F7-4CC7-9A25-9B24469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2C2-A9A2-41E1-B483-B1DE775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CCF-889D-4DA2-8001-F22901BE56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8E5C-9394-4631-A7A5-6F56B7ABD3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710640" y="3505320"/>
            <a:ext cx="552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Verdana"/>
              </a:rPr>
              <a:t>Почему кольцо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Verdana"/>
              </a:rPr>
              <a:t>Почему золотое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914400" y="0"/>
            <a:ext cx="7467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кольцо Росс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447920" y="457200"/>
            <a:ext cx="60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карт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ей показаны города Золотого кольца. Найдите 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7010640" cy="4267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756440" y="685800"/>
            <a:ext cx="633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Церковь Ильи Пророк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в Ярославл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19040" y="609480"/>
            <a:ext cx="805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Торговые ряды в Костром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2520"/>
            <a:ext cx="740880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ст по теме «Золотое кольцо Росси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 Золотому кольцу России относят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 Москва, Нижневартовск, Уфа, Перм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 Киев, Санкт- Петербург, Влади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в)  Сергиев Посад, Ростов, Ярославль, Костро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 Челябинск, Самара, Сочи, Анап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Троице-Сергиева Лавра находи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во Владими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в Углич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в) в Сергиев Посад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в Ярославл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лицы этого города расположены в виде вее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а) Костро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Угли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Влади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Главная достопримечательность города Владими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таринные торговые ря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б) Дмитриевский соб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финиф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9-19T12:0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