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779-E26F-46FB-B9E1-FFCF17CA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1E6-3714-41A6-BE7A-50E02070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2F2-3CCC-461F-876F-8BFC24E8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3D9-0B65-4433-BB48-47440BE6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CD2A-4B3C-449A-A0A9-16B8FD0A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BCF-18BD-4090-A491-947248C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286-CF66-4424-B65A-78068F16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DA6E-AAEE-4C49-89C7-F89BEF0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F44-BC3C-4445-BA39-2BAAB246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D17-C9DA-4EE8-B20C-2AEB1318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109-BDA5-4EA5-A5BE-2914321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A57-391E-4E2E-9CF8-6D22DE6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FF04-25A7-4FA8-91AC-8375AE86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4DFD-251D-43D0-B6D0-A0B7AAB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5BF8-3E3E-4BD4-A10D-2A075F4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AA2B-4EA6-42F9-9748-F17EEC0F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794-E802-41C5-B830-18DD48C8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36B-8CFA-4088-9323-F9B7CB05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0C1-D384-459A-B336-62FBCC9D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5D8-A6D8-4C48-A2EE-65CB84CC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3DC-5E71-497A-AF1B-F55EC5D4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270-C262-4491-90E9-D27FCDB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D9E-0941-45F8-833D-CA61F0FE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B3E-8CCC-4C4A-A5D2-CC59C8E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5C93-EE1A-4ADB-8972-F0ABF6635E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E49-EF47-4DC1-AA77-DBA6222392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710640" y="3505320"/>
            <a:ext cx="552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Почему кольцо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Почему золотое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914400" y="0"/>
            <a:ext cx="7467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кольцо Росс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447920" y="457200"/>
            <a:ext cx="60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карт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ей показаны города Золотого кольца. Найдите 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7010640" cy="4267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756440" y="685800"/>
            <a:ext cx="633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Церковь Ильи Пророк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в Ярославл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19040" y="609480"/>
            <a:ext cx="805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Торговые ряды в Костром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2520"/>
            <a:ext cx="740880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ст по теме «Золотое кольцо Росси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 Золотому кольцу России относят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 Москва, Нижневартовск, Уфа, Перм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 Киев, Санкт- Петербург, Влади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в)  Сергиев Посад, Ростов, Ярославль, Костр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 Челябинск, Самара, Сочи, Анап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Троице-Сергиева Лавра находи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во Владими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в Углич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в) в Сергиев Посад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в Ярославл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лицы этого города расположены в виде вее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) Костр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Угли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Влади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Главная достопримечательность города Владими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таринные торговые ря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б) Дмитриевский соб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финиф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9-19T12:0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