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FD7-4527-4B90-9CA4-5894DEC5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E0C-54EF-4557-A61C-C57A6D71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FBD-890F-401F-A7AE-450830A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29C-E31F-4ABA-86EA-3B02D5EA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C2CF-65EB-4FCE-968A-0B52DB70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CD3-7CBF-46C1-BF65-8802D7A3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23E4-D76A-4572-A31D-B1874EA3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21DC-85D2-48E8-8C4C-F0697196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327-93A7-4FC7-8815-58230BA7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68BF-6F6F-4440-9C15-B5AA5874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37D0-C4D4-4645-ACDB-93C87CB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5DC-F5FE-4C01-AE13-DFF076A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8F77-0402-4AEA-A118-67D769D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EBAA-9B55-4D0C-BD4A-71512AB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FE75-049E-4C8F-B87B-F2483C38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D2E2-2687-4475-9B78-CE90E90B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3496-961F-4C0A-9F76-B2FBD495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676D-91C1-4CF7-8EC4-F1ADF6B8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1A4E-1E62-447F-976B-76411CFD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EAA9-1E31-41EC-99E1-02FF06B4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51E8-2558-4B55-BBAA-C30205B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1D06-9F4C-427A-879C-7E9E672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54C-D72C-44FE-8DA3-DBBCE236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9955-2DCB-4833-BF29-651CE8A0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3811-42BA-4CF0-BA7A-68BA763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E805-B67D-4A03-996E-D033C8C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F1AE3-C985-4764-9B09-1046A94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0B32-8C47-48A3-A0FE-8F111758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9217-38F6-4A5B-B000-CF499EBD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445F-8339-49B4-93DA-0D421995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B813-A6E4-47C9-8443-DAF15491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79476-6728-473C-A102-F7EE3B5A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250C-137C-4703-B176-6CEC961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913-3B84-469F-9854-7885F576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877A-7DA6-41E8-B2FD-D9BE7FBB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52809-F666-4C46-ACAE-01C47CCD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B85B-B6D2-453D-9742-0D93274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C4D8-05C5-4E5E-B43A-B200241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62E3-2F58-4149-9582-2617327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C3DB-927B-4C77-9842-7EA4613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3298-59A8-47A1-8FA0-1407D290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2CB70-5658-4266-92FF-DDE421DE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F3F4-0383-445B-843A-A2A70A93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6F33-D8B5-4123-8271-1F89782A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7F4-A29D-482E-B4F2-11CEADC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C2EA-90B4-4832-93E2-113D8F7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7B98-A8B5-46B5-8D21-7A891E84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C4B5-ECD4-457E-8859-6CFAEF31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56990-91EF-4531-8D67-3BADBF2A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B4D2-43B0-44DF-B61A-F2043076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DE04-DCC4-40DD-81A4-C4AEF90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28DC-607F-4AF8-95EC-8E0E91C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0117F-90A4-4EEF-A745-E4A5C1D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9E9F-0A93-4185-8B4F-B8157AAA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B3FA-22E3-4506-9A06-0868E4FF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242-7F22-491D-A267-7DA76AAB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12B8-F15B-431B-AB73-2307B9DA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38DD2-C053-423C-82AD-7E876AA3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9781-3B47-490C-B220-3DC604A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A283-7DCC-472D-9AA4-5992800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642C4-11A3-44D3-B87C-C6F8922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D117-61E0-4718-8E54-EDA2FFA4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561A-E4FD-4C0E-A952-A3441A3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4CBC-F084-4067-B1AA-9FB8DCF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A29A-E117-44CF-B55F-5BCBCEE5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032A5-B055-42DE-B82F-9EE3E581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073-6FD8-4A29-92AB-2E1B6EC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30F52-2C3B-4002-AB60-79DF402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380D-37C3-4A78-BA9A-A5EFAF77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4844-FF47-428A-A792-E5E46DE2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4A4-5C09-41E6-9DF5-887DB589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0B2-62CF-4393-A81B-557261BA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7269-01C6-46C7-9224-5406826350B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DF0-A4DB-4D14-9D98-B89C37462A2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6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9FA4-D02E-46A7-907E-FE6CF56172C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782C-BCCE-4AC6-B5AE-689323A1DDA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EF7-DF2B-4066-A2F1-1C09FFEE93A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A0D7-DF29-448C-A493-22A1047038A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"/>
          <p:cNvSpPr/>
          <p:nvPr/>
        </p:nvSpPr>
        <p:spPr>
          <a:xfrm>
            <a:off x="-46800" y="785880"/>
            <a:ext cx="79790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циальный проект учащихся 4-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74396"/>
                </a:solidFill>
                <a:latin typeface="Trebuchet MS"/>
              </a:rPr>
              <a:t>              </a:t>
            </a:r>
            <a:r>
              <a:rPr b="1" lang="ru-RU" sz="2800" spc="-1" strike="noStrike">
                <a:solidFill>
                  <a:srgbClr val="874396"/>
                </a:solidFill>
                <a:latin typeface="Trebuchet MS"/>
              </a:rPr>
              <a:t>«Здравствуй, мир книг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аздник для малышей детского сада №1«Берёз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74396"/>
                </a:solidFill>
                <a:latin typeface="Trebuchet M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Documents and Settings\Виктория\Мои документы\Мои рисунки\АЛЬБОМ\Новая папка (6)\DSC03699.JPG"/>
          <p:cNvPicPr/>
          <p:nvPr/>
        </p:nvPicPr>
        <p:blipFill>
          <a:blip r:embed="rId1"/>
          <a:stretch/>
        </p:blipFill>
        <p:spPr>
          <a:xfrm>
            <a:off x="714240" y="2287440"/>
            <a:ext cx="6666120" cy="40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3600" y="428760"/>
            <a:ext cx="8795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Цель проекта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формировать интерес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художественным произведениям у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ивитие интереса к чтению кн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знакомление будущих перво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 правила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я с кни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http://im8-tub.yandex.net/i?id=118052420-07"/>
          <p:cNvPicPr/>
          <p:nvPr/>
        </p:nvPicPr>
        <p:blipFill>
          <a:blip r:embed="rId1"/>
          <a:stretch/>
        </p:blipFill>
        <p:spPr>
          <a:xfrm>
            <a:off x="4572000" y="4280040"/>
            <a:ext cx="342900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Documents and Settings\Виктория\Рабочий стол\4Б\DSC03878.JPG"/>
          <p:cNvPicPr/>
          <p:nvPr/>
        </p:nvPicPr>
        <p:blipFill>
          <a:blip r:embed="rId1"/>
          <a:stretch/>
        </p:blipFill>
        <p:spPr>
          <a:xfrm>
            <a:off x="857160" y="785880"/>
            <a:ext cx="6500880" cy="37576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"/>
          <p:cNvSpPr/>
          <p:nvPr/>
        </p:nvSpPr>
        <p:spPr>
          <a:xfrm>
            <a:off x="-45000" y="5214960"/>
            <a:ext cx="91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зготовление закладок для будущих перв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Виктория\Рабочий стол\4Б\DSC03879.JPG"/>
          <p:cNvPicPr/>
          <p:nvPr/>
        </p:nvPicPr>
        <p:blipFill>
          <a:blip r:embed="rId1"/>
          <a:stretch/>
        </p:blipFill>
        <p:spPr>
          <a:xfrm>
            <a:off x="785880" y="714240"/>
            <a:ext cx="6357960" cy="3500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26280" y="5000760"/>
            <a:ext cx="91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зготовление закладок для будущих перв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Виктория\Рабочий стол\4Б\P030211_15.31.jpg"/>
          <p:cNvPicPr/>
          <p:nvPr/>
        </p:nvPicPr>
        <p:blipFill>
          <a:blip r:embed="rId1"/>
          <a:stretch/>
        </p:blipFill>
        <p:spPr>
          <a:xfrm>
            <a:off x="857160" y="857160"/>
            <a:ext cx="6286680" cy="42148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359000" y="5500800"/>
            <a:ext cx="55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Вот мы и в детском са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Виктория\Рабочий стол\4Б\P030211_15.37.jpg"/>
          <p:cNvPicPr/>
          <p:nvPr/>
        </p:nvPicPr>
        <p:blipFill>
          <a:blip r:embed="rId1"/>
          <a:stretch/>
        </p:blipFill>
        <p:spPr>
          <a:xfrm>
            <a:off x="714240" y="857160"/>
            <a:ext cx="6715440" cy="40006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-317520" y="5357880"/>
            <a:ext cx="92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Литературный анекдот с участием Леоновой Валерии(Фрекен Б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 Разокулова Арслана (Карлсон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Виктория\Рабочий стол\4Б\P030211_15.38.jpg"/>
          <p:cNvPicPr/>
          <p:nvPr/>
        </p:nvPicPr>
        <p:blipFill>
          <a:blip r:embed="rId1"/>
          <a:stretch/>
        </p:blipFill>
        <p:spPr>
          <a:xfrm>
            <a:off x="857160" y="928800"/>
            <a:ext cx="642960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143000" y="521496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-78840" y="4929120"/>
            <a:ext cx="972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Литературный анекдот с участием Гаджибалаевой Зульфии (Пятач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и Кугаевского Никиты (Вини-Пу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Виктория\Рабочий стол\4Б\P030211_15.42.jpg"/>
          <p:cNvPicPr/>
          <p:nvPr/>
        </p:nvPicPr>
        <p:blipFill>
          <a:blip r:embed="rId1"/>
          <a:stretch/>
        </p:blipFill>
        <p:spPr>
          <a:xfrm>
            <a:off x="785880" y="785880"/>
            <a:ext cx="6429240" cy="33573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"/>
          <p:cNvSpPr/>
          <p:nvPr/>
        </p:nvSpPr>
        <p:spPr>
          <a:xfrm>
            <a:off x="453240" y="4714920"/>
            <a:ext cx="79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ценка «Правила пользования книг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-275760" y="714240"/>
            <a:ext cx="92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«Дом, в котором нет кни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одобен телу, лишённому душ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C:\Documents and Settings\Виктория\Рабочий стол\ПРЕЗЕНТАЦИЯ!.jpg"/>
          <p:cNvPicPr/>
          <p:nvPr/>
        </p:nvPicPr>
        <p:blipFill>
          <a:blip r:embed="rId1"/>
          <a:stretch/>
        </p:blipFill>
        <p:spPr>
          <a:xfrm>
            <a:off x="928800" y="2571840"/>
            <a:ext cx="59292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16:33Z</dcterms:created>
  <dc:creator>Вика</dc:creator>
  <dc:description/>
  <dc:language>en-US</dc:language>
  <cp:lastModifiedBy>Admin</cp:lastModifiedBy>
  <dcterms:modified xsi:type="dcterms:W3CDTF">2020-09-19T11:42:24Z</dcterms:modified>
  <cp:revision>11</cp:revision>
  <dc:subject/>
  <dc:title>Слайд 1</dc:title>
</cp:coreProperties>
</file>