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A88-8DD7-4269-9E90-CB33316B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F85-E4E1-49CF-9C55-2BDA01A7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4D0-03A9-4D5C-AED9-87BC3368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8D1-27E1-4BC4-BE2D-7C2C6E14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FA20-4D5A-4F4C-8E59-A73D3AEA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8260-6387-4304-ABDD-288D3B34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7805-9A30-42E1-8410-2476FB44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299E-70F4-45AA-B50C-81B49778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6CEA-FD53-43F6-B31D-25D1A999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2FD7-F1CE-4F3C-B8E0-DF29ACF5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21C4-2B72-4D88-A675-61A3BD43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796-144B-4444-B8BE-8F1A3BBE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0BCE-0B0F-44E2-9A35-890E6AC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FFD9-35C9-4089-9159-AF725A7B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DDD6-0EB2-4402-B418-DEB3A036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2D1D-58C7-42EB-BB36-5BF2934A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FBDE-FF6E-471D-B22E-3360726C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1F87-A84B-41F9-8F1E-28A2D26A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0C3D-3085-4199-A130-E6209541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9423-07AF-488F-B7F7-48ECE1DE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D1D7-2ECF-4A6D-9DF4-F7E37E09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42DE-4C26-4ED0-BDAE-747F6484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4FA-3DEE-4794-8DC4-4F79A1D7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D879-C305-4140-A210-0102448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4007B-192D-436E-B96B-DA9C6F8F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CA9A-F3FD-4B46-8530-8BD4C6A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C23D-8C97-4200-9D2B-9478AC4C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3A1C-0A3D-4DC4-8D78-3A0AA6B8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9C41-B011-47E7-AB7C-922D8455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141D-C002-4C2C-A4F2-11BADF87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2B66-C3A0-4F90-9350-8D52FBD7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58A7-33B4-464E-BCA7-4008654D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A2E1C-8642-491D-930C-6910FA91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9E0-0F28-4422-9A9F-843DDC6D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9178-4D0A-4F21-AD98-C53E87E2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805F-048A-4EF5-AF17-10B7993F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0D24-413C-4CA4-8744-22EA7A85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8254-6FAD-437A-B102-89C18799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2CD07-3008-42C6-B51B-A43A001E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2940-DE1F-4B49-9EC1-DE3BFEDF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8180-0DB8-4444-8921-83388421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F58ED-6AF2-46DA-9266-24D97610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983A-3DE2-43C9-A5D0-50CD12DF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EF867-3100-4BCF-B873-C869DEB4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CFE-9171-4D4D-B4EA-4D7DFCF1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809DB-568A-4648-AD92-5E022F8E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9603-C5D3-4638-B93A-3A28B8A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C4F9-BAFC-4E26-9143-49D920ED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87D3-3CB5-45EC-BD86-C932D39A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1C19-A653-44B5-8D4C-535F8C54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62E28-204C-4F49-8B19-C8DA1648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432E-87B7-42B9-A68D-B07C197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5C495-444C-430C-BBDF-1F66BC92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6BA5-4C63-439F-8AC2-0DD73DD2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EECA-467A-445A-AD42-45006340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EFA-89F5-47D1-B27E-758BD559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5370-B9E4-48CA-A37A-DC453D9E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282E1-D745-4623-B60F-48BB7474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44D78-CA85-497F-BBCF-5BD66814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EAA79-F978-45C1-AF44-40A9F579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E2BAE-3CF8-4EF8-80FE-7285DE6B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8EF0F-FBB8-491B-8AD1-2D47345F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0D3A8-F1B7-48BB-A35D-8E61C49C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B5674-3A02-4D5F-97D8-18A56DEB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5E5EC-B081-4E38-84C8-D17BD5BB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CFBD8-1599-4F24-A1B8-C69F483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3E0-EB48-4484-A306-57BEB55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6D266-0C1E-4855-8B82-D4F7730B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64857-E561-469E-AFE9-F3CAD68A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2BFD-96A7-44F6-AB29-D89B69DD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6F2-5D5F-432A-9665-2F0F1C8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D8B-6428-475E-8C27-1AE8BDAE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5935-A337-49AC-880F-676D22DBC08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18E3-38E9-4C0E-9579-5ED783C4A78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6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0897-3964-4BAA-9E34-0A53D939193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6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76FB-1024-4436-B0E8-2D997B2A8E4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9654-D569-40EC-A41D-63A27D87B21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6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18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97B5-A2A4-4277-AF44-069A0C25391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3"/>
          <p:cNvSpPr/>
          <p:nvPr/>
        </p:nvSpPr>
        <p:spPr>
          <a:xfrm>
            <a:off x="-46800" y="785880"/>
            <a:ext cx="79790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циальный проект учащихся 4-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74396"/>
                </a:solidFill>
                <a:latin typeface="Trebuchet MS"/>
              </a:rPr>
              <a:t>              </a:t>
            </a:r>
            <a:r>
              <a:rPr b="1" lang="ru-RU" sz="2800" spc="-1" strike="noStrike">
                <a:solidFill>
                  <a:srgbClr val="874396"/>
                </a:solidFill>
                <a:latin typeface="Trebuchet MS"/>
              </a:rPr>
              <a:t>«Здравствуй, мир книг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аздник для малышей детского сада №1«Берёз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74396"/>
                </a:solidFill>
                <a:latin typeface="Trebuchet MS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Documents and Settings\Виктория\Мои документы\Мои рисунки\АЛЬБОМ\Новая папка (6)\DSC03699.JPG"/>
          <p:cNvPicPr/>
          <p:nvPr/>
        </p:nvPicPr>
        <p:blipFill>
          <a:blip r:embed="rId1"/>
          <a:stretch/>
        </p:blipFill>
        <p:spPr>
          <a:xfrm>
            <a:off x="714240" y="2287440"/>
            <a:ext cx="6666120" cy="40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3600" y="428760"/>
            <a:ext cx="8795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Цель проекта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: формировать интерес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художественным произведениям у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ивитие интереса к чтению кн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знакомление будущих перво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 правила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щения с кни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http://im8-tub.yandex.net/i?id=118052420-07"/>
          <p:cNvPicPr/>
          <p:nvPr/>
        </p:nvPicPr>
        <p:blipFill>
          <a:blip r:embed="rId1"/>
          <a:stretch/>
        </p:blipFill>
        <p:spPr>
          <a:xfrm>
            <a:off x="4572000" y="4280040"/>
            <a:ext cx="342900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C:\Documents and Settings\Виктория\Рабочий стол\4Б\DSC03878.JPG"/>
          <p:cNvPicPr/>
          <p:nvPr/>
        </p:nvPicPr>
        <p:blipFill>
          <a:blip r:embed="rId1"/>
          <a:stretch/>
        </p:blipFill>
        <p:spPr>
          <a:xfrm>
            <a:off x="857160" y="785880"/>
            <a:ext cx="6500880" cy="37576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"/>
          <p:cNvSpPr/>
          <p:nvPr/>
        </p:nvSpPr>
        <p:spPr>
          <a:xfrm>
            <a:off x="-45000" y="5214960"/>
            <a:ext cx="91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зготовление закладок для будущих перв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Documents and Settings\Виктория\Рабочий стол\4Б\DSC03879.JPG"/>
          <p:cNvPicPr/>
          <p:nvPr/>
        </p:nvPicPr>
        <p:blipFill>
          <a:blip r:embed="rId1"/>
          <a:stretch/>
        </p:blipFill>
        <p:spPr>
          <a:xfrm>
            <a:off x="785880" y="714240"/>
            <a:ext cx="6357960" cy="35006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"/>
          <p:cNvSpPr/>
          <p:nvPr/>
        </p:nvSpPr>
        <p:spPr>
          <a:xfrm>
            <a:off x="26280" y="5000760"/>
            <a:ext cx="91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зготовление закладок для будущих перв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Documents and Settings\Виктория\Рабочий стол\4Б\P030211_15.31.jpg"/>
          <p:cNvPicPr/>
          <p:nvPr/>
        </p:nvPicPr>
        <p:blipFill>
          <a:blip r:embed="rId1"/>
          <a:stretch/>
        </p:blipFill>
        <p:spPr>
          <a:xfrm>
            <a:off x="857160" y="857160"/>
            <a:ext cx="6286680" cy="42148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1359000" y="5500800"/>
            <a:ext cx="55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Вот мы и в детском са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Виктория\Рабочий стол\4Б\P030211_15.37.jpg"/>
          <p:cNvPicPr/>
          <p:nvPr/>
        </p:nvPicPr>
        <p:blipFill>
          <a:blip r:embed="rId1"/>
          <a:stretch/>
        </p:blipFill>
        <p:spPr>
          <a:xfrm>
            <a:off x="714240" y="857160"/>
            <a:ext cx="6715440" cy="40006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"/>
          <p:cNvSpPr/>
          <p:nvPr/>
        </p:nvSpPr>
        <p:spPr>
          <a:xfrm>
            <a:off x="-317520" y="5357880"/>
            <a:ext cx="923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Литературный анекдот с участием Леоновой Валерии(Фрекен Б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и Разокулова Арслана (Карлсон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Виктория\Рабочий стол\4Б\P030211_15.38.jpg"/>
          <p:cNvPicPr/>
          <p:nvPr/>
        </p:nvPicPr>
        <p:blipFill>
          <a:blip r:embed="rId1"/>
          <a:stretch/>
        </p:blipFill>
        <p:spPr>
          <a:xfrm>
            <a:off x="857160" y="928800"/>
            <a:ext cx="6429600" cy="3429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1143000" y="521496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-78840" y="4929120"/>
            <a:ext cx="972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Литературный анекдот с участием Гаджибалаевой Зульфии (Пятач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и Кугаевского Никиты (Вини-Пу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C:\Documents and Settings\Виктория\Рабочий стол\4Б\P030211_15.42.jpg"/>
          <p:cNvPicPr/>
          <p:nvPr/>
        </p:nvPicPr>
        <p:blipFill>
          <a:blip r:embed="rId1"/>
          <a:stretch/>
        </p:blipFill>
        <p:spPr>
          <a:xfrm>
            <a:off x="785880" y="785880"/>
            <a:ext cx="6429240" cy="33573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"/>
          <p:cNvSpPr/>
          <p:nvPr/>
        </p:nvSpPr>
        <p:spPr>
          <a:xfrm>
            <a:off x="453240" y="4714920"/>
            <a:ext cx="79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ценка «Правила пользования книг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-275760" y="714240"/>
            <a:ext cx="929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«Дом, в котором нет кни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подобен телу, лишённому души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C:\Documents and Settings\Виктория\Рабочий стол\ПРЕЗЕНТАЦИЯ!.jpg"/>
          <p:cNvPicPr/>
          <p:nvPr/>
        </p:nvPicPr>
        <p:blipFill>
          <a:blip r:embed="rId1"/>
          <a:stretch/>
        </p:blipFill>
        <p:spPr>
          <a:xfrm>
            <a:off x="928800" y="2571840"/>
            <a:ext cx="59292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3:16:33Z</dcterms:created>
  <dc:creator>Вика</dc:creator>
  <dc:description/>
  <dc:language>en-US</dc:language>
  <cp:lastModifiedBy>Admin</cp:lastModifiedBy>
  <dcterms:modified xsi:type="dcterms:W3CDTF">2020-09-19T11:42:24Z</dcterms:modified>
  <cp:revision>11</cp:revision>
  <dc:subject/>
  <dc:title>Слайд 1</dc:title>
</cp:coreProperties>
</file>