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F545-D155-433E-B7E3-AC4EEB176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6219-DF94-4635-8FF0-F136E7F9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87CE-BE25-4477-9AD1-52DAE603A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FEB7-9D26-4D12-A57F-42A324832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7D12-4BF0-4E5D-9303-DAFEA419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5E27-ACED-416D-878A-B74EE891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AACE-2221-41F4-8385-B0B7221B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E6B3-A1F5-4565-9E35-F4C5560E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E203-8CF9-44A8-AEFA-C7284D2D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B3B5-CAEF-4201-8827-9A1001A4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AF7E-5A8F-43F0-9E45-F087B5D1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333D-09AD-4341-9ADE-2268C2F2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A916-F08D-410F-8C12-12EEE4ABA6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ВОТНЫЕ ЖАРКИХ СТР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Trubenie_slona.mp3" descr=""/>
          <p:cNvPicPr/>
          <p:nvPr/>
        </p:nvPicPr>
        <p:blipFill>
          <a:blip r:embed="rId1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449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слон1"/>
          <p:cNvPicPr/>
          <p:nvPr/>
        </p:nvPicPr>
        <p:blipFill>
          <a:blip r:embed="rId1"/>
          <a:stretch/>
        </p:blipFill>
        <p:spPr>
          <a:xfrm>
            <a:off x="1619280" y="15573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31 Дорожка 31.wma" descr=""/>
          <p:cNvPicPr/>
          <p:nvPr/>
        </p:nvPicPr>
        <p:blipFill>
          <a:blip r:embed="rId1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8513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лев"/>
          <p:cNvPicPr/>
          <p:nvPr/>
        </p:nvPicPr>
        <p:blipFill>
          <a:blip r:embed="rId1"/>
          <a:stretch/>
        </p:blipFill>
        <p:spPr>
          <a:xfrm>
            <a:off x="755640" y="1125360"/>
            <a:ext cx="7378560" cy="55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30 Дорожка 30.wma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763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Г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ТИГР"/>
          <p:cNvPicPr/>
          <p:nvPr/>
        </p:nvPicPr>
        <p:blipFill>
          <a:blip r:embed="rId1"/>
          <a:stretch/>
        </p:blipFill>
        <p:spPr>
          <a:xfrm>
            <a:off x="826920" y="1125360"/>
            <a:ext cx="719460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ZHiraf_est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1395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РА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ЖИРАФ"/>
          <p:cNvPicPr/>
          <p:nvPr/>
        </p:nvPicPr>
        <p:blipFill>
          <a:blip r:embed="rId1"/>
          <a:stretch/>
        </p:blipFill>
        <p:spPr>
          <a:xfrm>
            <a:off x="1619280" y="1197000"/>
            <a:ext cx="6105600" cy="54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7:38:40Z</dcterms:created>
  <dc:creator>Админко</dc:creator>
  <dc:description/>
  <dc:language>en-US</dc:language>
  <cp:lastModifiedBy>adminko</cp:lastModifiedBy>
  <dcterms:modified xsi:type="dcterms:W3CDTF">2020-09-19T10:44:50Z</dcterms:modified>
  <cp:revision>1</cp:revision>
  <dc:subject/>
  <dc:title>ЖИВОТНЫЕ ЖАРКИХ СТРАН</dc:title>
</cp:coreProperties>
</file>