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A24E-290C-41A3-9744-0ED847FA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25D5-A035-4DA3-BB9A-181D1B97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1666-8717-45B1-BFD2-7551E8D82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D85-89CD-4D6F-AA01-01BF24E8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A3B4-6D02-4EF9-A405-CC4F6761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5B5B-18CF-40C7-BA07-6FC33986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B12-1A4D-42DC-AA4A-4206066F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0288-EFC6-4527-A45E-807E9B0C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B5E5-B064-4A5F-BBFE-427DF497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AD54-EB48-494D-BE62-5FC87457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97C6-BBC5-4CBE-BA03-0D033686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6187-FCB2-46CE-886F-5A63B776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DEBD-1197-493F-A0F7-F60D35B95D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ОТНЫЕ ЖАРКИХ СТР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Trubenie_slona.mp3" descr=""/>
          <p:cNvPicPr/>
          <p:nvPr/>
        </p:nvPicPr>
        <p:blipFill>
          <a:blip r:embed="rId1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49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слон1"/>
          <p:cNvPicPr/>
          <p:nvPr/>
        </p:nvPicPr>
        <p:blipFill>
          <a:blip r:embed="rId1"/>
          <a:stretch/>
        </p:blipFill>
        <p:spPr>
          <a:xfrm>
            <a:off x="1619280" y="1557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31 Дорожка 31.wma" descr=""/>
          <p:cNvPicPr/>
          <p:nvPr/>
        </p:nvPicPr>
        <p:blipFill>
          <a:blip r:embed="rId1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8513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лев"/>
          <p:cNvPicPr/>
          <p:nvPr/>
        </p:nvPicPr>
        <p:blipFill>
          <a:blip r:embed="rId1"/>
          <a:stretch/>
        </p:blipFill>
        <p:spPr>
          <a:xfrm>
            <a:off x="755640" y="1125360"/>
            <a:ext cx="7378560" cy="55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30 Дорожка 30.wma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763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Г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ТИГР"/>
          <p:cNvPicPr/>
          <p:nvPr/>
        </p:nvPicPr>
        <p:blipFill>
          <a:blip r:embed="rId1"/>
          <a:stretch/>
        </p:blipFill>
        <p:spPr>
          <a:xfrm>
            <a:off x="826920" y="1125360"/>
            <a:ext cx="719460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ZHiraf_est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1395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РА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ЖИРАФ"/>
          <p:cNvPicPr/>
          <p:nvPr/>
        </p:nvPicPr>
        <p:blipFill>
          <a:blip r:embed="rId1"/>
          <a:stretch/>
        </p:blipFill>
        <p:spPr>
          <a:xfrm>
            <a:off x="1619280" y="1197000"/>
            <a:ext cx="610560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7:38:40Z</dcterms:created>
  <dc:creator>Админко</dc:creator>
  <dc:description/>
  <dc:language>en-US</dc:language>
  <cp:lastModifiedBy>adminko</cp:lastModifiedBy>
  <dcterms:modified xsi:type="dcterms:W3CDTF">2020-09-19T10:44:50Z</dcterms:modified>
  <cp:revision>1</cp:revision>
  <dc:subject/>
  <dc:title>ЖИВОТНЫЕ ЖАРКИХ СТРАН</dc:title>
</cp:coreProperties>
</file>